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8.jpeg" ContentType="image/jpeg"/>
  <Override PartName="/ppt/media/image46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0720" y="407340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5256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7176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6280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8072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27176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6280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3D8A-CBE7-4F18-BD7F-C820EE83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5212-D391-4B4D-BA87-56C7D652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E968-3F4C-42E9-8670-44EC76F6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FE76-05F0-48E9-B082-7E097A92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6497-6C14-4735-A1B6-DE08D2B7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0720" y="304560"/>
            <a:ext cx="68677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364F0-0EEB-4256-B0D8-C6091172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D022-08B8-4C8A-BD03-7B5F7530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5256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152ED-6DC6-40B7-BC6D-0088FB1F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BC74E-0586-4089-8799-0300CBE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980720" y="407340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5CCD3-334B-4A24-AEEC-39F66997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5256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301B-DCD4-487C-B189-02E14C29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7176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62800" y="190476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98072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7176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562800" y="407340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AC003-C054-45DC-A83E-BA87E423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980720" y="304560"/>
            <a:ext cx="686772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52560" y="407340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52560" y="190476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80720" y="407340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66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6666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66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ldNum" idx="1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629D-20F2-443F-B5BC-D1BC986342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3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image" Target="../media/image1.png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image" Target="../media/image1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image" Target="../media/image1.png"/><Relationship Id="rId13" Type="http://schemas.openxmlformats.org/officeDocument/2006/relationships/slide" Target="slide24.xml"/><Relationship Id="rId14" Type="http://schemas.openxmlformats.org/officeDocument/2006/relationships/slide" Target="slide24.xml"/><Relationship Id="rId15" Type="http://schemas.openxmlformats.org/officeDocument/2006/relationships/image" Target="../media/image1.png"/><Relationship Id="rId16" Type="http://schemas.openxmlformats.org/officeDocument/2006/relationships/slide" Target="slide41.xml"/><Relationship Id="rId17" Type="http://schemas.openxmlformats.org/officeDocument/2006/relationships/image" Target="../media/image1.png"/><Relationship Id="rId18" Type="http://schemas.openxmlformats.org/officeDocument/2006/relationships/slide" Target="slide48.xml"/><Relationship Id="rId19" Type="http://schemas.openxmlformats.org/officeDocument/2006/relationships/image" Target="../media/image1.png"/><Relationship Id="rId20" Type="http://schemas.openxmlformats.org/officeDocument/2006/relationships/slide" Target="slide54.xml"/><Relationship Id="rId21" Type="http://schemas.openxmlformats.org/officeDocument/2006/relationships/image" Target="../media/image1.png"/><Relationship Id="rId22" Type="http://schemas.openxmlformats.org/officeDocument/2006/relationships/slide" Target="slide59.xml"/><Relationship Id="rId2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48.xml"/><Relationship Id="rId3" Type="http://schemas.openxmlformats.org/officeDocument/2006/relationships/slide" Target="slide48.xml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" Target="slide54.xml"/><Relationship Id="rId9" Type="http://schemas.openxmlformats.org/officeDocument/2006/relationships/slide" Target="slide54.xml"/><Relationship Id="rId10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" Target="slide59.xml"/><Relationship Id="rId3" Type="http://schemas.openxmlformats.org/officeDocument/2006/relationships/slide" Target="slide59.xml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59.xml"/><Relationship Id="rId3" Type="http://schemas.openxmlformats.org/officeDocument/2006/relationships/slide" Target="slide59.xml"/><Relationship Id="rId4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7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章  中文演示文稿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PowerPoint 2000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的功能和使用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4760" y="1828440"/>
            <a:ext cx="6576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7.1  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PowerPoint 2000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的基本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7.2  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PowerPoint 2000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的用户界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7.3  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演示文稿的基本概念与创建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7.4  </a:t>
            </a: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设计演示文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7.5  修饰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7.6  设置演示放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7.7  演播控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7.8  异地演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62320" y="304560"/>
            <a:ext cx="57909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视图按钮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48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普通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幻灯片视图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大纲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幻灯片浏览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备注页视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幻灯片放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7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7.3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演示文稿的基本概念与创建方法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2133720"/>
            <a:ext cx="5434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3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概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演示文稿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3.1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基本概念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演示文稿与幻灯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幻灯片对象与布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模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演示文稿与幻灯片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制作的一个演示文稿通常保存在一个文件里，该文件称为“演示文稿”，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PP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文件名后缀。演示文稿中的每一页称为幻灯片，每张幻灯片都是演示文稿中既相互独立又相互联系的内容。制作一个演示文稿的过程就是依次制作一张张幻灯片的过程。每张幻灯片中既可以包含常用的文字和图表，还可以包含声音和视频图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幻灯片对象与布局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幻灯片由插入文字、图表、组织结构图等所有可以插入的对象组成。可以选中每一个对象或对象中的内容进行可能的操作，如改变对象的位置和大小，复制或删除对象，改变对象的属性等等。制作一个幻灯片的过程，就是创建和编辑其中的对象的过程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幻灯片布局是幻灯片中对象的种类和相互间的位置。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中提供了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种参考布局（自动版式）供用户选择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模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两种模板：设计模板和内容模板。设计模板包含预定义的格式和配色方案，以及幻灯片背景图案等，可以应用到任意演示文稿中创建独特的外观。内容模板包含与设计模板类似的格式和配色方案，加上带有文本的幻灯片，文本中包含针对特定主题提供的建议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3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创建演示文稿的方法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8280" y="1752480"/>
            <a:ext cx="5662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演示文稿的创建方式有三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内容提示向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设计模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空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导入大纲创建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使用内容提示向导创建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2896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12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2922840" cy="3429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243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新建演示文稿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4800600" cy="2747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30600" y="579132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演示文稿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05560" y="5791320"/>
            <a:ext cx="32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演示文稿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9552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4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733560" cy="24638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8148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演示文稿类型" descr=""/>
          <p:cNvPicPr/>
          <p:nvPr/>
        </p:nvPicPr>
        <p:blipFill>
          <a:blip r:embed="rId2"/>
          <a:stretch/>
        </p:blipFill>
        <p:spPr>
          <a:xfrm>
            <a:off x="4952880" y="2362320"/>
            <a:ext cx="3733920" cy="24638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34720" y="556272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5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容提示向导的开始画面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75600" y="5576760"/>
            <a:ext cx="249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6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选择“演示文稿类型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40992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4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4038480" cy="2730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38148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演示文稿选项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267080" cy="28162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9240" y="5334120"/>
            <a:ext cx="30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“演示文稿样式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94080" y="5334120"/>
            <a:ext cx="29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“演示文稿选项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本章学习目标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828440" y="1828800"/>
            <a:ext cx="703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建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修饰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幻灯片中插入各种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用幻灯片母版、标题母版和设计模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演示文稿的打包和解包过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网上发布演示文稿的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利用设计模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44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新建演示文稿（莫版）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567400" cy="31831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441600" y="54100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计模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</a:rPr>
              <a:t>创建空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2884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幻灯片对话框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562720" cy="3254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180240" y="563868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幻灯片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通过导入大纲创建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导入演示文稿1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4038480" cy="3162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930680" y="5410080"/>
            <a:ext cx="54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档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演示文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523880" y="51814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接受来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演示文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576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导入演示文稿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5905440" cy="362592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7.4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计演示文档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58147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版式设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本的输入与编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存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添加对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入表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6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入图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4.7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组织结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4.8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插入声音和影像对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9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10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1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版式设计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pic>
        <p:nvPicPr>
          <p:cNvPr id="172" name="标题幻灯片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586320" cy="2722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07720" y="5257800"/>
            <a:ext cx="26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4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标题幻灯片自动版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0992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标题幻灯片2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3504960" cy="26434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02760" y="5257800"/>
            <a:ext cx="194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15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标题幻灯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2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文本的输入与编辑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890360"/>
            <a:ext cx="2477880" cy="15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SzPct val="1020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输入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SzPct val="1020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段落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文字输入" descr=""/>
          <p:cNvPicPr/>
          <p:nvPr/>
        </p:nvPicPr>
        <p:blipFill>
          <a:blip r:embed="rId3"/>
          <a:stretch/>
        </p:blipFill>
        <p:spPr>
          <a:xfrm>
            <a:off x="4038480" y="2590920"/>
            <a:ext cx="4057920" cy="25905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652640" y="53751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占位符中输入文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段落修饰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3352680" cy="2754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0" y="2552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7644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段落修饰2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810240" cy="2687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497240" y="4876920"/>
            <a:ext cx="16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调整前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67360" y="487692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调整过程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70200" y="556272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段落调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3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保存演示文稿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文件”菜单下的“保存”命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利用组合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trl+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标准工具栏的“保存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4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5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57040" y="761760"/>
            <a:ext cx="5791320" cy="5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4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添加对象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057040" y="1371240"/>
            <a:ext cx="34527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剪贴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6700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剪贴画1" descr=""/>
          <p:cNvPicPr/>
          <p:nvPr/>
        </p:nvPicPr>
        <p:blipFill>
          <a:blip r:embed="rId2"/>
          <a:stretch/>
        </p:blipFill>
        <p:spPr>
          <a:xfrm>
            <a:off x="2971800" y="2362320"/>
            <a:ext cx="4267080" cy="3146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646080" y="5638680"/>
            <a:ext cx="32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剪贴画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609120"/>
            <a:ext cx="68677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7.1  PowerPoint 2000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的基本功能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828800"/>
            <a:ext cx="4672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动处理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图文编辑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对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动画演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网络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帮助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7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．插入艺术字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5296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艺术字0" descr=""/>
          <p:cNvPicPr/>
          <p:nvPr/>
        </p:nvPicPr>
        <p:blipFill>
          <a:blip r:embed="rId1"/>
          <a:stretch/>
        </p:blipFill>
        <p:spPr>
          <a:xfrm>
            <a:off x="2387520" y="1639800"/>
            <a:ext cx="4367160" cy="35784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054960" y="556272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0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艺术字库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5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插入表格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9076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表格1" descr=""/>
          <p:cNvPicPr/>
          <p:nvPr/>
        </p:nvPicPr>
        <p:blipFill>
          <a:blip r:embed="rId1"/>
          <a:stretch/>
        </p:blipFill>
        <p:spPr>
          <a:xfrm>
            <a:off x="1447920" y="2119320"/>
            <a:ext cx="3504960" cy="2617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871800" y="29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表格2" descr=""/>
          <p:cNvPicPr/>
          <p:nvPr/>
        </p:nvPicPr>
        <p:blipFill>
          <a:blip r:embed="rId2"/>
          <a:stretch/>
        </p:blipFill>
        <p:spPr>
          <a:xfrm>
            <a:off x="5334120" y="2362320"/>
            <a:ext cx="3276360" cy="2295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393200" y="518148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格”自动版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98280" y="510552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表格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6  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插入图表</a:t>
            </a:r>
            <a:r>
              <a:rPr b="0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2884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资金运作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105520" cy="38383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670200" y="56386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图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0066"/>
              </a:solidFill>
              <a:latin typeface="Arial"/>
              <a:ea typeface="Arial Unicode MS"/>
            </a:endParaRPr>
          </a:p>
        </p:txBody>
      </p:sp>
      <p:sp>
        <p:nvSpPr>
          <p:cNvPr id="218" name=""/>
          <p:cNvSpPr/>
          <p:nvPr/>
        </p:nvSpPr>
        <p:spPr>
          <a:xfrm>
            <a:off x="324324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资金运作1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443560" cy="3355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565080" y="5486400"/>
            <a:ext cx="23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图表选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Arial Unicode MS"/>
              </a:rPr>
              <a:t>7.4.7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创建组织结构图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建立组织结构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组织结构图的格式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建立组织结构图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组织结构构图" descr=""/>
          <p:cNvPicPr/>
          <p:nvPr/>
        </p:nvPicPr>
        <p:blipFill>
          <a:blip r:embed="rId1"/>
          <a:stretch/>
        </p:blipFill>
        <p:spPr>
          <a:xfrm>
            <a:off x="1981080" y="2332080"/>
            <a:ext cx="6248520" cy="2809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012120" y="55278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2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插入对象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  <a:ea typeface="楷体_GB2312"/>
            </a:endParaRPr>
          </a:p>
        </p:txBody>
      </p:sp>
      <p:sp>
        <p:nvSpPr>
          <p:cNvPr id="229" name=""/>
          <p:cNvSpPr/>
          <p:nvPr/>
        </p:nvSpPr>
        <p:spPr>
          <a:xfrm>
            <a:off x="305748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组织结构构图2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5477040" cy="3530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357360" y="545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结构图程序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组织结构图的格式化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14784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组织结构构图3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776840" cy="30826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962800" y="529920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结构图的结构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  <a:ea typeface="楷体_GB2312"/>
            </a:endParaRPr>
          </a:p>
        </p:txBody>
      </p:sp>
      <p:sp>
        <p:nvSpPr>
          <p:cNvPr id="237" name=""/>
          <p:cNvSpPr/>
          <p:nvPr/>
        </p:nvSpPr>
        <p:spPr>
          <a:xfrm>
            <a:off x="284328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组织结构构图4" descr=""/>
          <p:cNvPicPr/>
          <p:nvPr/>
        </p:nvPicPr>
        <p:blipFill>
          <a:blip r:embed="rId1"/>
          <a:stretch/>
        </p:blipFill>
        <p:spPr>
          <a:xfrm>
            <a:off x="2438280" y="1581120"/>
            <a:ext cx="4800600" cy="32799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3503160" y="5181480"/>
            <a:ext cx="30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化后的组织结构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7.4.8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插入声音和影像对象</a:t>
            </a:r>
            <a:endParaRPr b="0" lang="en-US" sz="36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可以播放多种格式的视频文件，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V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O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P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其中首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V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的视频文件，这样可以保证在其他计算机上播放演示文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76640" y="609120"/>
            <a:ext cx="6867360" cy="6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华文仿宋"/>
                <a:ea typeface="华文仿宋"/>
              </a:rPr>
              <a:t>中文</a:t>
            </a:r>
            <a:r>
              <a:rPr b="1" lang="zh-CN" sz="3200" spc="-1" strike="noStrike">
                <a:solidFill>
                  <a:srgbClr val="cc0066"/>
                </a:solidFill>
                <a:latin typeface="华文仿宋"/>
                <a:ea typeface="华文仿宋"/>
              </a:rPr>
              <a:t>PowerPoint</a:t>
            </a:r>
            <a:r>
              <a:rPr b="1" lang="zh-CN" sz="3200" spc="-1" strike="noStrike">
                <a:solidFill>
                  <a:srgbClr val="cc0066"/>
                </a:solidFill>
                <a:latin typeface="华文仿宋"/>
                <a:ea typeface="华文仿宋"/>
              </a:rPr>
              <a:t>的特点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66056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利用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PowerPoint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可以创建联机演示文稿、网上使用的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Web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页、彩色和黑白投影机幻灯片、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35mm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幻灯片、观众讲义、演讲者备注等，同时还可以实现彩色和黑白纸张打印输出。因为它和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Word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、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Excel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等应用软件一样，都属于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Microsoft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公司推出的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Office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系列产品之一，所以它们之间具有良好的信息交互性和相似的操作方法。网络、多媒体和幻灯片的有机结合是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PowerPoint 2000</a:t>
            </a:r>
            <a:r>
              <a:rPr b="1" lang="zh-CN" sz="2600" spc="-1" strike="noStrike">
                <a:solidFill>
                  <a:srgbClr val="000000"/>
                </a:solidFill>
                <a:latin typeface="新宋体"/>
                <a:ea typeface="新宋体"/>
              </a:rPr>
              <a:t>的突出体现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4099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声音0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419360" cy="34956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177000" y="525780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影片和声音”菜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5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修饰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581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5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改幻灯片母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5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改标题母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5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改设计模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5.4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更改配色方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5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6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5.1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更改幻灯片母版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905120" y="1828440"/>
            <a:ext cx="67752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母版是一类特殊的幻灯片。幻灯片母版控制了某些文本特征（如字体、字号和颜色），称之为“母版文本”。另外，它还控制了背景色和某些特殊效果（如阴影和项目符号样式）。幻灯片母版包含文本占位符和页脚（如日期、时间和幻灯片编号）占位符。如果要修改多张幻灯片的外观，不必一张张幻灯片进行修改，而只需在幻灯片母版上做一次修改即可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自动更新已有的幻灯片，并对以后新添加的幻灯片应用这些更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7172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母版1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648320" cy="3411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305520" y="5603760"/>
            <a:ext cx="26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母版视图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336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母版2" descr=""/>
          <p:cNvPicPr/>
          <p:nvPr/>
        </p:nvPicPr>
        <p:blipFill>
          <a:blip r:embed="rId1"/>
          <a:stretch/>
        </p:blipFill>
        <p:spPr>
          <a:xfrm>
            <a:off x="3352680" y="1447920"/>
            <a:ext cx="3017880" cy="3328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1160" y="510552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背景设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5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更改标题母版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	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希望标题幻灯片与演示文稿中其他幻灯片的外观不同，可改变标题母版。标题母版仅影响使用了“标题幻灯片”版式的幻灯片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5.3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更改设计模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904760" y="1752480"/>
            <a:ext cx="65293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个设计模板均有它自己的幻灯片母版。幻灯片母版上的元素控制了模板的设计。许多模板还带有单独的标题母版。对演示文稿应用了设计模板后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会自动更新幻灯片母版上的文本样式和图形，并按新设计模板的配色方案改变颜色。应用新的设计模板不会删除已添至幻灯片母版的任何对象（如文本框或图片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5.4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更改配色方案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327672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幻灯片的配色方案是指在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中，各种颜色设定了其特定的用途，它们之间的巧妙搭配，可以使得幻灯片的屏幕显示清晰美观，更重要的是使得改变幻灯片中各元素的颜色非常容易。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7184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母版4" descr=""/>
          <p:cNvPicPr/>
          <p:nvPr/>
        </p:nvPicPr>
        <p:blipFill>
          <a:blip r:embed="rId2"/>
          <a:stretch/>
        </p:blipFill>
        <p:spPr>
          <a:xfrm>
            <a:off x="5181480" y="228600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805720" y="5375160"/>
            <a:ext cx="25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配色方案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6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置演示放映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130560" y="1904760"/>
            <a:ext cx="4006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6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页面切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6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对象的动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6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动播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6.1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置页面切换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956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幻灯片切换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4100400" cy="32004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3547800" y="54100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幻灯片切换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Times New Roman"/>
              </a:rPr>
              <a:t>7.2  PowerPoint 2000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的用户界面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2.1  PowerPoint 200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启动与退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.2  PowerPoint 20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用户界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6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置对象的动画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051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自定义动画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772160" cy="30862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998440" y="5451480"/>
            <a:ext cx="29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3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定义动画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6.3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自动播放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980720" y="1584360"/>
            <a:ext cx="6775560" cy="184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谓自动播放就是指按照预先设置的每张页面的固定间隔时间，由计算机来控制页面的切换。可以对每张页面的时间间隔进行设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2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2057400" y="3809880"/>
            <a:ext cx="6248520" cy="17384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9000" y="5715000"/>
            <a:ext cx="33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演示文稿的播放时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设置文本的动画方式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11940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自定义动画2" descr=""/>
          <p:cNvPicPr/>
          <p:nvPr/>
        </p:nvPicPr>
        <p:blipFill>
          <a:blip r:embed="rId1"/>
          <a:stretch/>
        </p:blipFill>
        <p:spPr>
          <a:xfrm>
            <a:off x="1828800" y="2254320"/>
            <a:ext cx="6634080" cy="2349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3601800" y="518148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文字的动画效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设置图表动画效果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1910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自定义动画3" descr=""/>
          <p:cNvPicPr/>
          <p:nvPr/>
        </p:nvPicPr>
        <p:blipFill>
          <a:blip r:embed="rId1"/>
          <a:stretch/>
        </p:blipFill>
        <p:spPr>
          <a:xfrm>
            <a:off x="2057400" y="2335320"/>
            <a:ext cx="6410160" cy="21873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54080" y="5029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图表的动画效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7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演播控制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7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置放映方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7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页面中的按钮控制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7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超级链接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7.1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设置放映方式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8432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放映方式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5691240" cy="27910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3746520" y="5181480"/>
            <a:ext cx="31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放映方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7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页面中的按钮控制方法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44808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按钮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6172200" cy="20127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587400" y="49528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按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5752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动作设置" descr=""/>
          <p:cNvPicPr/>
          <p:nvPr/>
        </p:nvPicPr>
        <p:blipFill>
          <a:blip r:embed="rId1"/>
          <a:srcRect l="17247" t="0" r="0" b="0"/>
          <a:stretch/>
        </p:blipFill>
        <p:spPr>
          <a:xfrm>
            <a:off x="3200400" y="1295280"/>
            <a:ext cx="3392640" cy="36957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585240" y="525780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作设置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7.3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超级链接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80720" y="182844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们可以通过以下步骤在演示文稿的内容之间建立超级链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打开演示文稿找到要建立超级链接的页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中页面中的有特征含义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幻灯片放映”菜单中“动作设置”命令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这时屏幕上出现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45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作设置”对话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中“单击鼠标”选项卡，在超级链接下拉列表框中选中所选对象要触发的事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单击“确定”命令完成整个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rId8" action="ppaction://hlinksldjump"/>
          </p:cNvPr>
          <p:cNvSpPr/>
          <p:nvPr/>
        </p:nvSpPr>
        <p:spPr>
          <a:xfrm>
            <a:off x="6095880" y="62485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9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8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异地演播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057040" y="2209680"/>
            <a:ext cx="6195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7.8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演示文稿的打包与展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8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上发布演示文稿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2.1  PowerPoint 2000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启动与退出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启动有下面几种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鼠标单击“开始”按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直接用鼠标双击快捷方式图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在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资源管理器”或者“我的文档”中用鼠标双击后缀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PP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文件，便会在启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同时打开该文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Arial Unicode MS"/>
              </a:rPr>
              <a:t>7.8.1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演示文稿的打包与展开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429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包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展开演示文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打包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5296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打包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647960" cy="30034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364824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88360" y="525780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7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包”向导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cc0066"/>
                </a:solidFill>
                <a:latin typeface="Arial"/>
                <a:ea typeface="楷体_GB2312"/>
              </a:rPr>
              <a:t>．展开演示文稿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886480" y="5257800"/>
            <a:ext cx="33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4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打包”安装程序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打包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105160" cy="2604960"/>
          </a:xfrm>
          <a:prstGeom prst="rect">
            <a:avLst/>
          </a:prstGeom>
          <a:ln w="0">
            <a:noFill/>
          </a:ln>
        </p:spPr>
      </p:pic>
      <p:sp>
        <p:nvSpPr>
          <p:cNvPr id="330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8.2  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网上发布演示文稿 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80720" y="1905120"/>
            <a:ext cx="6775560" cy="17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在网上发布演示文稿，需要将演示文稿转换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网页文件，以便通过浏览器观看演示文稿的内容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9084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8000" y="5230800"/>
            <a:ext cx="33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49  “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另存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TML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话框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66228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web2" descr=""/>
          <p:cNvPicPr/>
          <p:nvPr/>
        </p:nvPicPr>
        <p:blipFill>
          <a:blip r:embed="rId1"/>
          <a:stretch/>
        </p:blipFill>
        <p:spPr>
          <a:xfrm>
            <a:off x="4800600" y="2819520"/>
            <a:ext cx="3733920" cy="17208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3581640" cy="22809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88840" y="5230800"/>
            <a:ext cx="27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7-50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I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打开演示文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8144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web4" descr=""/>
          <p:cNvPicPr/>
          <p:nvPr/>
        </p:nvPicPr>
        <p:blipFill>
          <a:blip r:embed="rId1"/>
          <a:stretch/>
        </p:blipFill>
        <p:spPr>
          <a:xfrm>
            <a:off x="2133720" y="1523880"/>
            <a:ext cx="5119560" cy="3562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041280" y="541008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5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浏览器中浏览演示文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981080" y="380880"/>
            <a:ext cx="7162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ank you very much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0174" descr=""/>
          <p:cNvPicPr/>
          <p:nvPr/>
        </p:nvPicPr>
        <p:blipFill>
          <a:blip r:embed="rId1"/>
          <a:stretch/>
        </p:blipFill>
        <p:spPr>
          <a:xfrm>
            <a:off x="3886200" y="2590920"/>
            <a:ext cx="3657600" cy="267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71000" y="1981080"/>
            <a:ext cx="2008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本章到此结束，谢谢您的光临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endshow"/>
          </p:cNvPr>
          <p:cNvSpPr/>
          <p:nvPr/>
        </p:nvSpPr>
        <p:spPr>
          <a:xfrm>
            <a:off x="2895480" y="6019920"/>
            <a:ext cx="2971800" cy="609480"/>
          </a:xfrm>
          <a:custGeom>
            <a:avLst/>
            <a:gdLst>
              <a:gd name="textAreaLeft" fmla="*/ 743040 w 2971800"/>
              <a:gd name="textAreaRight" fmla="*/ 2229120 w 297180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退    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2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80720" y="190476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以下几种方法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鼠标单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文件菜单，然后在下拉菜单中用鼠标选择“退出”并单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t+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合键打开文件下拉菜单，然后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退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窗口中用鼠标单击窗口右上角的“关闭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6095880" y="6019920"/>
            <a:ext cx="2819520" cy="609480"/>
          </a:xfrm>
          <a:custGeom>
            <a:avLst/>
            <a:gdLst>
              <a:gd name="textAreaLeft" fmla="*/ 704880 w 2819520"/>
              <a:gd name="textAreaRight" fmla="*/ 2114640 w 28195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fff00"/>
                </a:solidFill>
                <a:uFillTx/>
                <a:latin typeface="Times New Roman"/>
                <a:ea typeface="华文新魏"/>
                <a:hlinkClick r:id="rId6" action="ppaction://hlinksldjump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7.2.2  PowerPoint 2000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的用户界面</a:t>
            </a:r>
            <a:endParaRPr b="0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4291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菜单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具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作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视图按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绘图工具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状态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3045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00280" y="18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62320" y="1469880"/>
            <a:ext cx="4943520" cy="3916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99080" y="556272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-1  PowerPoint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户界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8T03:01:42Z</dcterms:created>
  <dc:creator>gsjf</dc:creator>
  <dc:description/>
  <dc:language>en-US</dc:language>
  <cp:lastModifiedBy>li</cp:lastModifiedBy>
  <dcterms:modified xsi:type="dcterms:W3CDTF">2001-10-06T06:21:35Z</dcterms:modified>
  <cp:revision>31</cp:revision>
  <dc:subject/>
  <dc:title>第7章  中文演示文稿PowerPoint 2000的功能和使用</dc:title>
</cp:coreProperties>
</file>