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36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57.png" ContentType="image/png"/>
  <Override PartName="/ppt/media/image20.png" ContentType="image/png"/>
  <Override PartName="/ppt/media/image33.png" ContentType="image/png"/>
  <Override PartName="/ppt/media/image6.png" ContentType="image/png"/>
  <Override PartName="/ppt/media/image18.png" ContentType="image/png"/>
  <Override PartName="/ppt/media/image24.png" ContentType="image/png"/>
  <Override PartName="/ppt/media/image29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15.png" ContentType="image/png"/>
  <Override PartName="/ppt/media/image11.png" ContentType="image/png"/>
  <Override PartName="/ppt/media/image48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8.wmf" ContentType="image/x-wmf"/>
  <Override PartName="/ppt/media/image40.png" ContentType="image/png"/>
  <Override PartName="/ppt/media/image1.png" ContentType="image/png"/>
  <Override PartName="/ppt/media/image13.png" ContentType="image/png"/>
  <Override PartName="/ppt/media/image30.png" ContentType="image/png"/>
  <Override PartName="/ppt/media/image60.wmf" ContentType="image/x-wmf"/>
  <Override PartName="/ppt/media/image38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51.png" ContentType="image/png"/>
  <Override PartName="/ppt/media/image52.png" ContentType="image/png"/>
  <Override PartName="/ppt/media/image10.wmf" ContentType="image/x-wmf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125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24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8.xml" ContentType="application/vnd.openxmlformats-officedocument.presentationml.slide+xml"/>
  <Override PartName="/ppt/slides/slide7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728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886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0570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2728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886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C02-E224-4705-B295-983DC1D5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82F-C45E-4DC5-9496-FB7ED354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DFB-7257-4EF7-9618-E56B73E9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3E2-03CE-480C-9CFC-305858CE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27CD-1614-4358-A0DC-1F364AF9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560" y="6440400"/>
            <a:ext cx="1143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212D-F082-42A3-9FE8-974044B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EDA9-B2CA-481D-A2CC-B9BFE46F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9BC-D60B-4BBB-BE35-DBA20911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9C1C-2F84-47F5-87B6-747B5E36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2AC-30D8-4BE1-8895-891F150B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80C-B0D6-4F61-AF0A-8A1045C1E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728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88640" y="76176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0570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728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88640" y="2711880"/>
            <a:ext cx="21099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3B59-7AC2-4C3D-BD9B-09CB38E6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560" y="6440400"/>
            <a:ext cx="11430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15120" y="271188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15120" y="761760"/>
            <a:ext cx="31978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057040" y="2711880"/>
            <a:ext cx="655308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R02" descr=""/>
          <p:cNvPicPr/>
          <p:nvPr/>
        </p:nvPicPr>
        <p:blipFill>
          <a:blip r:embed="rId2"/>
          <a:stretch/>
        </p:blipFill>
        <p:spPr>
          <a:xfrm>
            <a:off x="0" y="3962520"/>
            <a:ext cx="9144000" cy="2895480"/>
          </a:xfrm>
          <a:prstGeom prst="rect">
            <a:avLst/>
          </a:prstGeom>
          <a:ln w="0">
            <a:noFill/>
          </a:ln>
        </p:spPr>
      </p:pic>
      <p:pic>
        <p:nvPicPr>
          <p:cNvPr id="1" name="R04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5880" indent="-2570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2800" indent="-2055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50080" indent="-2055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51480" indent="-20556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R02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R04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R01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C126-71C8-41F7-ABF8-7B7D6E4F191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1343-4617-4D2B-AF8A-A272018E21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43.xml"/><Relationship Id="rId7" Type="http://schemas.openxmlformats.org/officeDocument/2006/relationships/slide" Target="slide43.xml"/><Relationship Id="rId8" Type="http://schemas.openxmlformats.org/officeDocument/2006/relationships/slide" Target="slide65.xml"/><Relationship Id="rId9" Type="http://schemas.openxmlformats.org/officeDocument/2006/relationships/slide" Target="slide65.xml"/><Relationship Id="rId10" Type="http://schemas.openxmlformats.org/officeDocument/2006/relationships/slide" Target="slide83.xml"/><Relationship Id="rId11" Type="http://schemas.openxmlformats.org/officeDocument/2006/relationships/slide" Target="slide83.xml"/><Relationship Id="rId12" Type="http://schemas.openxmlformats.org/officeDocument/2006/relationships/slide" Target="slide83.xml"/><Relationship Id="rId13" Type="http://schemas.openxmlformats.org/officeDocument/2006/relationships/slide" Target="slide114.xml"/><Relationship Id="rId14" Type="http://schemas.openxmlformats.org/officeDocument/2006/relationships/slide" Target="slide114.xml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" Target="slide115.xml"/><Relationship Id="rId2" Type="http://schemas.openxmlformats.org/officeDocument/2006/relationships/slide" Target="slide115.xml"/><Relationship Id="rId3" Type="http://schemas.openxmlformats.org/officeDocument/2006/relationships/slide" Target="slide123.xml"/><Relationship Id="rId4" Type="http://schemas.openxmlformats.org/officeDocument/2006/relationships/slide" Target="slide123.xml"/><Relationship Id="rId5" Type="http://schemas.openxmlformats.org/officeDocument/2006/relationships/slide" Target="slide124.xml"/><Relationship Id="rId6" Type="http://schemas.openxmlformats.org/officeDocument/2006/relationships/slide" Target="slide124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6.xml"/><Relationship Id="rId7" Type="http://schemas.openxmlformats.org/officeDocument/2006/relationships/slide" Target="slide26.xml"/><Relationship Id="rId8" Type="http://schemas.openxmlformats.org/officeDocument/2006/relationships/slide" Target="slide27.xml"/><Relationship Id="rId9" Type="http://schemas.openxmlformats.org/officeDocument/2006/relationships/slide" Target="slide29.xml"/><Relationship Id="rId10" Type="http://schemas.openxmlformats.org/officeDocument/2006/relationships/slide" Target="slide30.xml"/><Relationship Id="rId11" Type="http://schemas.openxmlformats.org/officeDocument/2006/relationships/slide" Target="slide33.xml"/><Relationship Id="rId12" Type="http://schemas.openxmlformats.org/officeDocument/2006/relationships/slide" Target="slide34.xml"/><Relationship Id="rId13" Type="http://schemas.openxmlformats.org/officeDocument/2006/relationships/slide" Target="slide38.xml"/><Relationship Id="rId14" Type="http://schemas.openxmlformats.org/officeDocument/2006/relationships/slide" Target="slide42.xml"/><Relationship Id="rId15" Type="http://schemas.openxmlformats.org/officeDocument/2006/relationships/slide" Target="slide1.xml"/><Relationship Id="rId16" Type="http://schemas.openxmlformats.org/officeDocument/2006/relationships/slide" Target="slide1.xml"/><Relationship Id="rId1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6.xml"/><Relationship Id="rId3" Type="http://schemas.openxmlformats.org/officeDocument/2006/relationships/slide" Target="slide47.xml"/><Relationship Id="rId4" Type="http://schemas.openxmlformats.org/officeDocument/2006/relationships/slide" Target="slide48.xml"/><Relationship Id="rId5" Type="http://schemas.openxmlformats.org/officeDocument/2006/relationships/slide" Target="slide49.xml"/><Relationship Id="rId6" Type="http://schemas.openxmlformats.org/officeDocument/2006/relationships/slide" Target="slide50.xml"/><Relationship Id="rId7" Type="http://schemas.openxmlformats.org/officeDocument/2006/relationships/slide" Target="slide54.xml"/><Relationship Id="rId8" Type="http://schemas.openxmlformats.org/officeDocument/2006/relationships/slide" Target="slide58.xml"/><Relationship Id="rId9" Type="http://schemas.openxmlformats.org/officeDocument/2006/relationships/slide" Target="slide59.xml"/><Relationship Id="rId10" Type="http://schemas.openxmlformats.org/officeDocument/2006/relationships/slide" Target="slide60.xml"/><Relationship Id="rId11" Type="http://schemas.openxmlformats.org/officeDocument/2006/relationships/slide" Target="slide61.xml"/><Relationship Id="rId12" Type="http://schemas.openxmlformats.org/officeDocument/2006/relationships/slide" Target="slide63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77.xml"/><Relationship Id="rId3" Type="http://schemas.openxmlformats.org/officeDocument/2006/relationships/slide" Target="slide77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4.xml"/><Relationship Id="rId2" Type="http://schemas.openxmlformats.org/officeDocument/2006/relationships/slide" Target="slide84.xml"/><Relationship Id="rId3" Type="http://schemas.openxmlformats.org/officeDocument/2006/relationships/slide" Target="slide88.xml"/><Relationship Id="rId4" Type="http://schemas.openxmlformats.org/officeDocument/2006/relationships/slide" Target="slide88.xml"/><Relationship Id="rId5" Type="http://schemas.openxmlformats.org/officeDocument/2006/relationships/slide" Target="slide90.xml"/><Relationship Id="rId6" Type="http://schemas.openxmlformats.org/officeDocument/2006/relationships/slide" Target="slide95.xml"/><Relationship Id="rId7" Type="http://schemas.openxmlformats.org/officeDocument/2006/relationships/slide" Target="slide98.xml"/><Relationship Id="rId8" Type="http://schemas.openxmlformats.org/officeDocument/2006/relationships/slide" Target="slide99.xml"/><Relationship Id="rId9" Type="http://schemas.openxmlformats.org/officeDocument/2006/relationships/slide" Target="slide99.xml"/><Relationship Id="rId10" Type="http://schemas.openxmlformats.org/officeDocument/2006/relationships/slide" Target="slide99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1143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中文电子表格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Arial"/>
              </a:rPr>
              <a:t>Excel 2 0 0 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功能和使用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7760" y="99072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6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熟悉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Excel 2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6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编辑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6.3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格式化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8" action="ppaction://hlinksldjump"/>
              </a:rPr>
              <a:t>6.4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公式与函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0" action="ppaction://hlinksldjump"/>
              </a:rPr>
              <a:t>6.5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Excel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2" action="ppaction://hlinksldjump"/>
              </a:rPr>
              <a:t>高级操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6.6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  <a:hlinkClick r:id="rId14" action="ppaction://hlinksldjump"/>
              </a:rPr>
              <a:t>图表和图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TOUCAN" descr=""/>
          <p:cNvPicPr/>
          <p:nvPr/>
        </p:nvPicPr>
        <p:blipFill>
          <a:blip r:embed="rId15"/>
          <a:stretch/>
        </p:blipFill>
        <p:spPr>
          <a:xfrm>
            <a:off x="1981080" y="5905440"/>
            <a:ext cx="7086600" cy="8002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098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5120" y="2171880"/>
            <a:ext cx="6781680" cy="1238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971800" y="4267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”工具栏按钮功能说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建立数据透视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42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６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4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133720" y="1981080"/>
            <a:ext cx="66294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数据、数据透视表和图表报告”选项，弹出“数据透视表和数据透视图向导—”对话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指定待分析数据的数据源类型和需创建的报表类型，单击“下一步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要建立数据透视表的数据源区域，单击“下一步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新建工作表”单选项，再单击“完成”。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需要用鼠标分别将“数据透视表”工具栏中的字段按钮拖放到透视表的相应位置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31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271840" cy="2798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3505320" y="5181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2948040" y="24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3048120" y="1447920"/>
            <a:ext cx="4647960" cy="27399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2895480" y="47242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数据透视图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17664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5052960" cy="1603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3352680" y="44197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透视图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3352680" y="47242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透视图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9336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448240" cy="2217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55276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2895480" y="990720"/>
            <a:ext cx="5029200" cy="36892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048120" y="5029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0290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5276880" cy="20192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200400" y="44956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新建立的数据透视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291456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4857480" cy="32943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3124080" y="502920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和数据透视图　　　向导—版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58128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4343400" cy="300672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3505320" y="4952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字段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5257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编辑数据透视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1676520"/>
            <a:ext cx="4724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更改数据透视表的布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行、列字段互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在字段内移动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隐藏和显示数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添加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删除字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设置数据透视表选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9800" y="29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62320" y="2274840"/>
            <a:ext cx="6324480" cy="115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124080" y="42670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格式”工具栏按钮功能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081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4233960" cy="34765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2895480" y="5257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透视表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2209680" y="1295280"/>
            <a:ext cx="6553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更新数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数据→更新数据”选项；在数据区域的快捷菜单中选择“更新数据”选项；在“数据透视表”工具栏上单击“更新数据”按钮，在“数据透视表”工具栏上单击“数据透视表”按钮，在弹出的菜单中选择“更新数据”选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2057040" y="3805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据透视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5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81080" y="1600200"/>
            <a:ext cx="6858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数据→数据透视表和图表报告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icrosoft Exc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数据清单或数据库”和“数据透视图”，单击“下一步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选择数据源区域，单击“下一步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根据需要选择“新建工作表”或“现有工作表”选项，再单击“完成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版式”按钮，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单击“下一步”按钮完成数据透视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048120" y="48006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完成的数据透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2428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5076720" cy="319896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6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图表和图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464832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1" action="ppaction://hlinksldjump"/>
              </a:rPr>
              <a:t>6.6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2" action="ppaction://hlinksldjump"/>
              </a:rPr>
              <a:t>创建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3" action="ppaction://hlinksldjump"/>
              </a:rPr>
              <a:t>6.6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4" action="ppaction://hlinksldjump"/>
              </a:rPr>
              <a:t>图表的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5" action="ppaction://hlinksldjump"/>
              </a:rPr>
              <a:t>6.6.3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6" action="ppaction://hlinksldjump"/>
              </a:rPr>
              <a:t>图表的格式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rId7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6.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创建图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表可以分为内嵌图表和独立图表两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53——6-5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图表向导创建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“图表”工具栏创建简单的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16224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228920" cy="26719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429000" y="5181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成绩单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3390840" y="23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3772080" cy="345276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590920" y="49528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类型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336708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3413160" cy="353376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2666880" y="502920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源数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97180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4876920" cy="29894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297180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选项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50020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6110280" cy="730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352680" y="40384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编辑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30812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4995720" cy="1979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20040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向导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骤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—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  表位置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240984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286000" y="1905120"/>
          <a:ext cx="6200640" cy="20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905120"/>
                    <a:ext cx="620064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2743200" y="45720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图表向导创建的图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80512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5653080" cy="14014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429000" y="4572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表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6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图表的编辑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057040" y="8380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图表的移动、复制、缩放和删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改变图表的类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图表中数据和文字的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删除数据系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添加数据系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改变数据系列产生方式。 ＊ 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修改和删除文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设置图表选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6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图表的格式化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133720" y="685800"/>
            <a:ext cx="662940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选中图表，在菜单栏上选择“编辑→图表区”选项；或在快捷菜单中选择“图表区格式”选项；或双击图表对象，弹出相应的格式设置对话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若双击图表区，弹出“图表区格式”对话框，可以为整个图表区域设置图案、字体、属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若双击数值轴或分类轴，弹出“坐标轴格式”对话框，可对坐标轴的图案、刻度、字体、数字对齐方式进行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＊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若双击图例，弹出“图例格式”对话框，可对图例的图案、字体和位置进行设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7086600" y="5410080"/>
            <a:ext cx="2057400" cy="83844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endshow"/>
          </p:cNvPr>
          <p:cNvSpPr/>
          <p:nvPr/>
        </p:nvSpPr>
        <p:spPr>
          <a:xfrm>
            <a:off x="4800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结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9" name="2008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3962520" cy="35226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600200" y="6094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onotype Corsiva"/>
              </a:rPr>
              <a:t>Thank you very much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000" y="577800"/>
            <a:ext cx="115524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本章到此结束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谢谢您的光临</a:t>
            </a:r>
            <a:r>
              <a:rPr b="1" lang="zh-CN" sz="3200" spc="-1" strike="noStrike">
                <a:solidFill>
                  <a:srgbClr val="ffff66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菜单栏和工具栏的操作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05120" y="1828800"/>
            <a:ext cx="6553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菜单栏的操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具栏的操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移动菜单或工具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34332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971800" y="1066680"/>
            <a:ext cx="4724280" cy="3992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29000" y="54100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定义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3860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543640" cy="322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657600" y="50292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具栏的移动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9243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467160" cy="2727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505320" y="4648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具栏的移动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2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编辑工作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66880" y="533520"/>
            <a:ext cx="5943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" action="ppaction://hlinksldjump"/>
              </a:rPr>
              <a:t>6.2.1    编辑单元格数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2" action="ppaction://hlinksldjump"/>
              </a:rPr>
              <a:t>6.2.2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3" action="ppaction://hlinksldjump"/>
              </a:rPr>
              <a:t>复制和移动单元格的内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4" action="ppaction://hlinksldjump"/>
              </a:rPr>
              <a:t>6.2.3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5" action="ppaction://hlinksldjump"/>
              </a:rPr>
              <a:t>填充单元格区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hlinkClick r:id="rId6" action="ppaction://hlinksldjump"/>
              </a:rPr>
              <a:t>6.2.4    </a:t>
            </a: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hlinkClick r:id="rId7" action="ppaction://hlinksldjump"/>
              </a:rPr>
              <a:t>删除与清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8" action="ppaction://hlinksldjump"/>
              </a:rPr>
              <a:t>6.2.5    查找与替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9" action="ppaction://hlinksldjump"/>
              </a:rPr>
              <a:t>6.2.6    插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0" action="ppaction://hlinksldjump"/>
              </a:rPr>
              <a:t>6.2.7    单元格区域命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1" action="ppaction://hlinksldjump"/>
              </a:rPr>
              <a:t>6.2.8    其他编辑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2" action="ppaction://hlinksldjump"/>
              </a:rPr>
              <a:t>6.2.9    工作表的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3" action="ppaction://hlinksldjump"/>
              </a:rPr>
              <a:t>6.2.10  页面设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4" action="ppaction://hlinksldjump"/>
              </a:rPr>
              <a:t>6.2.11  打印工作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5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16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编辑单元格数据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33360" y="1980720"/>
            <a:ext cx="6553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编辑栏中编辑单元格的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单元格内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替换单元格的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复制和移动单元格的内容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6705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单个单元格内容复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剪贴板复制和移动单元格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拖动鼠标的方法复制和移动单元格的内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77328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本章学习目标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304920"/>
            <a:ext cx="6629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章学习目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启动和退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基本界面组成、工具栏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输入数据、工作簿操作、工作表操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辑数据的操作、单元格范围的命名、复制、移动和删除数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改变数字、文本、单元格、自动套用、复制、条件格式化、改变行宽和列高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公式计算、函数计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页面设置、打印设置、打印预览、打印工作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排序与筛选、创建图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3372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6-8" descr=""/>
          <p:cNvPicPr/>
          <p:nvPr/>
        </p:nvPicPr>
        <p:blipFill>
          <a:blip r:embed="rId1"/>
          <a:stretch/>
        </p:blipFill>
        <p:spPr>
          <a:xfrm>
            <a:off x="3581280" y="1371600"/>
            <a:ext cx="3381480" cy="3205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352680" y="5029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剪贴板”工具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6194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505320" y="1447920"/>
            <a:ext cx="3543120" cy="30286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29000" y="50292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性粘贴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718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4624560" cy="2612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124080" y="49528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择性粘贴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填充单元格区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156204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填充数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填充公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当前工作表中自动填充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产生一个序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定义序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见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1944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5143680" cy="30085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81280" y="495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序列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812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895480" y="114300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048120" y="53341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自定义序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2.4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删除与清除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33360" y="12189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清除单元格中的信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单元格区域，在菜单栏上选择“编辑→清除”选项，弹出“清除”子菜单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单元格中的信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删除整行或整列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删除单元格或单元格区域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5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查找与替换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查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-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可通过对话框上的选项确定查找范围及查找内容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16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2514600"/>
            <a:ext cx="5567400" cy="2182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97180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3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查找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替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9076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4952880" cy="1951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657600" y="5715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替换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1080" y="14479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搜索和替换的字符可以包括文字、数字、公式或公式的部分。在菜单栏上选择“编辑→选项”或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trl+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，弹出“替换”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6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插入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7760" y="1828440"/>
            <a:ext cx="38098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插入单元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插入行／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11430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1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熟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el 2 0 0 0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1828440"/>
            <a:ext cx="64785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6.1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2" action="ppaction://hlinksldjump"/>
              </a:rPr>
              <a:t>Excel 2000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3" action="ppaction://hlinksldjump"/>
              </a:rPr>
              <a:t>的启动与退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4" action="ppaction://hlinksldjump"/>
              </a:rPr>
              <a:t>6.1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5" action="ppaction://hlinksldjump"/>
              </a:rPr>
              <a:t>Excel 2000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6" action="ppaction://hlinksldjump"/>
              </a:rPr>
              <a:t>的用户界面与操作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7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7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单元格区域命名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90560" y="1752480"/>
            <a:ext cx="60195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定义名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粘贴名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指定名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应用名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标志区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516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743200" y="1371600"/>
            <a:ext cx="5305320" cy="30114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81280" y="4648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名称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35772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4795920" cy="3122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429000" y="4876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标志区域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8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其他编辑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133360" y="156204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单元格的批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“对象”命令访问其他应用程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图片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1143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9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工作表的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057400" y="7617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表的选择与翻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28800" y="160020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选择一组工作表的方法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相邻的一组工作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不相邻的一组工作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全部工作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可以用以下任意一种方法取消工作表组的设置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057040" y="762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移动或复制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1752480"/>
            <a:ext cx="59436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鼠标直接移动或复制工作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菜单命令移动或复制工作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“工作簿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“下列选定工作表之前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“建立副本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2209320" y="1447920"/>
            <a:ext cx="62485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隐藏和取消隐藏工作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定工作簿中的工作表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057400" y="76176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窗口的拆分与冻结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752480"/>
            <a:ext cx="4800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拆分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菜单命令拆分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用鼠标进行拆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撤消拆分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冻结拆分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放大或缩小窗口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10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页面设置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4724280" cy="3373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76720" y="57150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7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面设置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838080"/>
            <a:ext cx="647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文件→页面设置”选项、弹出“页面设置”对话框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981080" y="140976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页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页边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1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页眉和页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工作表的选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插入分页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插入分页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删除分页符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143000" cy="58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6.1.1  Excel 2 0 0 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启动与退出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启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7400" y="1523880"/>
            <a:ext cx="6553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开始”中选择“程序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icrosoft Excel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开始”菜单中选择“程序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资源管理器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桌面上双击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的快捷图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“启动”文件夹中添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的快捷方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启动后，屏幕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程序窗口，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124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029200" cy="3589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3124080" y="51814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边距”选项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2408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4800600" cy="3427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429000" y="5181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页脚”选项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2.1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打印工作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打印预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文件→打印预览”选项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预览窗口顶部单击“关闭”按钮，可返回工作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打印机和打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菜单栏上选择“文件→打印”选项，弹出“打印”对话框。单击“确定”按钮开始打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3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格式化工作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5640" y="609480"/>
            <a:ext cx="6629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" action="ppaction://hlinksldjump"/>
              </a:rPr>
              <a:t>6.3.1    列宽和行高的调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2" action="ppaction://hlinksldjump"/>
              </a:rPr>
              <a:t>6.3.2    设置单元格的字体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3" action="ppaction://hlinksldjump"/>
              </a:rPr>
              <a:t>6.3.3    单元格内容的对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4" action="ppaction://hlinksldjump"/>
              </a:rPr>
              <a:t>6.3.4    表格线与边框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5" action="ppaction://hlinksldjump"/>
              </a:rPr>
              <a:t>6.3.5    设置单元格的颜色和图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6" action="ppaction://hlinksldjump"/>
              </a:rPr>
              <a:t>6.3.6    设置单元格的数字格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7" action="ppaction://hlinksldjump"/>
              </a:rPr>
              <a:t>6.3.7    使用条件格式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8" action="ppaction://hlinksldjump"/>
              </a:rPr>
              <a:t>6.3.8    使用格式刷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9" action="ppaction://hlinksldjump"/>
              </a:rPr>
              <a:t>6.3.9    保护单元格或单元格区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0" action="ppaction://hlinksldjump"/>
              </a:rPr>
              <a:t>6.3.10   自动套用格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1" action="ppaction://hlinksldjump"/>
              </a:rPr>
              <a:t>6.3.11   使用样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8000"/>
                </a:solidFill>
                <a:uFillTx/>
                <a:latin typeface="宋体"/>
                <a:hlinkClick r:id="rId12" action="ppaction://hlinksldjump"/>
              </a:rPr>
              <a:t>6.3.12   设置工作表背景图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14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3.1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列宽和行高的调整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工作表的列宽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1676520"/>
            <a:ext cx="6629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格式→列→列宽”选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击“确定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格式→列→最适合的列宽”选项，单击“确定”按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将鼠标移到所选列标的右边框，拖动该边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057040" y="106632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工作表行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236232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格式→行→行高”选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菜单栏上选择“格式→行→最适合的行高”选项，单击“确定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将鼠标移到所选行标的下边框，该行的高度自动设置为最高项的高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单元格的字体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05740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菜单命令设置字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法为：选定单元格区域；在菜单栏上选择“格式→单元格”选项，完成设置后，可在“预览”框预览当前选定的字体及其格式式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工具栏上的按钮设置字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工具栏上有字体、字号等按钮，可对选定的单元格区域设置字体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3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单元格内容的对齐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33720" y="1219320"/>
            <a:ext cx="6781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菜单命令设置对齐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水平对齐”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垂直对齐”框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文本控制”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“方向”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用“格式”工具栏设置对齐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”工具栏上有四个常用的单元格对齐方式按钮：左对齐、居中、右对齐、合并及居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4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表格线与边框线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362320" y="2057400"/>
            <a:ext cx="5486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单元格区域周围加边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边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取消网格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5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单元格的颜色和图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133720" y="1447920"/>
            <a:ext cx="6705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单元格区域；在菜单栏上选“格式→单元格”选项，弹出“单元格格式”对话框；在“图案”选项卡中设置底纹颜色和图案，在“示例”显示框中预览设置的效果；单击“确定”按钮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057040" y="7621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退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 20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676520"/>
            <a:ext cx="6553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菜单栏上选择“文件→退出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窗口左上角双击窗口控制菜单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窗口左上角单击窗口控制菜单按钮，在弹出的控制菜单中选择“关闭”选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t+ F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键，或单击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文版窗口右上角的关闭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6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单元格的数字格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057040" y="11426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数字格式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3720" y="21016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的数字格式有：常规、数值、货币、会计专用、日期、时间、百分比、分数、科学记数、文本、自定义等。默认的数字格式是“常规”格式。输入时，系统根据单元格中输入的数值进行适当的格式化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057040" y="11426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单元格数字格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263520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菜单设置单元格的数字格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工具栏设置单元格的数字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33360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114800" cy="3608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971800" y="52578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单元格格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7040" y="129492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自定义格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2101680"/>
            <a:ext cx="617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“单元格格式”对话框的“数字”选项卡中，在“分类”列表中选择“自定义”选项，在“类型”列表中选择一个最接近需要的自定义格式并进行修改；单击“确定”按钮或按回车键，保存新的数字格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1143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3.7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使用条件格式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65534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设置条件格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2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条件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更改条件格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77164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6372000" cy="17701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514600" y="43434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条件格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7766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5334120" cy="2320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286000" y="45720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“条件格式”对话框中设置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6696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4700520" cy="285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666880" y="46483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条件格式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8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使用格式刷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980720" y="14479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要复制的单元格区域；在“常用”工具栏上单击“格式刷”按钮，单元格区域的选中标记由黑实线框变为滚动的短虚线框；单击鼠标左键，则该单元格区域设置为相同的格式，格式刷恢复原状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9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保护单元格或单元格区域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828440" y="1066680"/>
            <a:ext cx="6705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定要锁定、隐藏的单元格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格式→单元格”选项，弹出“单元格格式”对话框，在“保护”选项卡上选择相应的选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定”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工具→保护→保护工作表”选项，弹出“保护工作表”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输入保护口令并设置相应的选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定”，并在“确认口令”对话框中再次输入口令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69064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362320" y="990720"/>
            <a:ext cx="6400800" cy="3531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24080" y="5257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  Excel 2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应用程序窗口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1143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10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自动套用格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553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定要套用自动格式的单元格区域，在菜单栏上选择“格式→自动套用格式”选项，弹出“自动套用格式”对话框；在“格式”列表框中选择一个格式。单击“确定”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1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使用样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057040" y="13716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内部样式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-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创建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修改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删除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合并样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2194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5029200" cy="2974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2743200" y="4724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4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样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3.1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设置工作表背景图案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057040" y="1143000"/>
            <a:ext cx="6553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要添加背景图案的工作表设为当前活动工作表；在菜单栏上选择“格式→工作表→背景”选项，弹出“工作表背景”对话框，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-2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；选择图形文件（可在对话框右边浏览），单击“插入”按钮，将图形填入工作表中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342900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工作表背景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83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5029200" cy="33163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4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公式与函数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590560" y="1980720"/>
            <a:ext cx="55623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Times New Roman"/>
                <a:hlinkClick r:id="rId1" action="ppaction://hlinksldjump"/>
              </a:rPr>
              <a:t>6.4.1  公式的使用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2" action="ppaction://hlinksldjump"/>
              </a:rPr>
              <a:t>6.4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3" action="ppaction://hlinksldjump"/>
              </a:rPr>
              <a:t>函数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4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5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4.1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公式的使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057040" y="7621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式中的运算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1776240"/>
            <a:ext cx="6782040" cy="33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算术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比较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文本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引用运算符。引用运算符可以将单元格区域合并运算，包括冒号（：）、逗号（，）和空格。其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＊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冒号（：）是区域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＊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逗号（，）是联合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＊ 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4d4d4d"/>
                </a:solidFill>
                <a:latin typeface="Times New Roman"/>
              </a:rPr>
              <a:t>）空格是交叉运算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981080" y="12949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运算符的运算顺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-2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81080" y="240840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冒号（：） →逗号（，） →空格→负号→百分号→幂→乘→除→加→减→＆→比较。括号可以改变运算的先后顺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057040" y="9907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式选项板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163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单击编辑栏中的“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=”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，即可显示公式选项板。公式选项板中显示函数的名称、参数和计算结果，以及整个公式的计算结果和该函数的简单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0980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5876640" cy="2557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2743200" y="4648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6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用公式选项板输入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6.1.2  Excel 200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用户界面与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工作簿、工作表和单元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71800" y="1905120"/>
            <a:ext cx="3962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工作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元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活动单元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在公式中引用其他单元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1676520"/>
            <a:ext cx="67057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的类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相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绝对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＊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混合引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同一工作簿中其他工作表的单元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其他工作簿的单元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名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循环引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514240" y="228600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公式编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3124080"/>
            <a:ext cx="5410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修改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移动和复制公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2438280" y="1371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显示公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复杂公式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57400" y="3124080"/>
            <a:ext cx="6705720" cy="21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）公式的数值转换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4d4d4d"/>
                </a:solidFill>
                <a:latin typeface="Arial"/>
                <a:ea typeface="黑体"/>
              </a:rPr>
              <a:t>表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6-1 )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）日期和时间的使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＊（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4d4d4d"/>
                </a:solidFill>
                <a:latin typeface="Times New Roman"/>
              </a:rPr>
              <a:t>）公式返回错误值及其产生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124080" y="7621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数值转换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905120" y="1600200"/>
            <a:ext cx="6857640" cy="4495320"/>
            <a:chOff x="1905120" y="1600200"/>
            <a:chExt cx="6857640" cy="4495320"/>
          </a:xfrm>
        </p:grpSpPr>
        <p:grpSp>
          <p:nvGrpSpPr>
            <p:cNvPr id="297" name=""/>
            <p:cNvGrpSpPr/>
            <p:nvPr/>
          </p:nvGrpSpPr>
          <p:grpSpPr>
            <a:xfrm>
              <a:off x="1910520" y="1605600"/>
              <a:ext cx="6845760" cy="4482720"/>
              <a:chOff x="1910520" y="1605600"/>
              <a:chExt cx="6845760" cy="448272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910520" y="1605600"/>
                <a:ext cx="1945080" cy="627480"/>
                <a:chOff x="1910520" y="1605600"/>
                <a:chExt cx="1945080" cy="6274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992240" y="1605600"/>
                  <a:ext cx="178164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公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910520" y="1605600"/>
                  <a:ext cx="194508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855960" y="1605600"/>
                <a:ext cx="1142280" cy="627480"/>
                <a:chOff x="3855960" y="1605600"/>
                <a:chExt cx="1142280" cy="6274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937680" y="1605600"/>
                  <a:ext cx="97884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运算结果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855960" y="1605600"/>
                  <a:ext cx="114228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998600" y="1605600"/>
                <a:ext cx="3757680" cy="627480"/>
                <a:chOff x="4998600" y="1605600"/>
                <a:chExt cx="3757680" cy="6274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079600" y="1605600"/>
                  <a:ext cx="3594600" cy="62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998600" y="1605600"/>
                  <a:ext cx="3757680" cy="62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910520" y="2233440"/>
                <a:ext cx="1945080" cy="1075320"/>
                <a:chOff x="1910520" y="2233440"/>
                <a:chExt cx="1945080" cy="107532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992240" y="2233440"/>
                  <a:ext cx="17816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=“2”+“6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10520" y="2233440"/>
                  <a:ext cx="19450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855960" y="2233440"/>
                <a:ext cx="1142280" cy="1075320"/>
                <a:chOff x="3855960" y="2233440"/>
                <a:chExt cx="1142280" cy="107532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937680" y="2233440"/>
                  <a:ext cx="9788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855960" y="2233440"/>
                  <a:ext cx="11422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998600" y="2233440"/>
                <a:ext cx="3757680" cy="1075320"/>
                <a:chOff x="4998600" y="2233440"/>
                <a:chExt cx="3757680" cy="10753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5079600" y="2233440"/>
                  <a:ext cx="359460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使用算术运算符时，虽然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2”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和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6”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是文本类型的数据，但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ce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认为运算是数字项，自动将其转换为数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998600" y="2233440"/>
                  <a:ext cx="37576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910520" y="3309480"/>
                <a:ext cx="1945080" cy="851400"/>
                <a:chOff x="1910520" y="3309480"/>
                <a:chExt cx="1945080" cy="8514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992240" y="3309480"/>
                  <a:ext cx="17816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=“99/09/08”-“99/09/02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910520" y="3309480"/>
                  <a:ext cx="19450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3855960" y="3309480"/>
                <a:ext cx="1142280" cy="851400"/>
                <a:chOff x="3855960" y="3309480"/>
                <a:chExt cx="1142280" cy="8514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3937680" y="3309480"/>
                  <a:ext cx="9788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3855960" y="3309480"/>
                  <a:ext cx="11422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998600" y="3309480"/>
                <a:ext cx="3757680" cy="851400"/>
                <a:chOff x="4998600" y="3309480"/>
                <a:chExt cx="3757680" cy="8514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079600" y="3309480"/>
                  <a:ext cx="359460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ce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将具有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yy/mm/dd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格式的文本当作日期，将日期转换成为序列号后，再进行计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998600" y="3309480"/>
                  <a:ext cx="37576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1910520" y="4161240"/>
                <a:ext cx="1945080" cy="1075320"/>
                <a:chOff x="1910520" y="4161240"/>
                <a:chExt cx="1945080" cy="10753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1992240" y="4161240"/>
                  <a:ext cx="17816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=SUM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（“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3 * 5”,4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1910520" y="4161240"/>
                  <a:ext cx="19450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3855960" y="4161240"/>
                <a:ext cx="1142280" cy="1075320"/>
                <a:chOff x="3855960" y="4161240"/>
                <a:chExt cx="1142280" cy="10753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3937680" y="4161240"/>
                  <a:ext cx="97884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＃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VALUE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855960" y="4161240"/>
                  <a:ext cx="11422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4998600" y="4161240"/>
                <a:ext cx="3757680" cy="1075320"/>
                <a:chOff x="4998600" y="4161240"/>
                <a:chExt cx="3757680" cy="10753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5079600" y="4161240"/>
                  <a:ext cx="3594600" cy="107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ce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不能将文本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 * 5”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转换成数字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98600" y="4161240"/>
                  <a:ext cx="3757680" cy="107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1910520" y="5236920"/>
                <a:ext cx="1945080" cy="851400"/>
                <a:chOff x="1910520" y="5236920"/>
                <a:chExt cx="1945080" cy="8514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1992240" y="5236920"/>
                  <a:ext cx="17816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＆“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abcdef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910520" y="5236920"/>
                  <a:ext cx="19450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3855960" y="5236920"/>
                <a:ext cx="1142280" cy="851400"/>
                <a:chOff x="3855960" y="5236920"/>
                <a:chExt cx="1142280" cy="85140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3937680" y="5236920"/>
                  <a:ext cx="97884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3abcde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3855960" y="5236920"/>
                  <a:ext cx="11422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998600" y="5236920"/>
                <a:ext cx="3757680" cy="851400"/>
                <a:chOff x="4998600" y="5236920"/>
                <a:chExt cx="3757680" cy="85140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5079600" y="5236920"/>
                  <a:ext cx="3594600" cy="85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当公式需要文本型数值时，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ecl</a:t>
                  </a:r>
                  <a:r>
                    <a:rPr b="1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自动将数字转换为文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998600" y="5236920"/>
                  <a:ext cx="3757680" cy="851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43" name=""/>
            <p:cNvSpPr/>
            <p:nvPr/>
          </p:nvSpPr>
          <p:spPr>
            <a:xfrm>
              <a:off x="1905120" y="1600200"/>
              <a:ext cx="6857640" cy="4495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"/>
          <p:cNvGrpSpPr/>
          <p:nvPr/>
        </p:nvGrpSpPr>
        <p:grpSpPr>
          <a:xfrm>
            <a:off x="1905120" y="685800"/>
            <a:ext cx="5943240" cy="5714640"/>
            <a:chOff x="1905120" y="685800"/>
            <a:chExt cx="5943240" cy="5714640"/>
          </a:xfrm>
        </p:grpSpPr>
        <p:grpSp>
          <p:nvGrpSpPr>
            <p:cNvPr id="345" name=""/>
            <p:cNvGrpSpPr/>
            <p:nvPr/>
          </p:nvGrpSpPr>
          <p:grpSpPr>
            <a:xfrm>
              <a:off x="1909800" y="690480"/>
              <a:ext cx="5932800" cy="5704560"/>
              <a:chOff x="1909800" y="690480"/>
              <a:chExt cx="5932800" cy="57045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909800" y="690480"/>
                <a:ext cx="1140480" cy="716760"/>
                <a:chOff x="1909800" y="690480"/>
                <a:chExt cx="1140480" cy="7167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982160" y="690480"/>
                  <a:ext cx="9957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返回的错误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909800" y="690480"/>
                  <a:ext cx="114048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050640" y="690480"/>
                <a:ext cx="4791960" cy="716760"/>
                <a:chOff x="3050640" y="690480"/>
                <a:chExt cx="4791960" cy="716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122640" y="690480"/>
                  <a:ext cx="46476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产生的原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050640" y="690480"/>
                  <a:ext cx="479196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1909800" y="1407600"/>
                <a:ext cx="1140480" cy="717480"/>
                <a:chOff x="1909800" y="1407600"/>
                <a:chExt cx="1140480" cy="71748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982160" y="1407600"/>
                  <a:ext cx="99576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#####!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09800" y="1407600"/>
                  <a:ext cx="114048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3050640" y="1407600"/>
                <a:ext cx="4791960" cy="717480"/>
                <a:chOff x="3050640" y="1407600"/>
                <a:chExt cx="4791960" cy="71748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3122640" y="1407600"/>
                  <a:ext cx="464760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公式计算的结果太长，单元格宽度不够。增加单元格的列宽可以解决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50640" y="1407600"/>
                  <a:ext cx="479196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909800" y="2125800"/>
                <a:ext cx="1140480" cy="528480"/>
                <a:chOff x="1909800" y="2125800"/>
                <a:chExt cx="1140480" cy="52848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982160" y="2125800"/>
                  <a:ext cx="9957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div/0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909800" y="2125800"/>
                  <a:ext cx="11404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3050640" y="2125800"/>
                <a:ext cx="4791960" cy="528480"/>
                <a:chOff x="3050640" y="2125800"/>
                <a:chExt cx="4791960" cy="52848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122640" y="2125800"/>
                  <a:ext cx="46476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除数为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050640" y="2125800"/>
                  <a:ext cx="47919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909800" y="2654640"/>
                <a:ext cx="1140480" cy="528840"/>
                <a:chOff x="1909800" y="2654640"/>
                <a:chExt cx="1140480" cy="5288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982160" y="2654640"/>
                  <a:ext cx="99576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/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909800" y="2654640"/>
                  <a:ext cx="114048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050640" y="2654640"/>
                <a:ext cx="4791960" cy="528840"/>
                <a:chOff x="3050640" y="2654640"/>
                <a:chExt cx="4791960" cy="52884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122640" y="2654640"/>
                  <a:ext cx="464760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公式中无可用的数值或缺少函数参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050640" y="2654640"/>
                  <a:ext cx="479196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909800" y="3184200"/>
                <a:ext cx="1140480" cy="716760"/>
                <a:chOff x="1909800" y="3184200"/>
                <a:chExt cx="1140480" cy="7167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982160" y="3184200"/>
                  <a:ext cx="9957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AM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909800" y="3184200"/>
                  <a:ext cx="114048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3050640" y="3184200"/>
                <a:ext cx="4791960" cy="716760"/>
                <a:chOff x="3050640" y="3184200"/>
                <a:chExt cx="4791960" cy="7167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3122640" y="3184200"/>
                  <a:ext cx="46476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删除了公式中使用的名称，或使用了不存在的名称，以及名称的拼写错误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3050640" y="3184200"/>
                  <a:ext cx="479196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909800" y="3901680"/>
                <a:ext cx="1140480" cy="528480"/>
                <a:chOff x="1909800" y="3901680"/>
                <a:chExt cx="1140480" cy="5284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982160" y="3901680"/>
                  <a:ext cx="99576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UL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09800" y="3901680"/>
                  <a:ext cx="114048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3050640" y="3901680"/>
                <a:ext cx="4791960" cy="528480"/>
                <a:chOff x="3050640" y="3901680"/>
                <a:chExt cx="4791960" cy="52848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3122640" y="3901680"/>
                  <a:ext cx="4647600" cy="528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使用不正确的区域运算或不正确的单元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3050640" y="3901680"/>
                  <a:ext cx="4791960" cy="528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1909800" y="4430880"/>
                <a:ext cx="1140480" cy="717480"/>
                <a:chOff x="1909800" y="4430880"/>
                <a:chExt cx="1140480" cy="71748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982160" y="4430880"/>
                  <a:ext cx="99576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NUM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909800" y="4430880"/>
                  <a:ext cx="114048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3050640" y="4430880"/>
                <a:ext cx="4791960" cy="717480"/>
                <a:chOff x="3050640" y="4430880"/>
                <a:chExt cx="4791960" cy="71748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122640" y="4430880"/>
                  <a:ext cx="4647600" cy="71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在需要数字参数的函数中使用了不能接受的参数，或者公式计算结果的数字太大或太少，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Execl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无法表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050640" y="4430880"/>
                  <a:ext cx="4791960" cy="71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909800" y="5148720"/>
                <a:ext cx="1140480" cy="716760"/>
                <a:chOff x="1909800" y="5148720"/>
                <a:chExt cx="1140480" cy="7167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1982160" y="5148720"/>
                  <a:ext cx="99576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REF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1909800" y="5148720"/>
                  <a:ext cx="114048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3050640" y="5148720"/>
                <a:ext cx="4791960" cy="716760"/>
                <a:chOff x="3050640" y="5148720"/>
                <a:chExt cx="4791960" cy="716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122640" y="5148720"/>
                  <a:ext cx="4647600" cy="716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删除了由其他公式引用的单元格，或将移动单元格粘贴到其他公式引用的单元格中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050640" y="5148720"/>
                  <a:ext cx="4791960" cy="716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909800" y="5866200"/>
                <a:ext cx="1140480" cy="528840"/>
                <a:chOff x="1909800" y="5866200"/>
                <a:chExt cx="1140480" cy="5288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982160" y="5866200"/>
                  <a:ext cx="99576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#VALUE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09800" y="5866200"/>
                  <a:ext cx="114048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3050640" y="5866200"/>
                <a:ext cx="4791960" cy="528840"/>
                <a:chOff x="3050640" y="5866200"/>
                <a:chExt cx="4791960" cy="52884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3122640" y="5866200"/>
                  <a:ext cx="4647600" cy="52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需要数字或逻辑值时输入了文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3050640" y="5866200"/>
                  <a:ext cx="4791960" cy="528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0" name=""/>
            <p:cNvSpPr/>
            <p:nvPr/>
          </p:nvSpPr>
          <p:spPr>
            <a:xfrm>
              <a:off x="1905120" y="685800"/>
              <a:ext cx="5943240" cy="57146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7790760" y="609480"/>
            <a:ext cx="9118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公式返回的错误值及其产生的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使用数组公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828800" y="1523880"/>
            <a:ext cx="6858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创建数组公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如果希望数组公式返回一个结果，则单击输入数组公式的单元格；如果希望数组公式返回多个结果，则选定输入数组公式的单元格区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输入公式的内容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+Shift+E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应用公式（见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选定要用公式计算结果的单元格区域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公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B2:B7+C2:C7+D2:D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trl+Shift+Ent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键结束输入并返回计算结果，如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-2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67660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5934240" cy="248904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048120" y="4800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8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公式应用举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4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函数的使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的语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1654200"/>
            <a:ext cx="6705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公式必须以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开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的参数用圆括号“（ ）”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的参数多于一个时，要用“，”号分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数的文本要用英文的双引号括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参数可以是已定义的单元格名或区域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函数中使用数组参数可以由数值、文本和逻辑值组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可以混合使用区域名、单元格引用和数值作为函数的参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函数的参数类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81080" y="2057400"/>
            <a:ext cx="6477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数字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7.2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文字，如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ord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cel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。若在文字中使用双引号，则在每个双引号处用两个双引号，如“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EXT”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逻辑值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RU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FALS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者计算时产生逻辑值的语句（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错误值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#REF!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引用，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5:C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057040" y="761760"/>
            <a:ext cx="65530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组合函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合函数可以充分利用工作表中的数据，还可以充分发挥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快速计算和重复计算公式的能力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函数被用作参数时，不需要前置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函数的输入方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用粘贴函数法输入函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直接输入函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使用“自动求和”工具按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057040" y="7621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xcel 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用户界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1600200"/>
            <a:ext cx="56390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区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簿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标题栏（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菜单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具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编辑栏（如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示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状态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表标签（见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工作表拆分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29076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895480" y="609480"/>
            <a:ext cx="471024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048120" y="48006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9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粘贴函数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6668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rcRect l="0" t="0" r="0" b="4533"/>
          <a:stretch/>
        </p:blipFill>
        <p:spPr>
          <a:xfrm>
            <a:off x="2666880" y="1752480"/>
            <a:ext cx="5715000" cy="2343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3352680" y="4572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0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参数输入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68596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5467320" cy="306540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3124080" y="49528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1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动求和”功能示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1143000" cy="53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5  Excel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高级操作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172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1" action="ppaction://hlinksldjump"/>
              </a:rPr>
              <a:t>6.5.1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2" action="ppaction://hlinksldjump"/>
              </a:rPr>
              <a:t>数据库的建立和编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Arial"/>
                <a:hlinkClick r:id="rId3" action="ppaction://hlinksldjump"/>
              </a:rPr>
              <a:t>6.5.2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4" action="ppaction://hlinksldjump"/>
              </a:rPr>
              <a:t>数据库的排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5" action="ppaction://hlinksldjump"/>
              </a:rPr>
              <a:t>6.5.3  数据筛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6" action="ppaction://hlinksldjump"/>
              </a:rPr>
              <a:t>6.5.4  分类汇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7" action="ppaction://hlinksldjump"/>
              </a:rPr>
              <a:t>6.5.5  数据库函数的使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hlinkClick r:id="rId8" action="ppaction://hlinksldjump"/>
              </a:rPr>
              <a:t>6.5.6  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hlinkClick r:id="rId9" action="ppaction://hlinksldjump"/>
              </a:rPr>
              <a:t>数据透视表</a:t>
            </a:r>
            <a:r>
              <a:rPr b="1" lang="zh-CN" sz="3200" spc="-1" strike="noStrike" u="sng">
                <a:solidFill>
                  <a:srgbClr val="008000"/>
                </a:solidFill>
                <a:uFillTx/>
                <a:latin typeface="Arial"/>
                <a:ea typeface="黑体"/>
                <a:hlinkClick r:id="rId10" action="ppaction://hlinksldjump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>
            <a:hlinkClick r:id="rId11" action="ppaction://hlinksldjump"/>
          </p:cNvPr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 u="sng">
                <a:solidFill>
                  <a:srgbClr val="008000"/>
                </a:solidFill>
                <a:uFillTx/>
                <a:latin typeface="Times New Roman"/>
                <a:ea typeface="华文新魏"/>
                <a:hlinkClick r:id="rId12" action="ppaction://hlinksldjump"/>
              </a:rPr>
              <a:t>返回目录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5.1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库的建立和编辑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057040" y="12189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数据由若干列组成，每一列有一个列标题，相当于数据库的字段名，如“学号”、“姓名”等。表中每一行构成数据库的一个记录，每个记录存放一组相关的数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工作表中，数据列表与其他数据之间至少留出一个空白列和一个空白行。数据列表中应避免空白行和空白列，单元格不要以空格开头。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90052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5253120" cy="2649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3200400" y="44956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生成绩单数据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42900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记录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eet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24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2805120" cy="3162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538440" y="26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3700440" cy="2916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352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4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置条件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1143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5.2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库的排序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057040" y="76176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6-3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所示操作步骤如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单元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G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或选择成绩单数据库中的任一单元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数据→排序”选项，弹出“排序”对话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排序”对话框中指定排序的主要关键字和次要关键字、递增或递减排序选项，单击“递减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排序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认”按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65760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581280" y="1295280"/>
            <a:ext cx="3353040" cy="321336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>
            <a:off x="2514600" y="5181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5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排序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91916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14600" y="2577960"/>
            <a:ext cx="6081840" cy="851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8120" y="45720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2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常用”工具栏按钮功能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5.3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筛选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209680" y="16765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-3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示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自动筛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高级筛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的抽取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305748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4638600" cy="23922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2666880" y="47242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6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定义自动筛选方式”对话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99088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2819520" y="2152800"/>
            <a:ext cx="5467320" cy="25524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124080" y="5105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7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动筛选的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8052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3586320" cy="31845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352680" y="5257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38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高级筛选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80980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2438280" y="2133720"/>
            <a:ext cx="5953320" cy="17701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2514600" y="464832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6-39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筛选总分大于等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女学生记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6.5.4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分类汇总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5530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选择要进行分类汇总的单元格区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菜单栏上选择“数据→分类汇总”选项，弹出“分类汇总”对话框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“分类汇总”对话框上进行选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单击“确定”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-4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60028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90920" y="1219320"/>
            <a:ext cx="5705280" cy="2962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352680" y="4952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汇总结果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7386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3379680" cy="34383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9718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-40 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类汇总”对话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56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6.5.5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数据库函数的使用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133360" y="1447560"/>
            <a:ext cx="6553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据库函数包括三个参数：数据库单元格区域，要处理的列或字段，条件区域。在条件区可以指定要处理数据的条件范围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86600" y="6019920"/>
            <a:ext cx="2057400" cy="8380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200" spc="-1" strike="noStrike">
                <a:solidFill>
                  <a:srgbClr val="fff200"/>
                </a:solidFill>
                <a:latin typeface="Times New Roman"/>
                <a:ea typeface="华文新魏"/>
              </a:rPr>
              <a:t>返回本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1143000" cy="53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6.5.6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数据透视表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057040" y="1599840"/>
            <a:ext cx="6553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创建汇总表格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重新组织表格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筛选数据透视表数据和创建数据透视表数据组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创建数据透视表图表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</cp:lastModifiedBy>
  <dcterms:modified xsi:type="dcterms:W3CDTF">2001-10-06T06:12:03Z</dcterms:modified>
  <cp:revision>102</cp:revision>
  <dc:subject/>
  <dc:title>PowerPoint 演示文稿</dc:title>
</cp:coreProperties>
</file>