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2.png" ContentType="image/png"/>
  <Override PartName="/ppt/media/image50.png" ContentType="image/png"/>
  <Override PartName="/ppt/media/image51.png" ContentType="image/png"/>
  <Override PartName="/ppt/media/image49.wmf" ContentType="image/x-wmf"/>
  <Override PartName="/ppt/media/image46.png" ContentType="image/png"/>
  <Override PartName="/ppt/media/image27.png" ContentType="image/png"/>
  <Override PartName="/ppt/media/image57.png" ContentType="image/png"/>
  <Override PartName="/ppt/media/image17.png" ContentType="image/png"/>
  <Override PartName="/ppt/media/image18.png" ContentType="image/png"/>
  <Override PartName="/ppt/media/image21.png" ContentType="image/png"/>
  <Override PartName="/ppt/media/image24.png" ContentType="image/png"/>
  <Override PartName="/ppt/media/image22.png" ContentType="image/png"/>
  <Override PartName="/ppt/media/image59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3.png" ContentType="image/png"/>
  <Override PartName="/ppt/media/image69.jpeg" ContentType="image/jpeg"/>
  <Override PartName="/ppt/media/image9.wmf" ContentType="image/x-wmf"/>
  <Override PartName="/ppt/media/image33.png" ContentType="image/png"/>
  <Override PartName="/ppt/media/image15.png" ContentType="image/png"/>
  <Override PartName="/ppt/media/image3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5.png" ContentType="image/png"/>
  <Override PartName="/ppt/media/image67.jpeg" ContentType="image/jpeg"/>
  <Override PartName="/ppt/media/image26.wmf" ContentType="image/x-wmf"/>
  <Override PartName="/ppt/media/image28.png" ContentType="image/png"/>
  <Override PartName="/ppt/media/image63.png" ContentType="image/png"/>
  <Override PartName="/ppt/media/image61.jpeg" ContentType="image/jpeg"/>
  <Override PartName="/ppt/media/image38.wmf" ContentType="image/x-wmf"/>
  <Override PartName="/ppt/media/image40.png" ContentType="image/png"/>
  <Override PartName="/ppt/media/image60.jpeg" ContentType="image/jpeg"/>
  <Override PartName="/ppt/media/image30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29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6.wmf" ContentType="image/x-wmf"/>
  <Override PartName="/ppt/media/image37.png" ContentType="image/png"/>
  <Override PartName="/ppt/media/image12.png" ContentType="image/png"/>
  <Override PartName="/ppt/media/image8.png" ContentType="image/png"/>
  <Override PartName="/ppt/media/image7.png" ContentType="image/png"/>
  <Override PartName="/ppt/media/image41.wmf" ContentType="image/x-wmf"/>
  <Override PartName="/ppt/media/image1.png" ContentType="image/png"/>
  <Override PartName="/ppt/media/image13.png" ContentType="image/png"/>
  <Override PartName="/ppt/media/image53.wmf" ContentType="image/x-wmf"/>
  <Override PartName="/ppt/media/image14.png" ContentType="image/png"/>
  <Override PartName="/ppt/media/image5.wmf" ContentType="image/x-wmf"/>
  <Override PartName="/ppt/media/image10.png" ContentType="image/png"/>
  <Override PartName="/ppt/media/image47.png" ContentType="image/png"/>
  <Override PartName="/ppt/media/image32.png" ContentType="image/png"/>
  <Override PartName="/ppt/media/image35.png" ContentType="image/png"/>
  <Override PartName="/ppt/media/image36.png" ContentType="image/png"/>
  <Override PartName="/ppt/media/image64.jpeg" ContentType="image/jpeg"/>
  <Override PartName="/ppt/media/image39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5.xml.rels" ContentType="application/vnd.openxmlformats-package.relationships+xml"/>
  <Override PartName="/ppt/slides/_rels/slide95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4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27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2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20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93.xml" ContentType="application/vnd.openxmlformats-officedocument.presentationml.slide+xml"/>
  <Override PartName="/ppt/slides/slide121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94.xml" ContentType="application/vnd.openxmlformats-officedocument.presentationml.slide+xml"/>
  <Override PartName="/ppt/slides/slide122.xml" ContentType="application/vnd.openxmlformats-officedocument.presentationml.slide+xml"/>
  <Override PartName="/ppt/slides/slide71.xml" ContentType="application/vnd.openxmlformats-officedocument.presentationml.slide+xml"/>
  <Override PartName="/ppt/slides/slide118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70.xml" ContentType="application/vnd.openxmlformats-officedocument.presentationml.slide+xml"/>
  <Override PartName="/ppt/slides/slide99.xml" ContentType="application/vnd.openxmlformats-officedocument.presentationml.slide+xml"/>
  <Override PartName="/ppt/slides/slide127.xml" ContentType="application/vnd.openxmlformats-officedocument.presentationml.slide+xml"/>
  <Override PartName="/ppt/slides/slide27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60.xml" ContentType="application/vnd.openxmlformats-officedocument.presentationml.slide+xml"/>
  <Override PartName="/ppt/slides/slide29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8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47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48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9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E317-EE42-4CBF-9150-E8085A0AB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554A-7518-43CD-B973-3BF66D73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F8E9-98A8-45DB-87F6-A76F8A8A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D20-2337-455C-AFC5-8474CAFD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DEF8-A451-4BE5-972A-897AC4B9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02E1-8442-4E58-83ED-AA68243F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8BCC-AABF-41AB-B6BB-0B33BEF4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D1C-1CEF-41D2-8DC8-4D1C20A2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48D-23D3-4FAE-A168-12319D2C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F35-A622-402F-8216-41DCBCA6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E59-1B30-4B0E-AB2E-C5FD46B23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23DA-C3C3-4EB0-AD1F-14E0F7BF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9984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f39f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0" name="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3" name="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4f39f3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C57-9183-4A23-ABCA-E01F7DE1933C}" type="datetime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6A56-4AD6-4019-ABD8-CA27536B2461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" Target="slide16.xml"/><Relationship Id="rId8" Type="http://schemas.openxmlformats.org/officeDocument/2006/relationships/slide" Target="slide24.xml"/><Relationship Id="rId9" Type="http://schemas.openxmlformats.org/officeDocument/2006/relationships/slide" Target="slide24.xml"/><Relationship Id="rId10" Type="http://schemas.openxmlformats.org/officeDocument/2006/relationships/slide" Target="slide24.xml"/><Relationship Id="rId11" Type="http://schemas.openxmlformats.org/officeDocument/2006/relationships/slide" Target="slide41.xml"/><Relationship Id="rId12" Type="http://schemas.openxmlformats.org/officeDocument/2006/relationships/slide" Target="slide81.xml"/><Relationship Id="rId13" Type="http://schemas.openxmlformats.org/officeDocument/2006/relationships/slide" Target="slide96.xml"/><Relationship Id="rId14" Type="http://schemas.openxmlformats.org/officeDocument/2006/relationships/slide" Target="slide112.xml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0.png"/><Relationship Id="rId3" Type="http://schemas.openxmlformats.org/officeDocument/2006/relationships/slide" Target="slide96.xml"/><Relationship Id="rId4" Type="http://schemas.openxmlformats.org/officeDocument/2006/relationships/slide" Target="slide96.xml"/><Relationship Id="rId5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13.xml"/><Relationship Id="rId3" Type="http://schemas.openxmlformats.org/officeDocument/2006/relationships/slide" Target="slide113.xml"/><Relationship Id="rId4" Type="http://schemas.openxmlformats.org/officeDocument/2006/relationships/slide" Target="slide114.xml"/><Relationship Id="rId5" Type="http://schemas.openxmlformats.org/officeDocument/2006/relationships/slide" Target="slide117.xml"/><Relationship Id="rId6" Type="http://schemas.openxmlformats.org/officeDocument/2006/relationships/slide" Target="slide122.xml"/><Relationship Id="rId7" Type="http://schemas.openxmlformats.org/officeDocument/2006/relationships/slide" Target="slide123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7.xml"/><Relationship Id="rId3" Type="http://schemas.openxmlformats.org/officeDocument/2006/relationships/slide" Target="slide19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" Target="slide16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27.xml"/><Relationship Id="rId5" Type="http://schemas.openxmlformats.org/officeDocument/2006/relationships/slide" Target="slide39.xml"/><Relationship Id="rId6" Type="http://schemas.openxmlformats.org/officeDocument/2006/relationships/slide" Target="slide40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" Target="slide24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7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2.xml"/><Relationship Id="rId3" Type="http://schemas.openxmlformats.org/officeDocument/2006/relationships/slide" Target="slide47.xml"/><Relationship Id="rId4" Type="http://schemas.openxmlformats.org/officeDocument/2006/relationships/slide" Target="slide58.xml"/><Relationship Id="rId5" Type="http://schemas.openxmlformats.org/officeDocument/2006/relationships/slide" Target="slide63.xml"/><Relationship Id="rId6" Type="http://schemas.openxmlformats.org/officeDocument/2006/relationships/slide" Target="slide65.xml"/><Relationship Id="rId7" Type="http://schemas.openxmlformats.org/officeDocument/2006/relationships/slide" Target="slide69.xml"/><Relationship Id="rId8" Type="http://schemas.openxmlformats.org/officeDocument/2006/relationships/slide" Target="slide72.xml"/><Relationship Id="rId9" Type="http://schemas.openxmlformats.org/officeDocument/2006/relationships/slide" Target="slide75.xml"/><Relationship Id="rId10" Type="http://schemas.openxmlformats.org/officeDocument/2006/relationships/slide" Target="slide75.xml"/><Relationship Id="rId11" Type="http://schemas.openxmlformats.org/officeDocument/2006/relationships/slide" Target="slide1.xml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1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1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wmf"/><Relationship Id="rId3" Type="http://schemas.openxmlformats.org/officeDocument/2006/relationships/slide" Target="slide41.xml"/><Relationship Id="rId4" Type="http://schemas.openxmlformats.org/officeDocument/2006/relationships/slide" Target="slide41.xml"/><Relationship Id="rId5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2.xml"/><Relationship Id="rId3" Type="http://schemas.openxmlformats.org/officeDocument/2006/relationships/slide" Target="slide82.xml"/><Relationship Id="rId4" Type="http://schemas.openxmlformats.org/officeDocument/2006/relationships/slide" Target="slide85.xml"/><Relationship Id="rId5" Type="http://schemas.openxmlformats.org/officeDocument/2006/relationships/slide" Target="slide91.xml"/><Relationship Id="rId6" Type="http://schemas.openxmlformats.org/officeDocument/2006/relationships/slide" Target="slide95.xml"/><Relationship Id="rId7" Type="http://schemas.openxmlformats.org/officeDocument/2006/relationships/slide" Target="slide1.xml"/><Relationship Id="rId8" Type="http://schemas.openxmlformats.org/officeDocument/2006/relationships/slide" Target="slide1.xml"/><Relationship Id="rId9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5.png"/><Relationship Id="rId3" Type="http://schemas.openxmlformats.org/officeDocument/2006/relationships/slide" Target="slide81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7.png"/><Relationship Id="rId3" Type="http://schemas.openxmlformats.org/officeDocument/2006/relationships/slide" Target="slide81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1.xml"/><Relationship Id="rId3" Type="http://schemas.openxmlformats.org/officeDocument/2006/relationships/slide" Target="slide81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97.xml"/><Relationship Id="rId3" Type="http://schemas.openxmlformats.org/officeDocument/2006/relationships/slide" Target="slide97.xml"/><Relationship Id="rId4" Type="http://schemas.openxmlformats.org/officeDocument/2006/relationships/slide" Target="slide101.xml"/><Relationship Id="rId5" Type="http://schemas.openxmlformats.org/officeDocument/2006/relationships/slide" Target="slide108.xml"/><Relationship Id="rId6" Type="http://schemas.openxmlformats.org/officeDocument/2006/relationships/slide" Target="slide109.xml"/><Relationship Id="rId7" Type="http://schemas.openxmlformats.org/officeDocument/2006/relationships/slide" Target="slide109.xml"/><Relationship Id="rId8" Type="http://schemas.openxmlformats.org/officeDocument/2006/relationships/slide" Target="slide109.xml"/><Relationship Id="rId9" Type="http://schemas.openxmlformats.org/officeDocument/2006/relationships/slide" Target="slide1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中文字处理软件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Word 2000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的功能和使用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5.1  熟悉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Word 2000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4" action="ppaction://hlinksldjump"/>
              </a:rPr>
              <a:t>5.2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5" action="ppaction://hlinksldjump"/>
              </a:rPr>
              <a:t>创建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6" action="ppaction://hlinksldjump"/>
              </a:rPr>
              <a:t>Word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7" action="ppaction://hlinksldjump"/>
              </a:rPr>
              <a:t>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8" action="ppaction://hlinksldjump"/>
              </a:rPr>
              <a:t>5.3  编辑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9" action="ppaction://hlinksldjump"/>
              </a:rPr>
              <a:t>Word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0" action="ppaction://hlinksldjump"/>
              </a:rPr>
              <a:t>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1" action="ppaction://hlinksldjump"/>
              </a:rPr>
              <a:t>5.4  格式化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2" action="ppaction://hlinksldjump"/>
              </a:rPr>
              <a:t>5.5  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3" action="ppaction://hlinksldjump"/>
              </a:rPr>
              <a:t>5.6  高级编辑技巧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4" action="ppaction://hlinksldjump"/>
              </a:rPr>
              <a:t>5.7  邮件合并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871640" y="29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772400" cy="1425600"/>
          </a:xfrm>
          <a:prstGeom prst="rect">
            <a:avLst/>
          </a:prstGeom>
          <a:ln w="9360">
            <a:solidFill>
              <a:srgbClr val="00ccff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2133720" y="41148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格式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2514600" y="53341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1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设置图片格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479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2438280" y="1143000"/>
            <a:ext cx="5029200" cy="3908520"/>
          </a:xfrm>
          <a:prstGeom prst="rect">
            <a:avLst/>
          </a:prstGeom>
          <a:ln w="0">
            <a:noFill/>
          </a:ln>
        </p:spPr>
      </p:pic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5.6.2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绘制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905120" y="2057400"/>
            <a:ext cx="581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．绘制图形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编辑图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图形的旋转和翻转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层叠自选图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在自选图形中添加文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  <a:ea typeface="宋体"/>
            </a:endParaRPr>
          </a:p>
        </p:txBody>
      </p:sp>
      <p:sp>
        <p:nvSpPr>
          <p:cNvPr id="628" name=""/>
          <p:cNvSpPr/>
          <p:nvPr/>
        </p:nvSpPr>
        <p:spPr>
          <a:xfrm>
            <a:off x="234792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868320" y="2643120"/>
            <a:ext cx="7405560" cy="1569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050280" y="4800600"/>
            <a:ext cx="24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42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绘图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ff9900"/>
                </a:solidFill>
                <a:latin typeface="宋体"/>
                <a:ea typeface="宋体"/>
              </a:rPr>
              <a:t>．绘制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371240" y="1905120"/>
            <a:ext cx="703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绘制自选图形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）画“直线”、“矩形”、“椭圆”等图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画箭头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绘制文本框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编辑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绘制的自选图形可以用“图片”工具栏设置文字环绕、设置边框的线型和缩放图形；也可以菜单栏上选择“格式→自选图形”选项（或在“图片”工具栏上单击“设置自选图形格式”按钮），弹出的“设置自选图形格式”对话框中设置文字环绕、边框线型和颜色、缩放图形以及设置图形页面中的位置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图形的旋转和翻转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96252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2666880" y="1905120"/>
            <a:ext cx="2787840" cy="4114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6327720" y="2422800"/>
            <a:ext cx="546120" cy="33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44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绘图”列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层叠自选图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可以在一个自选图形上绘制另一个自选图形，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中允许重叠任意数目的自选图形或自选图形组，也允许在文档文字上重叠自选图形。如果上面的对象遮盖了下面的对象，可以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ab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键向前循环（或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Shift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＋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Tab</a:t>
            </a:r>
            <a:r>
              <a:rPr b="1" lang="zh-CN" sz="3200" spc="-1" strike="noStrike">
                <a:solidFill>
                  <a:srgbClr val="ffffcc"/>
                </a:solidFill>
                <a:latin typeface="宋体"/>
                <a:ea typeface="宋体"/>
              </a:rPr>
              <a:t>组合键向后循环）对象，直到选定需要的对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在自选图形中添加文字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允许在除线条或任意多边形之外的任何自选图形中添加文字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6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插入艺术字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1981080" y="2122560"/>
            <a:ext cx="6400800" cy="2612880"/>
          </a:xfrm>
          <a:prstGeom prst="rect">
            <a:avLst/>
          </a:prstGeom>
          <a:ln w="0">
            <a:noFill/>
          </a:ln>
        </p:spPr>
      </p:pic>
      <p:sp>
        <p:nvSpPr>
          <p:cNvPr id="646" name=""/>
          <p:cNvSpPr/>
          <p:nvPr/>
        </p:nvSpPr>
        <p:spPr>
          <a:xfrm>
            <a:off x="3645720" y="518148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45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艺术字”工具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6.4  Word 2000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的其他功能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057040" y="1752480"/>
            <a:ext cx="5662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查看已有样式所保存的段落格式和字体格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应用样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修改样式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（如图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-47</a:t>
            </a:r>
            <a:r>
              <a:rPr b="0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所示）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创建样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删除样式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模板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自动图文集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3380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523880" y="244440"/>
            <a:ext cx="7314840" cy="6369120"/>
            <a:chOff x="1523880" y="244440"/>
            <a:chExt cx="7314840" cy="6369120"/>
          </a:xfrm>
        </p:grpSpPr>
        <p:grpSp>
          <p:nvGrpSpPr>
            <p:cNvPr id="126" name=""/>
            <p:cNvGrpSpPr/>
            <p:nvPr/>
          </p:nvGrpSpPr>
          <p:grpSpPr>
            <a:xfrm>
              <a:off x="1529640" y="248040"/>
              <a:ext cx="7301520" cy="6361920"/>
              <a:chOff x="1529640" y="248040"/>
              <a:chExt cx="7301520" cy="636192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1529640" y="248040"/>
                <a:ext cx="1471320" cy="456840"/>
                <a:chOff x="1529640" y="248040"/>
                <a:chExt cx="1471320" cy="4568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1618560" y="24804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状态信息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529640" y="24804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3001320" y="248040"/>
                <a:ext cx="5829840" cy="456840"/>
                <a:chOff x="3001320" y="248040"/>
                <a:chExt cx="5829840" cy="4568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3090240" y="24804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3001320" y="24804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1529640" y="704880"/>
                <a:ext cx="1471320" cy="456840"/>
                <a:chOff x="1529640" y="704880"/>
                <a:chExt cx="147132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618560" y="70488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l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页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529640" y="70488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3001320" y="704880"/>
                <a:ext cx="5829840" cy="456840"/>
                <a:chOff x="3001320" y="704880"/>
                <a:chExt cx="5829840" cy="4568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3090240" y="70488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在第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页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01320" y="70488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1529640" y="1161720"/>
                <a:ext cx="1471320" cy="457200"/>
                <a:chOff x="1529640" y="1161720"/>
                <a:chExt cx="147132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1618560" y="1161720"/>
                  <a:ext cx="129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529640" y="1161720"/>
                  <a:ext cx="147132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3001320" y="1161720"/>
                <a:ext cx="5829840" cy="457200"/>
                <a:chOff x="3001320" y="1161720"/>
                <a:chExt cx="5829840" cy="4572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90240" y="1161720"/>
                  <a:ext cx="5651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在第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l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001320" y="1161720"/>
                  <a:ext cx="582984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1529640" y="1618920"/>
                <a:ext cx="1471320" cy="456840"/>
                <a:chOff x="1529640" y="1618920"/>
                <a:chExt cx="1471320" cy="45684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618560" y="161892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／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529640" y="161892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3001320" y="1618920"/>
                <a:ext cx="5829840" cy="456840"/>
                <a:chOff x="3001320" y="1618920"/>
                <a:chExt cx="5829840" cy="4568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3090240" y="161892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所在页的页码是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／文档的总页数是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001320" y="161892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529640" y="2076120"/>
                <a:ext cx="1471320" cy="456840"/>
                <a:chOff x="1529640" y="2076120"/>
                <a:chExt cx="1471320" cy="45684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618560" y="207612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位置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2.5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厘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29640" y="207612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3001320" y="2076120"/>
                <a:ext cx="5829840" cy="456840"/>
                <a:chOff x="3001320" y="2076120"/>
                <a:chExt cx="5829840" cy="4568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3090240" y="207612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上页边界到插入点之间的距离为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2.5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厘米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001320" y="207612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"/>
              <p:cNvGrpSpPr/>
              <p:nvPr/>
            </p:nvGrpSpPr>
            <p:grpSpPr>
              <a:xfrm>
                <a:off x="1529640" y="2532960"/>
                <a:ext cx="1471320" cy="456840"/>
                <a:chOff x="1529640" y="2532960"/>
                <a:chExt cx="1471320" cy="45684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618560" y="253296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行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529640" y="253296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"/>
              <p:cNvGrpSpPr/>
              <p:nvPr/>
            </p:nvGrpSpPr>
            <p:grpSpPr>
              <a:xfrm>
                <a:off x="3001320" y="2532960"/>
                <a:ext cx="5829840" cy="456840"/>
                <a:chOff x="3001320" y="2532960"/>
                <a:chExt cx="5829840" cy="4568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3090240" y="253296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插入点在当前页第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行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001320" y="253296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1529640" y="2990160"/>
                <a:ext cx="1471320" cy="457200"/>
                <a:chOff x="1529640" y="2990160"/>
                <a:chExt cx="1471320" cy="4572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1618560" y="2990160"/>
                  <a:ext cx="129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1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列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529640" y="2990160"/>
                  <a:ext cx="147132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3001320" y="2990160"/>
                <a:ext cx="5829840" cy="457200"/>
                <a:chOff x="3001320" y="2990160"/>
                <a:chExt cx="5829840" cy="45720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3090240" y="2990160"/>
                  <a:ext cx="5651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左页边距到插入点之间的字符数（含空格和制表符）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001320" y="2990160"/>
                  <a:ext cx="582984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1529640" y="3447360"/>
                <a:ext cx="1471320" cy="456840"/>
                <a:chOff x="1529640" y="3447360"/>
                <a:chExt cx="1471320" cy="4568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1618560" y="3447360"/>
                  <a:ext cx="129348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录制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529640" y="3447360"/>
                  <a:ext cx="147132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3001320" y="3447360"/>
                <a:ext cx="5829840" cy="456840"/>
                <a:chOff x="3001320" y="3447360"/>
                <a:chExt cx="5829840" cy="4568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3090240" y="3447360"/>
                  <a:ext cx="565164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录制”可打开或关闭宏记录器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001320" y="3447360"/>
                  <a:ext cx="5829840" cy="4568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1529640" y="3904200"/>
                <a:ext cx="1471320" cy="561960"/>
                <a:chOff x="1529640" y="3904200"/>
                <a:chExt cx="1471320" cy="56196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1618560" y="390420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修订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529640" y="390420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3001320" y="3904200"/>
                <a:ext cx="5829840" cy="561960"/>
                <a:chOff x="3001320" y="3904200"/>
                <a:chExt cx="5829840" cy="5619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090240" y="390420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修订”可打开或关闭修订标记功能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001320" y="390420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529640" y="4466160"/>
                <a:ext cx="1471320" cy="561960"/>
                <a:chOff x="1529640" y="4466160"/>
                <a:chExt cx="1471320" cy="56196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618560" y="446616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扩展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529640" y="446616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"/>
              <p:cNvGrpSpPr/>
              <p:nvPr/>
            </p:nvGrpSpPr>
            <p:grpSpPr>
              <a:xfrm>
                <a:off x="3001320" y="4466160"/>
                <a:ext cx="5829840" cy="561960"/>
                <a:chOff x="3001320" y="4466160"/>
                <a:chExt cx="5829840" cy="561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3090240" y="446616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扩展”可打开或关闭扩展选定范围模式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01320" y="446616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"/>
              <p:cNvGrpSpPr/>
              <p:nvPr/>
            </p:nvGrpSpPr>
            <p:grpSpPr>
              <a:xfrm>
                <a:off x="1529640" y="5028480"/>
                <a:ext cx="1471320" cy="561960"/>
                <a:chOff x="1529640" y="5028480"/>
                <a:chExt cx="1471320" cy="561960"/>
              </a:xfrm>
            </p:grpSpPr>
            <p:sp>
              <p:nvSpPr>
                <p:cNvPr id="188" name=""/>
                <p:cNvSpPr/>
                <p:nvPr/>
              </p:nvSpPr>
              <p:spPr>
                <a:xfrm>
                  <a:off x="1618560" y="502848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改写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1529640" y="502848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3001320" y="5028480"/>
                <a:ext cx="5829840" cy="561960"/>
                <a:chOff x="3001320" y="5028480"/>
                <a:chExt cx="5829840" cy="56196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3090240" y="502848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双击“改写”可进行“改写”和“插入”两种编辑状态的切换。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001320" y="502848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"/>
              <p:cNvGrpSpPr/>
              <p:nvPr/>
            </p:nvGrpSpPr>
            <p:grpSpPr>
              <a:xfrm>
                <a:off x="1529640" y="5590440"/>
                <a:ext cx="1471320" cy="457200"/>
                <a:chOff x="1529640" y="5590440"/>
                <a:chExt cx="1471320" cy="4572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1618560" y="5590440"/>
                  <a:ext cx="129348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中文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529640" y="5590440"/>
                  <a:ext cx="147132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3001320" y="5590440"/>
                <a:ext cx="5829840" cy="457200"/>
                <a:chOff x="3001320" y="5590440"/>
                <a:chExt cx="5829840" cy="45720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090240" y="5590440"/>
                  <a:ext cx="56516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显示光标所在位置的文字所属的语种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001320" y="5590440"/>
                  <a:ext cx="5829840" cy="457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529640" y="6048000"/>
                <a:ext cx="1471320" cy="561960"/>
                <a:chOff x="1529640" y="6048000"/>
                <a:chExt cx="1471320" cy="5619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1618560" y="6048000"/>
                  <a:ext cx="129348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拼写和语法检查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529640" y="6048000"/>
                  <a:ext cx="147132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3001320" y="6048000"/>
                <a:ext cx="5829840" cy="561960"/>
                <a:chOff x="3001320" y="6048000"/>
                <a:chExt cx="5829840" cy="5619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3090240" y="6048000"/>
                  <a:ext cx="5651640" cy="56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如果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Word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正在查错的过程中，找到了错误，将在书上显示“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×”</a:t>
                  </a: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，双击此图标可以修改错误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001320" y="6048000"/>
                  <a:ext cx="5829840" cy="5619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5" name=""/>
            <p:cNvSpPr/>
            <p:nvPr/>
          </p:nvSpPr>
          <p:spPr>
            <a:xfrm>
              <a:off x="1523880" y="244440"/>
              <a:ext cx="7314840" cy="63691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8840" y="1752480"/>
            <a:ext cx="911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  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状态栏的常见信息说明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029200" cy="4295880"/>
          </a:xfrm>
          <a:prstGeom prst="rect">
            <a:avLst/>
          </a:prstGeom>
          <a:ln w="0">
            <a:noFill/>
          </a:ln>
        </p:spPr>
      </p:pic>
      <p:sp>
        <p:nvSpPr>
          <p:cNvPr id="652" name=""/>
          <p:cNvSpPr/>
          <p:nvPr/>
        </p:nvSpPr>
        <p:spPr>
          <a:xfrm>
            <a:off x="7470720" y="2057400"/>
            <a:ext cx="546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6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样式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362320" y="55627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7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更改样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28140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2819520" y="1405080"/>
            <a:ext cx="4186080" cy="4046400"/>
          </a:xfrm>
          <a:prstGeom prst="rect">
            <a:avLst/>
          </a:prstGeom>
          <a:ln w="0">
            <a:noFill/>
          </a:ln>
        </p:spPr>
      </p:pic>
      <p:sp>
        <p:nvSpPr>
          <p:cNvPr id="656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4800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7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邮件合并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752120" y="1980720"/>
            <a:ext cx="4977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7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邮件合并的过程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7.2  创建与编辑主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7.3  创建数据源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7.4  插入合并域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5.7.5  把数据合并到主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9" name="">
            <a:hlinkClick r:id="rId8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邮件合并的过程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61200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打开或创建主文档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打开或创建数据源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编辑主文档并插入合并域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将数据合并到主文档中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创建与编辑主文档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1447920"/>
            <a:ext cx="83818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建立一个新文档或打开一个现有的文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输入文档中带有共性的部分，文件保存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选择“工具”菜单中的“邮件合并”项（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创建”按钮，从中选择主文档类型，单击该选项，弹出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编辑”按钮下的                                          ，返回主文档窗口进一步编辑文档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552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4800600" y="5029200"/>
            <a:ext cx="3505320" cy="2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330984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2743200" y="1066680"/>
            <a:ext cx="4233960" cy="38023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2514600" y="51055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0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邮件合并帮助器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1100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71" name="邮件合并3" descr=""/>
          <p:cNvPicPr/>
          <p:nvPr/>
        </p:nvPicPr>
        <p:blipFill>
          <a:blip r:embed="rId2"/>
          <a:stretch/>
        </p:blipFill>
        <p:spPr>
          <a:xfrm>
            <a:off x="1523880" y="2638440"/>
            <a:ext cx="6643800" cy="15796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52480" y="4800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1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在提示框中选择如何创建主文档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05120" y="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5.7.3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创建数据源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200040" y="121896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建立数据源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14400" y="1981080"/>
            <a:ext cx="7620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在“邮件合并帮助器”对话框中单击“获取数据→建立数据源”，如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在“创建数据源”对话框中，在“域名”栏内输入新的域名，单击“添加域名”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域名编辑完后，单击“确定”按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保存数据源文件后，单击“编辑数据源”按钮，打开如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所示 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）数据输入完后，单击“确定”，自动保存数据源，返回主文档窗口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31488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2"/>
          <a:stretch/>
        </p:blipFill>
        <p:spPr>
          <a:xfrm>
            <a:off x="1981080" y="1596960"/>
            <a:ext cx="5791320" cy="366408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2666880" y="54100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2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创建数据源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500280" y="30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1" name="邮件合并8" descr=""/>
          <p:cNvPicPr/>
          <p:nvPr/>
        </p:nvPicPr>
        <p:blipFill>
          <a:blip r:embed="rId2"/>
          <a:stretch/>
        </p:blipFill>
        <p:spPr>
          <a:xfrm>
            <a:off x="1447920" y="2057400"/>
            <a:ext cx="6781680" cy="22305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2438280" y="49528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3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提示创建数据源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46479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鼠标和键盘的操作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1600200"/>
            <a:ext cx="579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多数快捷键都要用到控制键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Shif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Ctrl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Alt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05120" y="274284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菜单的操作方法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350532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各菜单项中的选项分为基本命令和扩展命令。在菜单栏上单击菜单项，弹出的下拉菜单中只包含该菜单项的基本命令；单击下拉菜单中的“其他命令”图标，或将鼠标指针停留在菜单项上几秒钟，就会重新显示该菜单项中的所有选项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24792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4" name="数据源" descr=""/>
          <p:cNvPicPr/>
          <p:nvPr/>
        </p:nvPicPr>
        <p:blipFill>
          <a:blip r:embed="rId2"/>
          <a:stretch/>
        </p:blipFill>
        <p:spPr>
          <a:xfrm>
            <a:off x="1890720" y="1752480"/>
            <a:ext cx="5362560" cy="273852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2590920" y="5105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4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数据表单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514240" y="761760"/>
            <a:ext cx="3429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开数据源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143000" y="2314440"/>
            <a:ext cx="73152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如果利用已经创建的数据源，可在“邮件合并帮助器”对话框中单击“获取数据→打开数据源”，打开“打开数据源”对话框，选择一个含有数据源的文件，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表格文件、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数据文件或者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Access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数据文件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插入合并域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880" y="144792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打开主文档，将光标移至插入点，再单击“邮件合并”工具栏的“插入合并域”按钮          ，然后单击所需域名。插入的合并域自动用《》号括起来（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57480" y="26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2743200" y="3124080"/>
            <a:ext cx="4419720" cy="230688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2590920" y="57150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5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插入合并域后的主文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37160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3"/>
          <a:stretch/>
        </p:blipFill>
        <p:spPr>
          <a:xfrm>
            <a:off x="4876920" y="1981080"/>
            <a:ext cx="1066680" cy="25416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62481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7.5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把数据合并到主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09480" y="1828800"/>
            <a:ext cx="79250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单击“工具”菜单中的“邮件合并”按钮      打开“邮件合并帮助器”对话框。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6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在“邮件合并帮助器”对话框中，单击“合并数据和文档”下的“合并”按钮，打开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7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“合并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从“合并到”下拉菜单选择合并的方法，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8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59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8164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7391520" y="1739880"/>
            <a:ext cx="609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00996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1638360" y="1925640"/>
            <a:ext cx="5867280" cy="300528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2247840" y="52578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6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数据源进行排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30048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5" name="邮件合并15" descr=""/>
          <p:cNvPicPr/>
          <p:nvPr/>
        </p:nvPicPr>
        <p:blipFill>
          <a:blip r:embed="rId2"/>
          <a:stretch/>
        </p:blipFill>
        <p:spPr>
          <a:xfrm>
            <a:off x="609480" y="2360520"/>
            <a:ext cx="4876920" cy="213696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1447920" y="4800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7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合并数据源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671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08" name="邮件合并16" descr=""/>
          <p:cNvPicPr/>
          <p:nvPr/>
        </p:nvPicPr>
        <p:blipFill>
          <a:blip r:embed="rId3"/>
          <a:stretch/>
        </p:blipFill>
        <p:spPr>
          <a:xfrm>
            <a:off x="5715000" y="2687760"/>
            <a:ext cx="2743200" cy="1482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5715000" y="4800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8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合并选项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2247840" y="54100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9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邮件合并结果（第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53368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714680" y="2019240"/>
            <a:ext cx="5715000" cy="281772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Thank you very much !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15" name="">
            <a:hlinkClick r:id="rId2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16" name="0440" descr=""/>
          <p:cNvPicPr/>
          <p:nvPr/>
        </p:nvPicPr>
        <p:blipFill>
          <a:blip r:embed="rId4"/>
          <a:stretch/>
        </p:blipFill>
        <p:spPr>
          <a:xfrm>
            <a:off x="838080" y="2133720"/>
            <a:ext cx="5200920" cy="33415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5871600" y="1676520"/>
            <a:ext cx="200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eaeaea"/>
                </a:solidFill>
                <a:uFillTx/>
                <a:latin typeface="Times New Roman"/>
                <a:ea typeface="华文行楷"/>
              </a:rPr>
              <a:t>本章到此结束，谢谢您的光临！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8" name="">
            <a:hlinkClick r:id="" action="ppaction://hlinkshowjump?jump=endshow"/>
          </p:cNvPr>
          <p:cNvSpPr/>
          <p:nvPr/>
        </p:nvSpPr>
        <p:spPr>
          <a:xfrm>
            <a:off x="5181480" y="5791320"/>
            <a:ext cx="1600200" cy="106668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退  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2480" y="837720"/>
            <a:ext cx="3810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楷体_GB2312"/>
                <a:ea typeface="楷体_GB2312"/>
              </a:rPr>
              <a:t>．对话框的操作 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对话框中常见的组成元素如下（参见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命令按钮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选项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复选框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文本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微调控制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列表框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项卡和标签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5260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676520" y="1600200"/>
            <a:ext cx="6791040" cy="28274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09680" y="5105520"/>
            <a:ext cx="4876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话框的主要组成元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105680" y="1890720"/>
            <a:ext cx="18396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 rot="10800000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4648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工具栏的操作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228600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获取工具栏按钮的帮助信息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增加或删除工具栏中的按钮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移动工具栏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显示或隐藏工具栏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2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创建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Word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90560" y="2133720"/>
            <a:ext cx="48006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2" action="ppaction://hlinksldjump"/>
              </a:rPr>
              <a:t>5.2.1  文档编辑基础知识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3" action="ppaction://hlinksldjump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4" action="ppaction://hlinksldjump"/>
              </a:rPr>
              <a:t>5.2.2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文档的打开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6" action="ppaction://hlinksldjump"/>
              </a:rPr>
              <a:t>5.2.3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文档的保存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8" action="ppaction://hlinksldjump"/>
              </a:rPr>
              <a:t>5.2.4  关闭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172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2.1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文档编辑基础知识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菜单栏上选择“文件→新建”选项，弹出“新建”对话框（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5-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“常用”选项卡中选择“空白文档”图标，选择“文档”单选项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确定”按钮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79072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890720" y="1447920"/>
            <a:ext cx="5362560" cy="3139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590920" y="4952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5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新建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562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2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的打开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47560" y="2209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用菜单命令打开文档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6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用工具栏按钮打开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开“文件”菜单中列出的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5029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本章学习目标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启动并退出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、认识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窗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基本操作、创建、使用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编辑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格式化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表格、图形、艺术字等操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邮件合并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78136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962000" y="1219320"/>
            <a:ext cx="5220000" cy="3832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2514600" y="5029200"/>
            <a:ext cx="518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43280" y="541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6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打开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2920" y="8380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2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的保存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80720" y="2666880"/>
            <a:ext cx="6348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保存新建文档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，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以原文件名保存编辑后的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以新文件名保存编辑后的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自动保存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496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5-7" descr=""/>
          <p:cNvPicPr/>
          <p:nvPr/>
        </p:nvPicPr>
        <p:blipFill>
          <a:blip r:embed="rId2"/>
          <a:stretch/>
        </p:blipFill>
        <p:spPr>
          <a:xfrm>
            <a:off x="1758960" y="1447920"/>
            <a:ext cx="5624640" cy="32684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400480" y="5029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7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另存为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2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关闭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5112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关闭文档的方法为：在菜单栏上选择“文件→关闭”选项，或单击菜单栏右端的“关闭窗口”按钮图标，可关闭当前文档窗口。如果当前文档在编辑后没有保存，关闭前将弹出提问框，询问是否保存对文档所作的修改，如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8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048120" y="3886200"/>
            <a:ext cx="3809880" cy="12128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743200" y="548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8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系统提问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15200" y="5627520"/>
            <a:ext cx="182880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3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编辑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Word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81080" y="1904760"/>
            <a:ext cx="51818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3.1 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输入文档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3.2  文档的编辑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3.3  对多个文档的操作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3.4  文档打印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>
            <a:hlinkClick r:id="rId7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4724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输入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8150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汉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标点符号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特殊符号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5280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5557680" cy="3240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666880" y="49528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9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符号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>
            <a:hlinkClick r:id="rId3" action="ppaction://hlinksldjump"/>
          </p:cNvPr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的编辑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95280" y="1599840"/>
            <a:ext cx="655344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插入点的移动和定位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鼠标快速定位。（见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0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，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键盘移动和定位。用组合键（见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“定位”命令快速定位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选择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鼠标选择文本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键盘选择文本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857680" y="22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266920" y="1447920"/>
            <a:ext cx="4610160" cy="30477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171880" y="51055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0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不同空白区域中即点即输鼠标指针的不同形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从键盘输入插入的内容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插入空行。</a:t>
            </a:r>
            <a:br>
              <a:rPr sz="3200"/>
            </a:b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插入磁盘文件 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403848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1905120" y="304560"/>
            <a:ext cx="4038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插入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2320" y="533160"/>
            <a:ext cx="50292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1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熟悉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Word 2000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2437920"/>
            <a:ext cx="7086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1.1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3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的启动和退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1.2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的用户界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9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删除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47242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直接删除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Backspace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删除一个字符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l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删除一个字符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删除一个英文单词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择→删除法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l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删除：选定要删除的内容，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Del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键，可以把选定的内容一次性全部删除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菜单命令删除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0" y="19051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80720" y="533160"/>
            <a:ext cx="34290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撤消操作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752480" y="21016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只需在菜单栏上选择“编辑→撤消”命令（或单击常用工具栏中“撤消”按钮，或使用组合键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Ctrl+Z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即可。若是恢复用选择→删除法删除的内容，所恢复的内容依然保持被选择状态（反相显示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838080"/>
            <a:ext cx="312408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重复操作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28800" y="2057400"/>
            <a:ext cx="655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可在菜单栏上选择“编辑→重复”命令（也可以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F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，或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Ctrl+Y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键）。如果无法重复上一次的操作，菜单上的“重复”选项名将变成“无法重复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2362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替换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52480" y="2206800"/>
            <a:ext cx="6400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选择→替换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查找→替换法（如图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-1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所示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307656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133720" y="1828800"/>
            <a:ext cx="5610240" cy="22874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14600" y="44956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1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查找和替换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2286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8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复制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52560" y="2590920"/>
            <a:ext cx="72388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剪贴板复制（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鼠标拖曳复制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组合键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Shift+F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复制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94344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886120" y="1219320"/>
            <a:ext cx="3371760" cy="3217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895480" y="4876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12  “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剪贴板”工具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57040" y="685800"/>
            <a:ext cx="19810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9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移动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85720" y="19810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剪贴板移动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鼠标拖曳移动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利用功能键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F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移动文本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2362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查找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080" y="4038480"/>
            <a:ext cx="1578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2209680"/>
            <a:ext cx="64008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在菜单栏上选择“编辑→查找”命令，系统只进行单一的查找操作而不进行替换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对多个文档的操作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057040" y="1905120"/>
            <a:ext cx="5815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开多个文档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切换当前活动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同时显示多个文档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.1.1  Word 2000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的启动和退出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95120" y="18288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．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的启动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971800"/>
            <a:ext cx="7391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启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indows 98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后，在“开始”菜单中选择“程序→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Microsoft Word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选项，即可启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启动后，屏幕显示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的主工作窗口，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若已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indows 98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桌面上建立快捷图标，也可以双击快捷图标启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3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文档打印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742840" y="1904760"/>
            <a:ext cx="47242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印预览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打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后台打印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5627520"/>
            <a:ext cx="19810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520" y="380880"/>
            <a:ext cx="48765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4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格式化文档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590560" y="1676520"/>
            <a:ext cx="520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2" action="ppaction://hlinksldjump"/>
              </a:rPr>
              <a:t>5.4.1  字符格式化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3" action="ppaction://hlinksldjump"/>
              </a:rPr>
              <a:t>5.4.2  段落格式设置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4" action="ppaction://hlinksldjump"/>
              </a:rPr>
              <a:t>5.4.3  页面设置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5" action="ppaction://hlinksldjump"/>
              </a:rPr>
              <a:t>5.4.4  视图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6" action="ppaction://hlinksldjump"/>
              </a:rPr>
              <a:t>5.4.5  页眉与页脚、页码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7" action="ppaction://hlinksldjump"/>
              </a:rPr>
              <a:t>5.4.6  分页控制和分节控制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8" action="ppaction://hlinksldjump"/>
              </a:rPr>
              <a:t>5.4.7  分栏排版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9" action="ppaction://hlinksldjump"/>
              </a:rPr>
              <a:t>5.4.8  编辑与排版技巧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宋体"/>
                <a:ea typeface="宋体"/>
                <a:hlinkClick r:id="rId10" action="ppaction://hlinksldjump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>
            <a:hlinkClick r:id="rId11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12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字符格式化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字符格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676520" y="3048120"/>
            <a:ext cx="6095880" cy="1828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号宋体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四号黑体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三号隶书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宋体加粗  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倾斜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下划线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波浪线     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 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     字符加底纹      字符加边框  字符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0%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0%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4920" y="6094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“格式”工具栏设置字符格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6320" y="2362320"/>
            <a:ext cx="711036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字体”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字号”框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       ”、“       ”、“         ”按钮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      ”、“      ”、“        ”、“       ”按钮：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766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4" name="24" descr=""/>
          <p:cNvPicPr/>
          <p:nvPr/>
        </p:nvPicPr>
        <p:blipFill>
          <a:blip r:embed="rId2"/>
          <a:stretch/>
        </p:blipFill>
        <p:spPr>
          <a:xfrm>
            <a:off x="2666880" y="3421080"/>
            <a:ext cx="457200" cy="388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40080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6" name="25" descr=""/>
          <p:cNvPicPr/>
          <p:nvPr/>
        </p:nvPicPr>
        <p:blipFill>
          <a:blip r:embed="rId3"/>
          <a:stretch/>
        </p:blipFill>
        <p:spPr>
          <a:xfrm>
            <a:off x="4038480" y="3378240"/>
            <a:ext cx="457200" cy="4316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40384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08" name="26" descr=""/>
          <p:cNvPicPr/>
          <p:nvPr/>
        </p:nvPicPr>
        <p:blipFill>
          <a:blip r:embed="rId4"/>
          <a:stretch/>
        </p:blipFill>
        <p:spPr>
          <a:xfrm>
            <a:off x="5334120" y="335268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44766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5"/>
          <a:stretch/>
        </p:blipFill>
        <p:spPr>
          <a:xfrm>
            <a:off x="6553080" y="3886200"/>
            <a:ext cx="533520" cy="452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447660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2666880" y="3954600"/>
            <a:ext cx="457200" cy="388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445284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7"/>
          <a:stretch/>
        </p:blipFill>
        <p:spPr>
          <a:xfrm>
            <a:off x="5181480" y="3905280"/>
            <a:ext cx="533520" cy="361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45284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8"/>
          <a:stretch/>
        </p:blipFill>
        <p:spPr>
          <a:xfrm>
            <a:off x="3886200" y="3962520"/>
            <a:ext cx="45720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5639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菜单命令设置字符格式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在菜单栏上选择“格式→字体”选项，弹出“字体”对话框，该对话框中有“字体”、“字符间距”和“文字效果”三个选项卡，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字体、字形、字号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字符间距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文字效果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改变字符格式的默认值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其他格式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)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18132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443320" y="838080"/>
            <a:ext cx="4255920" cy="4300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895480" y="5562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3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字体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33360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3" name="214" descr=""/>
          <p:cNvPicPr/>
          <p:nvPr/>
        </p:nvPicPr>
        <p:blipFill>
          <a:blip r:embed="rId2"/>
          <a:stretch/>
        </p:blipFill>
        <p:spPr>
          <a:xfrm>
            <a:off x="1666800" y="1981080"/>
            <a:ext cx="5810400" cy="2190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514600" y="4800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4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其他格式”工具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2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段落格式设置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57640" y="22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3200400" y="1496880"/>
            <a:ext cx="4133880" cy="38642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743200" y="54100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5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段落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段落的对齐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05120" y="2286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段落的对齐方式有左对齐、居中对齐、右对齐、两端对齐和分散对齐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5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种。用户可以在“段落”对话框“缩进和间距”选项卡的“对齐方式”列表框中进行选择；也可以单击格式工具栏中对应的按钮进行设置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28800" y="45720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段落的缩进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9092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057400" y="1236600"/>
            <a:ext cx="5791320" cy="42879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2514600" y="59436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6  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缩进方式示例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33720" y="5791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  Word 200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工作窗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333440" y="1467000"/>
            <a:ext cx="647532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28195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间距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213372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在菜单栏上选择“视图→工具栏→其他格式”选项，弹出“其他格式”工具栏，该工具栏中有三个按钮可以将行距分别调整为“单倍”、“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1.5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倍”和“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2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倍”行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0640" y="4572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段落分页的设置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40622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孤行控制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与下段同页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段前分页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段中不分页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首字下沉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定需要设置首字下沉的段落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菜单栏上选择“格式→首字下沉”选项，弹出“首字下沉”对话框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在“位置”框中单击“下沉”或“悬挂”按钮，根据需要在“选项”框内对各项进行适当设置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确定”按钮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05120" y="45720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边框与底纹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用菜单命令添加边框和底纹（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边框”选项卡可为选定的段落添加边框，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底纹”选项卡可为选定的段落添加底纹，设置背景的颜色和图案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“页面边框”选项卡可以为页面添加边框（但不能添加底纹）。 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87640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2209680" y="990720"/>
            <a:ext cx="5276880" cy="38383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43200" y="5181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图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5-17  “</a:t>
            </a:r>
            <a:r>
              <a:rPr b="1" lang="zh-CN" sz="2400" spc="-1" strike="noStrike" u="sng">
                <a:solidFill>
                  <a:srgbClr val="eaeaea"/>
                </a:solidFill>
                <a:uFillTx/>
                <a:latin typeface="Times New Roman"/>
              </a:rPr>
              <a:t>边框和底纹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60948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）用工具栏添加边框和底纹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选择“线型”、“线条粗细”和“边框颜色”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外围框线”按钮旁边的下拉箭头，弹出一组框线按钮，根据需要单击其中对应的按钮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击“底纹颜色”按钮旁边的下拉箭头，选择一种底纹颜色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828440" y="533160"/>
            <a:ext cx="6629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给段落加上项目符号或编号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95280" y="2438280"/>
            <a:ext cx="61200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添加编号或项目符号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改变编号或项目符号的形式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自动创建编号和项目列表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18960" y="457200"/>
            <a:ext cx="5562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8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  <a:ea typeface="宋体"/>
              </a:rPr>
              <a:t>．设置和使用制表位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00200" y="2133720"/>
            <a:ext cx="6781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Word 2000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提供了五种对齐方式的制表符：左对齐、居中对齐、右对齐、小数点对齐和竖线对齐制表符。单击标尺最左端的“制表符类型”按钮，可以选择所需要的制表符类型。在菜单栏上选择“格式→制表位”选项，在弹出“制表位”对话框中也可以设置制表位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599840" y="380880"/>
            <a:ext cx="48769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页面设置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90720" y="20574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页边距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18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纸型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19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纸张来源”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版式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0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 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文档网格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选项卡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881440" y="23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2286000" y="762120"/>
            <a:ext cx="5500800" cy="36255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209680" y="4952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8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边距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28880" y="25290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在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主窗口的菜单栏上选择“文件→退出”选项，或双击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主窗口的控制菜单按钮，或单击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主窗口的关闭窗口按钮，可以退出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Word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4114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退出 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ord 2000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819520" y="51814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9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纸型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0988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1" name="5-19" descr=""/>
          <p:cNvPicPr/>
          <p:nvPr/>
        </p:nvPicPr>
        <p:blipFill>
          <a:blip r:embed="rId2"/>
          <a:stretch/>
        </p:blipFill>
        <p:spPr>
          <a:xfrm>
            <a:off x="2133720" y="990720"/>
            <a:ext cx="5410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971800" y="23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3" name="5-20" descr=""/>
          <p:cNvPicPr/>
          <p:nvPr/>
        </p:nvPicPr>
        <p:blipFill>
          <a:blip r:embed="rId2"/>
          <a:stretch/>
        </p:blipFill>
        <p:spPr>
          <a:xfrm>
            <a:off x="2286000" y="1295280"/>
            <a:ext cx="5181480" cy="34243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2666880" y="52578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0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版式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019240" y="4952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1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文档网格”选项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1464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2057400" y="1295280"/>
            <a:ext cx="5029200" cy="3306960"/>
          </a:xfrm>
          <a:prstGeom prst="rect">
            <a:avLst/>
          </a:prstGeom>
          <a:ln w="0">
            <a:noFill/>
          </a:ln>
        </p:spPr>
      </p:pic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257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视图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590920" y="1676520"/>
            <a:ext cx="624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普通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页面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大纲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Web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版式视图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打印预览模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全屏显示模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7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文档结构图模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49084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828800" y="1803240"/>
            <a:ext cx="6119640" cy="32497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2438280" y="5181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5-22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大纲视图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5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页眉与页脚、页码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730600" y="1905120"/>
            <a:ext cx="3681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页眉与页脚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066680" y="289548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创建页眉和页脚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5-2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所示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编辑页眉和页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）创建奇偶页不同的页眉和页脚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48112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1257480" y="1305000"/>
            <a:ext cx="6629400" cy="42447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209680" y="571500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3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眉和页脚编辑状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3505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设置页码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14400" y="1828800"/>
            <a:ext cx="75438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菜单栏上选择“插入→页码”选项，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2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对话框中选择页码的“位置”、“对齐方式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格式”按钮，在“页码格式”对话框中进行选择，单击“确定”，返回“页码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确定”按钮，返回文档编辑区，系统为当前节的各页加上页码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52440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2286000" y="2112840"/>
            <a:ext cx="5410080" cy="26323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590920" y="50292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4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码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6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分页控制和分节控制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819520" y="1523520"/>
            <a:ext cx="322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分页控制</a:t>
            </a:r>
            <a:endParaRPr b="1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057400" y="2971800"/>
            <a:ext cx="601992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人工分页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2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用分页选项控制自动分页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.1.2  Word 2000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的用户界面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Word 2000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窗口组成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标题栏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菜单栏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工具栏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):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标尺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工作区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滚动条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状态栏（见表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：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视图按钮： 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2436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2666880" y="838080"/>
            <a:ext cx="3695760" cy="32068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2666880" y="45720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5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隔符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676520" y="2133720"/>
            <a:ext cx="64767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节的概念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当文档中的部分文本有些格式或参数与其他文本不同时，应将这部分文本创建为一个新的节。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创建节。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“创建一个节”即在文档中的指定位置插入一个分节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删除分节符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）设置节的格式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62485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在文档中设置节格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51814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4.7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分栏排版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600200" y="1828800"/>
            <a:ext cx="69343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创建分栏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见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6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查看分栏版面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见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7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取消分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插入分栏符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均衡栏长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多种分栏并存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（如图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5-27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3143160" y="24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990800" y="1741320"/>
            <a:ext cx="5162400" cy="33735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2133720" y="53341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6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858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6253200" cy="3314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2438280" y="51055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7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页面视图中显示分栏版面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4.8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编辑与排版技巧 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67057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“自动更正”功能快速输入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标尺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52480" y="335268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219320" y="30481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设置左、右页边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设置段落缩进格式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改变分栏文本的栏宽和栏间距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31240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8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水平标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0492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74674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2852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使用“格式刷”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19520" y="2476440"/>
            <a:ext cx="45194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“格式刷”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使用“快捷菜单”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自定义工具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45744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724280" cy="3978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590920" y="5410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9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自定义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57400" y="304920"/>
            <a:ext cx="5943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垂直滚动条快速滚动文档</a:t>
            </a:r>
            <a:endParaRPr b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6880" y="1676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（参见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所示）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2666880" y="2438280"/>
            <a:ext cx="3886200" cy="36226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7454880" y="2133720"/>
            <a:ext cx="546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0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垂直滚动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24120" y="23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57400" y="1371600"/>
            <a:ext cx="6018120" cy="3646440"/>
          </a:xfrm>
          <a:prstGeom prst="rect">
            <a:avLst/>
          </a:prstGeom>
          <a:ln w="9360">
            <a:solidFill>
              <a:srgbClr val="ff66ff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2057400" y="5410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1  Word 200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工作窗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3526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1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浏览对象选择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766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2819520" y="1295280"/>
            <a:ext cx="4190760" cy="3449880"/>
          </a:xfrm>
          <a:prstGeom prst="rect">
            <a:avLst/>
          </a:prstGeom>
          <a:ln w="0">
            <a:noFill/>
          </a:ln>
        </p:spPr>
      </p:pic>
      <p:sp>
        <p:nvSpPr>
          <p:cNvPr id="424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45720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宋体"/>
              </a:rPr>
              <a:t>5.5  </a:t>
            </a: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宋体"/>
              </a:rPr>
              <a:t>表格</a:t>
            </a:r>
            <a:endParaRPr b="1" lang="en-US" sz="48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447920" y="2133720"/>
            <a:ext cx="670536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5.1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创建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5.2  表格的输入、编辑与格式化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5.3  表格的计算和排序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5.4  图表的生成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>
            <a:hlinkClick r:id="rId7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8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5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创建表格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20032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2200320" y="2214720"/>
            <a:ext cx="4743360" cy="242856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1752480" y="51814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2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表格处理时的工具栏和标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3586320" y="2490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4572000" cy="4351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74320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3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插入表格”对话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600200" y="1676160"/>
            <a:ext cx="647712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工具栏创建表格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菜单创建表格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5-3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用“绘制表格”工具创建表格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．文本与表格的互相转换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用菜单转换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  <a:ea typeface="宋体"/>
              </a:rPr>
              <a:t>）用工具栏按钮转换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宋体"/>
              </a:rPr>
              <a:t>5.5.2  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表格的输入、编辑</a:t>
            </a:r>
            <a:br>
              <a:rPr sz="3600"/>
            </a:br>
            <a:r>
              <a:rPr b="1" lang="zh-CN" sz="3600" spc="-1" strike="noStrike">
                <a:solidFill>
                  <a:srgbClr val="ff9900"/>
                </a:solidFill>
                <a:latin typeface="Arial"/>
                <a:ea typeface="黑体"/>
              </a:rPr>
              <a:t>与格式化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6348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输入和编辑单元格内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移动插入点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表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3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选择单元格、行、列或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表格的修改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中的插入操作。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中的删除操作。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600200" y="-4960440"/>
            <a:ext cx="76320" cy="1106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Times New Roman"/>
              <a:ea typeface="宋体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47560" y="13716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中的移动、复制操作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调整表格列宽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调整表格行高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6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单元格的合并与拆分 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拆分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8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删除表格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9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缩放表格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（参见图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5-32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133720" y="6094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  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在表格中移动插入点的键盘操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057400" y="1295280"/>
            <a:ext cx="5505120" cy="5024520"/>
            <a:chOff x="2057400" y="1295280"/>
            <a:chExt cx="5505120" cy="5024520"/>
          </a:xfrm>
        </p:grpSpPr>
        <p:grpSp>
          <p:nvGrpSpPr>
            <p:cNvPr id="443" name=""/>
            <p:cNvGrpSpPr/>
            <p:nvPr/>
          </p:nvGrpSpPr>
          <p:grpSpPr>
            <a:xfrm>
              <a:off x="2062800" y="1299960"/>
              <a:ext cx="5493600" cy="5014800"/>
              <a:chOff x="2062800" y="1299960"/>
              <a:chExt cx="5493600" cy="50148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2062800" y="1299960"/>
                <a:ext cx="2516400" cy="512640"/>
                <a:chOff x="2062800" y="1299960"/>
                <a:chExt cx="2516400" cy="51264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2141640" y="1299960"/>
                  <a:ext cx="23587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按键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062800" y="1299960"/>
                  <a:ext cx="251640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4579560" y="1299960"/>
                <a:ext cx="2976840" cy="512640"/>
                <a:chOff x="4579560" y="1299960"/>
                <a:chExt cx="2976840" cy="5126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4658400" y="1299960"/>
                  <a:ext cx="281916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  <a:ea typeface="黑体"/>
                    </a:rPr>
                    <a:t>功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579560" y="1299960"/>
                  <a:ext cx="297684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2062800" y="1812600"/>
                <a:ext cx="2516400" cy="513000"/>
                <a:chOff x="2062800" y="1812600"/>
                <a:chExt cx="2516400" cy="5130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141640" y="1812600"/>
                  <a:ext cx="235872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Tab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062800" y="1812600"/>
                  <a:ext cx="2516400" cy="51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579560" y="1812600"/>
                <a:ext cx="2976840" cy="513000"/>
                <a:chOff x="4579560" y="1812600"/>
                <a:chExt cx="2976840" cy="513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658400" y="1812600"/>
                  <a:ext cx="2819160" cy="51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选定下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79560" y="1812600"/>
                  <a:ext cx="2976840" cy="513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2062800" y="2325600"/>
                <a:ext cx="2516400" cy="512640"/>
                <a:chOff x="2062800" y="2325600"/>
                <a:chExt cx="2516400" cy="51264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2141640" y="2325600"/>
                  <a:ext cx="235872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Shift+Tab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062800" y="2325600"/>
                  <a:ext cx="251640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4579560" y="2325600"/>
                <a:ext cx="2976840" cy="512640"/>
                <a:chOff x="4579560" y="2325600"/>
                <a:chExt cx="2976840" cy="5126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4658400" y="2325600"/>
                  <a:ext cx="2819160" cy="51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选定上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579560" y="2325600"/>
                  <a:ext cx="2976840" cy="51264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2062800" y="2838240"/>
                <a:ext cx="2516400" cy="695160"/>
                <a:chOff x="2062800" y="2838240"/>
                <a:chExt cx="2516400" cy="6951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2141640" y="2838240"/>
                  <a:ext cx="23587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上、下、左、右箭头键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062800" y="2838240"/>
                  <a:ext cx="251640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579560" y="2838240"/>
                <a:ext cx="2976840" cy="695160"/>
                <a:chOff x="4579560" y="2838240"/>
                <a:chExt cx="2976840" cy="69516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658400" y="2838240"/>
                  <a:ext cx="281916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该单元格相邻的单元格中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579560" y="2838240"/>
                  <a:ext cx="297684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2062800" y="3533400"/>
                <a:ext cx="2516400" cy="695520"/>
                <a:chOff x="2062800" y="3533400"/>
                <a:chExt cx="2516400" cy="6955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2141640" y="3533400"/>
                  <a:ext cx="23587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Home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2062800" y="3533400"/>
                  <a:ext cx="251640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579560" y="3533400"/>
                <a:ext cx="2976840" cy="695520"/>
                <a:chOff x="4579560" y="3533400"/>
                <a:chExt cx="2976840" cy="6955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658400" y="3533400"/>
                  <a:ext cx="281916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行的第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579560" y="3533400"/>
                  <a:ext cx="297684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2062800" y="4228920"/>
                <a:ext cx="2516400" cy="695160"/>
                <a:chOff x="2062800" y="4228920"/>
                <a:chExt cx="2516400" cy="6951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2141640" y="4228920"/>
                  <a:ext cx="23587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End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2062800" y="4228920"/>
                  <a:ext cx="251640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579560" y="4228920"/>
                <a:ext cx="2976840" cy="695160"/>
                <a:chOff x="4579560" y="4228920"/>
                <a:chExt cx="2976840" cy="6951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658400" y="4228920"/>
                  <a:ext cx="281916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行的最后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579560" y="4228920"/>
                  <a:ext cx="297684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062800" y="4924080"/>
                <a:ext cx="2516400" cy="695520"/>
                <a:chOff x="2062800" y="4924080"/>
                <a:chExt cx="2516400" cy="6955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141640" y="4924080"/>
                  <a:ext cx="23587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Pgup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62800" y="4924080"/>
                  <a:ext cx="251640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4579560" y="4924080"/>
                <a:ext cx="2976840" cy="695520"/>
                <a:chOff x="4579560" y="4924080"/>
                <a:chExt cx="2976840" cy="6955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4658400" y="4924080"/>
                  <a:ext cx="281916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列的第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4579560" y="4924080"/>
                  <a:ext cx="2976840" cy="695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2062800" y="5619600"/>
                <a:ext cx="2516400" cy="695160"/>
                <a:chOff x="2062800" y="5619600"/>
                <a:chExt cx="2516400" cy="6951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2141640" y="5619600"/>
                  <a:ext cx="23587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Alt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＋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PgDn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062800" y="5619600"/>
                  <a:ext cx="251640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4579560" y="5619600"/>
                <a:ext cx="2976840" cy="695160"/>
                <a:chOff x="4579560" y="5619600"/>
                <a:chExt cx="2976840" cy="69516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4658400" y="5619600"/>
                  <a:ext cx="281916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将插入点移到当前列的最后一个单元格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4579560" y="5619600"/>
                  <a:ext cx="2976840" cy="695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2" name=""/>
            <p:cNvSpPr/>
            <p:nvPr/>
          </p:nvSpPr>
          <p:spPr>
            <a:xfrm>
              <a:off x="2057400" y="1295280"/>
              <a:ext cx="5505120" cy="50245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52480" y="685800"/>
            <a:ext cx="41911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5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．格式化表格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控制表格的水平位置和文字环绕方式（见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5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 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格式的修改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表格内容的格式化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 设置单元格内容对齐格式。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6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 自动重复表格标题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  竖排文本。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387684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2319480" y="1371600"/>
            <a:ext cx="4505040" cy="33638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438280" y="52578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6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文本对齐选择框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83816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80880" y="2043000"/>
            <a:ext cx="8305920" cy="1548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828800" y="45720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2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常用”工具栏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34099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"/>
          <a:srcRect l="0" t="0" r="0" b="1746"/>
          <a:stretch/>
        </p:blipFill>
        <p:spPr>
          <a:xfrm>
            <a:off x="2575080" y="990720"/>
            <a:ext cx="3993840" cy="41907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2247840" y="54864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5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表格属性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1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586764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5.3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表格的计算和排序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133360" y="1828800"/>
            <a:ext cx="4343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表格的运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600200" y="2819520"/>
            <a:ext cx="62485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按行求和（求“季度合计”）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其他计算（求“月平均产量”）。如图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37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所示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表格计算中的公式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"/>
          <p:cNvGrpSpPr/>
          <p:nvPr/>
        </p:nvGrpSpPr>
        <p:grpSpPr>
          <a:xfrm>
            <a:off x="343080" y="1905120"/>
            <a:ext cx="8457840" cy="3580920"/>
            <a:chOff x="343080" y="1905120"/>
            <a:chExt cx="8457840" cy="3580920"/>
          </a:xfrm>
        </p:grpSpPr>
        <p:grpSp>
          <p:nvGrpSpPr>
            <p:cNvPr id="506" name=""/>
            <p:cNvGrpSpPr/>
            <p:nvPr/>
          </p:nvGrpSpPr>
          <p:grpSpPr>
            <a:xfrm>
              <a:off x="349920" y="1910520"/>
              <a:ext cx="8443080" cy="3568680"/>
              <a:chOff x="349920" y="1910520"/>
              <a:chExt cx="8443080" cy="3568680"/>
            </a:xfrm>
          </p:grpSpPr>
          <p:grpSp>
            <p:nvGrpSpPr>
              <p:cNvPr id="507" name=""/>
              <p:cNvGrpSpPr/>
              <p:nvPr/>
            </p:nvGrpSpPr>
            <p:grpSpPr>
              <a:xfrm>
                <a:off x="349920" y="1910520"/>
                <a:ext cx="1180440" cy="713160"/>
                <a:chOff x="349920" y="1910520"/>
                <a:chExt cx="1180440" cy="713160"/>
              </a:xfrm>
            </p:grpSpPr>
            <p:sp>
              <p:nvSpPr>
                <p:cNvPr id="508" name=""/>
                <p:cNvSpPr/>
                <p:nvPr/>
              </p:nvSpPr>
              <p:spPr>
                <a:xfrm>
                  <a:off x="453600" y="191052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编号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49920" y="191052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1530720" y="1910520"/>
                <a:ext cx="1633320" cy="713160"/>
                <a:chOff x="1530720" y="1910520"/>
                <a:chExt cx="1633320" cy="71316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1633680" y="191052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型号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530720" y="191052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3164400" y="1910520"/>
                <a:ext cx="1406520" cy="713160"/>
                <a:chOff x="3164400" y="1910520"/>
                <a:chExt cx="1406520" cy="71316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326736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1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月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164400" y="191052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571640" y="1910520"/>
                <a:ext cx="1406520" cy="713160"/>
                <a:chOff x="4571640" y="1910520"/>
                <a:chExt cx="1406520" cy="7131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467460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2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月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4571640" y="191052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5978520" y="1910520"/>
                <a:ext cx="1406520" cy="713160"/>
                <a:chOff x="5978520" y="1910520"/>
                <a:chExt cx="1406520" cy="71316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608220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Arial"/>
                    </a:rPr>
                    <a:t>3</a:t>
                  </a: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月份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5978520" y="191052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7385760" y="1910520"/>
                <a:ext cx="1407240" cy="713160"/>
                <a:chOff x="7385760" y="1910520"/>
                <a:chExt cx="1407240" cy="713160"/>
              </a:xfrm>
            </p:grpSpPr>
            <p:sp>
              <p:nvSpPr>
                <p:cNvPr id="523" name=""/>
                <p:cNvSpPr/>
                <p:nvPr/>
              </p:nvSpPr>
              <p:spPr>
                <a:xfrm>
                  <a:off x="7489440" y="191052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Arial"/>
                      <a:ea typeface="黑体"/>
                    </a:rPr>
                    <a:t>季度合计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385760" y="191052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49920" y="2624040"/>
                <a:ext cx="1180440" cy="713160"/>
                <a:chOff x="349920" y="2624040"/>
                <a:chExt cx="1180440" cy="7131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53600" y="262404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00001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49920" y="262404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1530720" y="2624040"/>
                <a:ext cx="1633320" cy="713160"/>
                <a:chOff x="1530720" y="2624040"/>
                <a:chExt cx="1633320" cy="71316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1633680" y="262404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Jx150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30720" y="262404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164400" y="2624040"/>
                <a:ext cx="1406520" cy="713160"/>
                <a:chOff x="3164400" y="2624040"/>
                <a:chExt cx="1406520" cy="7131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326736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69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164400" y="2624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571640" y="2624040"/>
                <a:ext cx="1406520" cy="713160"/>
                <a:chOff x="4571640" y="2624040"/>
                <a:chExt cx="1406520" cy="71316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467460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78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4571640" y="2624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5978520" y="2624040"/>
                <a:ext cx="1406520" cy="713160"/>
                <a:chOff x="5978520" y="2624040"/>
                <a:chExt cx="1406520" cy="7131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608220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5978520" y="2624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7385760" y="2624040"/>
                <a:ext cx="1407240" cy="713160"/>
                <a:chOff x="7385760" y="2624040"/>
                <a:chExt cx="1407240" cy="7131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7489440" y="2624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7385760" y="262404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349920" y="3337920"/>
                <a:ext cx="1180440" cy="713880"/>
                <a:chOff x="349920" y="3337920"/>
                <a:chExt cx="1180440" cy="71388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53600" y="3337920"/>
                  <a:ext cx="9727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0000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49920" y="3337920"/>
                  <a:ext cx="118044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1530720" y="3337920"/>
                <a:ext cx="1633320" cy="713880"/>
                <a:chOff x="1530720" y="3337920"/>
                <a:chExt cx="1633320" cy="71388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633680" y="3337920"/>
                  <a:ext cx="14263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Yy870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530720" y="3337920"/>
                  <a:ext cx="16333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3164400" y="3337920"/>
                <a:ext cx="1406520" cy="713880"/>
                <a:chOff x="3164400" y="3337920"/>
                <a:chExt cx="1406520" cy="7138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26736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56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3164400" y="3337920"/>
                  <a:ext cx="14065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4571640" y="3337920"/>
                <a:ext cx="1406520" cy="713880"/>
                <a:chOff x="4571640" y="3337920"/>
                <a:chExt cx="1406520" cy="7138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467460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96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571640" y="3337920"/>
                  <a:ext cx="14065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5978520" y="3337920"/>
                <a:ext cx="1406520" cy="713880"/>
                <a:chOff x="5978520" y="3337920"/>
                <a:chExt cx="1406520" cy="7138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608220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45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978520" y="3337920"/>
                  <a:ext cx="140652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7385760" y="3337920"/>
                <a:ext cx="1407240" cy="713880"/>
                <a:chOff x="7385760" y="3337920"/>
                <a:chExt cx="1407240" cy="71388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7489440" y="3337920"/>
                  <a:ext cx="1199520" cy="71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385760" y="3337920"/>
                  <a:ext cx="1407240" cy="7138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349920" y="4052160"/>
                <a:ext cx="1180440" cy="713160"/>
                <a:chOff x="349920" y="4052160"/>
                <a:chExt cx="1180440" cy="71316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53600" y="405216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0000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49920" y="405216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1530720" y="4052160"/>
                <a:ext cx="1633320" cy="713160"/>
                <a:chOff x="1530720" y="4052160"/>
                <a:chExt cx="1633320" cy="71316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633680" y="405216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eaeaea"/>
                      </a:solidFill>
                      <a:latin typeface="Times New Roman"/>
                    </a:rPr>
                    <a:t>Ddd902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530720" y="405216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3164400" y="4052160"/>
                <a:ext cx="1406520" cy="713160"/>
                <a:chOff x="3164400" y="4052160"/>
                <a:chExt cx="1406520" cy="71316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326736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26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164400" y="405216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4571640" y="4052160"/>
                <a:ext cx="1406520" cy="713160"/>
                <a:chOff x="4571640" y="4052160"/>
                <a:chExt cx="1406520" cy="7131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467460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78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571640" y="405216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5978520" y="4052160"/>
                <a:ext cx="1406520" cy="713160"/>
                <a:chOff x="5978520" y="4052160"/>
                <a:chExt cx="1406520" cy="713160"/>
              </a:xfrm>
            </p:grpSpPr>
            <p:sp>
              <p:nvSpPr>
                <p:cNvPr id="574" name=""/>
                <p:cNvSpPr/>
                <p:nvPr/>
              </p:nvSpPr>
              <p:spPr>
                <a:xfrm>
                  <a:off x="608220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23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978520" y="405216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7385760" y="4052160"/>
                <a:ext cx="1407240" cy="713160"/>
                <a:chOff x="7385760" y="4052160"/>
                <a:chExt cx="1407240" cy="7131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7489440" y="405216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7385760" y="405216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49920" y="4766040"/>
                <a:ext cx="1180440" cy="713160"/>
                <a:chOff x="349920" y="4766040"/>
                <a:chExt cx="1180440" cy="71316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453600" y="4766040"/>
                  <a:ext cx="9727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  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49920" y="4766040"/>
                  <a:ext cx="11804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530720" y="4766040"/>
                <a:ext cx="1633320" cy="713160"/>
                <a:chOff x="1530720" y="4766040"/>
                <a:chExt cx="1633320" cy="71316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633680" y="4766040"/>
                  <a:ext cx="14263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eaeaea"/>
                      </a:solidFill>
                      <a:latin typeface="Times New Roman"/>
                    </a:rPr>
                    <a:t>月平均产量</a:t>
                  </a: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530720" y="4766040"/>
                  <a:ext cx="16333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3164400" y="4766040"/>
                <a:ext cx="1406520" cy="713160"/>
                <a:chOff x="3164400" y="4766040"/>
                <a:chExt cx="1406520" cy="71316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26736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64400" y="4766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4571640" y="4766040"/>
                <a:ext cx="1406520" cy="713160"/>
                <a:chOff x="4571640" y="4766040"/>
                <a:chExt cx="1406520" cy="71316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467460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571640" y="4766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1" name=""/>
              <p:cNvGrpSpPr/>
              <p:nvPr/>
            </p:nvGrpSpPr>
            <p:grpSpPr>
              <a:xfrm>
                <a:off x="5978520" y="4766040"/>
                <a:ext cx="1406520" cy="713160"/>
                <a:chOff x="5978520" y="4766040"/>
                <a:chExt cx="1406520" cy="71316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608220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5978520" y="4766040"/>
                  <a:ext cx="140652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7385760" y="4766040"/>
                <a:ext cx="1407240" cy="713160"/>
                <a:chOff x="7385760" y="4766040"/>
                <a:chExt cx="1407240" cy="71316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7489440" y="4766040"/>
                  <a:ext cx="1199520" cy="7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eaeaea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7385760" y="4766040"/>
                  <a:ext cx="1407240" cy="7131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"/>
            <p:cNvSpPr/>
            <p:nvPr/>
          </p:nvSpPr>
          <p:spPr>
            <a:xfrm>
              <a:off x="343080" y="1905120"/>
              <a:ext cx="8457840" cy="3580920"/>
            </a:xfrm>
            <a:prstGeom prst="rect">
              <a:avLst/>
            </a:prstGeom>
            <a:noFill/>
            <a:ln cap="sq"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74320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</a:rPr>
              <a:t>5-5  </a:t>
            </a:r>
            <a:r>
              <a:rPr b="0" lang="zh-CN" sz="2400" spc="-1" strike="noStrike">
                <a:solidFill>
                  <a:srgbClr val="eaeaea"/>
                </a:solidFill>
                <a:latin typeface="Arial"/>
                <a:ea typeface="黑体"/>
              </a:rPr>
              <a:t>例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367200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2514600" y="1820880"/>
            <a:ext cx="4786200" cy="321624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297180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7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公式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643200" y="28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2438280" y="1828800"/>
            <a:ext cx="5029200" cy="327672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2666880" y="54864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8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排序文字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0920" y="380880"/>
            <a:ext cx="4952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表格数据的排序</a:t>
            </a:r>
            <a:endParaRPr b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6" name="">
            <a:hlinkClick r:id="rId3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4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5.4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图表的生成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762120" y="1905120"/>
            <a:ext cx="76197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用表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-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中的数据生成一个图表，方法如下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选定表格中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行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列至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行第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列区域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菜单栏上选择“插入→对象”选项，弹出“对象”对话框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在“新建”选项卡的“对象类型”列表框中选择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Microsoft Graph 2000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图表”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）单击“确定”按钮，进入图表编辑状态。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9" name="">
            <a:hlinkClick r:id="rId2" action="ppaction://hlinksldjump"/>
          </p:cNvPr>
          <p:cNvSpPr/>
          <p:nvPr/>
        </p:nvSpPr>
        <p:spPr>
          <a:xfrm>
            <a:off x="7391520" y="562752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3" action="ppaction://hlinksldjump"/>
              </a:rPr>
              <a:t>返回本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057400" y="304560"/>
            <a:ext cx="449568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5.6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  <a:ea typeface="宋体"/>
              </a:rPr>
              <a:t>高级编辑技巧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81080" y="2133720"/>
            <a:ext cx="6553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宋体"/>
                <a:hlinkClick r:id="rId2" action="ppaction://hlinksldjump"/>
              </a:rPr>
              <a:t>5.6.1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3" action="ppaction://hlinksldjump"/>
              </a:rPr>
              <a:t>插入图片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4" action="ppaction://hlinksldjump"/>
              </a:rPr>
              <a:t>5.6.2  绘制图形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5" action="ppaction://hlinksldjump"/>
              </a:rPr>
              <a:t>5.6.3  插入艺术字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6" action="ppaction://hlinksldjump"/>
              </a:rPr>
              <a:t>5.6.4  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7" action="ppaction://hlinksldjump"/>
              </a:rPr>
              <a:t>Word 2000</a:t>
            </a:r>
            <a:r>
              <a:rPr b="1" lang="zh-CN" sz="3200" spc="-1" strike="noStrike" u="sng">
                <a:solidFill>
                  <a:srgbClr val="cc3300"/>
                </a:solidFill>
                <a:uFillTx/>
                <a:latin typeface="Arial"/>
                <a:ea typeface="黑体"/>
                <a:hlinkClick r:id="rId8" action="ppaction://hlinksldjump"/>
              </a:rPr>
              <a:t>的其他功能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>
            <a:hlinkClick r:id="rId9" action="ppaction://hlinksldjump"/>
          </p:cNvPr>
          <p:cNvSpPr/>
          <p:nvPr/>
        </p:nvSpPr>
        <p:spPr>
          <a:xfrm>
            <a:off x="7391520" y="5638680"/>
            <a:ext cx="1752480" cy="1219320"/>
          </a:xfrm>
          <a:prstGeom prst="ellipse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3300"/>
                </a:solidFill>
                <a:uFillTx/>
                <a:latin typeface="Times New Roman"/>
                <a:hlinkClick r:id="rId10" action="ppaction://hlinksldjump"/>
              </a:rPr>
              <a:t>返回首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宋体"/>
              </a:rPr>
              <a:t>5.6.1  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  <a:ea typeface="黑体"/>
              </a:rPr>
              <a:t>插入图片</a:t>
            </a:r>
            <a:endParaRPr b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使用“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Microsoft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剪辑库”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39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插入图形文件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．编辑图片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40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设置图文混排方式（如图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5-41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所示）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缩放图片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裁剪图片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4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宋体"/>
              </a:rPr>
              <a:t>）编辑图片的图像特性。</a:t>
            </a:r>
            <a:endParaRPr b="1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298116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2286000" y="990720"/>
            <a:ext cx="5257800" cy="387324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2743200" y="5257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39  “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插入剪贴画”对话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258120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2581200" y="1100160"/>
            <a:ext cx="5267520" cy="374328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3733920" y="53341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-40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选择图片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</cp:lastModifiedBy>
  <dcterms:modified xsi:type="dcterms:W3CDTF">2001-10-06T05:59:43Z</dcterms:modified>
  <cp:revision>94</cp:revision>
  <dc:subject/>
  <dc:title>PowerPoint 演示文稿</dc:title>
</cp:coreProperties>
</file>