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6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6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904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69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904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69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444-B25A-4252-98DA-43FF5FE7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460-B3CF-4520-9A83-47871BB9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3DE-4610-4D80-8FF7-8737CCE7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16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8422-448A-4CDC-9927-3A1019BF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8393-722D-414B-9CD5-22429E91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68544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7842-B56D-493D-942E-C2A6138C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16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B0E6-858A-4456-9177-45FD66DE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16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56D-DB1D-4DF4-BC07-970F5A8F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DDA-A51E-4224-8D2E-34E36E01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DFC5-23FD-425C-B6A7-AA8C1411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16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4D4E-01E0-4B35-A85D-0F50A1E3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040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6920" y="1981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040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6920" y="413064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42D9-D926-4177-80B6-F48FCE4D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6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520" y="68544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6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680" y="413064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680" y="1981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520" y="4130640"/>
            <a:ext cx="8153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4190760" y="843120"/>
            <a:ext cx="838152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隶书"/>
              </a:rPr>
              <a:t>Click to edit the title text format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</a:rPr>
              <a:t>Click to edit the outline text format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lvl="1"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</a:rPr>
              <a:t>Second Outline Level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lvl="2"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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</a:rPr>
              <a:t>Third Outline Level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lvl="3"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</a:rPr>
              <a:t>Fourth Outline Level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lvl="4" marL="343080" indent="-34308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</a:rPr>
              <a:t>Fifth Outline Level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lvl="5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</a:rPr>
              <a:t>Sixth Outline Level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lvl="6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楷体_GB2312"/>
              </a:rPr>
              <a:t>Seventh Outline Level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3" name=""/>
          <p:cNvSpPr/>
          <p:nvPr/>
        </p:nvSpPr>
        <p:spPr>
          <a:xfrm>
            <a:off x="0" y="25560"/>
            <a:ext cx="9144000" cy="3988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33cc"/>
                </a:solidFill>
                <a:uFillTx/>
                <a:latin typeface="华文新魏"/>
                <a:ea typeface="华文新魏"/>
              </a:rPr>
              <a:t>第</a:t>
            </a:r>
            <a:r>
              <a:rPr b="1" lang="zh-CN" sz="2000" spc="-1" strike="noStrike" u="sng">
                <a:solidFill>
                  <a:srgbClr val="0033cc"/>
                </a:solidFill>
                <a:uFillTx/>
                <a:latin typeface="华文新魏"/>
                <a:ea typeface="华文新魏"/>
              </a:rPr>
              <a:t>3</a:t>
            </a:r>
            <a:r>
              <a:rPr b="1" lang="zh-CN" sz="2000" spc="-1" strike="noStrike" u="sng">
                <a:solidFill>
                  <a:srgbClr val="0033cc"/>
                </a:solidFill>
                <a:uFillTx/>
                <a:latin typeface="华文新魏"/>
                <a:ea typeface="华文新魏"/>
              </a:rPr>
              <a:t>章  计算机汉字输入方法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隶书"/>
              </a:rPr>
              <a:t>Click to edit the title text format</a:t>
            </a:r>
            <a:endParaRPr b="1" lang="en-US" sz="40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69CF-05C7-4886-87CF-08DFB7FC912E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8F12-1B48-4E44-9578-3521F323FD6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image" Target="../media/image1.gif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7.xml"/><Relationship Id="rId3" Type="http://schemas.openxmlformats.org/officeDocument/2006/relationships/slide" Target="slide36.xml"/><Relationship Id="rId4" Type="http://schemas.openxmlformats.org/officeDocument/2006/relationships/slide" Target="slide41.xml"/><Relationship Id="rId5" Type="http://schemas.openxmlformats.org/officeDocument/2006/relationships/slide" Target="slide42.xml"/><Relationship Id="rId6" Type="http://schemas.openxmlformats.org/officeDocument/2006/relationships/slide" Target="slide44.xml"/><Relationship Id="rId7" Type="http://schemas.openxmlformats.org/officeDocument/2006/relationships/slide" Target="slide45.xml"/><Relationship Id="rId8" Type="http://schemas.openxmlformats.org/officeDocument/2006/relationships/slide" Target="slide46.xml"/><Relationship Id="rId9" Type="http://schemas.openxmlformats.org/officeDocument/2006/relationships/slide" Target="slide46.xml"/><Relationship Id="rId10" Type="http://schemas.openxmlformats.org/officeDocument/2006/relationships/slide" Target="slide46.xml"/><Relationship Id="rId11" Type="http://schemas.openxmlformats.org/officeDocument/2006/relationships/slide" Target="slide1.xml"/><Relationship Id="rId1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1.xml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slide" Target="slide16.xml"/><Relationship Id="rId9" Type="http://schemas.openxmlformats.org/officeDocument/2006/relationships/slide" Target="slide20.xml"/><Relationship Id="rId10" Type="http://schemas.openxmlformats.org/officeDocument/2006/relationships/slide" Target="slide1.xml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676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第</a:t>
            </a: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3</a:t>
            </a: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章  计算机汉字输入方法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95600" y="2285640"/>
            <a:ext cx="492768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3.1  </a:t>
            </a:r>
            <a:r>
              <a:rPr b="1" lang="zh-CN" sz="2800" spc="-1" strike="noStrike" u="sng">
                <a:solidFill>
                  <a:srgbClr val="ffff99"/>
                </a:solidFill>
                <a:uFillTx/>
                <a:latin typeface="Times New Roman"/>
                <a:ea typeface="宋体"/>
                <a:hlinkClick r:id="rId2" action="ppaction://hlinksldjump"/>
              </a:rPr>
              <a:t>汉字输入基础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99"/>
                </a:solidFill>
                <a:uFillTx/>
                <a:latin typeface="Times New Roman"/>
                <a:ea typeface="宋体"/>
                <a:hlinkClick r:id="rId3" action="ppaction://hlinksldjump"/>
              </a:rPr>
              <a:t>3.2  智能</a:t>
            </a:r>
            <a:r>
              <a:rPr b="1" lang="zh-CN" sz="2800" spc="-1" strike="noStrike" u="sng">
                <a:solidFill>
                  <a:srgbClr val="ffff99"/>
                </a:solidFill>
                <a:uFillTx/>
                <a:latin typeface="Times New Roman"/>
                <a:ea typeface="宋体"/>
                <a:hlinkClick r:id="rId4" action="ppaction://hlinksldjump"/>
              </a:rPr>
              <a:t>ABC</a:t>
            </a:r>
            <a:r>
              <a:rPr b="1" lang="zh-CN" sz="2800" spc="-1" strike="noStrike" u="sng">
                <a:solidFill>
                  <a:srgbClr val="ffff99"/>
                </a:solidFill>
                <a:uFillTx/>
                <a:latin typeface="Times New Roman"/>
                <a:ea typeface="宋体"/>
                <a:hlinkClick r:id="rId5" action="ppaction://hlinksldjump"/>
              </a:rPr>
              <a:t>输入法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99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3.3  </a:t>
            </a:r>
            <a:r>
              <a:rPr b="1" lang="zh-CN" sz="2800" spc="-1" strike="noStrike" u="sng">
                <a:solidFill>
                  <a:srgbClr val="ffff99"/>
                </a:solidFill>
                <a:uFillTx/>
                <a:latin typeface="Times New Roman"/>
                <a:ea typeface="宋体"/>
                <a:hlinkClick r:id="rId7" action="ppaction://hlinksldjump"/>
              </a:rPr>
              <a:t>五笔字型输入法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pic>
        <p:nvPicPr>
          <p:cNvPr id="84" name="gif012" descr=""/>
          <p:cNvPicPr/>
          <p:nvPr/>
        </p:nvPicPr>
        <p:blipFill>
          <a:blip r:embed="rId8"/>
          <a:stretch/>
        </p:blipFill>
        <p:spPr>
          <a:xfrm>
            <a:off x="1600200" y="6137280"/>
            <a:ext cx="6553080" cy="72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3.2.1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智能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ABC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的功能设置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00ffff"/>
                </a:solidFill>
                <a:latin typeface="楷体_GB2312"/>
                <a:ea typeface="宋体"/>
              </a:rPr>
              <a:t>1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宋体"/>
              </a:rPr>
              <a:t>）智能</a:t>
            </a:r>
            <a:r>
              <a:rPr b="1" lang="zh-CN" sz="2800" spc="-1" strike="noStrike">
                <a:solidFill>
                  <a:srgbClr val="00ffff"/>
                </a:solidFill>
                <a:latin typeface="楷体_GB2312"/>
                <a:ea typeface="宋体"/>
              </a:rPr>
              <a:t>ABC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宋体"/>
              </a:rPr>
              <a:t>的功能设置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28954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2895480"/>
            <a:ext cx="685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l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1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区位码输入状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l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2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笔画查字（即字典）工作方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l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标准变换输入工作方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l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4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双打变换输入工作方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1295280"/>
            <a:ext cx="73911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l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5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英文输入工作方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l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6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全角／半角状态切换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l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7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双打键盘布局及笔形    代码提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l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8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符号、字母输入（动态键盘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l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9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设备、状态控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l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F10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强制记忆功能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宋体"/>
              </a:rPr>
              <a:t>（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宋体"/>
              </a:rPr>
              <a:t>）状态及设备控制。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89548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752480"/>
            <a:ext cx="80773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标点转换 允许／不允许中文标点符号转换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纯笔形输入 纯笔形输入方式选择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调词频 调整词的频率，以适应不同文类的需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光标 显示或隐藏光标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打印设置  设置打印字库的点阵、字体、字型和宽度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99"/>
                </a:solidFill>
                <a:uFillTx/>
                <a:latin typeface="Times New Roman"/>
                <a:ea typeface="华文隶书"/>
                <a:hlinkClick r:id="rId2" action="ppaction://hlinksldjump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Arial"/>
              </a:rPr>
              <a:t>3.2.2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智能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Arial"/>
              </a:rPr>
              <a:t>ABC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的标准输入方式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5640" y="2057400"/>
            <a:ext cx="58230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全拼输入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简拼输入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混拼输入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笔形输入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如表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宋体"/>
              </a:rPr>
              <a:t>3-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音形输入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762120" y="615960"/>
            <a:ext cx="8229240" cy="5626080"/>
            <a:chOff x="762120" y="615960"/>
            <a:chExt cx="8229240" cy="5626080"/>
          </a:xfrm>
        </p:grpSpPr>
        <p:grpSp>
          <p:nvGrpSpPr>
            <p:cNvPr id="119" name=""/>
            <p:cNvGrpSpPr/>
            <p:nvPr/>
          </p:nvGrpSpPr>
          <p:grpSpPr>
            <a:xfrm>
              <a:off x="768600" y="620640"/>
              <a:ext cx="8215560" cy="5616720"/>
              <a:chOff x="768600" y="620640"/>
              <a:chExt cx="8215560" cy="5616720"/>
            </a:xfrm>
          </p:grpSpPr>
          <p:grpSp>
            <p:nvGrpSpPr>
              <p:cNvPr id="120" name=""/>
              <p:cNvGrpSpPr/>
              <p:nvPr/>
            </p:nvGrpSpPr>
            <p:grpSpPr>
              <a:xfrm>
                <a:off x="768600" y="620640"/>
                <a:ext cx="1099440" cy="593640"/>
                <a:chOff x="768600" y="620640"/>
                <a:chExt cx="1099440" cy="5936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864000" y="620640"/>
                  <a:ext cx="9090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笔形代码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8600" y="620640"/>
                  <a:ext cx="109944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868400" y="620640"/>
                <a:ext cx="1101960" cy="593640"/>
                <a:chOff x="1868400" y="620640"/>
                <a:chExt cx="1101960" cy="5936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963800" y="620640"/>
                  <a:ext cx="9108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笔形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868400" y="620640"/>
                  <a:ext cx="1101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2970720" y="620640"/>
                <a:ext cx="1398600" cy="593640"/>
                <a:chOff x="2970720" y="620640"/>
                <a:chExt cx="1398600" cy="5936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3065400" y="620640"/>
                  <a:ext cx="1208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笔形名称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970720" y="620640"/>
                  <a:ext cx="13986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369680" y="620640"/>
                <a:ext cx="1456920" cy="593640"/>
                <a:chOff x="4369680" y="620640"/>
                <a:chExt cx="1456920" cy="5936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465080" y="620640"/>
                  <a:ext cx="1265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实例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369680" y="620640"/>
                  <a:ext cx="145692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826960" y="620640"/>
                <a:ext cx="3157200" cy="593640"/>
                <a:chOff x="5826960" y="620640"/>
                <a:chExt cx="3157200" cy="5936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921640" y="620640"/>
                  <a:ext cx="2966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说明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826960" y="620640"/>
                  <a:ext cx="31572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68600" y="1214280"/>
                <a:ext cx="1099440" cy="593640"/>
                <a:chOff x="768600" y="1214280"/>
                <a:chExt cx="1099440" cy="5936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864000" y="1214280"/>
                  <a:ext cx="9090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68600" y="1214280"/>
                  <a:ext cx="109944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868400" y="1214280"/>
                <a:ext cx="1101960" cy="593640"/>
                <a:chOff x="1868400" y="1214280"/>
                <a:chExt cx="1101960" cy="5936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963800" y="1214280"/>
                  <a:ext cx="9108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一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68400" y="1214280"/>
                  <a:ext cx="1101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2970720" y="1214280"/>
                <a:ext cx="1398600" cy="593640"/>
                <a:chOff x="2970720" y="1214280"/>
                <a:chExt cx="1398600" cy="5936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065400" y="1214280"/>
                  <a:ext cx="1208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横（提）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970720" y="1214280"/>
                  <a:ext cx="13986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369680" y="1214280"/>
                <a:ext cx="1456920" cy="593640"/>
                <a:chOff x="4369680" y="1214280"/>
                <a:chExt cx="1456920" cy="5936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465080" y="1214280"/>
                  <a:ext cx="1265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三、西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369680" y="1214280"/>
                  <a:ext cx="145692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5826960" y="1214280"/>
                <a:ext cx="3157200" cy="593640"/>
                <a:chOff x="5826960" y="1214280"/>
                <a:chExt cx="3157200" cy="5936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921640" y="1214280"/>
                  <a:ext cx="2966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笔画“提”按“横”处理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826960" y="1214280"/>
                  <a:ext cx="31572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768600" y="1807920"/>
                <a:ext cx="1099440" cy="594000"/>
                <a:chOff x="768600" y="1807920"/>
                <a:chExt cx="1099440" cy="594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864000" y="1807920"/>
                  <a:ext cx="90900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8600" y="1807920"/>
                  <a:ext cx="109944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1868400" y="1807920"/>
                <a:ext cx="1101960" cy="594000"/>
                <a:chOff x="1868400" y="1807920"/>
                <a:chExt cx="1101960" cy="594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1963800" y="1807920"/>
                  <a:ext cx="91080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|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1868400" y="1807920"/>
                  <a:ext cx="11019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970720" y="1807920"/>
                <a:ext cx="1398600" cy="594000"/>
                <a:chOff x="2970720" y="1807920"/>
                <a:chExt cx="1398600" cy="594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065400" y="1807920"/>
                  <a:ext cx="12085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竖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970720" y="1807920"/>
                  <a:ext cx="139860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369680" y="1807920"/>
                <a:ext cx="1456920" cy="594000"/>
                <a:chOff x="4369680" y="1807920"/>
                <a:chExt cx="1456920" cy="594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465080" y="1807920"/>
                  <a:ext cx="126576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上、是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369680" y="1807920"/>
                  <a:ext cx="145692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826960" y="1807920"/>
                <a:ext cx="3157200" cy="594000"/>
                <a:chOff x="5826960" y="1807920"/>
                <a:chExt cx="3157200" cy="594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921640" y="1807920"/>
                  <a:ext cx="296676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826960" y="1807920"/>
                  <a:ext cx="315720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768600" y="2401920"/>
                <a:ext cx="1099440" cy="593640"/>
                <a:chOff x="768600" y="2401920"/>
                <a:chExt cx="1099440" cy="593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64000" y="2401920"/>
                  <a:ext cx="9090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68600" y="2401920"/>
                  <a:ext cx="109944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1868400" y="2401920"/>
                <a:ext cx="1101960" cy="593640"/>
                <a:chOff x="1868400" y="2401920"/>
                <a:chExt cx="1101960" cy="593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963800" y="2401920"/>
                  <a:ext cx="9108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ノ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868400" y="2401920"/>
                  <a:ext cx="1101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970720" y="2401920"/>
                <a:ext cx="1398600" cy="593640"/>
                <a:chOff x="2970720" y="2401920"/>
                <a:chExt cx="1398600" cy="5936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065400" y="2401920"/>
                  <a:ext cx="1208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撇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970720" y="2401920"/>
                  <a:ext cx="13986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369680" y="2401920"/>
                <a:ext cx="1456920" cy="593640"/>
                <a:chOff x="4369680" y="2401920"/>
                <a:chExt cx="1456920" cy="5936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465080" y="2401920"/>
                  <a:ext cx="1265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川、手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369680" y="2401920"/>
                  <a:ext cx="145692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826960" y="2401920"/>
                <a:ext cx="3157200" cy="593640"/>
                <a:chOff x="5826960" y="2401920"/>
                <a:chExt cx="3157200" cy="5936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921640" y="2401920"/>
                  <a:ext cx="2966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826960" y="2401920"/>
                  <a:ext cx="31572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768600" y="2995560"/>
                <a:ext cx="1099440" cy="593640"/>
                <a:chOff x="768600" y="2995560"/>
                <a:chExt cx="1099440" cy="5936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864000" y="2995560"/>
                  <a:ext cx="9090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68600" y="2995560"/>
                  <a:ext cx="109944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1868400" y="2995560"/>
                <a:ext cx="1101960" cy="593640"/>
                <a:chOff x="1868400" y="2995560"/>
                <a:chExt cx="1101960" cy="5936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1963800" y="2995560"/>
                  <a:ext cx="9108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ㄟヽ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868400" y="2995560"/>
                  <a:ext cx="1101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970720" y="2995560"/>
                <a:ext cx="1398600" cy="593640"/>
                <a:chOff x="2970720" y="2995560"/>
                <a:chExt cx="1398600" cy="5936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3065400" y="2995560"/>
                  <a:ext cx="1208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点（捺）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970720" y="2995560"/>
                  <a:ext cx="13986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4369680" y="2995560"/>
                <a:ext cx="1456920" cy="593640"/>
                <a:chOff x="4369680" y="2995560"/>
                <a:chExt cx="1456920" cy="5936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465080" y="2995560"/>
                  <a:ext cx="1265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主、这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369680" y="2995560"/>
                  <a:ext cx="145692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5826960" y="2995560"/>
                <a:ext cx="3157200" cy="593640"/>
                <a:chOff x="5826960" y="2995560"/>
                <a:chExt cx="3157200" cy="5936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5921640" y="2995560"/>
                  <a:ext cx="2966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笔画“捺”按“点”处理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5826960" y="2995560"/>
                  <a:ext cx="31572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768600" y="3589200"/>
                <a:ext cx="1099440" cy="730440"/>
                <a:chOff x="768600" y="3589200"/>
                <a:chExt cx="1099440" cy="7304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864000" y="3589200"/>
                  <a:ext cx="90900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68600" y="3589200"/>
                  <a:ext cx="1099440" cy="73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1868400" y="3589200"/>
                <a:ext cx="1101960" cy="730440"/>
                <a:chOff x="1868400" y="3589200"/>
                <a:chExt cx="1101960" cy="730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963800" y="3589200"/>
                  <a:ext cx="91080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ㄅ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1868400" y="3589200"/>
                  <a:ext cx="1101960" cy="73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2970720" y="3589200"/>
                <a:ext cx="1398600" cy="730440"/>
                <a:chOff x="2970720" y="3589200"/>
                <a:chExt cx="1398600" cy="7304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065400" y="3589200"/>
                  <a:ext cx="120852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折（竖弯勾）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970720" y="3589200"/>
                  <a:ext cx="1398600" cy="73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4369680" y="3589200"/>
                <a:ext cx="1456920" cy="730440"/>
                <a:chOff x="4369680" y="3589200"/>
                <a:chExt cx="1456920" cy="7304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465080" y="3589200"/>
                  <a:ext cx="126576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与、骊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369680" y="3589200"/>
                  <a:ext cx="1456920" cy="73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826960" y="3589200"/>
                <a:ext cx="3157200" cy="730440"/>
                <a:chOff x="5826960" y="3589200"/>
                <a:chExt cx="3157200" cy="7304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921640" y="3589200"/>
                  <a:ext cx="296676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顺时针方向弯曲的多折笔画，判断时以尾折为准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826960" y="3589200"/>
                  <a:ext cx="3157200" cy="73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768600" y="4319640"/>
                <a:ext cx="1099440" cy="730080"/>
                <a:chOff x="768600" y="4319640"/>
                <a:chExt cx="1099440" cy="7300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864000" y="4319640"/>
                  <a:ext cx="90900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6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68600" y="4319640"/>
                  <a:ext cx="109944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1868400" y="4319640"/>
                <a:ext cx="1101960" cy="730080"/>
                <a:chOff x="1868400" y="4319640"/>
                <a:chExt cx="1101960" cy="7300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963800" y="4319640"/>
                  <a:ext cx="91080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乚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1868400" y="4319640"/>
                  <a:ext cx="110196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2970720" y="4319640"/>
                <a:ext cx="1398600" cy="730080"/>
                <a:chOff x="2970720" y="4319640"/>
                <a:chExt cx="1398600" cy="7300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065400" y="4319640"/>
                  <a:ext cx="120852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弯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970720" y="4319640"/>
                  <a:ext cx="139860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369680" y="4319640"/>
                <a:ext cx="1456920" cy="730080"/>
                <a:chOff x="4369680" y="4319640"/>
                <a:chExt cx="1456920" cy="7300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465080" y="4319640"/>
                  <a:ext cx="126576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七、级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369680" y="4319640"/>
                  <a:ext cx="145692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5826960" y="4319640"/>
                <a:ext cx="3157200" cy="730080"/>
                <a:chOff x="5826960" y="4319640"/>
                <a:chExt cx="3157200" cy="7300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5921640" y="4319640"/>
                  <a:ext cx="296676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逆时针方向弯曲的多折笔画，判断时以尾折为准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826960" y="4319640"/>
                  <a:ext cx="315720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768600" y="5049720"/>
                <a:ext cx="1099440" cy="593640"/>
                <a:chOff x="768600" y="5049720"/>
                <a:chExt cx="1099440" cy="593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864000" y="5049720"/>
                  <a:ext cx="9090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7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8600" y="5049720"/>
                  <a:ext cx="109944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868400" y="5049720"/>
                <a:ext cx="1101960" cy="593640"/>
                <a:chOff x="1868400" y="5049720"/>
                <a:chExt cx="1101960" cy="593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1963800" y="5049720"/>
                  <a:ext cx="9108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十（</a:t>
                  </a: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×</a:t>
                  </a: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）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868400" y="5049720"/>
                  <a:ext cx="11019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2970720" y="5049720"/>
                <a:ext cx="1398600" cy="593640"/>
                <a:chOff x="2970720" y="5049720"/>
                <a:chExt cx="1398600" cy="5936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065400" y="5049720"/>
                  <a:ext cx="12085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叉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970720" y="5049720"/>
                  <a:ext cx="13986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369680" y="5049720"/>
                <a:ext cx="1456920" cy="593640"/>
                <a:chOff x="4369680" y="5049720"/>
                <a:chExt cx="1456920" cy="5936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465080" y="5049720"/>
                  <a:ext cx="1265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杀、其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369680" y="5049720"/>
                  <a:ext cx="145692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826960" y="5049720"/>
                <a:ext cx="3157200" cy="593640"/>
                <a:chOff x="5826960" y="5049720"/>
                <a:chExt cx="3157200" cy="5936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921640" y="5049720"/>
                  <a:ext cx="29667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交叉笔画只限于正叉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826960" y="5049720"/>
                  <a:ext cx="31572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768600" y="5643360"/>
                <a:ext cx="1099440" cy="594000"/>
                <a:chOff x="768600" y="5643360"/>
                <a:chExt cx="1099440" cy="5940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864000" y="5643360"/>
                  <a:ext cx="90900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8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68600" y="5643360"/>
                  <a:ext cx="109944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1868400" y="5643360"/>
                <a:ext cx="1101960" cy="594000"/>
                <a:chOff x="1868400" y="5643360"/>
                <a:chExt cx="1101960" cy="5940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963800" y="5643360"/>
                  <a:ext cx="91080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口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868400" y="5643360"/>
                  <a:ext cx="11019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2970720" y="5643360"/>
                <a:ext cx="1398600" cy="594000"/>
                <a:chOff x="2970720" y="5643360"/>
                <a:chExt cx="1398600" cy="5940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065400" y="5643360"/>
                  <a:ext cx="12085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方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970720" y="5643360"/>
                  <a:ext cx="139860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369680" y="5643360"/>
                <a:ext cx="1456920" cy="594000"/>
                <a:chOff x="4369680" y="5643360"/>
                <a:chExt cx="1456920" cy="5940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465080" y="5643360"/>
                  <a:ext cx="126576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国、呵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369680" y="5643360"/>
                  <a:ext cx="145692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826960" y="5643360"/>
                <a:ext cx="3157200" cy="594000"/>
                <a:chOff x="5826960" y="5643360"/>
                <a:chExt cx="3157200" cy="5940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921640" y="5643360"/>
                  <a:ext cx="296676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ffff"/>
                      </a:solidFill>
                      <a:latin typeface="Times New Roman"/>
                    </a:rPr>
                    <a:t>四边整齐的方框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826960" y="5643360"/>
                  <a:ext cx="315720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"/>
            <p:cNvSpPr/>
            <p:nvPr/>
          </p:nvSpPr>
          <p:spPr>
            <a:xfrm>
              <a:off x="762120" y="615960"/>
              <a:ext cx="8229240" cy="5626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216000" y="685800"/>
            <a:ext cx="54612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-1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笔形定义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>
            <a:hlinkClick r:id="rId1" action="ppaction://hlinksldjump"/>
          </p:cNvPr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99"/>
                </a:solidFill>
                <a:uFillTx/>
                <a:latin typeface="Times New Roman"/>
                <a:ea typeface="华文隶书"/>
                <a:hlinkClick r:id="rId2" action="ppaction://hlinksldjump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宋体"/>
                <a:ea typeface="宋体"/>
              </a:rPr>
              <a:t>3.2.3  </a:t>
            </a:r>
            <a:r>
              <a:rPr b="1" lang="zh-CN" sz="3600" spc="-1" strike="noStrike">
                <a:solidFill>
                  <a:srgbClr val="ff33cc"/>
                </a:solidFill>
                <a:latin typeface="宋体"/>
                <a:ea typeface="宋体"/>
              </a:rPr>
              <a:t>自动构词过程以及人为干预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1981080"/>
            <a:ext cx="7315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在标准方式下输入一词，可以首先输入该词的简拼，按下空格键，如果按退格键，在输入信息区的字符串就会一个字符一个字符地被依次删除，如果输入区的字符全部被删除掉了，主屏幕光标处的正文就会被删除，在这里，退格键的作用是对整个转换过程进行回溯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>
            <a:hlinkClick r:id="rId1" action="ppaction://hlinksldjump"/>
          </p:cNvPr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3.2.4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特殊字符的输入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752120" y="228564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中文标点符号的输入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中文数量词的简化输入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智能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C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2514600"/>
            <a:ext cx="815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1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．中文标点符号的输入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宋体"/>
              </a:rPr>
              <a:t>如表</a:t>
            </a:r>
            <a:r>
              <a:rPr b="1" lang="zh-CN" sz="3600" spc="-1" strike="noStrike">
                <a:solidFill>
                  <a:srgbClr val="ff33cc"/>
                </a:solidFill>
                <a:latin typeface="隶书"/>
                <a:ea typeface="宋体"/>
              </a:rPr>
              <a:t>3-2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宋体"/>
              </a:rPr>
              <a:t>所示。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紧接在词语后面输入标点符号，同时可表明该词语输入结束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在“中文标点”的开关为“开”的状态下，或者在“全角”状态下，可以单独使用标点符号，即在这些状态下，第一键允许是中文的标点符号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第一次按“ ” ”键，它转换成左引号，按第二次，它转换成为右引号，自动配对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98108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-2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智能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的中文标点符号输入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533520" y="1373040"/>
            <a:ext cx="8229240" cy="4646520"/>
            <a:chOff x="533520" y="1373040"/>
            <a:chExt cx="8229240" cy="4646520"/>
          </a:xfrm>
        </p:grpSpPr>
        <p:grpSp>
          <p:nvGrpSpPr>
            <p:cNvPr id="268" name=""/>
            <p:cNvGrpSpPr/>
            <p:nvPr/>
          </p:nvGrpSpPr>
          <p:grpSpPr>
            <a:xfrm>
              <a:off x="540720" y="1378080"/>
              <a:ext cx="8213760" cy="4635360"/>
              <a:chOff x="540720" y="1378080"/>
              <a:chExt cx="8213760" cy="463536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540720" y="1378080"/>
                <a:ext cx="1268640" cy="578880"/>
                <a:chOff x="540720" y="1378080"/>
                <a:chExt cx="1268640" cy="57888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646560" y="1378080"/>
                  <a:ext cx="10562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按键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40720" y="1378080"/>
                  <a:ext cx="126864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1809720" y="1378080"/>
                <a:ext cx="2200320" cy="578880"/>
                <a:chOff x="1809720" y="1378080"/>
                <a:chExt cx="2200320" cy="578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1915560" y="1378080"/>
                  <a:ext cx="198792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对应的中文标点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809720" y="1378080"/>
                  <a:ext cx="220032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4010760" y="1378080"/>
                <a:ext cx="2047320" cy="578880"/>
                <a:chOff x="4010760" y="1378080"/>
                <a:chExt cx="2047320" cy="57888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4116600" y="1378080"/>
                  <a:ext cx="18356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按键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4010760" y="1378080"/>
                  <a:ext cx="204732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6058440" y="1378080"/>
                <a:ext cx="2696040" cy="578880"/>
                <a:chOff x="6058440" y="1378080"/>
                <a:chExt cx="2696040" cy="57888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6164280" y="1378080"/>
                  <a:ext cx="24836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对应的中文标点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058440" y="1378080"/>
                  <a:ext cx="269604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540720" y="1957320"/>
                <a:ext cx="1268640" cy="579240"/>
                <a:chOff x="540720" y="1957320"/>
                <a:chExt cx="1268640" cy="5792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646560" y="1957320"/>
                  <a:ext cx="105624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．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40720" y="1957320"/>
                  <a:ext cx="126864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809720" y="1957320"/>
                <a:ext cx="2200320" cy="579240"/>
                <a:chOff x="1809720" y="1957320"/>
                <a:chExt cx="2200320" cy="5792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915560" y="1957320"/>
                  <a:ext cx="198792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。（句号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809720" y="1957320"/>
                  <a:ext cx="220032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4010760" y="1957320"/>
                <a:ext cx="2047320" cy="579240"/>
                <a:chOff x="4010760" y="1957320"/>
                <a:chExt cx="2047320" cy="57924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4116600" y="1957320"/>
                  <a:ext cx="183564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“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010760" y="1957320"/>
                  <a:ext cx="204732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6058440" y="1957320"/>
                <a:ext cx="2696040" cy="579240"/>
                <a:chOff x="6058440" y="1957320"/>
                <a:chExt cx="2696040" cy="57924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6164280" y="1957320"/>
                  <a:ext cx="248364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“”  </a:t>
                  </a: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左或右引号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058440" y="1957320"/>
                  <a:ext cx="269604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40720" y="2536920"/>
                <a:ext cx="1268640" cy="578880"/>
                <a:chOff x="540720" y="2536920"/>
                <a:chExt cx="1268640" cy="5788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46560" y="2536920"/>
                  <a:ext cx="10562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,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40720" y="2536920"/>
                  <a:ext cx="126864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1809720" y="2536920"/>
                <a:ext cx="2200320" cy="578880"/>
                <a:chOff x="1809720" y="2536920"/>
                <a:chExt cx="2200320" cy="5788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1915560" y="2536920"/>
                  <a:ext cx="198792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，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809720" y="2536920"/>
                  <a:ext cx="220032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4010760" y="2536920"/>
                <a:ext cx="2047320" cy="578880"/>
                <a:chOff x="4010760" y="2536920"/>
                <a:chExt cx="2047320" cy="57888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116600" y="2536920"/>
                  <a:ext cx="18356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(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010760" y="2536920"/>
                  <a:ext cx="204732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6058440" y="2536920"/>
                <a:ext cx="2696040" cy="578880"/>
                <a:chOff x="6058440" y="2536920"/>
                <a:chExt cx="2696040" cy="57888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6164280" y="2536920"/>
                  <a:ext cx="24836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  （左括号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058440" y="2536920"/>
                  <a:ext cx="269604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40720" y="3116520"/>
                <a:ext cx="1268640" cy="578880"/>
                <a:chOff x="540720" y="3116520"/>
                <a:chExt cx="1268640" cy="5788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646560" y="3116520"/>
                  <a:ext cx="10562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=</a:t>
                  </a: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或</a:t>
                  </a: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*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40720" y="3116520"/>
                  <a:ext cx="126864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1809720" y="3116520"/>
                <a:ext cx="2200320" cy="578880"/>
                <a:chOff x="1809720" y="3116520"/>
                <a:chExt cx="2200320" cy="5788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1915560" y="3116520"/>
                  <a:ext cx="198792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、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1809720" y="3116520"/>
                  <a:ext cx="220032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010760" y="3116520"/>
                <a:ext cx="2047320" cy="578880"/>
                <a:chOff x="4010760" y="3116520"/>
                <a:chExt cx="2047320" cy="5788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116600" y="3116520"/>
                  <a:ext cx="18356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010760" y="3116520"/>
                  <a:ext cx="204732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6058440" y="3116520"/>
                <a:ext cx="2696040" cy="578880"/>
                <a:chOff x="6058440" y="3116520"/>
                <a:chExt cx="2696040" cy="57888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6164280" y="3116520"/>
                  <a:ext cx="24836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）  （右括号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6058440" y="3116520"/>
                  <a:ext cx="269604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40720" y="3695760"/>
                <a:ext cx="1268640" cy="579240"/>
                <a:chOff x="540720" y="3695760"/>
                <a:chExt cx="1268640" cy="5792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46560" y="3695760"/>
                  <a:ext cx="105624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；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40720" y="3695760"/>
                  <a:ext cx="126864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1809720" y="3695760"/>
                <a:ext cx="2200320" cy="579240"/>
                <a:chOff x="1809720" y="3695760"/>
                <a:chExt cx="2200320" cy="57924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1915560" y="3695760"/>
                  <a:ext cx="198792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；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1809720" y="3695760"/>
                  <a:ext cx="220032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4010760" y="3695760"/>
                <a:ext cx="2047320" cy="579240"/>
                <a:chOff x="4010760" y="3695760"/>
                <a:chExt cx="2047320" cy="57924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4116600" y="3695760"/>
                  <a:ext cx="183564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&lt;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010760" y="3695760"/>
                  <a:ext cx="204732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058440" y="3695760"/>
                <a:ext cx="2696040" cy="579240"/>
                <a:chOff x="6058440" y="3695760"/>
                <a:chExt cx="2696040" cy="57924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164280" y="3695760"/>
                  <a:ext cx="248364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《  （左书名号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058440" y="3695760"/>
                  <a:ext cx="269604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540720" y="4275360"/>
                <a:ext cx="1268640" cy="578880"/>
                <a:chOff x="540720" y="4275360"/>
                <a:chExt cx="1268640" cy="5788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646560" y="4275360"/>
                  <a:ext cx="10562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？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40720" y="4275360"/>
                  <a:ext cx="126864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1809720" y="4275360"/>
                <a:ext cx="2200320" cy="578880"/>
                <a:chOff x="1809720" y="4275360"/>
                <a:chExt cx="2200320" cy="5788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915560" y="4275360"/>
                  <a:ext cx="198792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?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1809720" y="4275360"/>
                  <a:ext cx="220032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4010760" y="4275360"/>
                <a:ext cx="2047320" cy="578880"/>
                <a:chOff x="4010760" y="4275360"/>
                <a:chExt cx="2047320" cy="5788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4116600" y="4275360"/>
                  <a:ext cx="18356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&gt;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010760" y="4275360"/>
                  <a:ext cx="204732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6058440" y="4275360"/>
                <a:ext cx="2696040" cy="578880"/>
                <a:chOff x="6058440" y="4275360"/>
                <a:chExt cx="2696040" cy="57888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6164280" y="4275360"/>
                  <a:ext cx="24836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》  （右书名号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6058440" y="4275360"/>
                  <a:ext cx="269604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540720" y="4854960"/>
                <a:ext cx="1268640" cy="578880"/>
                <a:chOff x="540720" y="4854960"/>
                <a:chExt cx="1268640" cy="57888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646560" y="4854960"/>
                  <a:ext cx="10562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!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40720" y="4854960"/>
                  <a:ext cx="126864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1809720" y="4854960"/>
                <a:ext cx="2200320" cy="578880"/>
                <a:chOff x="1809720" y="4854960"/>
                <a:chExt cx="2200320" cy="57888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1915560" y="4854960"/>
                  <a:ext cx="198792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！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809720" y="4854960"/>
                  <a:ext cx="220032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4010760" y="4854960"/>
                <a:ext cx="2047320" cy="578880"/>
                <a:chOff x="4010760" y="4854960"/>
                <a:chExt cx="2047320" cy="5788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4116600" y="4854960"/>
                  <a:ext cx="18356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Shift</a:t>
                  </a: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＋“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-”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010760" y="4854960"/>
                  <a:ext cx="204732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6058440" y="4854960"/>
                <a:ext cx="2696040" cy="578880"/>
                <a:chOff x="6058440" y="4854960"/>
                <a:chExt cx="2696040" cy="5788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6164280" y="4854960"/>
                  <a:ext cx="2483640" cy="5788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—  </a:t>
                  </a: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破折号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058440" y="4854960"/>
                  <a:ext cx="2696040" cy="57888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540720" y="5434200"/>
                <a:ext cx="1268640" cy="579240"/>
                <a:chOff x="540720" y="5434200"/>
                <a:chExt cx="1268640" cy="57924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646560" y="5434200"/>
                  <a:ext cx="105624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：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540720" y="5434200"/>
                  <a:ext cx="126864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1809720" y="5434200"/>
                <a:ext cx="2200320" cy="579240"/>
                <a:chOff x="1809720" y="5434200"/>
                <a:chExt cx="2200320" cy="57924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1915560" y="5434200"/>
                  <a:ext cx="198792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：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809720" y="5434200"/>
                  <a:ext cx="220032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4010760" y="5434200"/>
                <a:ext cx="2047320" cy="579240"/>
                <a:chOff x="4010760" y="5434200"/>
                <a:chExt cx="2047320" cy="57924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4116600" y="5434200"/>
                  <a:ext cx="183564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Shift</a:t>
                  </a: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＋“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%”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010760" y="5434200"/>
                  <a:ext cx="204732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6058440" y="5434200"/>
                <a:ext cx="2696040" cy="579240"/>
                <a:chOff x="6058440" y="5434200"/>
                <a:chExt cx="2696040" cy="57924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6164280" y="5434200"/>
                  <a:ext cx="2483640" cy="57924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…   </a:t>
                  </a: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半个省略号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6058440" y="5434200"/>
                  <a:ext cx="2696040" cy="579240"/>
                </a:xfrm>
                <a:prstGeom prst="rect">
                  <a:avLst/>
                </a:prstGeom>
                <a:noFill/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65" name=""/>
            <p:cNvSpPr/>
            <p:nvPr/>
          </p:nvSpPr>
          <p:spPr>
            <a:xfrm>
              <a:off x="533520" y="1373040"/>
              <a:ext cx="8229240" cy="4646520"/>
            </a:xfrm>
            <a:prstGeom prst="rect">
              <a:avLst/>
            </a:prstGeom>
            <a:noFill/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66760" y="9140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．中文数量词的简化输入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宋体"/>
              </a:rPr>
              <a:t>智能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ABC</a:t>
            </a:r>
            <a:endParaRPr b="1" lang="en-US" sz="32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367" name=""/>
          <p:cNvSpPr/>
          <p:nvPr/>
        </p:nvSpPr>
        <p:spPr>
          <a:xfrm>
            <a:off x="2476440" y="1905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-3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中文数量词输入举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781200" y="2438280"/>
            <a:ext cx="7581240" cy="3657240"/>
            <a:chOff x="781200" y="2438280"/>
            <a:chExt cx="7581240" cy="3657240"/>
          </a:xfrm>
        </p:grpSpPr>
        <p:grpSp>
          <p:nvGrpSpPr>
            <p:cNvPr id="369" name=""/>
            <p:cNvGrpSpPr/>
            <p:nvPr/>
          </p:nvGrpSpPr>
          <p:grpSpPr>
            <a:xfrm>
              <a:off x="789120" y="2446560"/>
              <a:ext cx="7563960" cy="3639240"/>
              <a:chOff x="789120" y="2446560"/>
              <a:chExt cx="7563960" cy="363924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789120" y="2446560"/>
                <a:ext cx="3906360" cy="909360"/>
                <a:chOff x="789120" y="2446560"/>
                <a:chExt cx="3906360" cy="9093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909720" y="2446560"/>
                  <a:ext cx="3665520" cy="90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输入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89120" y="2446560"/>
                  <a:ext cx="3906360" cy="90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4695840" y="2446560"/>
                <a:ext cx="3657240" cy="909360"/>
                <a:chOff x="4695840" y="2446560"/>
                <a:chExt cx="3657240" cy="90936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4816440" y="2446560"/>
                  <a:ext cx="3415680" cy="90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输出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695840" y="2446560"/>
                  <a:ext cx="3657240" cy="90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789120" y="3356280"/>
                <a:ext cx="3906360" cy="909720"/>
                <a:chOff x="789120" y="3356280"/>
                <a:chExt cx="3906360" cy="9097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909720" y="3356280"/>
                  <a:ext cx="3665520" cy="90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i1986n4ys5r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789120" y="3356280"/>
                  <a:ext cx="3906360" cy="90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695840" y="3356280"/>
                <a:ext cx="3657240" cy="909720"/>
                <a:chOff x="4695840" y="3356280"/>
                <a:chExt cx="3657240" cy="9097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816440" y="3356280"/>
                  <a:ext cx="3415680" cy="90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一九八六年四月十五日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695840" y="3356280"/>
                  <a:ext cx="3657240" cy="90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89120" y="4266720"/>
                <a:ext cx="3906360" cy="909360"/>
                <a:chOff x="789120" y="4266720"/>
                <a:chExt cx="3906360" cy="9093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909720" y="4266720"/>
                  <a:ext cx="3665520" cy="90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i3b7s2k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89120" y="4266720"/>
                  <a:ext cx="3906360" cy="90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4695840" y="4266720"/>
                <a:ext cx="3657240" cy="909360"/>
                <a:chOff x="4695840" y="4266720"/>
                <a:chExt cx="3657240" cy="90936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4816440" y="4266720"/>
                  <a:ext cx="3415680" cy="90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三百七十二克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695840" y="4266720"/>
                  <a:ext cx="3657240" cy="90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789120" y="5176440"/>
                <a:ext cx="3906360" cy="909360"/>
                <a:chOff x="789120" y="5176440"/>
                <a:chExt cx="3906360" cy="9093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909720" y="5176440"/>
                  <a:ext cx="3665520" cy="90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I8q6b2s$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89120" y="5176440"/>
                  <a:ext cx="3906360" cy="90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4695840" y="5176440"/>
                <a:ext cx="3657240" cy="909360"/>
                <a:chOff x="4695840" y="5176440"/>
                <a:chExt cx="3657240" cy="90936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4816440" y="5176440"/>
                  <a:ext cx="3415680" cy="90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9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ffffff"/>
                      </a:solidFill>
                      <a:latin typeface="Times New Roman"/>
                    </a:rPr>
                    <a:t>捌仟陆佰贰拾元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695840" y="5176440"/>
                  <a:ext cx="3657240" cy="90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4" name=""/>
            <p:cNvSpPr/>
            <p:nvPr/>
          </p:nvSpPr>
          <p:spPr>
            <a:xfrm>
              <a:off x="781200" y="2438280"/>
              <a:ext cx="7581240" cy="36572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36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  <a:ea typeface="宋体"/>
              </a:rPr>
              <a:t>本章学习目标</a:t>
            </a:r>
            <a:endParaRPr b="1" lang="en-US" sz="40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1904760"/>
            <a:ext cx="65530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    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了解常见汉字处理系统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了解汉字编码输入方法的分类及概念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掌握智能</a:t>
            </a:r>
            <a:r>
              <a:rPr b="1" lang="zh-CN" sz="2800" spc="-1" strike="noStrike">
                <a:solidFill>
                  <a:srgbClr val="00ffff"/>
                </a:solidFill>
                <a:latin typeface="楷体_GB2312"/>
              </a:rPr>
              <a:t>ABC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输入法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    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掌握五笔字型的编码规则及字根表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95360" y="7617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3.2.5  </a:t>
            </a:r>
            <a:r>
              <a:rPr b="1" lang="zh-CN" sz="3600" spc="-1" strike="noStrike">
                <a:solidFill>
                  <a:srgbClr val="ff33cc"/>
                </a:solidFill>
                <a:latin typeface="Times New Roman"/>
                <a:ea typeface="宋体"/>
              </a:rPr>
              <a:t>双打输入方式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 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397" name=""/>
          <p:cNvSpPr/>
          <p:nvPr/>
        </p:nvSpPr>
        <p:spPr>
          <a:xfrm>
            <a:off x="1028880" y="2100240"/>
            <a:ext cx="7086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汉字读音由声母和韵母组成。在双打输入时，只需击键两次：奇次为声母，偶次为韵母。对于有韵母的零声母音节，需要用零声母键“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或隔音符号“ ’ ”补够两键，但要注意的是在屏幕上显示的仍是该字的规范拼音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3.3  </a:t>
            </a: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五笔字型输入法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676160" y="1752120"/>
            <a:ext cx="6933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1" action="ppaction://hlinksldjump"/>
              </a:rPr>
              <a:t>3.3.1       汉字的构成</a:t>
            </a:r>
            <a:endParaRPr b="1" lang="en-US" sz="2600" spc="-1" strike="noStrike">
              <a:solidFill>
                <a:srgbClr val="00ffff"/>
              </a:solidFill>
              <a:latin typeface="楷体_GB2312"/>
            </a:endParaRPr>
          </a:p>
          <a:p>
            <a:pPr marL="32904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2" action="ppaction://hlinksldjump"/>
              </a:rPr>
              <a:t>3.3.2       五笔字型基本字根及其分布</a:t>
            </a:r>
            <a:endParaRPr b="1" lang="en-US" sz="2600" spc="-1" strike="noStrike">
              <a:solidFill>
                <a:srgbClr val="00ffff"/>
              </a:solidFill>
              <a:latin typeface="楷体_GB2312"/>
            </a:endParaRPr>
          </a:p>
          <a:p>
            <a:pPr marL="32904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3" action="ppaction://hlinksldjump"/>
              </a:rPr>
              <a:t>3.3.3       五笔字型汉字折分原则</a:t>
            </a:r>
            <a:endParaRPr b="1" lang="en-US" sz="2600" spc="-1" strike="noStrike">
              <a:solidFill>
                <a:srgbClr val="00ffff"/>
              </a:solidFill>
              <a:latin typeface="楷体_GB2312"/>
            </a:endParaRPr>
          </a:p>
          <a:p>
            <a:pPr marL="32904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4" action="ppaction://hlinksldjump"/>
              </a:rPr>
              <a:t>3.3.4       单个汉字的编码输入</a:t>
            </a:r>
            <a:endParaRPr b="1" lang="en-US" sz="2600" spc="-1" strike="noStrike">
              <a:solidFill>
                <a:srgbClr val="00ffff"/>
              </a:solidFill>
              <a:latin typeface="楷体_GB2312"/>
            </a:endParaRPr>
          </a:p>
          <a:p>
            <a:pPr marL="32904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5" action="ppaction://hlinksldjump"/>
              </a:rPr>
              <a:t>3.3.5       简码的输入</a:t>
            </a:r>
            <a:endParaRPr b="1" lang="en-US" sz="2600" spc="-1" strike="noStrike">
              <a:solidFill>
                <a:srgbClr val="00ffff"/>
              </a:solidFill>
              <a:latin typeface="楷体_GB2312"/>
            </a:endParaRPr>
          </a:p>
          <a:p>
            <a:pPr marL="32904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6" action="ppaction://hlinksldjump"/>
              </a:rPr>
              <a:t>3.3.6       词语的输入</a:t>
            </a:r>
            <a:endParaRPr b="1" lang="en-US" sz="2600" spc="-1" strike="noStrike">
              <a:solidFill>
                <a:srgbClr val="00ffff"/>
              </a:solidFill>
              <a:latin typeface="楷体_GB2312"/>
            </a:endParaRPr>
          </a:p>
          <a:p>
            <a:pPr marL="32904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7" action="ppaction://hlinksldjump"/>
              </a:rPr>
              <a:t>3.3.7       重码与容错码</a:t>
            </a:r>
            <a:endParaRPr b="1" lang="en-US" sz="2600" spc="-1" strike="noStrike">
              <a:solidFill>
                <a:srgbClr val="00ffff"/>
              </a:solidFill>
              <a:latin typeface="楷体_GB2312"/>
            </a:endParaRPr>
          </a:p>
          <a:p>
            <a:pPr marL="329040" indent="0" algn="just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8" action="ppaction://hlinksldjump"/>
              </a:rPr>
              <a:t>3.3.8       学习键</a:t>
            </a:r>
            <a:r>
              <a:rPr b="1" lang="zh-CN" sz="26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9" action="ppaction://hlinksldjump"/>
              </a:rPr>
              <a:t>Z</a:t>
            </a:r>
            <a:r>
              <a:rPr b="1" lang="zh-CN" sz="26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10" action="ppaction://hlinksldjump"/>
              </a:rPr>
              <a:t>的使用</a:t>
            </a:r>
            <a:endParaRPr b="1" lang="en-US" sz="26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401" name="">
            <a:hlinkClick r:id="" action="ppaction://hlinkshowjump?jump=firstslide"/>
          </p:cNvPr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99"/>
                </a:solidFill>
                <a:uFillTx/>
                <a:latin typeface="Times New Roman"/>
                <a:ea typeface="华文隶书"/>
                <a:hlinkClick r:id="rId11" action="ppaction://hlinksldjump"/>
              </a:rPr>
              <a:t>返回本章目录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Arial"/>
              </a:rPr>
              <a:t>3.3.1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汉字的构成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汉字的三个层次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汉字的构成可分为三个层次：笔画、字根、汉字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汉字的五种笔画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五笔字型中根据书写汉字时的走向，规定汉字的笔 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画只有五种：横、竖、撇、捺、折。为了便于记忆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和应用，特根据它们使用的概率的高低，依次用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1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、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作为代号，如表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3-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所示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3-5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汉字的五种笔画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352520" y="7873920"/>
          <a:ext cx="162000" cy="1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7873920"/>
                    <a:ext cx="16200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1352520" y="9925200"/>
          <a:ext cx="380880" cy="18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2520" y="9925200"/>
                    <a:ext cx="38088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9" name=""/>
          <p:cNvGrpSpPr/>
          <p:nvPr/>
        </p:nvGrpSpPr>
        <p:grpSpPr>
          <a:xfrm>
            <a:off x="1676520" y="1905120"/>
            <a:ext cx="6476400" cy="4114440"/>
            <a:chOff x="1676520" y="1905120"/>
            <a:chExt cx="6476400" cy="4114440"/>
          </a:xfrm>
        </p:grpSpPr>
        <p:grpSp>
          <p:nvGrpSpPr>
            <p:cNvPr id="410" name=""/>
            <p:cNvGrpSpPr/>
            <p:nvPr/>
          </p:nvGrpSpPr>
          <p:grpSpPr>
            <a:xfrm>
              <a:off x="1684440" y="1910160"/>
              <a:ext cx="6458400" cy="4102920"/>
              <a:chOff x="1684440" y="1910160"/>
              <a:chExt cx="6458400" cy="4102920"/>
            </a:xfrm>
          </p:grpSpPr>
          <p:grpSp>
            <p:nvGrpSpPr>
              <p:cNvPr id="411" name=""/>
              <p:cNvGrpSpPr/>
              <p:nvPr/>
            </p:nvGrpSpPr>
            <p:grpSpPr>
              <a:xfrm>
                <a:off x="1684440" y="1910160"/>
                <a:ext cx="1324440" cy="818280"/>
                <a:chOff x="1684440" y="1910160"/>
                <a:chExt cx="1324440" cy="81828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1714680" y="1910160"/>
                  <a:ext cx="126396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笔画代号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1684440" y="1910160"/>
                  <a:ext cx="132444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3009240" y="1910160"/>
                <a:ext cx="1506600" cy="818280"/>
                <a:chOff x="3009240" y="1910160"/>
                <a:chExt cx="1506600" cy="81828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3039480" y="1910160"/>
                  <a:ext cx="144612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笔画名称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009240" y="1910160"/>
                  <a:ext cx="150660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516560" y="1910160"/>
                <a:ext cx="1583280" cy="818280"/>
                <a:chOff x="4516560" y="1910160"/>
                <a:chExt cx="1583280" cy="81828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4546800" y="1910160"/>
                  <a:ext cx="152280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笔画走向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516560" y="1910160"/>
                  <a:ext cx="158328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6100560" y="1910160"/>
                <a:ext cx="2042280" cy="818280"/>
                <a:chOff x="6100560" y="1910160"/>
                <a:chExt cx="2042280" cy="81828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130800" y="1910160"/>
                  <a:ext cx="1981800" cy="81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笔画及其变形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100560" y="1910160"/>
                  <a:ext cx="2042280" cy="818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1684440" y="2728800"/>
                <a:ext cx="1324440" cy="574920"/>
                <a:chOff x="1684440" y="2728800"/>
                <a:chExt cx="1324440" cy="5749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1714680" y="2728800"/>
                  <a:ext cx="126396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1684440" y="2728800"/>
                  <a:ext cx="132444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3009240" y="2728800"/>
                <a:ext cx="1506600" cy="574920"/>
                <a:chOff x="3009240" y="2728800"/>
                <a:chExt cx="1506600" cy="5749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039480" y="2728800"/>
                  <a:ext cx="144612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横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009240" y="2728800"/>
                  <a:ext cx="150660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4516560" y="2728800"/>
                <a:ext cx="1583280" cy="574920"/>
                <a:chOff x="4516560" y="2728800"/>
                <a:chExt cx="1583280" cy="5749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4546800" y="2728800"/>
                  <a:ext cx="152280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自左向右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516560" y="2728800"/>
                  <a:ext cx="158328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6100560" y="2728800"/>
                <a:ext cx="2042280" cy="574920"/>
                <a:chOff x="6100560" y="2728800"/>
                <a:chExt cx="2042280" cy="5749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6130800" y="2728800"/>
                  <a:ext cx="1981800" cy="574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一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100560" y="2728800"/>
                  <a:ext cx="2042280" cy="574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1684440" y="3304080"/>
                <a:ext cx="1324440" cy="574560"/>
                <a:chOff x="1684440" y="3304080"/>
                <a:chExt cx="1324440" cy="57456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1714680" y="3304080"/>
                  <a:ext cx="126396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684440" y="3304080"/>
                  <a:ext cx="132444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3009240" y="3304080"/>
                <a:ext cx="1506600" cy="574560"/>
                <a:chOff x="3009240" y="3304080"/>
                <a:chExt cx="1506600" cy="57456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3039480" y="3304080"/>
                  <a:ext cx="144612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竖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009240" y="3304080"/>
                  <a:ext cx="150660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4516560" y="3304080"/>
                <a:ext cx="1583280" cy="574560"/>
                <a:chOff x="4516560" y="3304080"/>
                <a:chExt cx="1583280" cy="57456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4546800" y="3304080"/>
                  <a:ext cx="152280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自上而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516560" y="3304080"/>
                  <a:ext cx="158328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6100560" y="3304080"/>
                <a:ext cx="2042280" cy="574560"/>
                <a:chOff x="6100560" y="3304080"/>
                <a:chExt cx="2042280" cy="57456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130800" y="3304080"/>
                  <a:ext cx="198180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丨 刂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100560" y="3304080"/>
                  <a:ext cx="204228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1684440" y="3879000"/>
                <a:ext cx="1324440" cy="779400"/>
                <a:chOff x="1684440" y="3879000"/>
                <a:chExt cx="1324440" cy="77940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1714680" y="3879000"/>
                  <a:ext cx="126396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684440" y="3879000"/>
                  <a:ext cx="1324440" cy="77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3009240" y="3879000"/>
                <a:ext cx="1506600" cy="779400"/>
                <a:chOff x="3009240" y="3879000"/>
                <a:chExt cx="1506600" cy="7794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3039480" y="3879000"/>
                  <a:ext cx="144612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撇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009240" y="3879000"/>
                  <a:ext cx="1506600" cy="77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4516560" y="3879000"/>
                <a:ext cx="1583280" cy="779400"/>
                <a:chOff x="4516560" y="3879000"/>
                <a:chExt cx="1583280" cy="77940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4546800" y="3879000"/>
                  <a:ext cx="152280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右上到左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516560" y="3879000"/>
                  <a:ext cx="1583280" cy="77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100560" y="3879000"/>
                <a:ext cx="2042280" cy="779400"/>
                <a:chOff x="6100560" y="3879000"/>
                <a:chExt cx="2042280" cy="77940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130800" y="3879000"/>
                  <a:ext cx="1981800" cy="77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丿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100560" y="3879000"/>
                  <a:ext cx="2042280" cy="77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1684440" y="4659120"/>
                <a:ext cx="1324440" cy="779040"/>
                <a:chOff x="1684440" y="4659120"/>
                <a:chExt cx="1324440" cy="77904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1714680" y="4659120"/>
                  <a:ext cx="126396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684440" y="4659120"/>
                  <a:ext cx="132444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3009240" y="4659120"/>
                <a:ext cx="1506600" cy="779040"/>
                <a:chOff x="3009240" y="4659120"/>
                <a:chExt cx="1506600" cy="77904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3039480" y="4659120"/>
                  <a:ext cx="144612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捺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009240" y="4659120"/>
                  <a:ext cx="150660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4516560" y="4659120"/>
                <a:ext cx="1583280" cy="779040"/>
                <a:chOff x="4516560" y="4659120"/>
                <a:chExt cx="1583280" cy="7790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4546800" y="4659120"/>
                  <a:ext cx="152280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左上到右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516560" y="4659120"/>
                  <a:ext cx="158328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6100560" y="4659120"/>
                <a:ext cx="2042280" cy="779040"/>
                <a:chOff x="6100560" y="4659120"/>
                <a:chExt cx="2042280" cy="7790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6130800" y="4659120"/>
                  <a:ext cx="1981800" cy="77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100560" y="4659120"/>
                  <a:ext cx="2042280" cy="77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1684440" y="5438520"/>
                <a:ext cx="1324440" cy="574560"/>
                <a:chOff x="1684440" y="5438520"/>
                <a:chExt cx="1324440" cy="57456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1714680" y="5438520"/>
                  <a:ext cx="126396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1684440" y="5438520"/>
                  <a:ext cx="132444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3009240" y="5438520"/>
                <a:ext cx="1506600" cy="574560"/>
                <a:chOff x="3009240" y="5438520"/>
                <a:chExt cx="1506600" cy="57456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3039480" y="5438520"/>
                  <a:ext cx="144612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折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009240" y="5438520"/>
                  <a:ext cx="150660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4516560" y="5438520"/>
                <a:ext cx="1583280" cy="574560"/>
                <a:chOff x="4516560" y="5438520"/>
                <a:chExt cx="1583280" cy="5745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4546800" y="5438520"/>
                  <a:ext cx="152280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带转折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4516560" y="5438520"/>
                  <a:ext cx="158328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100560" y="5438520"/>
                <a:ext cx="2042280" cy="574560"/>
                <a:chOff x="6100560" y="5438520"/>
                <a:chExt cx="2042280" cy="5745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130800" y="5438520"/>
                  <a:ext cx="1981800" cy="57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乙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100560" y="5438520"/>
                  <a:ext cx="2042280" cy="57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3" name=""/>
            <p:cNvSpPr/>
            <p:nvPr/>
          </p:nvSpPr>
          <p:spPr>
            <a:xfrm>
              <a:off x="1676520" y="1905120"/>
              <a:ext cx="6476400" cy="4114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838080" y="990720"/>
            <a:ext cx="73152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五种笔画组成字根时，其间的关系可分为四种情况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单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即五种笔画本身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散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成字根的笔画之间有一定间距，例如“三、八、氵、心”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连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成字根的笔画之间是相连接的，可以是单笔与单笔相连，也可以笔笔相连。例如“厂、从、尸、弓”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交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成字根的笔画是互相交叉的，如“十、力、又、车”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360" y="91440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．汉字的三种字型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952560" y="2438280"/>
            <a:ext cx="7238520" cy="3200040"/>
            <a:chOff x="952560" y="2438280"/>
            <a:chExt cx="7238520" cy="3200040"/>
          </a:xfrm>
        </p:grpSpPr>
        <p:grpSp>
          <p:nvGrpSpPr>
            <p:cNvPr id="487" name=""/>
            <p:cNvGrpSpPr/>
            <p:nvPr/>
          </p:nvGrpSpPr>
          <p:grpSpPr>
            <a:xfrm>
              <a:off x="961200" y="2444400"/>
              <a:ext cx="7219440" cy="3186720"/>
              <a:chOff x="961200" y="2444400"/>
              <a:chExt cx="7219440" cy="3186720"/>
            </a:xfrm>
          </p:grpSpPr>
          <p:grpSp>
            <p:nvGrpSpPr>
              <p:cNvPr id="488" name=""/>
              <p:cNvGrpSpPr/>
              <p:nvPr/>
            </p:nvGrpSpPr>
            <p:grpSpPr>
              <a:xfrm>
                <a:off x="961200" y="2444400"/>
                <a:ext cx="1559520" cy="796320"/>
                <a:chOff x="961200" y="2444400"/>
                <a:chExt cx="1559520" cy="79632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994680" y="2444400"/>
                  <a:ext cx="1492560" cy="79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字型名称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961200" y="2444400"/>
                  <a:ext cx="1559520" cy="79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2521080" y="2444400"/>
                <a:ext cx="1380240" cy="796320"/>
                <a:chOff x="2521080" y="2444400"/>
                <a:chExt cx="1380240" cy="79632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2554560" y="2444400"/>
                  <a:ext cx="1313280" cy="79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字型代号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521080" y="2444400"/>
                  <a:ext cx="1380240" cy="79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901680" y="2444400"/>
                <a:ext cx="4278960" cy="796320"/>
                <a:chOff x="3901680" y="2444400"/>
                <a:chExt cx="4278960" cy="7963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935160" y="2444400"/>
                  <a:ext cx="4211280" cy="79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字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901680" y="2444400"/>
                  <a:ext cx="4278960" cy="79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961200" y="3241080"/>
                <a:ext cx="1559520" cy="796320"/>
                <a:chOff x="961200" y="3241080"/>
                <a:chExt cx="1559520" cy="7963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94680" y="3241080"/>
                  <a:ext cx="1492560" cy="79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左右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961200" y="3241080"/>
                  <a:ext cx="1559520" cy="79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521080" y="3241080"/>
                <a:ext cx="1380240" cy="796320"/>
                <a:chOff x="2521080" y="3241080"/>
                <a:chExt cx="1380240" cy="7963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2554560" y="3241080"/>
                  <a:ext cx="1313280" cy="79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521080" y="3241080"/>
                  <a:ext cx="1380240" cy="79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3901680" y="3241080"/>
                <a:ext cx="4278960" cy="796320"/>
                <a:chOff x="3901680" y="3241080"/>
                <a:chExt cx="4278960" cy="7963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3935160" y="3241080"/>
                  <a:ext cx="4211280" cy="79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汉、湘、结、封、打、顺、信、隹   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901680" y="3241080"/>
                  <a:ext cx="4278960" cy="79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961200" y="4037760"/>
                <a:ext cx="1559520" cy="796680"/>
                <a:chOff x="961200" y="4037760"/>
                <a:chExt cx="1559520" cy="7966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994680" y="4037760"/>
                  <a:ext cx="1492560" cy="79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上下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961200" y="4037760"/>
                  <a:ext cx="1559520" cy="79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2521080" y="4037760"/>
                <a:ext cx="1380240" cy="796680"/>
                <a:chOff x="2521080" y="4037760"/>
                <a:chExt cx="1380240" cy="79668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2554560" y="4037760"/>
                  <a:ext cx="1313280" cy="79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521080" y="4037760"/>
                  <a:ext cx="1380240" cy="79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901680" y="4037760"/>
                <a:ext cx="4278960" cy="796680"/>
                <a:chOff x="3901680" y="4037760"/>
                <a:chExt cx="4278960" cy="7966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935160" y="4037760"/>
                  <a:ext cx="4211280" cy="79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字、莫、花、华、雷、霞、家、吉   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901680" y="4037760"/>
                  <a:ext cx="4278960" cy="796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961200" y="4834800"/>
                <a:ext cx="1559520" cy="796320"/>
                <a:chOff x="961200" y="4834800"/>
                <a:chExt cx="1559520" cy="79632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94680" y="4834800"/>
                  <a:ext cx="1492560" cy="79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杂合型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961200" y="4834800"/>
                  <a:ext cx="1559520" cy="79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521080" y="4834800"/>
                <a:ext cx="1380240" cy="796320"/>
                <a:chOff x="2521080" y="4834800"/>
                <a:chExt cx="1380240" cy="7963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554560" y="4834800"/>
                  <a:ext cx="1313280" cy="79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521080" y="4834800"/>
                  <a:ext cx="1380240" cy="79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3901680" y="4834800"/>
                <a:ext cx="4278960" cy="796320"/>
                <a:chOff x="3901680" y="4834800"/>
                <a:chExt cx="4278960" cy="7963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3935160" y="4834800"/>
                  <a:ext cx="4211280" cy="79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困、凶、这、司、乘、本、无、天 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901680" y="4834800"/>
                  <a:ext cx="4278960" cy="796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4" name=""/>
            <p:cNvSpPr/>
            <p:nvPr/>
          </p:nvSpPr>
          <p:spPr>
            <a:xfrm>
              <a:off x="952560" y="2438280"/>
              <a:ext cx="7238520" cy="3200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2590920" y="19051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-6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汉字的三种字型及其代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981080" y="1828800"/>
            <a:ext cx="66708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左右型汉字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上下型汉字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杂合型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外内型汉字和单体汉字）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528" name=""/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3.3.2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黑体"/>
              </a:rPr>
              <a:t>五笔字型基本字根及其分布</a:t>
            </a:r>
            <a:endParaRPr b="1" lang="en-US" sz="32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．字根键盘的区位分配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宋体"/>
              </a:rPr>
              <a:t>如图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宋体"/>
              </a:rPr>
              <a:t>3-2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宋体"/>
              </a:rPr>
              <a:t>所示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531" name=""/>
          <p:cNvSpPr/>
          <p:nvPr/>
        </p:nvSpPr>
        <p:spPr>
          <a:xfrm>
            <a:off x="1828800" y="5334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-2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五笔字型字根键盘区位分配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18600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1600200" y="2976480"/>
          <a:ext cx="640080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976480"/>
                    <a:ext cx="640080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．五笔字型字根总图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536" name=""/>
          <p:cNvSpPr/>
          <p:nvPr/>
        </p:nvSpPr>
        <p:spPr>
          <a:xfrm>
            <a:off x="1600200" y="2590920"/>
            <a:ext cx="670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五笔字型优选的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3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种字根分放在从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到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个键盘上，每个键盘上排放了若干个字根，这就形成了五笔字型字根总表，如图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-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所示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．基本字根的排列规律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1752480"/>
            <a:ext cx="7619760" cy="29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与键名字根形态相近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字根的首笔代号与其所在的“区号”保持一致外，相当一部分字根的第二笔代号还与其“位号”保持一致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键位代码还表示了组成字根的笔画种类和数目，即：位号与该键位上复合散笔字根的笔画数目保持一致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有少量字根，考虑到形相近，字源相同，便于联想，它们分布规律例外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45880" y="761760"/>
            <a:ext cx="5049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3.1  </a:t>
            </a: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汉字输入基础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90920" y="2285640"/>
            <a:ext cx="60912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1" action="ppaction://hlinksldjump"/>
              </a:rPr>
              <a:t>3.1.1  汉字代码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2" action="ppaction://hlinksldjump"/>
              </a:rPr>
              <a:t>3.1.2  汉字处理系统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3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3" action="ppaction://hlinksldjump"/>
              </a:rPr>
              <a:t>3.1.3  汉字的输入法及其分类</a:t>
            </a:r>
            <a:br>
              <a:rPr sz="2800"/>
            </a:b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99"/>
                </a:solidFill>
                <a:uFillTx/>
                <a:latin typeface="Times New Roman"/>
                <a:ea typeface="华文隶书"/>
                <a:hlinkClick r:id="rId4" action="ppaction://hlinksldjump"/>
              </a:rPr>
              <a:t>返回本章目录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94328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971640" y="1446120"/>
          <a:ext cx="7200720" cy="39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46120"/>
                    <a:ext cx="7200720" cy="39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"/>
          <p:cNvSpPr/>
          <p:nvPr/>
        </p:nvSpPr>
        <p:spPr>
          <a:xfrm>
            <a:off x="2743200" y="5715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-3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五笔字型字根总表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4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宋体"/>
              </a:rPr>
              <a:t>．字根助记词的理解</a:t>
            </a:r>
            <a:r>
              <a:rPr b="1" lang="zh-CN" sz="3600" spc="-1" strike="noStrike">
                <a:solidFill>
                  <a:srgbClr val="00ffff"/>
                </a:solidFill>
                <a:latin typeface="隶书"/>
                <a:ea typeface="宋体"/>
              </a:rPr>
              <a:t> 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第一区（横起类）字根助记词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545" name=""/>
          <p:cNvSpPr/>
          <p:nvPr/>
        </p:nvSpPr>
        <p:spPr>
          <a:xfrm>
            <a:off x="2209680" y="2743200"/>
            <a:ext cx="541044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王旁青头戋（兼）五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12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土士二干十寸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13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大犬三羊古石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14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木丁西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15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工戈草头右框七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第二区（竖起类）字根助记词。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宋体"/>
              </a:rPr>
              <a:t> </a:t>
            </a:r>
            <a:endParaRPr b="1" lang="en-US" sz="28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47" name=""/>
          <p:cNvSpPr/>
          <p:nvPr/>
        </p:nvSpPr>
        <p:spPr>
          <a:xfrm>
            <a:off x="2438280" y="2362320"/>
            <a:ext cx="426744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2 1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目具上止卜虎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2 2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日早两竖与虫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2 3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口与川，字根稀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2 4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田甲方框四车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2 5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山由贝，下框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第三区（撇起类）字根助记词。</a:t>
            </a:r>
            <a:endParaRPr b="1" lang="en-US" sz="28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49" name=""/>
          <p:cNvSpPr/>
          <p:nvPr/>
        </p:nvSpPr>
        <p:spPr>
          <a:xfrm>
            <a:off x="1447920" y="2057400"/>
            <a:ext cx="624816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3 1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禾竹一撇双人立，反文条头共三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3 2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白手看头三二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3 3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月彡（衫）乃用家衣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3 4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人和八，三四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3 5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金勺缺点无尾鱼、犬旁留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儿一点夕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 、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氏无七（妻）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95360" y="990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第四区（捺起类）字根助记词。</a:t>
            </a:r>
            <a:endParaRPr b="1" lang="en-US" sz="28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51" name=""/>
          <p:cNvSpPr/>
          <p:nvPr/>
        </p:nvSpPr>
        <p:spPr>
          <a:xfrm>
            <a:off x="1447920" y="2438280"/>
            <a:ext cx="62481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4 1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言文方广在四一，高头一捺谁人去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4 2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立辛两点六门疒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4 3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水旁兴头小倒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4 4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火业头，四点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4 5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之字军盖道建底，摘礻（示）衤衣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第五区字根（折起类）字根助记词。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宋体"/>
              </a:rPr>
              <a:t> </a:t>
            </a:r>
            <a:endParaRPr b="1" lang="en-US" sz="28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53" name=""/>
          <p:cNvSpPr/>
          <p:nvPr/>
        </p:nvSpPr>
        <p:spPr>
          <a:xfrm>
            <a:off x="1447920" y="2133720"/>
            <a:ext cx="662940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5 1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已半巳满不出己，左框折尸心和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5 2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子耳了也框向上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5 3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女刀九臼山朝西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5 4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又巴马，丢矢矣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5 5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慈母无心弓和匕，幼无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3.3.3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五笔字型汉字折分原则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676520" y="14479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．汉字的结构分析</a:t>
            </a:r>
            <a:r>
              <a:rPr b="1" lang="zh-CN" sz="2800" spc="-1" strike="noStrike">
                <a:solidFill>
                  <a:srgbClr val="00ffff"/>
                </a:solidFill>
                <a:latin typeface="楷体_GB2312"/>
              </a:rPr>
              <a:t>（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宋体"/>
              </a:rPr>
              <a:t>四种类型）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557" name=""/>
          <p:cNvSpPr/>
          <p:nvPr/>
        </p:nvSpPr>
        <p:spPr>
          <a:xfrm>
            <a:off x="762120" y="2209680"/>
            <a:ext cx="784836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单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基本字根本身就单独成为一个汉字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散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指构成汉字的基本字根之间可以保持一定有距离。或汉字由非单笔画组成，字根与字根相连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连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指一个基本字根连一单笔画，当单笔画与基本字根间有明显间距者不认为相连；或当是所谓“带点结构”。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交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是指几个基本字根交叉套迭之后构成的汉字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838080" y="1371600"/>
            <a:ext cx="76201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规纳要点如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基本字根独成字（成字字根），在将来的取码中有专门的规定，因而不需要判断字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属于“散”的汉字，才可以分为左右、上下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属于“连”与“交”的汉字，一律属于杂合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不分左右、上下的汉字，一律属于杂合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9" name=""/>
          <p:cNvGraphicFramePr/>
          <p:nvPr/>
        </p:nvGraphicFramePr>
        <p:xfrm>
          <a:off x="1344600" y="10005840"/>
          <a:ext cx="114480" cy="14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4600" y="10005840"/>
                    <a:ext cx="114480" cy="1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1143000" y="1600200"/>
            <a:ext cx="6857640" cy="4343040"/>
            <a:chOff x="1143000" y="1600200"/>
            <a:chExt cx="6857640" cy="4343040"/>
          </a:xfrm>
        </p:grpSpPr>
        <p:grpSp>
          <p:nvGrpSpPr>
            <p:cNvPr id="562" name=""/>
            <p:cNvGrpSpPr/>
            <p:nvPr/>
          </p:nvGrpSpPr>
          <p:grpSpPr>
            <a:xfrm>
              <a:off x="1151280" y="1605600"/>
              <a:ext cx="6839280" cy="4330080"/>
              <a:chOff x="1151280" y="1605600"/>
              <a:chExt cx="6839280" cy="433008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1151280" y="1605600"/>
                <a:ext cx="1866600" cy="721080"/>
                <a:chOff x="1151280" y="1605600"/>
                <a:chExt cx="1866600" cy="72108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1183320" y="1605600"/>
                  <a:ext cx="180216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笔画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</a:rPr>
                    <a:t>\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字型代号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151280" y="1605600"/>
                  <a:ext cx="186660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018240" y="1605600"/>
                <a:ext cx="1660680" cy="721080"/>
                <a:chOff x="3018240" y="1605600"/>
                <a:chExt cx="1660680" cy="72108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049560" y="1605600"/>
                  <a:ext cx="15976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左右型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018240" y="1605600"/>
                  <a:ext cx="166068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4679280" y="1605600"/>
                <a:ext cx="1534320" cy="721080"/>
                <a:chOff x="4679280" y="1605600"/>
                <a:chExt cx="1534320" cy="72108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4711320" y="1605600"/>
                  <a:ext cx="1469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上下型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679280" y="1605600"/>
                  <a:ext cx="153432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6213960" y="1605600"/>
                <a:ext cx="1776600" cy="721080"/>
                <a:chOff x="6213960" y="1605600"/>
                <a:chExt cx="1776600" cy="72108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6245280" y="1605600"/>
                  <a:ext cx="1712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  <a:ea typeface="黑体"/>
                    </a:rPr>
                    <a:t>杂合型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213960" y="1605600"/>
                  <a:ext cx="177660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1151280" y="2327040"/>
                <a:ext cx="1866600" cy="721080"/>
                <a:chOff x="1151280" y="2327040"/>
                <a:chExt cx="1866600" cy="72108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1183320" y="2327040"/>
                  <a:ext cx="180216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横  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151280" y="2327040"/>
                  <a:ext cx="186660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3018240" y="2327040"/>
                <a:ext cx="1660680" cy="721080"/>
                <a:chOff x="3018240" y="2327040"/>
                <a:chExt cx="1660680" cy="72108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3049560" y="2327040"/>
                  <a:ext cx="15976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1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一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G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3018240" y="2327040"/>
                  <a:ext cx="166068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4679280" y="2327040"/>
                <a:ext cx="1534320" cy="721080"/>
                <a:chOff x="4679280" y="2327040"/>
                <a:chExt cx="1534320" cy="7210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4711320" y="2327040"/>
                  <a:ext cx="1469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2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二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F   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4679280" y="2327040"/>
                  <a:ext cx="153432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6213960" y="2327040"/>
                <a:ext cx="1776600" cy="721080"/>
                <a:chOff x="6213960" y="2327040"/>
                <a:chExt cx="1776600" cy="72108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6245280" y="2327040"/>
                  <a:ext cx="1712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13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三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D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6213960" y="2327040"/>
                  <a:ext cx="177660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1151280" y="3048840"/>
                <a:ext cx="1866600" cy="721800"/>
                <a:chOff x="1151280" y="3048840"/>
                <a:chExt cx="1866600" cy="72180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1183320" y="3048840"/>
                  <a:ext cx="1802160" cy="72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竖  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151280" y="3048840"/>
                  <a:ext cx="1866600" cy="72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3018240" y="3048840"/>
                <a:ext cx="1660680" cy="721800"/>
                <a:chOff x="3018240" y="3048840"/>
                <a:chExt cx="1660680" cy="72180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3049560" y="3048840"/>
                  <a:ext cx="1597680" cy="72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1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丨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H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018240" y="3048840"/>
                  <a:ext cx="1660680" cy="72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4679280" y="3048840"/>
                <a:ext cx="1534320" cy="721800"/>
                <a:chOff x="4679280" y="3048840"/>
                <a:chExt cx="1534320" cy="72180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4711320" y="3048840"/>
                  <a:ext cx="1469880" cy="72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2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刂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J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4679280" y="3048840"/>
                  <a:ext cx="1534320" cy="72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213960" y="3048840"/>
                <a:ext cx="1776600" cy="721800"/>
                <a:chOff x="6213960" y="3048840"/>
                <a:chExt cx="1776600" cy="72180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245280" y="3048840"/>
                  <a:ext cx="1712880" cy="72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23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川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K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213960" y="3048840"/>
                  <a:ext cx="1776600" cy="721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1151280" y="3771360"/>
                <a:ext cx="1866600" cy="721080"/>
                <a:chOff x="1151280" y="3771360"/>
                <a:chExt cx="1866600" cy="72108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183320" y="3771360"/>
                  <a:ext cx="180216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撇  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151280" y="3771360"/>
                  <a:ext cx="186660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018240" y="3771360"/>
                <a:ext cx="1660680" cy="721080"/>
                <a:chOff x="3018240" y="3771360"/>
                <a:chExt cx="1660680" cy="72108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049560" y="3771360"/>
                  <a:ext cx="15976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31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丿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018240" y="3771360"/>
                  <a:ext cx="166068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4679280" y="3771360"/>
                <a:ext cx="1534320" cy="721080"/>
                <a:chOff x="4679280" y="3771360"/>
                <a:chExt cx="1534320" cy="72108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4711320" y="3771360"/>
                  <a:ext cx="1469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32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斤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R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4679280" y="3771360"/>
                  <a:ext cx="153432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6213960" y="3771360"/>
                <a:ext cx="1776600" cy="721080"/>
                <a:chOff x="6213960" y="3771360"/>
                <a:chExt cx="1776600" cy="72108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6245280" y="3771360"/>
                  <a:ext cx="1712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33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彡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6213960" y="3771360"/>
                  <a:ext cx="177660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1151280" y="4492800"/>
                <a:ext cx="1866600" cy="721080"/>
                <a:chOff x="1151280" y="4492800"/>
                <a:chExt cx="1866600" cy="72108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1183320" y="4492800"/>
                  <a:ext cx="180216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捺  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151280" y="4492800"/>
                  <a:ext cx="186660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3018240" y="4492800"/>
                <a:ext cx="1660680" cy="721080"/>
                <a:chOff x="3018240" y="4492800"/>
                <a:chExt cx="1660680" cy="72108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3049560" y="4492800"/>
                  <a:ext cx="15976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41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丶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Y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018240" y="4492800"/>
                  <a:ext cx="166068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4679280" y="4492800"/>
                <a:ext cx="1534320" cy="721080"/>
                <a:chOff x="4679280" y="4492800"/>
                <a:chExt cx="1534320" cy="72108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4711320" y="4492800"/>
                  <a:ext cx="1469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42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冫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U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4679280" y="4492800"/>
                  <a:ext cx="153432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6213960" y="4492800"/>
                <a:ext cx="1776600" cy="721080"/>
                <a:chOff x="6213960" y="4492800"/>
                <a:chExt cx="1776600" cy="72108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6245280" y="4492800"/>
                  <a:ext cx="1712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43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氵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I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6213960" y="4492800"/>
                  <a:ext cx="177660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1151280" y="5214600"/>
                <a:ext cx="1866600" cy="721080"/>
                <a:chOff x="1151280" y="5214600"/>
                <a:chExt cx="1866600" cy="72108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1183320" y="5214600"/>
                  <a:ext cx="180216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折  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1151280" y="5214600"/>
                  <a:ext cx="186660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3018240" y="5214600"/>
                <a:ext cx="1660680" cy="721080"/>
                <a:chOff x="3018240" y="5214600"/>
                <a:chExt cx="1660680" cy="72108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3049560" y="5214600"/>
                  <a:ext cx="15976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51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乙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018240" y="5214600"/>
                  <a:ext cx="166068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4679280" y="5214600"/>
                <a:ext cx="1534320" cy="721080"/>
                <a:chOff x="4679280" y="5214600"/>
                <a:chExt cx="1534320" cy="72108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4711320" y="5214600"/>
                  <a:ext cx="1469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52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B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679280" y="5214600"/>
                  <a:ext cx="153432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213960" y="5214600"/>
                <a:ext cx="1776600" cy="721080"/>
                <a:chOff x="6213960" y="5214600"/>
                <a:chExt cx="1776600" cy="72108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245280" y="5214600"/>
                  <a:ext cx="1712880" cy="721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53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（巛）</a:t>
                  </a:r>
                  <a:r>
                    <a:rPr b="0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V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213960" y="5214600"/>
                  <a:ext cx="1776600" cy="721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35" name=""/>
            <p:cNvSpPr/>
            <p:nvPr/>
          </p:nvSpPr>
          <p:spPr>
            <a:xfrm>
              <a:off x="1143000" y="1600200"/>
              <a:ext cx="6857640" cy="43430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1523880" y="9144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-7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五笔字型编码末笔字型交叉识别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609480" y="228564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在五笔字型中，笔画分为五种，字型分为三种，那么，末笔字型配合交叉的可能性就是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×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3=1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种，如表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3-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所示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495360" y="8377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．汉字图形的末笔字型交叉识别码</a:t>
            </a:r>
            <a:endParaRPr b="1" lang="en-US" sz="3200" spc="-1" strike="noStrike">
              <a:solidFill>
                <a:srgbClr val="ff33cc"/>
              </a:solidFill>
              <a:latin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36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Arial"/>
              </a:rPr>
              <a:t>3.1.1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汉字代码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76720" y="1828440"/>
            <a:ext cx="3581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汉字输入码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汉字机内码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汉字交换码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汉字字形码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汉字地址码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99"/>
                </a:solidFill>
                <a:uFillTx/>
                <a:latin typeface="Times New Roman"/>
                <a:ea typeface="华文隶书"/>
                <a:hlinkClick r:id="rId2" action="ppaction://hlinksldjump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．单体结构拆分原则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95360" y="209556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连笔结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：拆成为单笔与基本字根。“牛”拆成“、丨”，“生”拆成“丿、王”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交叉结构或交连混合结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：概括为四句口诀：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能散不连，兼顾直观；能连不交，取大优先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41" name=""/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3.3.4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单个汉字的编码输入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0199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字根总表内汉字的输入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键名汉字的输入。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成字字根汉字的输入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表外汉字的输入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四根及四根以上汉字的输入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不足四根的汉字输入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44" name=""/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3.3.5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简码的输入</a:t>
            </a:r>
            <a:br>
              <a:rPr sz="3600"/>
            </a:b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666880" y="213372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一级简码（又称高频字）的输入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二级简码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．三级简码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47" name=""/>
          <p:cNvSpPr/>
          <p:nvPr/>
        </p:nvSpPr>
        <p:spPr>
          <a:xfrm>
            <a:off x="289548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1600200" y="1676520"/>
          <a:ext cx="624852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76520"/>
                    <a:ext cx="624852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2209680" y="4419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-4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五笔字型一级简码汉字键位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3.3.6  </a:t>
            </a: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词语的输入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2971800" y="18288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．双字词的输入</a:t>
            </a:r>
            <a:r>
              <a:rPr b="1" lang="zh-CN" sz="2800" spc="-1" strike="noStrike">
                <a:solidFill>
                  <a:srgbClr val="00ffff"/>
                </a:solidFill>
                <a:latin typeface="楷体_GB2312"/>
              </a:rPr>
              <a:t> 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．三字词的输入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楷体_GB2312"/>
              </a:rPr>
              <a:t>3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．四字词的输入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楷体_GB2312"/>
              </a:rPr>
              <a:t>4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．多字词的输入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54" name=""/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3.3.7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重码与容错码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124080" y="2133360"/>
            <a:ext cx="3348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重码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容错码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拆分容错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字型容错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657" name=""/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3.3.8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学习键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Z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的使用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5360" y="220968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宋体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宋体"/>
              </a:rPr>
              <a:t>Z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键叫“万能学习键”，用它代替其他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宋体"/>
              </a:rPr>
              <a:t>2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个字母键中任何一个键输入汉字。键入数字键“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1”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或按空格，“照”便被输入。而且，从提示行可以看到该字的全码。 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914400" y="4876920"/>
            <a:ext cx="7314840" cy="685440"/>
            <a:chOff x="914400" y="4876920"/>
            <a:chExt cx="7314840" cy="685440"/>
          </a:xfrm>
        </p:grpSpPr>
        <p:grpSp>
          <p:nvGrpSpPr>
            <p:cNvPr id="661" name=""/>
            <p:cNvGrpSpPr/>
            <p:nvPr/>
          </p:nvGrpSpPr>
          <p:grpSpPr>
            <a:xfrm>
              <a:off x="921960" y="4881960"/>
              <a:ext cx="7299000" cy="674640"/>
              <a:chOff x="921960" y="4881960"/>
              <a:chExt cx="7299000" cy="674640"/>
            </a:xfrm>
          </p:grpSpPr>
          <p:sp>
            <p:nvSpPr>
              <p:cNvPr id="662" name=""/>
              <p:cNvSpPr/>
              <p:nvPr/>
            </p:nvSpPr>
            <p:spPr>
              <a:xfrm>
                <a:off x="950760" y="4881960"/>
                <a:ext cx="7241040" cy="67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半角　【五笔字型】：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jzko  1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：照  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jvko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　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2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：煦  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jqko 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　　【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000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Times New Roman"/>
                  </a:rPr>
                  <a:t>】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921960" y="4881960"/>
                <a:ext cx="7299000" cy="674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914400" y="4876920"/>
              <a:ext cx="7314840" cy="6854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华文隶书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Thank you very much !</a:t>
            </a:r>
            <a:endParaRPr b="1" lang="en-US" sz="40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667" name="">
            <a:hlinkClick r:id="" action="ppaction://hlinkshowjump?jump=firstslide"/>
          </p:cNvPr>
          <p:cNvSpPr/>
          <p:nvPr/>
        </p:nvSpPr>
        <p:spPr>
          <a:xfrm>
            <a:off x="7086600" y="6172200"/>
            <a:ext cx="2057400" cy="60948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99"/>
                </a:solidFill>
                <a:uFillTx/>
                <a:latin typeface="Times New Roman"/>
                <a:ea typeface="华文隶书"/>
                <a:hlinkClick r:id="rId1" action="ppaction://hlinksldjump"/>
              </a:rPr>
              <a:t>返回本章目录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18960" y="1828800"/>
            <a:ext cx="219132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本章到此结束，谢谢您的光临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9" name="0521" descr=""/>
          <p:cNvPicPr/>
          <p:nvPr/>
        </p:nvPicPr>
        <p:blipFill>
          <a:blip r:embed="rId2"/>
          <a:stretch/>
        </p:blipFill>
        <p:spPr>
          <a:xfrm>
            <a:off x="1569960" y="1828800"/>
            <a:ext cx="300204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Arial"/>
              </a:rPr>
              <a:t>3.1.2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汉字处理系统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14600" y="1447920"/>
            <a:ext cx="44956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1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．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UCDOS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的系统组成</a:t>
            </a:r>
            <a:endParaRPr b="1" lang="en-US" sz="32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2362320"/>
            <a:ext cx="7086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系统主要文件如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NSTALL.EX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系统安装程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NL.CO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汉字显示和键盘管理模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KD16.CO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显示字库读取程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RDSL.CO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打印字库读取模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UNZIP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．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EX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用户安装字库的解包程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．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UCDOS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基本操作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1905120"/>
            <a:ext cx="6248520" cy="38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系统安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系统配置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字库设置、显示设置 、打印设置、系统裁减、 窗口设置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系统检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系统启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从内存中卸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退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．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UCDOS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楷体_GB2312"/>
              </a:rPr>
              <a:t>的功能键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3080" y="2437920"/>
            <a:ext cx="510876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Al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键配合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）与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Ctrl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键配合。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99"/>
                </a:solidFill>
                <a:uFillTx/>
                <a:latin typeface="Times New Roman"/>
                <a:ea typeface="华文隶书"/>
                <a:hlinkClick r:id="rId2" action="ppaction://hlinksldjump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Arial"/>
              </a:rPr>
              <a:t>3.1.3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汉字的输入法及其分类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520" y="175248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区位输入法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拼音输入法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全拼输入法、双拼输入法、智能</a:t>
            </a: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宋体"/>
              </a:rPr>
              <a:t>AB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宋体"/>
              </a:rPr>
              <a:t>输入法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五笔字型输入法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．扫描批量输入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．笔写输入   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．语音输入 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99"/>
                </a:solidFill>
                <a:uFillTx/>
                <a:latin typeface="Times New Roman"/>
                <a:ea typeface="华文隶书"/>
                <a:hlinkClick r:id="rId2" action="ppaction://hlinksldjump"/>
              </a:rPr>
              <a:t>返回本节首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6858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3.2  </a:t>
            </a: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智能</a:t>
            </a: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ABC</a:t>
            </a:r>
            <a:r>
              <a:rPr b="1" lang="zh-CN" sz="3600" spc="-1" strike="noStrike">
                <a:solidFill>
                  <a:srgbClr val="ff33cc"/>
                </a:solidFill>
                <a:latin typeface="隶书"/>
              </a:rPr>
              <a:t>输入法 </a:t>
            </a:r>
            <a:endParaRPr b="1" lang="en-US" sz="3600" spc="-1" strike="noStrike">
              <a:solidFill>
                <a:srgbClr val="ff33cc"/>
              </a:solidFill>
              <a:latin typeface="隶书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040" y="2057040"/>
            <a:ext cx="58323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1" action="ppaction://hlinksldjump"/>
              </a:rPr>
              <a:t>3.2.1  智能</a:t>
            </a: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2" action="ppaction://hlinksldjump"/>
              </a:rPr>
              <a:t>ABC</a:t>
            </a: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3" action="ppaction://hlinksldjump"/>
              </a:rPr>
              <a:t>的功能设置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4" action="ppaction://hlinksldjump"/>
              </a:rPr>
              <a:t>3.2.2  智能</a:t>
            </a: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5" action="ppaction://hlinksldjump"/>
              </a:rPr>
              <a:t>ABC</a:t>
            </a: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6" action="ppaction://hlinksldjump"/>
              </a:rPr>
              <a:t>的标准输入方式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7" action="ppaction://hlinksldjump"/>
              </a:rPr>
              <a:t>3.2.3  自动构词过程以及人为干预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8" action="ppaction://hlinksldjump"/>
              </a:rPr>
              <a:t>3.2.4  特殊字符的输入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99"/>
                </a:solidFill>
                <a:uFillTx/>
                <a:latin typeface="宋体"/>
                <a:ea typeface="宋体"/>
                <a:hlinkClick r:id="rId9" action="ppaction://hlinksldjump"/>
              </a:rPr>
              <a:t>3.2.5  双打输入方式 </a:t>
            </a:r>
            <a:endParaRPr b="1" lang="en-US" sz="2800" spc="-1" strike="noStrike">
              <a:solidFill>
                <a:srgbClr val="00ffff"/>
              </a:solidFill>
              <a:latin typeface="楷体_GB2312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086600" y="6324480"/>
            <a:ext cx="2057400" cy="533520"/>
          </a:xfrm>
          <a:prstGeom prst="ellipse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99"/>
                </a:solidFill>
                <a:uFillTx/>
                <a:latin typeface="Times New Roman"/>
                <a:ea typeface="华文隶书"/>
                <a:hlinkClick r:id="rId10" action="ppaction://hlinksldjump"/>
              </a:rPr>
              <a:t>返回本章目录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</cp:lastModifiedBy>
  <dcterms:modified xsi:type="dcterms:W3CDTF">2001-10-05T11:24:17Z</dcterms:modified>
  <cp:revision>52</cp:revision>
  <dc:subject/>
  <dc:title>PowerPoint 演示文稿</dc:title>
</cp:coreProperties>
</file>