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20" y="35535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880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120" y="35535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8800" y="35535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4520" y="15235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920" y="15235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120" y="35535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4520" y="35535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920" y="35535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CC126-8267-4C33-9F1A-A078AC6AC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120" y="1523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B67AD-DBB9-44CD-AB0E-DEA65960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2FD95-6505-4157-BDC4-7FF399E4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8800" y="15235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D435D-1925-4C6A-91E8-1CFD4F99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C0808-CFE8-422D-8B42-3D69D015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90040" y="380520"/>
            <a:ext cx="7791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ECFF-B492-496F-977C-A49C589D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0" y="15235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35535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AB7F7-8BF3-4224-B3F2-A1ED94D9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120" y="1523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880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8800" y="35535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BBC77-7754-49B7-AD8C-88E1E5DD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880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5535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13F00-68C1-4203-A57F-EB2BC49A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120" y="35535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A5CE4-301B-4E5F-8193-72D6B015D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880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35535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8800" y="35535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720E9-2727-4D4B-B92E-85A90FBA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4520" y="15235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9920" y="152352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120" y="35535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4520" y="35535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9920" y="3553560"/>
            <a:ext cx="25761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8D99E-C4A4-4247-8BD1-47AEFCDE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8800" y="15235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90040" y="380520"/>
            <a:ext cx="7791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800" y="15235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120" y="35535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904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80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0" y="355356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0" y="1523520"/>
            <a:ext cx="39042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120" y="3553560"/>
            <a:ext cx="800100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8160" cy="6858000"/>
            <a:chOff x="0" y="0"/>
            <a:chExt cx="912816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04800" y="1409760"/>
              <a:ext cx="8523360" cy="76320"/>
              <a:chOff x="604800" y="1409760"/>
              <a:chExt cx="8523360" cy="76320"/>
            </a:xfrm>
          </p:grpSpPr>
          <p:sp>
            <p:nvSpPr>
              <p:cNvPr id="3" name=""/>
              <p:cNvSpPr/>
              <p:nvPr/>
            </p:nvSpPr>
            <p:spPr>
              <a:xfrm>
                <a:off x="604800" y="1486080"/>
                <a:ext cx="8523360" cy="0"/>
              </a:xfrm>
              <a:prstGeom prst="line">
                <a:avLst/>
              </a:prstGeom>
              <a:ln cap="sq" w="25560">
                <a:solidFill>
                  <a:srgbClr val="f3f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04800" y="1409760"/>
                <a:ext cx="8523360" cy="0"/>
              </a:xfrm>
              <a:prstGeom prst="line">
                <a:avLst/>
              </a:prstGeom>
              <a:ln cap="sq" w="76320">
                <a:solidFill>
                  <a:srgbClr val="f3f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 Antiqua"/>
              </a:rPr>
              <a:t>Click to edit the title text format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9120" y="1523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  <a:p>
            <a:pPr lvl="1" marL="863640" indent="-2858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  <a:p>
            <a:pPr lvl="2" marL="1282680" indent="-22860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  <a:p>
            <a:pPr lvl="3" marL="1701720" indent="-22860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  <a:p>
            <a:pPr lvl="4" marL="2120760" indent="-22860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  <a:p>
            <a:pPr lvl="5" marL="212076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  <a:p>
            <a:pPr lvl="6" marL="212076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4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f3f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f3fe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 Antiqua"/>
              </a:rPr>
              <a:t>Click to edit the title text format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560B-E89D-4E3A-9221-3D0A2386893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6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slide" Target="slide24.xml"/><Relationship Id="rId7" Type="http://schemas.openxmlformats.org/officeDocument/2006/relationships/slide" Target="slide25.xml"/><Relationship Id="rId8" Type="http://schemas.openxmlformats.org/officeDocument/2006/relationships/slide" Target="slide1.xml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5.xml"/><Relationship Id="rId6" Type="http://schemas.openxmlformats.org/officeDocument/2006/relationships/slide" Target="slide5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6.xml"/><Relationship Id="rId11" Type="http://schemas.openxmlformats.org/officeDocument/2006/relationships/slide" Target="slide6.xml"/><Relationship Id="rId12" Type="http://schemas.openxmlformats.org/officeDocument/2006/relationships/slide" Target="slide6.xml"/><Relationship Id="rId13" Type="http://schemas.openxmlformats.org/officeDocument/2006/relationships/slide" Target="slide1.xml"/><Relationship Id="rId14" Type="http://schemas.openxmlformats.org/officeDocument/2006/relationships/slide" Target="slide1.xml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章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DOS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操作系统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63626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＊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.1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操作系统的一般知识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＊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.2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文件与目录结构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＊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.3  DOS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常用命令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＊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.4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批处理文件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14600" y="6858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名中的通配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0920" y="2362320"/>
            <a:ext cx="3809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“ ？”通配符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）“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通配符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2.2.2  </a:t>
            </a: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目录结构</a:t>
            </a:r>
            <a:endParaRPr b="1" lang="en-US" sz="40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6002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目录树结构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057400" y="1981080"/>
            <a:ext cx="5943240" cy="4038480"/>
            <a:chOff x="2057400" y="1981080"/>
            <a:chExt cx="5943240" cy="4038480"/>
          </a:xfrm>
        </p:grpSpPr>
        <p:sp>
          <p:nvSpPr>
            <p:cNvPr id="137" name=""/>
            <p:cNvSpPr/>
            <p:nvPr/>
          </p:nvSpPr>
          <p:spPr>
            <a:xfrm>
              <a:off x="2170080" y="3653280"/>
              <a:ext cx="1146960" cy="80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第二层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57800" y="2782080"/>
              <a:ext cx="1297440" cy="59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文件</a:t>
              </a: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57400" y="2774880"/>
              <a:ext cx="1297080" cy="837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第一层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10320" y="4618080"/>
              <a:ext cx="1297440" cy="98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66"/>
                  </a:solidFill>
                  <a:latin typeface="Times New Roman"/>
                </a:rPr>
                <a:t>第三层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3242880" y="1981080"/>
              <a:ext cx="4757760" cy="4038480"/>
              <a:chOff x="3242880" y="1981080"/>
              <a:chExt cx="4757760" cy="4038480"/>
            </a:xfrm>
          </p:grpSpPr>
          <p:sp>
            <p:nvSpPr>
              <p:cNvPr id="142" name=""/>
              <p:cNvSpPr/>
              <p:nvPr/>
            </p:nvSpPr>
            <p:spPr>
              <a:xfrm flipH="1">
                <a:off x="3608280" y="3407760"/>
                <a:ext cx="331200" cy="387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087440" y="3696120"/>
                <a:ext cx="738360" cy="543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0066"/>
                    </a:solidFill>
                    <a:latin typeface="Times New Roman"/>
                  </a:rPr>
                  <a:t>文件</a:t>
                </a:r>
                <a:r>
                  <a:rPr b="0" lang="zh-CN" sz="1800" spc="-1" strike="noStrike">
                    <a:solidFill>
                      <a:srgbClr val="ff0066"/>
                    </a:solidFill>
                    <a:latin typeface="Times New Roman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3242880" y="1981080"/>
                <a:ext cx="4757760" cy="4038480"/>
                <a:chOff x="3242880" y="1981080"/>
                <a:chExt cx="4757760" cy="40384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242880" y="3712680"/>
                  <a:ext cx="738360" cy="543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文件</a:t>
                  </a: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874920" y="3717000"/>
                  <a:ext cx="1125720" cy="529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子目录</a:t>
                  </a: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4088520" y="2505600"/>
                  <a:ext cx="592200" cy="422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273280" y="2490480"/>
                  <a:ext cx="631800" cy="37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071600" y="3393000"/>
                  <a:ext cx="285840" cy="4132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5674680" y="3393000"/>
                  <a:ext cx="438840" cy="43668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5905440" y="4264200"/>
                  <a:ext cx="0" cy="398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855120" y="3393000"/>
                  <a:ext cx="456480" cy="34452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458120" y="4249440"/>
                  <a:ext cx="0" cy="398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477920" y="5160600"/>
                  <a:ext cx="0" cy="398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907160" y="2495160"/>
                  <a:ext cx="0" cy="39816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874920" y="4607640"/>
                  <a:ext cx="1125720" cy="529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子目录</a:t>
                  </a: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5358240" y="3740760"/>
                  <a:ext cx="1125720" cy="529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子目录</a:t>
                  </a: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430080" y="2866680"/>
                  <a:ext cx="1125720" cy="529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子目录</a:t>
                  </a: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869080" y="2874240"/>
                  <a:ext cx="1125720" cy="529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子目录</a:t>
                  </a: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540400" y="4600080"/>
                  <a:ext cx="738360" cy="543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文件</a:t>
                  </a: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139880" y="5475600"/>
                  <a:ext cx="738360" cy="543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文件</a:t>
                  </a: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345560" y="1981080"/>
                  <a:ext cx="1125720" cy="529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ff0066"/>
                      </a:solidFill>
                      <a:latin typeface="Times New Roman"/>
                    </a:rPr>
                    <a:t>根目录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3" name=""/>
          <p:cNvSpPr/>
          <p:nvPr/>
        </p:nvSpPr>
        <p:spPr>
          <a:xfrm>
            <a:off x="2133720" y="5943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-1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目录树结构示意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23960" y="1905120"/>
            <a:ext cx="769608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指定目录路径有两种方法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绝对路径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相对路径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盘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台计算机往往有几个驱动器，若要对这些驱动器中的盘进行读写，则必须先向操作系统指明是对哪个盘（驱动器又称为盘）进行操作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命令提示符会指明当前驱动器，当前驱动器是指微机正在工作的驱动器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目录路径</a:t>
            </a:r>
            <a:endParaRPr b="1" lang="en-US" sz="28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66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80880" y="304920"/>
            <a:ext cx="8001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1828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019320"/>
            <a:ext cx="91440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760" bIns="1047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548640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.3      DOS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常用命令 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7920" y="1828440"/>
            <a:ext cx="5257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1" action="ppaction://hlinksldjump"/>
              </a:rPr>
              <a:t>＊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2" action="ppaction://hlinksldjump"/>
              </a:rPr>
              <a:t>2.3.1 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3" action="ppaction://hlinksldjump"/>
              </a:rPr>
              <a:t>DOS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4" action="ppaction://hlinksldjump"/>
              </a:rPr>
              <a:t>命令类型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5" action="ppaction://hlinksldjump"/>
              </a:rPr>
              <a:t>＊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6" action="ppaction://hlinksldjump"/>
              </a:rPr>
              <a:t>2.3.2 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7" action="ppaction://hlinksldjump"/>
              </a:rPr>
              <a:t>DOS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8" action="ppaction://hlinksldjump"/>
              </a:rPr>
              <a:t>命令格式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9" action="ppaction://hlinksldjump"/>
              </a:rPr>
              <a:t>＊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10" action="ppaction://hlinksldjump"/>
              </a:rPr>
              <a:t>2.3.3   常用内部命令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11" action="ppaction://hlinksldjump"/>
              </a:rPr>
              <a:t>＊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12" action="ppaction://hlinksldjump"/>
              </a:rPr>
              <a:t>2.3.4  常用外部命令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72" name="">
            <a:hlinkClick r:id="rId13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14" action="ppaction://hlinksldjump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2.3.1  DOS</a:t>
            </a: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命令类型</a:t>
            </a:r>
            <a:br>
              <a:rPr sz="4000"/>
            </a:br>
            <a:endParaRPr b="1" lang="en-US" sz="40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1525680"/>
            <a:ext cx="8076960" cy="26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内部命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包含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OMMAND.CO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命令处理程序中。启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，内部命令被装入内存，用户可随时使用。常用内部命令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I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E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AT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OP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VE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外部命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以磁盘文件形式存于磁盘。启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，外部命令没有被装入系统内存。其执行过程是，首先把指定的命令文件从磁盘读入内存，然后把控制转移到该文件中的程序，执行它后又返回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操作系统。常用外部命令有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ORMA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Y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ISKCOP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Book Antiqua"/>
              </a:rPr>
              <a:t>2.3.2  DOS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命令格式</a:t>
            </a:r>
            <a:endParaRPr b="1" lang="en-US" sz="40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1905120"/>
            <a:ext cx="693432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内部命令的格式为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＜内部命令名＞［参数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外部命令的格式为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［盘符：］［路径］＜外部命令名＞［参数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黑体"/>
              </a:rPr>
              <a:t>2.3.3  </a:t>
            </a: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常用内部命令</a:t>
            </a:r>
            <a:endParaRPr b="1" lang="en-US" sz="40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80" name=""/>
          <p:cNvSpPr/>
          <p:nvPr/>
        </p:nvSpPr>
        <p:spPr>
          <a:xfrm>
            <a:off x="2057400" y="1676520"/>
            <a:ext cx="51814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目录显示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D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建立子目录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M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改变当前目录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C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删除子目录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清除屏幕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C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内容显示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TY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拷贝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523880" y="762120"/>
            <a:ext cx="70866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删除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更名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搜索路径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P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D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命令提示符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PROMP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改变或显示系统日期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改变或显示系统时间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显示卷标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V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显示版本信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2.3.4  </a:t>
            </a: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常用外部命令</a:t>
            </a:r>
            <a:br>
              <a:rPr sz="4000"/>
            </a:br>
            <a:endParaRPr b="1" lang="en-US" sz="40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84" name=""/>
          <p:cNvSpPr/>
          <p:nvPr/>
        </p:nvSpPr>
        <p:spPr>
          <a:xfrm>
            <a:off x="800280" y="1752480"/>
            <a:ext cx="7543800" cy="37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磁盘格式化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功能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给指定的磁盘划分磁道和扇区，使它的数据格式能被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接受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ORMAT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　［盘符］　［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［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［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V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［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U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硬盘分区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FD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09480" y="914400"/>
            <a:ext cx="7925040" cy="37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备份拷贝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X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功能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有选择地拷贝一个或多个文件，可包括指定盘上的整个目录树结构中所有文件，或树结构中部分分支各级目录下的所有文件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XCOPY  [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盘符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][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路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＜源文件或目录名＞　［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盘符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［路径］［目标文件或目录名］］　［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［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P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显示目录结构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功能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以图形方式显示目录结构，并可选择地列出每个目录中文件的名字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TREE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［盘符］［路径］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marL="5032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＊</a:t>
            </a:r>
            <a:r>
              <a:rPr b="1" lang="zh-CN" sz="2800" spc="-1" strike="noStrike">
                <a:solidFill>
                  <a:srgbClr val="00ffff"/>
                </a:solidFill>
                <a:latin typeface="Times New Roman"/>
              </a:rPr>
              <a:t>本章学习目标</a:t>
            </a:r>
            <a:endParaRPr b="1" lang="en-US" sz="28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cc00"/>
                </a:solidFill>
                <a:latin typeface="Times New Roman"/>
              </a:rPr>
              <a:t>                            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752480"/>
            <a:ext cx="769644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操作系统是整个计算机系统的控制和管理中心，是用户与计算机联系的桥梁，本章以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 6.2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为例，讲解了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操作系统的基本知识。通过本章学习，读者该掌握以下内容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D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的组成与启动方法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常用内部命令与外部命令的使用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批处理文件与系统配置文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09480" y="838080"/>
            <a:ext cx="792504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删除目录结构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DEL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功能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删除一个目录以及该目录下的所有文件和子目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ELTRE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［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［盘符］［路径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:\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＞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ELTREE  C:\EXERC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系统传输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S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功能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将一驱动器上的三个系统文件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IO.SY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MSDOS.SY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OMMAND.COM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传送到另一驱动器的磁盘上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YS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［源盘符］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＜目标盘符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8001000" cy="37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软盘全盘复制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DISK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功能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将一个软盘上的内容整盘复制到另一个同类型的软盘上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ISKCOPY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［源盘］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［目标盘符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属性命令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ATTRI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功能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显示或改变指定文件的属性。文件有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种可选属性：只读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、归档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、隐含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、系统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ATTRIB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［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R|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［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A|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［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|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［＋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|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］＜文件名＞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/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.4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批处理文件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1905120"/>
            <a:ext cx="7696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3800" y="4019400"/>
            <a:ext cx="456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964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1" action="ppaction://hlinksldjump"/>
              </a:rPr>
              <a:t>＊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2" action="ppaction://hlinksldjump"/>
              </a:rPr>
              <a:t>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3" action="ppaction://hlinksldjump"/>
              </a:rPr>
              <a:t>2.4.1  批处理文件的建立与执行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4" action="ppaction://hlinksldjump"/>
              </a:rPr>
              <a:t>＊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5" action="ppaction://hlinksldjump"/>
              </a:rPr>
              <a:t>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6" action="ppaction://hlinksldjump"/>
              </a:rPr>
              <a:t>2.4.2  自动批处理文件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7" action="ppaction://hlinksldjump"/>
              </a:rPr>
              <a:t>＊ 2.4.3  常用批处理子命令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93" name="">
            <a:hlinkClick r:id="rId8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9" action="ppaction://hlinksldjump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Book Antiqua"/>
                <a:ea typeface="黑体"/>
              </a:rPr>
              <a:t>2.4.1  </a:t>
            </a:r>
            <a:r>
              <a:rPr b="1" lang="zh-CN" sz="4400" spc="-1" strike="noStrike">
                <a:solidFill>
                  <a:srgbClr val="ff0066"/>
                </a:solidFill>
                <a:latin typeface="Book Antiqua"/>
                <a:ea typeface="黑体"/>
              </a:rPr>
              <a:t>批处理文件的建立与执行</a:t>
            </a:r>
            <a:endParaRPr b="1" lang="en-US" sz="44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1828800"/>
            <a:ext cx="6782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批处理文件是一个纯文本文件，可以用两种方法建立批处理文件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一、直接使用命令格式：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COPY CON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批处理文件名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、用文本编辑软件建立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Book Antiqua"/>
                <a:ea typeface="黑体"/>
              </a:rPr>
              <a:t>2.4.2  </a:t>
            </a:r>
            <a:r>
              <a:rPr b="1" lang="zh-CN" sz="4400" spc="-1" strike="noStrike">
                <a:solidFill>
                  <a:srgbClr val="ff0066"/>
                </a:solidFill>
                <a:latin typeface="Book Antiqua"/>
                <a:ea typeface="黑体"/>
              </a:rPr>
              <a:t>自动批处理文件</a:t>
            </a:r>
            <a:endParaRPr b="1" lang="en-US" sz="44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98" name=""/>
          <p:cNvSpPr/>
          <p:nvPr/>
        </p:nvSpPr>
        <p:spPr>
          <a:xfrm>
            <a:off x="685800" y="20574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动批处理文件是一个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UTOEXEC.BA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为文件名的特殊文件。当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启动时，系统自动在启动盘根目录中查找它，若查找到，便顺次执行文件中包含的各条命令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如果用户需要在一启动计算机后就进入指定的系统进行工作，则可以在启动盘根目录中建立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UTOEXEC.BAT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，将进入该系统的命令放在此文件中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Arial"/>
              </a:rPr>
              <a:t>2.4.3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常用批处理子命令</a:t>
            </a:r>
            <a:br>
              <a:rPr sz="3600"/>
            </a:b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1905120"/>
            <a:ext cx="5943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ECHO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子命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ECHO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［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ON|OFF|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字符串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PAUSE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子命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PAUSE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［字符串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REM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子命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REM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字符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.5  DOS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内存配置与系统配置文件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676520" y="1980720"/>
            <a:ext cx="57909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＊</a:t>
            </a:r>
            <a:r>
              <a:rPr b="1" lang="zh-CN" sz="3200" spc="-1" strike="noStrike">
                <a:solidFill>
                  <a:srgbClr val="cccc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2.5.1  DOS</a:t>
            </a: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内存配置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＊</a:t>
            </a:r>
            <a:r>
              <a:rPr b="1" lang="zh-CN" sz="3200" spc="-1" strike="noStrike">
                <a:solidFill>
                  <a:srgbClr val="cccc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2.5.2  </a:t>
            </a:r>
            <a:r>
              <a:rPr b="1" lang="zh-CN" sz="3200" spc="-1" strike="noStrike">
                <a:solidFill>
                  <a:srgbClr val="00ffff"/>
                </a:solidFill>
                <a:latin typeface="宋体"/>
              </a:rPr>
              <a:t>系统配置文件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Arial"/>
              </a:rPr>
              <a:t>2.5.1  DOS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内存配置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2133720"/>
            <a:ext cx="7010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下，系统中存在以下四种内存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常规内存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Conventional memor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上端存储区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UMA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扩充内存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Expanded  memor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扩展内存（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Extended  memor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3366"/>
                </a:solidFill>
                <a:latin typeface="Arial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2.5.2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系统配置文件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1905120"/>
            <a:ext cx="655344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安装设备驱动程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DE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EVICE =  [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盘符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]  [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路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]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文件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定磁盘的缓冲区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BUFF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BUFFER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取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~99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指定可同时打开的文件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FI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FILE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取值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8~255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设置允许使用的最大驱动器字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格式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LASTDRIVE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＝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3366"/>
                </a:solidFill>
                <a:latin typeface="Arial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Book Antiqua"/>
              </a:rPr>
              <a:t>Thank you very much !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61722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3366"/>
                </a:solidFill>
                <a:latin typeface="Arial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E01561_" descr=""/>
          <p:cNvPicPr/>
          <p:nvPr/>
        </p:nvPicPr>
        <p:blipFill>
          <a:blip r:embed="rId1"/>
          <a:stretch/>
        </p:blipFill>
        <p:spPr>
          <a:xfrm>
            <a:off x="2819520" y="1987560"/>
            <a:ext cx="4343400" cy="2882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19440" y="1752480"/>
            <a:ext cx="1277640" cy="46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行楷"/>
              </a:rPr>
              <a:t>本章到此结束，谢谢您的光临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endshow"/>
          </p:cNvPr>
          <p:cNvSpPr/>
          <p:nvPr/>
        </p:nvSpPr>
        <p:spPr>
          <a:xfrm>
            <a:off x="6477120" y="5410080"/>
            <a:ext cx="2666880" cy="533520"/>
          </a:xfrm>
          <a:custGeom>
            <a:avLst/>
            <a:gdLst>
              <a:gd name="textAreaLeft" fmla="*/ 666720 w 2666880"/>
              <a:gd name="textAreaRight" fmla="*/ 2000160 w 2666880"/>
              <a:gd name="textAreaTop" fmla="*/ 6660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3366"/>
                </a:solidFill>
                <a:latin typeface="Arial"/>
              </a:rPr>
              <a:t>退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304920"/>
            <a:ext cx="7467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148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.1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操作系统的一般知识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361960" y="1905120"/>
            <a:ext cx="48006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hlinkClick r:id="rId1" action="ppaction://hlinksldjump"/>
              </a:rPr>
              <a:t>＊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hlinkClick r:id="rId2" action="ppaction://hlinksldjump"/>
              </a:rPr>
              <a:t>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ea typeface="黑体"/>
                <a:hlinkClick r:id="rId3" action="ppaction://hlinksldjump"/>
              </a:rPr>
              <a:t>2.1.1  概述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hlinkClick r:id="rId4" action="ppaction://hlinksldjump"/>
              </a:rPr>
              <a:t>＊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hlinkClick r:id="rId5" action="ppaction://hlinksldjump"/>
              </a:rPr>
              <a:t>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hlinkClick r:id="rId6" action="ppaction://hlinksldjump"/>
              </a:rPr>
              <a:t>2.1.2 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hlinkClick r:id="rId7" action="ppaction://hlinksldjump"/>
              </a:rPr>
              <a:t>DOS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hlinkClick r:id="rId8" action="ppaction://hlinksldjump"/>
              </a:rPr>
              <a:t>的组成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hlinkClick r:id="rId9" action="ppaction://hlinksldjump"/>
              </a:rPr>
              <a:t>＊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ea typeface="黑体"/>
                <a:hlinkClick r:id="rId10" action="ppaction://hlinksldjump"/>
              </a:rPr>
              <a:t>2.1.3  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ea typeface="黑体"/>
                <a:hlinkClick r:id="rId11" action="ppaction://hlinksldjump"/>
              </a:rPr>
              <a:t>DOS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Times New Roman"/>
                <a:ea typeface="黑体"/>
                <a:hlinkClick r:id="rId12" action="ppaction://hlinksldjump"/>
              </a:rPr>
              <a:t>的启动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97" name="">
            <a:hlinkClick r:id="rId13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14" action="ppaction://hlinksldjump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2.1.1  </a:t>
            </a: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概述</a:t>
            </a:r>
            <a:endParaRPr b="1" lang="en-US" sz="40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133720"/>
            <a:ext cx="754380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OS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是磁盘操作系统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isk Operating System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的英文缩写，它的主要功能是管理磁盘文件，所以把它称为磁盘操作系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OS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具有向上兼容性，也就是说，在低版本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OS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上能运行的软件一定能在高版本上运行。现在普遍使用的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OS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版本是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DOS 6.2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Book Antiqua"/>
              </a:rPr>
              <a:t>2.1.2  DOS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的组成</a:t>
            </a:r>
            <a:endParaRPr b="1" lang="en-US" sz="40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1523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四个基本组成部分是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240" y="2362320"/>
            <a:ext cx="70102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引导程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BOO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  <a:p>
            <a:pPr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输入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输出管理程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IO.SY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  <a:p>
            <a:pPr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磁盘文件管理程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MSDOS.SY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  <a:p>
            <a:pPr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命令处理程序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COMMAND.COM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）</a:t>
            </a:r>
            <a:endParaRPr b="1" lang="en-US" sz="28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Arial"/>
              </a:rPr>
              <a:t>2.1.3  DOS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黑体"/>
              </a:rPr>
              <a:t>的启动</a:t>
            </a:r>
            <a:endParaRPr b="1" lang="en-US" sz="40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06" name=""/>
          <p:cNvSpPr/>
          <p:nvPr/>
        </p:nvSpPr>
        <p:spPr>
          <a:xfrm>
            <a:off x="952560" y="1752480"/>
            <a:ext cx="7238880" cy="32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．冷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冷启动是指计算机在未加电情况下，接通电源，启动系统的过程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热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热启动是指在计算机已加电情况下，使用组合键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Ctrl+Alt+Del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三键同时按下），重新从磁盘上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三个文件装入内存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热启动常用于系统死机时对系统复位或更换系统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2" action="ppaction://hlinksldjump"/>
              </a:rPr>
              <a:t>返回本节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380880"/>
            <a:ext cx="784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380880"/>
            <a:ext cx="8077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.2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文件与目录结构</a:t>
            </a:r>
            <a:endParaRPr b="1" lang="en-US" sz="36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3200" y="2247840"/>
            <a:ext cx="3657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1" action="ppaction://hlinksldjump"/>
              </a:rPr>
              <a:t>＊</a:t>
            </a: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2" action="ppaction://hlinksldjump"/>
              </a:rPr>
              <a:t>2.2.1  文件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3feff"/>
                </a:solidFill>
                <a:uFillTx/>
                <a:latin typeface="宋体"/>
                <a:hlinkClick r:id="rId3" action="ppaction://hlinksldjump"/>
              </a:rPr>
              <a:t>＊2.2.2  目录结构</a:t>
            </a:r>
            <a:endParaRPr b="1" lang="en-US" sz="3200" spc="-1" strike="noStrike">
              <a:solidFill>
                <a:srgbClr val="cccc00"/>
              </a:solidFill>
              <a:latin typeface="Arial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5410080" y="5943600"/>
            <a:ext cx="3200400" cy="68580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f3feff"/>
                </a:solidFill>
                <a:uFillTx/>
                <a:latin typeface="Arial"/>
                <a:hlinkClick r:id="rId5" action="ppaction://hlinksldjump"/>
              </a:rPr>
              <a:t>返回本章首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0040" y="380520"/>
            <a:ext cx="7791480" cy="838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2.2.1  </a:t>
            </a:r>
            <a:r>
              <a:rPr b="1" lang="zh-CN" sz="4000" spc="-1" strike="noStrike">
                <a:solidFill>
                  <a:srgbClr val="ff0066"/>
                </a:solidFill>
                <a:latin typeface="Book Antiqua"/>
                <a:ea typeface="黑体"/>
              </a:rPr>
              <a:t>文件</a:t>
            </a:r>
            <a:endParaRPr b="1" lang="en-US" sz="4000" spc="-1" strike="noStrike">
              <a:solidFill>
                <a:srgbClr val="ff0066"/>
              </a:solidFill>
              <a:latin typeface="Book Antiqua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523880"/>
            <a:ext cx="76960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的概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中的程序、数据都以文件的形式存贮在磁介质上。使用文件时，须把磁介质上的相关信息加载到内存，方可使用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系统可给文件以不同的属性，而达到保护文件的目的，使文件在使用过程中确保其数据安全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．文件名及命名规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DOS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文件名是由主文件名和扩展名组成，在主文件名和扩展名之间以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相隔，书写格式是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＜主文件名＞［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扩展名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1409760" y="1676520"/>
            <a:ext cx="6324120" cy="4723920"/>
            <a:chOff x="1409760" y="1676520"/>
            <a:chExt cx="6324120" cy="4723920"/>
          </a:xfrm>
        </p:grpSpPr>
        <p:grpSp>
          <p:nvGrpSpPr>
            <p:cNvPr id="116" name=""/>
            <p:cNvGrpSpPr/>
            <p:nvPr/>
          </p:nvGrpSpPr>
          <p:grpSpPr>
            <a:xfrm>
              <a:off x="1418400" y="1683720"/>
              <a:ext cx="6305040" cy="4707360"/>
              <a:chOff x="1418400" y="1683720"/>
              <a:chExt cx="6305040" cy="470736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1418400" y="1683720"/>
                <a:ext cx="2474280" cy="822960"/>
                <a:chOff x="1418400" y="1683720"/>
                <a:chExt cx="2474280" cy="8229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1548360" y="1683720"/>
                  <a:ext cx="2214000" cy="82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扩展名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418400" y="1683720"/>
                  <a:ext cx="2474280" cy="82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893040" y="1683720"/>
                <a:ext cx="3830400" cy="822960"/>
                <a:chOff x="3893040" y="1683720"/>
                <a:chExt cx="3830400" cy="8229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022280" y="1683720"/>
                  <a:ext cx="3570480" cy="82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  <a:ea typeface="黑体"/>
                    </a:rPr>
                    <a:t>意义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93040" y="1683720"/>
                  <a:ext cx="3830400" cy="82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1418400" y="2507040"/>
                <a:ext cx="2474280" cy="3884040"/>
                <a:chOff x="1418400" y="2507040"/>
                <a:chExt cx="2474280" cy="38840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548360" y="2507040"/>
                  <a:ext cx="2214000" cy="388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.EXE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.COM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.BA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.HLP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.BAK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.BA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.PAS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.C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.TXT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418400" y="2507040"/>
                  <a:ext cx="2474280" cy="388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3893040" y="2507040"/>
                <a:ext cx="3830400" cy="3884040"/>
                <a:chOff x="3893040" y="2507040"/>
                <a:chExt cx="3830400" cy="38840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022280" y="2507040"/>
                  <a:ext cx="3570480" cy="388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可执行文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命令文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批处理命令文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帮助文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备份文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BASIC</a:t>
                  </a: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语言源程序文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PASCAL</a:t>
                  </a: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源程序文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C</a:t>
                  </a: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语言源程序文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ffffff"/>
                      </a:solidFill>
                      <a:latin typeface="Times New Roman"/>
                    </a:rPr>
                    <a:t>文本文件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893040" y="2507040"/>
                  <a:ext cx="3830400" cy="3884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9" name=""/>
            <p:cNvSpPr/>
            <p:nvPr/>
          </p:nvSpPr>
          <p:spPr>
            <a:xfrm>
              <a:off x="1409760" y="1676520"/>
              <a:ext cx="6324120" cy="4723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743200" y="457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-1  DOS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扩展名约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10:12:54Z</dcterms:created>
  <dc:creator>liwu</dc:creator>
  <dc:description/>
  <dc:language>en-US</dc:language>
  <cp:lastModifiedBy>gsjf</cp:lastModifiedBy>
  <dcterms:modified xsi:type="dcterms:W3CDTF">2001-09-30T03:06:10Z</dcterms:modified>
  <cp:revision>45</cp:revision>
  <dc:subject/>
  <dc:title>PowerPoint 演示文稿</dc:title>
</cp:coreProperties>
</file>