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B64-A35C-4BB7-89B3-EE19DAE9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18C-4046-491F-942F-D2953D7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7C5-D9A8-45EA-A37F-AA414690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21B-48D1-4C5B-AE93-8C3B6C38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6CF-2EBD-45A9-9702-E3878C6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2E2-37A2-448D-821B-512469B2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C7E-7974-4F86-921B-2692B93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A51-3A8A-4C0F-A665-37644148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2AE-0252-4042-95FC-4830E27A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361-6447-4259-AE6C-FA12ADC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DE8-EA0B-40F7-B3FD-8A40FCC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A40-7174-4E58-8144-FD966A3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E40F-A98D-4693-ABC8-C4189FF333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7238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章  拨号网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666880"/>
            <a:ext cx="7467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制解调器的安装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网络的安装设置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网络的故障检测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享连接”的安装设置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916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学习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选择一个已安装了的调制解调器及其对应的端口。并选择“详细信息”按钮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。如果调制解调器安装成功，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话框的下部会出现一些安装正确的提示；如果没有任何响应，说明调制解调器安装有问题，应检查硬件和重新安装驱动软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497400" cy="367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6590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33520" y="1052640"/>
            <a:ext cx="436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2  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拨号网络的安装与设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73520" y="2666880"/>
            <a:ext cx="4441680" cy="520920"/>
          </a:xfrm>
          <a:custGeom>
            <a:avLst/>
            <a:gdLst>
              <a:gd name="textAreaLeft" fmla="*/ 33480 w 4441680"/>
              <a:gd name="textAreaRight" fmla="*/ 4408200 w 44416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84062" h="21600">
                <a:moveTo>
                  <a:pt x="0" y="0"/>
                </a:moveTo>
                <a:lnTo>
                  <a:pt x="184062" y="0"/>
                </a:lnTo>
                <a:lnTo>
                  <a:pt x="184062" y="21600"/>
                </a:lnTo>
                <a:lnTo>
                  <a:pt x="0" y="21600"/>
                </a:lnTo>
                <a:close/>
              </a:path>
              <a:path fill="lightenLess" w="184062" h="21600">
                <a:moveTo>
                  <a:pt x="0" y="0"/>
                </a:moveTo>
                <a:lnTo>
                  <a:pt x="184062" y="0"/>
                </a:lnTo>
                <a:lnTo>
                  <a:pt x="182662" y="1400"/>
                </a:lnTo>
                <a:lnTo>
                  <a:pt x="1400" y="1400"/>
                </a:lnTo>
                <a:close/>
              </a:path>
              <a:path fill="darken" w="184062" h="21600">
                <a:moveTo>
                  <a:pt x="184062" y="0"/>
                </a:moveTo>
                <a:lnTo>
                  <a:pt x="184062" y="21600"/>
                </a:lnTo>
                <a:lnTo>
                  <a:pt x="182662" y="20200"/>
                </a:lnTo>
                <a:lnTo>
                  <a:pt x="182662" y="1400"/>
                </a:lnTo>
                <a:close/>
              </a:path>
              <a:path fill="darkenLess" w="184062" h="21600">
                <a:moveTo>
                  <a:pt x="184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662" y="20200"/>
                </a:lnTo>
                <a:close/>
              </a:path>
              <a:path fill="lighten" w="184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网络的安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429000"/>
            <a:ext cx="4513320" cy="520560"/>
          </a:xfrm>
          <a:custGeom>
            <a:avLst/>
            <a:gdLst>
              <a:gd name="textAreaLeft" fmla="*/ 33480 w 4513320"/>
              <a:gd name="textAreaRight" fmla="*/ 4479840 w 45133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87160" h="21600">
                <a:moveTo>
                  <a:pt x="0" y="0"/>
                </a:moveTo>
                <a:lnTo>
                  <a:pt x="187160" y="0"/>
                </a:lnTo>
                <a:lnTo>
                  <a:pt x="187160" y="21600"/>
                </a:lnTo>
                <a:lnTo>
                  <a:pt x="0" y="21600"/>
                </a:lnTo>
                <a:close/>
              </a:path>
              <a:path fill="lightenLess" w="187160" h="21600">
                <a:moveTo>
                  <a:pt x="0" y="0"/>
                </a:moveTo>
                <a:lnTo>
                  <a:pt x="187160" y="0"/>
                </a:lnTo>
                <a:lnTo>
                  <a:pt x="185760" y="1400"/>
                </a:lnTo>
                <a:lnTo>
                  <a:pt x="1400" y="1400"/>
                </a:lnTo>
                <a:close/>
              </a:path>
              <a:path fill="darken" w="187160" h="21600">
                <a:moveTo>
                  <a:pt x="187160" y="0"/>
                </a:moveTo>
                <a:lnTo>
                  <a:pt x="187160" y="21600"/>
                </a:lnTo>
                <a:lnTo>
                  <a:pt x="185760" y="20200"/>
                </a:lnTo>
                <a:lnTo>
                  <a:pt x="185760" y="1400"/>
                </a:lnTo>
                <a:close/>
              </a:path>
              <a:path fill="darkenLess" w="187160" h="21600">
                <a:moveTo>
                  <a:pt x="187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760" y="20200"/>
                </a:lnTo>
                <a:close/>
              </a:path>
              <a:path fill="lighten" w="187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.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191120"/>
            <a:ext cx="4496040" cy="520560"/>
          </a:xfrm>
          <a:custGeom>
            <a:avLst/>
            <a:gdLst>
              <a:gd name="textAreaLeft" fmla="*/ 33480 w 4496040"/>
              <a:gd name="textAreaRight" fmla="*/ 4462560 w 44960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86444" h="21600">
                <a:moveTo>
                  <a:pt x="0" y="0"/>
                </a:moveTo>
                <a:lnTo>
                  <a:pt x="186444" y="0"/>
                </a:lnTo>
                <a:lnTo>
                  <a:pt x="186444" y="21600"/>
                </a:lnTo>
                <a:lnTo>
                  <a:pt x="0" y="21600"/>
                </a:lnTo>
                <a:close/>
              </a:path>
              <a:path fill="lightenLess" w="186444" h="21600">
                <a:moveTo>
                  <a:pt x="0" y="0"/>
                </a:moveTo>
                <a:lnTo>
                  <a:pt x="186444" y="0"/>
                </a:lnTo>
                <a:lnTo>
                  <a:pt x="185044" y="1400"/>
                </a:lnTo>
                <a:lnTo>
                  <a:pt x="1400" y="1400"/>
                </a:lnTo>
                <a:close/>
              </a:path>
              <a:path fill="darken" w="186444" h="21600">
                <a:moveTo>
                  <a:pt x="186444" y="0"/>
                </a:moveTo>
                <a:lnTo>
                  <a:pt x="186444" y="21600"/>
                </a:lnTo>
                <a:lnTo>
                  <a:pt x="185044" y="20200"/>
                </a:lnTo>
                <a:lnTo>
                  <a:pt x="185044" y="1400"/>
                </a:lnTo>
                <a:close/>
              </a:path>
              <a:path fill="darkenLess" w="186444" h="21600">
                <a:moveTo>
                  <a:pt x="1864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044" y="20200"/>
                </a:lnTo>
                <a:close/>
              </a:path>
              <a:path fill="lighten" w="1864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      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341360"/>
            <a:ext cx="805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典型安装过程中，会自动安装“拨号网络”，如果计算机上在安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没有安装“拨号网络”选项，可以按照以下步骤添加上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609480"/>
            <a:ext cx="449568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.2.1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拨号网络的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637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桌面上，依次顺序单击“开始→设置→控制面板→添加删除程序”并选择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装”选项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71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836640"/>
            <a:ext cx="359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选择“通讯”项，然后单击“详细资料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”按钮就会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17492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4653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选中“拨号网络”后，按下“确定”按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便提示你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安装盘，系统会自动将拨号网络装入。完成后，根据提示重新启动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装了“拨号网络”之后，还必须建立连接。建立连接的步骤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04640"/>
            <a:ext cx="4496040" cy="53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2.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建立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7336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依次顺序选择“开始→程序→附件→通讯→拨号网络”，然后单击“拨号网络”，这时就出现了一个“拨号网络”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4032360" cy="226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4149720"/>
            <a:ext cx="37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鼠标双击 “新建连接”的图标或者从菜单中选择“连接→新建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这时就会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“创建新连接”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96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04640"/>
            <a:ext cx="82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接下来就输入要连接的计算机（即主机）所在地的区号、电话号码以及国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区代码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所填。其中电话号码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提供商）提供，如图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6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完成后，单击“下一步”按钮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窗口。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67200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4319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286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设置都正确，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按下“完成”按钮，就在“拨号网络”的文件夹中创建了一个叫做“我的连接”的连接（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）。“我的连接”是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输入的连接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9892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051440" cy="298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4360" y="515772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如果觉得刚才的设置不合适，可以按“上一步”按钮，重新配置。也可以按下“取消”按钮来重新开始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2860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中选中新建的“我的连接”图标，然后选择“文件”菜单中的“属性”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。把“使用区号与拨号属性”前面的“√”去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61944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381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22860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中选择“服务器类型”选项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，选择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NT Serv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，再按下“确定”按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3095640" cy="374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047760" cy="374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516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Times New Roman"/>
              </a:rPr>
              <a:t>到此为止，拨号网络安装和设置完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304920"/>
            <a:ext cx="4038480" cy="53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6.3 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设置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网络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05264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把调制解调器、拨号网络和网络连接安装和设置成功以后，还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协议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己就带有这个“协议”，这也就是为什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互联网非常容易的原因之一。不过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仅装有“协议”是这个工具，还得由用户去设置，就象虽然拥有各种零件，如果不把它们放入机器中相应的位置，就不能发挥它们的作用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协议的设置方法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0" y="2781360"/>
          <a:ext cx="33148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81360"/>
                    <a:ext cx="3314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4360" y="3357720"/>
            <a:ext cx="37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依次选择“开始→设置→控制面板”，双击“网络”图标，就会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533520"/>
            <a:ext cx="7238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章  拨号网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2057400" y="1821960"/>
            <a:ext cx="5486400" cy="573480"/>
          </a:xfrm>
          <a:custGeom>
            <a:avLst/>
            <a:gdLst>
              <a:gd name="textAreaLeft" fmla="*/ 56880 w 5486400"/>
              <a:gd name="textAreaRight" fmla="*/ 5429520 w 5486400"/>
              <a:gd name="textAreaTop" fmla="*/ 56880 h 573480"/>
              <a:gd name="textAreaBottom" fmla="*/ 516600 h 573480"/>
            </a:gdLst>
            <a:ahLst/>
            <a:rect l="textAreaLeft" t="textAreaTop" r="textAreaRight" b="textAreaBottom"/>
            <a:pathLst>
              <a:path w="206528" h="21600">
                <a:moveTo>
                  <a:pt x="0" y="0"/>
                </a:moveTo>
                <a:lnTo>
                  <a:pt x="206528" y="0"/>
                </a:lnTo>
                <a:lnTo>
                  <a:pt x="206528" y="21600"/>
                </a:lnTo>
                <a:lnTo>
                  <a:pt x="0" y="21600"/>
                </a:lnTo>
                <a:close/>
              </a:path>
              <a:path fill="lightenLess" w="206528" h="21600">
                <a:moveTo>
                  <a:pt x="0" y="0"/>
                </a:moveTo>
                <a:lnTo>
                  <a:pt x="206528" y="0"/>
                </a:lnTo>
                <a:lnTo>
                  <a:pt x="204380" y="2148"/>
                </a:lnTo>
                <a:lnTo>
                  <a:pt x="2148" y="2148"/>
                </a:lnTo>
                <a:close/>
              </a:path>
              <a:path fill="darken" w="206528" h="21600">
                <a:moveTo>
                  <a:pt x="206528" y="0"/>
                </a:moveTo>
                <a:lnTo>
                  <a:pt x="206528" y="21600"/>
                </a:lnTo>
                <a:lnTo>
                  <a:pt x="204380" y="19452"/>
                </a:lnTo>
                <a:lnTo>
                  <a:pt x="204380" y="2148"/>
                </a:lnTo>
                <a:close/>
              </a:path>
              <a:path fill="darkenLess" w="206528" h="21600">
                <a:moveTo>
                  <a:pt x="206528" y="21600"/>
                </a:moveTo>
                <a:lnTo>
                  <a:pt x="0" y="21600"/>
                </a:lnTo>
                <a:lnTo>
                  <a:pt x="2148" y="19452"/>
                </a:lnTo>
                <a:lnTo>
                  <a:pt x="204380" y="19452"/>
                </a:lnTo>
                <a:close/>
              </a:path>
              <a:path fill="lighten" w="206528" h="21600">
                <a:moveTo>
                  <a:pt x="0" y="21600"/>
                </a:moveTo>
                <a:lnTo>
                  <a:pt x="0" y="0"/>
                </a:lnTo>
                <a:lnTo>
                  <a:pt x="2148" y="2148"/>
                </a:lnTo>
                <a:lnTo>
                  <a:pt x="2148" y="1945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制解调器的安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057400" y="252540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网络的安装与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17304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网络协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2068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上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2050920" y="587340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505040"/>
            <a:ext cx="5565960" cy="528120"/>
          </a:xfrm>
          <a:custGeom>
            <a:avLst/>
            <a:gdLst>
              <a:gd name="textAreaLeft" fmla="*/ 34200 w 5565960"/>
              <a:gd name="textAreaRight" fmla="*/ 5531760 w 55659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7506" h="21600">
                <a:moveTo>
                  <a:pt x="0" y="0"/>
                </a:moveTo>
                <a:lnTo>
                  <a:pt x="227506" y="0"/>
                </a:lnTo>
                <a:lnTo>
                  <a:pt x="227506" y="21600"/>
                </a:lnTo>
                <a:lnTo>
                  <a:pt x="0" y="21600"/>
                </a:lnTo>
                <a:close/>
              </a:path>
              <a:path fill="lightenLess" w="227506" h="21600">
                <a:moveTo>
                  <a:pt x="0" y="0"/>
                </a:moveTo>
                <a:lnTo>
                  <a:pt x="227506" y="0"/>
                </a:lnTo>
                <a:lnTo>
                  <a:pt x="226106" y="1400"/>
                </a:lnTo>
                <a:lnTo>
                  <a:pt x="1400" y="1400"/>
                </a:lnTo>
                <a:close/>
              </a:path>
              <a:path fill="darken" w="227506" h="21600">
                <a:moveTo>
                  <a:pt x="227506" y="0"/>
                </a:moveTo>
                <a:lnTo>
                  <a:pt x="227506" y="21600"/>
                </a:lnTo>
                <a:lnTo>
                  <a:pt x="226106" y="20200"/>
                </a:lnTo>
                <a:lnTo>
                  <a:pt x="226106" y="1400"/>
                </a:lnTo>
                <a:close/>
              </a:path>
              <a:path fill="darkenLess" w="227506" h="21600">
                <a:moveTo>
                  <a:pt x="227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6" y="20200"/>
                </a:lnTo>
                <a:close/>
              </a:path>
              <a:path fill="lighten" w="227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拨号上网的故障及排除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5154120"/>
            <a:ext cx="5565960" cy="528120"/>
          </a:xfrm>
          <a:custGeom>
            <a:avLst/>
            <a:gdLst>
              <a:gd name="textAreaLeft" fmla="*/ 34200 w 5565960"/>
              <a:gd name="textAreaRight" fmla="*/ 5531760 w 55659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7506" h="21600">
                <a:moveTo>
                  <a:pt x="0" y="0"/>
                </a:moveTo>
                <a:lnTo>
                  <a:pt x="227506" y="0"/>
                </a:lnTo>
                <a:lnTo>
                  <a:pt x="227506" y="21600"/>
                </a:lnTo>
                <a:lnTo>
                  <a:pt x="0" y="21600"/>
                </a:lnTo>
                <a:close/>
              </a:path>
              <a:path fill="lightenLess" w="227506" h="21600">
                <a:moveTo>
                  <a:pt x="0" y="0"/>
                </a:moveTo>
                <a:lnTo>
                  <a:pt x="227506" y="0"/>
                </a:lnTo>
                <a:lnTo>
                  <a:pt x="226106" y="1400"/>
                </a:lnTo>
                <a:lnTo>
                  <a:pt x="1400" y="1400"/>
                </a:lnTo>
                <a:close/>
              </a:path>
              <a:path fill="darken" w="227506" h="21600">
                <a:moveTo>
                  <a:pt x="227506" y="0"/>
                </a:moveTo>
                <a:lnTo>
                  <a:pt x="227506" y="21600"/>
                </a:lnTo>
                <a:lnTo>
                  <a:pt x="226106" y="20200"/>
                </a:lnTo>
                <a:lnTo>
                  <a:pt x="226106" y="1400"/>
                </a:lnTo>
                <a:close/>
              </a:path>
              <a:path fill="darkenLess" w="227506" h="21600">
                <a:moveTo>
                  <a:pt x="227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06" y="20200"/>
                </a:lnTo>
                <a:close/>
              </a:path>
              <a:path fill="lighten" w="227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6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接共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692280"/>
            <a:ext cx="4248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P/IP→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拨号网络适配器”，按下“属性”按钮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协议的属性窗口。出现许多选项，对于一般的互联网用户，只选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”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置”两项即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32360" y="260280"/>
          <a:ext cx="36003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60280"/>
                    <a:ext cx="36003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84360" y="4437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”项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必须选择“自动获得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”，因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是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随机分配的，不是由自己选定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620640"/>
            <a:ext cx="3975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置”项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必须单选“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NS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因为用“拨号上网”去寻找地址都需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域名服务）。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搜索顺序中填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机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2.103.0.68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该地址是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3952800" cy="3673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465300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单击“确定”按钮后，系统提示重新启动系统。最后需要说明的是，要想使刚才的设置生效，一定要重新启动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765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拨号上网的具体方法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28600"/>
            <a:ext cx="4038840" cy="53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4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拨号上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从桌面依次双击“我的电脑→拨号网络”，然后双击新建的“我的连接”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84720" y="90792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3284640"/>
            <a:ext cx="7705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“用户名”和“口令”都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认可的，直接输入即可。如果使用本地区的公共帐号，如武汉地区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6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用户名填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63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密码填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63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电话号码填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63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可进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下面有一可选项“保存口令”，选中时表示下次进行拨号连接时不用再输入口令通常不选，以防止他人的盗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输入完毕，按下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“连接”按钮，就可以听到调制解调器的拨号声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765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如果拨号上网不成功，建议从以下几个步骤来检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228600"/>
            <a:ext cx="5470560" cy="53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5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拨号上网的故障及排除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484280"/>
            <a:ext cx="8064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检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电话线连接是否正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话线一定要插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有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 I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插孔内。否则在拨号时，计算机会出现没有拨号音或电话线没有连接好的提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调制解调器进行诊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“控制面板”上双击“调制解调器”，选择系统上已安装的调制解调器，单击“属性”按钮进行诊断，测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是否正常。如果不正常，就需要重新安装调制解调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检查输入的电话号码、帐号、口令是否正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串口是否选择不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19520" y="304920"/>
            <a:ext cx="4038480" cy="53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6.6  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建立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连接共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0526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可以使一个小型的计算机网络共享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连接，几台计算机同时上网。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版上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提供了一个简便的方法。要启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，小型网络中必须要有一台计算机作为“连接共享”的计算机（该计算机应具有连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能提供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）用作小型网络中计算机的应答服务器。这样，网络中的其它计算机就可以使用转换后的个人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通过“连接共享”计算机访问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35772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网络中某台计算机发出访问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求时，个人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传输到“连接共享”计算机，转换为“连接共享”计算机的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。然后发送到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结果返回时，“连接共享”计算机再将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转换回来并将结果发送到网络中相应的计算机。小型网络中只有“连接共享”计算机可以直接访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而网络中的其他计算机没有直接的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508720" y="3651120"/>
          <a:ext cx="324000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651120"/>
                    <a:ext cx="324000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692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使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之前，小型网络中的每台计算机必须安装了网卡。然后选一台计算机用作“连接共享”计算机，并按一定的方式建立该计算机与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连接，例如，可以使用调制解调器、双向电缆调制解调器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运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向导”帮助建立连接，建立连接并正常工作后，安装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，然后配置“连接共享”计算机及网络中的其它计算机。 下面具体地说明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何来进行“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Internet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连接共享”的安装与设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284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共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的计算机中安装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版，并在其上安装好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拨号网络以及该计算机和其它计算机之间的网络连接。测试网络连接是否成功的方法，可以打开桌面上的网络邻居，看是否能看到网络中连接的其它各台计算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启动共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的向导安装程序。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依次选择“开始→设置→控制面板”，打开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窗口，在此窗口中双击“增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删除程序”图标，并单击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装程序”选项（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），再单击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具”项及 下面的“详细资料”按钮。弹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具”窗口（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）。勾选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共享”项，单击“确定”按钮又重新回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，在该对话框中再单击“确定”按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55640" y="2565360"/>
          <a:ext cx="307512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30751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067280" y="2637000"/>
          <a:ext cx="3530520" cy="38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637000"/>
                    <a:ext cx="35305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6206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这时系统开始安装共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工具并启动向导设置程序（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）。 单击“下一步”按钮。下面要指定连接类型（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），向导程序现在要求指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类型，一般选择“拨号连接”。注意，拨号上网类型中包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886200" cy="265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388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620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择好连接类型以后单击“下一步”按钮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，建立客户机配置磁盘，单击“下一步”按钮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。下面向导程序将为用户建立一张客户机配置磁盘，使用该磁盘用户能够为共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网络中的计算机进行配置。将一张空白磁盘放入软驱，然后单击“确定”按钮。当向导程序复制完相应的程序后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对话框。提示用户把复制好的磁盘从软驱中抽出，然后单击“确定”按钮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3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。最后单击向导程序最后对话窗口里的“完成”按钮，系统将重新启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2838240" cy="194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5300640"/>
            <a:ext cx="2200320" cy="714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3141720"/>
            <a:ext cx="2552760" cy="590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838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40464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配置客户机。将客户机配置磁盘放入每一台需要建立连接的客户机磁盘驱动器中，并运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:\Icsclset.ex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弹出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3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。如此将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向导，为客户机建立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（如果已经建立了连接，配置则会马上完成）。过程很简单，按照提示操作即可（但要求是每一个需要连接共享的计算机拥有相同的工作组名，在控制面板的“网络”组件中设置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27640" y="549360"/>
            <a:ext cx="2486160" cy="2374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3500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手动配置客户机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地址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1600" y="1143000"/>
            <a:ext cx="37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1  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制解调器的安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92440" y="2489040"/>
            <a:ext cx="4622760" cy="520920"/>
          </a:xfrm>
          <a:custGeom>
            <a:avLst/>
            <a:gdLst>
              <a:gd name="textAreaLeft" fmla="*/ 33480 w 4622760"/>
              <a:gd name="textAreaRight" fmla="*/ 4589280 w 46227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91566" h="21600">
                <a:moveTo>
                  <a:pt x="0" y="0"/>
                </a:moveTo>
                <a:lnTo>
                  <a:pt x="191566" y="0"/>
                </a:lnTo>
                <a:lnTo>
                  <a:pt x="191566" y="21600"/>
                </a:lnTo>
                <a:lnTo>
                  <a:pt x="0" y="21600"/>
                </a:lnTo>
                <a:close/>
              </a:path>
              <a:path fill="lightenLess" w="191566" h="21600">
                <a:moveTo>
                  <a:pt x="0" y="0"/>
                </a:moveTo>
                <a:lnTo>
                  <a:pt x="191566" y="0"/>
                </a:lnTo>
                <a:lnTo>
                  <a:pt x="190166" y="1400"/>
                </a:lnTo>
                <a:lnTo>
                  <a:pt x="1400" y="1400"/>
                </a:lnTo>
                <a:close/>
              </a:path>
              <a:path fill="darken" w="191566" h="21600">
                <a:moveTo>
                  <a:pt x="191566" y="0"/>
                </a:moveTo>
                <a:lnTo>
                  <a:pt x="191566" y="21600"/>
                </a:lnTo>
                <a:lnTo>
                  <a:pt x="190166" y="20200"/>
                </a:lnTo>
                <a:lnTo>
                  <a:pt x="190166" y="1400"/>
                </a:lnTo>
                <a:close/>
              </a:path>
              <a:path fill="darkenLess" w="191566" h="21600">
                <a:moveTo>
                  <a:pt x="191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0166" y="20200"/>
                </a:lnTo>
                <a:close/>
              </a:path>
              <a:path fill="lighten" w="191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制解调器的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87760" y="3137040"/>
            <a:ext cx="4620960" cy="520560"/>
          </a:xfrm>
          <a:custGeom>
            <a:avLst/>
            <a:gdLst>
              <a:gd name="textAreaLeft" fmla="*/ 33480 w 4620960"/>
              <a:gd name="textAreaRight" fmla="*/ 4587480 w 46209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91623" h="21600">
                <a:moveTo>
                  <a:pt x="0" y="0"/>
                </a:moveTo>
                <a:lnTo>
                  <a:pt x="191623" y="0"/>
                </a:lnTo>
                <a:lnTo>
                  <a:pt x="191623" y="21600"/>
                </a:lnTo>
                <a:lnTo>
                  <a:pt x="0" y="21600"/>
                </a:lnTo>
                <a:close/>
              </a:path>
              <a:path fill="lightenLess" w="191623" h="21600">
                <a:moveTo>
                  <a:pt x="0" y="0"/>
                </a:moveTo>
                <a:lnTo>
                  <a:pt x="191623" y="0"/>
                </a:lnTo>
                <a:lnTo>
                  <a:pt x="190224" y="1400"/>
                </a:lnTo>
                <a:lnTo>
                  <a:pt x="1400" y="1400"/>
                </a:lnTo>
                <a:close/>
              </a:path>
              <a:path fill="darken" w="191623" h="21600">
                <a:moveTo>
                  <a:pt x="191623" y="0"/>
                </a:moveTo>
                <a:lnTo>
                  <a:pt x="191623" y="21600"/>
                </a:lnTo>
                <a:lnTo>
                  <a:pt x="190224" y="20200"/>
                </a:lnTo>
                <a:lnTo>
                  <a:pt x="190224" y="1400"/>
                </a:lnTo>
                <a:close/>
              </a:path>
              <a:path fill="darkenLess" w="191623" h="21600">
                <a:moveTo>
                  <a:pt x="191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0224" y="20200"/>
                </a:lnTo>
                <a:close/>
              </a:path>
              <a:path fill="lighten" w="191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制解调器的安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7760" y="3822840"/>
            <a:ext cx="4620960" cy="520560"/>
          </a:xfrm>
          <a:custGeom>
            <a:avLst/>
            <a:gdLst>
              <a:gd name="textAreaLeft" fmla="*/ 33480 w 4620960"/>
              <a:gd name="textAreaRight" fmla="*/ 4587480 w 46209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91623" h="21600">
                <a:moveTo>
                  <a:pt x="0" y="0"/>
                </a:moveTo>
                <a:lnTo>
                  <a:pt x="191623" y="0"/>
                </a:lnTo>
                <a:lnTo>
                  <a:pt x="191623" y="21600"/>
                </a:lnTo>
                <a:lnTo>
                  <a:pt x="0" y="21600"/>
                </a:lnTo>
                <a:close/>
              </a:path>
              <a:path fill="lightenLess" w="191623" h="21600">
                <a:moveTo>
                  <a:pt x="0" y="0"/>
                </a:moveTo>
                <a:lnTo>
                  <a:pt x="191623" y="0"/>
                </a:lnTo>
                <a:lnTo>
                  <a:pt x="190224" y="1400"/>
                </a:lnTo>
                <a:lnTo>
                  <a:pt x="1400" y="1400"/>
                </a:lnTo>
                <a:close/>
              </a:path>
              <a:path fill="darken" w="191623" h="21600">
                <a:moveTo>
                  <a:pt x="191623" y="0"/>
                </a:moveTo>
                <a:lnTo>
                  <a:pt x="191623" y="21600"/>
                </a:lnTo>
                <a:lnTo>
                  <a:pt x="190224" y="20200"/>
                </a:lnTo>
                <a:lnTo>
                  <a:pt x="190224" y="1400"/>
                </a:lnTo>
                <a:close/>
              </a:path>
              <a:path fill="darkenLess" w="191623" h="21600">
                <a:moveTo>
                  <a:pt x="191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0224" y="20200"/>
                </a:lnTo>
                <a:close/>
              </a:path>
              <a:path fill="lighten" w="191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      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28600"/>
            <a:ext cx="16002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本节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295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章从实际出发，介绍了如何使个人计算机能够连上互联网，以获取网上无穷无尽的信息。重点介绍了调制解调器、拨号网络的安装设置方法。也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卡上网，以及当计算机不能上网，应从哪几个方面去检查和将故障排除。最后给读者介绍了一种使小型局域网上的多个用户共享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互联网的方法。本章是对前几章所学的网络知识的实际应用，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址的设置与分配，网关的设置等等，只有在读者对这些概念充分理解的基础之上才能正确的进行设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404640"/>
            <a:ext cx="571500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.1.1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调制解调器的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8244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仅有一台计算机和一条电话线路显然是不能连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的。因为在前面已经讨论过，在计算机内部传输的是离散的数字信号，而普通的电话线路仅能传输模拟信号，这就需要有一种设备来对两种信号进行转换。这种设备就叫调制解调器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衡量调制解调器质量好坏的主要标准是：数据传输速率、工作稳定性、容错能力。目前的调制解调器其数据传输速率一般都标明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6Kb/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但这只是一个标称值，往往达不到这个速度，实际上它是一种非对称的调制解调器，即它的下行速率（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到用户端的传输速率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6Kb/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下，而上行速率（从用户端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器的传输速率）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3.6Kb/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在上网的过程中，下行的数据量要远远大于上行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制解调器分为内置式和外置式两大类，另外有的调制解调器还附加了传真、数据和语音三种功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836640"/>
            <a:ext cx="82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置式调制解调器使用一条串行电缆线和计算机连接起来。在计算机机箱后背通常有两个串行口，一个连接鼠标，另一个就可以连接调制解调器。将外置式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调制解调器的电源线插入电源插座，再将调制解调器后背的标有“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Line IN”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字样的接口接入电话线路，标有“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Phone”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字样的接口接入电话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改成这种接线方式以后就变成了电话线从室外引入室内后，先经过调制解调器，再和电话机相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装内置式调制解调器需要打开机箱，在计算机主板上适当的空扩展槽内，将调制解调器卡插入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其它接线方法同外置式相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安装好调制解调器后，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首先应检验一下电话机是否有拨号音。如果没有拨号音，可能接线有问题，再重新确认一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79640" y="404640"/>
            <a:ext cx="525780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1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制解调器的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84280"/>
            <a:ext cx="849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打开计算机电源开关，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按顺序选择“开始→设置→控制面板”，打开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608360" cy="405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8372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60280"/>
            <a:ext cx="69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双击“调制解调器”图标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2733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74328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40766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单击“下一步”按钮（假设已经准备就绪），出现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3500280"/>
          <a:ext cx="4248000" cy="311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00280"/>
                    <a:ext cx="42480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3336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选择“从软盘安装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”按钮，并选择好驱动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1125360"/>
          <a:ext cx="3889440" cy="28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388944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24000" y="402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使用的是外置式调制解调器，则必须选择通讯端口。如果使用的是内置式调制解调器，则可以选择逻辑端口。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选择端口后，单击“下一步”按钮，出现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对话框，该对话框表示已经成功地安装了调制解调器。在该对话框中，单击“完成”按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960720" cy="291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932360" y="3500280"/>
          <a:ext cx="396072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3500280"/>
                    <a:ext cx="396072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333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把调制解调器安装成功以后，应该对所安装的调制解调器进行测试，看调制解调器是否安装正确。依次顺序选择“开始→设置→控制面板”，然后双击“调制解调器”图标，打开“调制解调器属性”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在这里可以看到刚才安装好的调制解调器的型号。在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单击“诊断”选项卡，打开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的“诊断”选项卡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342900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3:28:11Z</dcterms:created>
  <dc:creator>li</dc:creator>
  <dc:description/>
  <dc:language>en-US</dc:language>
  <cp:lastModifiedBy>liubing</cp:lastModifiedBy>
  <dcterms:modified xsi:type="dcterms:W3CDTF">2001-08-29T08:17:06Z</dcterms:modified>
  <cp:revision>236</cp:revision>
  <dc:subject/>
  <dc:title>没有幻灯片标题</dc:title>
</cp:coreProperties>
</file>