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826-6A44-42AD-A9B1-B5820644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A30C-9033-40B2-8E8C-DA9A641D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7D9-A040-4935-AF6D-155A9FDD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23C-CA4A-47D8-A556-A528327A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C384-7485-4C46-889B-16E70632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EDC6-1CA9-4E1A-ADD6-E328D9DA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6C23-2A27-4D97-B6C5-81A774BF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7ABC-6FE2-413A-8FE7-01A82762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6A2A-F317-4E47-918E-3FD9C282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8FAC-ED34-49B3-AC3E-D48CD762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68C2-E0FB-4B4F-8C7F-749F304A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9B5-A334-4AAA-A0DD-89093B38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3649-1359-4BE3-9619-8DFE827A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4E8C-9152-49C4-89B0-3F45654B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3D0A-3411-400F-BAB6-021CA316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0046-A5C2-4EDD-80C8-E5621D03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2821-169C-473C-9C1A-412E23AA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BAE-7105-4836-B41F-C2F246D6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B8B-D1CF-4B4C-A657-593E4496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97D2-2D9D-43B3-89A0-6D11A172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409-0935-41D5-A891-7AF8B4C9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96A-DA16-48D3-9128-FD2F80AD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583-A8E8-4BDD-885C-4B51A7B8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96D-3017-4B3B-B245-0852720E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8728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AF98-EB20-456C-8514-EE70026DE6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8728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338B-D5CA-4EF4-B546-1CCDB50721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361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buClr>
                <a:srgbClr val="906d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06d58"/>
                </a:solidFill>
                <a:latin typeface="Arial"/>
                <a:ea typeface="华文行楷"/>
              </a:rPr>
              <a:t>电子商务概论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31040" y="30492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世纪高职高专新概念教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4267080"/>
            <a:ext cx="649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    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李荆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副主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夏春华  王友顺  俞明飞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84440" y="6019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THANK YOU VERY MUCH 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！</a:t>
            </a:r>
            <a:endParaRPr b="1" lang="en-US" sz="44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010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欢迎您使用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endshow"/>
          </p:cNvPr>
          <p:cNvSpPr/>
          <p:nvPr/>
        </p:nvSpPr>
        <p:spPr>
          <a:xfrm>
            <a:off x="7539120" y="6208200"/>
            <a:ext cx="790200" cy="398880"/>
          </a:xfrm>
          <a:prstGeom prst="rect">
            <a:avLst/>
          </a:prstGeom>
          <a:noFill/>
          <a:ln cap="rnd" w="38160">
            <a:solidFill>
              <a:srgbClr val="a1bd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3276720"/>
            <a:ext cx="7238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buClr>
                <a:srgbClr val="e687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68728"/>
                </a:solidFill>
                <a:latin typeface="Arial"/>
                <a:ea typeface="华文行楷"/>
              </a:rPr>
              <a:t>电子商务概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68728"/>
                </a:solidFill>
                <a:latin typeface="Times New Roman"/>
                <a:ea typeface="华文行楷"/>
              </a:rPr>
              <a:t>演示文稿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8728"/>
                </a:solidFill>
                <a:latin typeface="Times New Roman"/>
              </a:rPr>
              <a:t>目      录</a:t>
            </a:r>
            <a:endParaRPr b="1" lang="en-US" sz="40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9320" y="1676520"/>
            <a:ext cx="5791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电子商务概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子商务的框架模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子商务的技术基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子商务的网上支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章  电子商务的网络营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子商务的物流配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子商务应用系统的建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8728"/>
                </a:solidFill>
                <a:latin typeface="Times New Roman"/>
                <a:ea typeface="黑体"/>
              </a:rPr>
              <a:t>第</a:t>
            </a:r>
            <a:r>
              <a:rPr b="1" lang="zh-CN" sz="3600" spc="-1" strike="noStrike">
                <a:solidFill>
                  <a:srgbClr val="e68728"/>
                </a:solidFill>
                <a:latin typeface="Times New Roman"/>
                <a:ea typeface="Arial"/>
              </a:rPr>
              <a:t>1</a:t>
            </a:r>
            <a:r>
              <a:rPr b="1" lang="zh-CN" sz="3600" spc="-1" strike="noStrike">
                <a:solidFill>
                  <a:srgbClr val="e68728"/>
                </a:solidFill>
                <a:latin typeface="Times New Roman"/>
                <a:ea typeface="黑体"/>
              </a:rPr>
              <a:t>章</a:t>
            </a:r>
            <a:r>
              <a:rPr b="1" lang="zh-CN" sz="3600" spc="-1" strike="noStrike">
                <a:solidFill>
                  <a:srgbClr val="e68728"/>
                </a:solidFill>
                <a:latin typeface="Times New Roman"/>
                <a:ea typeface="Arial"/>
              </a:rPr>
              <a:t>  </a:t>
            </a:r>
            <a:r>
              <a:rPr b="1" lang="zh-CN" sz="3600" spc="-1" strike="noStrike">
                <a:solidFill>
                  <a:srgbClr val="e68728"/>
                </a:solidFill>
                <a:latin typeface="Times New Roman"/>
                <a:ea typeface="黑体"/>
              </a:rPr>
              <a:t>电子商务概述</a:t>
            </a:r>
            <a:r>
              <a:rPr b="1" lang="zh-CN" sz="3600" spc="-1" strike="noStrike">
                <a:solidFill>
                  <a:srgbClr val="e68728"/>
                </a:solidFill>
                <a:latin typeface="Times New Roman"/>
                <a:ea typeface="Arial"/>
              </a:rPr>
              <a:t>	</a:t>
            </a: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的基本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的发展及其对社会的影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发展中的若干问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典型实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2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电子商务的框架模型</a:t>
            </a: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2209680"/>
            <a:ext cx="5823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的基本要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的结构模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的中介服务机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例分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010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3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电子商务的技术基础</a:t>
            </a: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5120" y="2209680"/>
            <a:ext cx="61610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子商务与计算机网络技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2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子商务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技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3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子数据交换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DI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技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4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子商务信息安全技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4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电子商务的网上支付</a:t>
            </a: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09600" y="2126880"/>
            <a:ext cx="418284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上支付系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上支付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上银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上银行实例分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8728"/>
                </a:solidFill>
                <a:latin typeface="Times New Roman"/>
                <a:ea typeface="黑体"/>
              </a:rPr>
              <a:t>第</a:t>
            </a:r>
            <a:r>
              <a:rPr b="1" lang="zh-CN" sz="3600" spc="-1" strike="noStrike">
                <a:solidFill>
                  <a:srgbClr val="e68728"/>
                </a:solidFill>
                <a:latin typeface="Times New Roman"/>
                <a:ea typeface="黑体"/>
              </a:rPr>
              <a:t>5</a:t>
            </a:r>
            <a:r>
              <a:rPr b="1" lang="zh-CN" sz="3600" spc="-1" strike="noStrike">
                <a:solidFill>
                  <a:srgbClr val="e68728"/>
                </a:solidFill>
                <a:latin typeface="Times New Roman"/>
                <a:ea typeface="黑体"/>
              </a:rPr>
              <a:t>章  电子商务的网络营销</a:t>
            </a: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50799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市场和营销理念的变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营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营销模式与策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营销技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5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上购物流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上营销实例分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7380360" y="6281280"/>
            <a:ext cx="1095120" cy="398880"/>
          </a:xfrm>
          <a:prstGeom prst="rect">
            <a:avLst/>
          </a:prstGeom>
          <a:noFill/>
          <a:ln cap="rnd" w="38160">
            <a:solidFill>
              <a:srgbClr val="a1bd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9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6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电子商务的物流配送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	</a:t>
            </a: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6.1  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电子商务与物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6.2  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电子商务与供应链管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6.3  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电子商务下全新的物流模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6.4  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现代新技术在电子商务物流配送中的应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6.5  </a:t>
            </a:r>
            <a:r>
              <a:rPr b="1" lang="zh-CN" sz="2800" spc="-1" strike="noStrike">
                <a:solidFill>
                  <a:srgbClr val="221304"/>
                </a:solidFill>
                <a:latin typeface="Times New Roman"/>
              </a:rPr>
              <a:t>实例分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7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e68728"/>
                </a:solidFill>
                <a:latin typeface="Arial"/>
                <a:ea typeface="黑体"/>
              </a:rPr>
              <a:t>电子商务应用系统的建立</a:t>
            </a:r>
            <a:endParaRPr b="1" lang="en-US" sz="3600" spc="-1" strike="noStrike">
              <a:solidFill>
                <a:srgbClr val="e6872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162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建立电子商务应用系统的一般步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解决方案综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商务解决方案应用实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03:55:01Z</dcterms:created>
  <dc:creator>新人电脑</dc:creator>
  <dc:description/>
  <dc:language>en-US</dc:language>
  <cp:lastModifiedBy>新人电脑</cp:lastModifiedBy>
  <dcterms:modified xsi:type="dcterms:W3CDTF">2002-02-01T04:16:48Z</dcterms:modified>
  <cp:revision>3</cp:revision>
  <dc:subject/>
  <dc:title>PowerPoint 演示文稿</dc:title>
</cp:coreProperties>
</file>