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865D-F113-49D9-9BB6-F7E7C035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39CE-FEB4-401E-BF16-B4381480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A7AB-5179-4986-9FBE-EEB09A39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226B-DA61-4E1A-92B3-85AEE164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9332-BA81-43CD-8239-E07C1F50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9446-E77A-4A7E-9B38-6B0E21C5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5178-3F64-4E33-B6F1-EC87087C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C644-C057-4A5E-8D06-7C382303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95F2-7477-4DD1-BA3E-BBF7AF33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A364-E520-4A6F-A4C1-A0B9459B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E1D2-C15A-4BFB-ADFC-9961E880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8960-7F1B-4B1A-BF4A-127372DD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075E-E17B-4173-A3D4-2BB315F0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9E8A-E58C-4BDD-9B7C-3E4A57CB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7F13-9E9C-4FA8-A030-4B87B33F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B7E6-FB30-484D-AC90-3AC19C41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F4E8-1662-451A-B82E-7355D7C8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45F8-1D3E-410A-AF21-219E2F3E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A655-24EA-429F-80DE-B49AA897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80CC-D4A9-43CF-8367-B0E5D735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D33F-CBC2-4E81-A67C-E81BFFEF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7827-E030-451F-A060-4A9834B8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689-2253-4168-8120-0C10D77A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35CE-54BD-4897-8C71-1BBA9A10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8728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1E47-C651-4BD3-BF72-D4AC0D64D5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8728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480E-0371-468B-AC8E-F8BE39E9C2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2640" y="2361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buClr>
                <a:srgbClr val="906d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06d58"/>
                </a:solidFill>
                <a:latin typeface="Arial"/>
                <a:ea typeface="华文行楷"/>
              </a:rPr>
              <a:t>电子商务概论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31040" y="30492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世纪高职高专新概念教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4267080"/>
            <a:ext cx="6492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    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李荆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副主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夏春华  王友顺  俞明飞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84440" y="60199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国水利水电出版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THANK YOU VERY MUCH </a:t>
            </a: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！</a:t>
            </a:r>
            <a:endParaRPr b="1" lang="en-US" sz="44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7010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欢迎您使用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endshow"/>
          </p:cNvPr>
          <p:cNvSpPr/>
          <p:nvPr/>
        </p:nvSpPr>
        <p:spPr>
          <a:xfrm>
            <a:off x="7539120" y="6208200"/>
            <a:ext cx="790200" cy="398880"/>
          </a:xfrm>
          <a:prstGeom prst="rect">
            <a:avLst/>
          </a:prstGeom>
          <a:noFill/>
          <a:ln cap="rnd" w="38160">
            <a:solidFill>
              <a:srgbClr val="a1bd6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3276720"/>
            <a:ext cx="7238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buClr>
                <a:srgbClr val="e687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68728"/>
                </a:solidFill>
                <a:latin typeface="Arial"/>
                <a:ea typeface="华文行楷"/>
              </a:rPr>
              <a:t>电子商务概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68728"/>
                </a:solidFill>
                <a:latin typeface="Times New Roman"/>
                <a:ea typeface="华文行楷"/>
              </a:rPr>
              <a:t>演示文稿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68728"/>
                </a:solidFill>
                <a:latin typeface="Times New Roman"/>
              </a:rPr>
              <a:t>目      录</a:t>
            </a:r>
            <a:endParaRPr b="1" lang="en-US" sz="40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9320" y="1676520"/>
            <a:ext cx="5791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电子商务概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子商务的框架模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子商务的技术基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子商务的网上支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章  电子商务的网络营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子商务的物流配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子商务应用系统的建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68728"/>
                </a:solidFill>
                <a:latin typeface="Times New Roman"/>
                <a:ea typeface="黑体"/>
              </a:rPr>
              <a:t>第</a:t>
            </a:r>
            <a:r>
              <a:rPr b="1" lang="zh-CN" sz="3600" spc="-1" strike="noStrike">
                <a:solidFill>
                  <a:srgbClr val="e68728"/>
                </a:solidFill>
                <a:latin typeface="Times New Roman"/>
                <a:ea typeface="Arial"/>
              </a:rPr>
              <a:t>1</a:t>
            </a:r>
            <a:r>
              <a:rPr b="1" lang="zh-CN" sz="3600" spc="-1" strike="noStrike">
                <a:solidFill>
                  <a:srgbClr val="e68728"/>
                </a:solidFill>
                <a:latin typeface="Times New Roman"/>
                <a:ea typeface="黑体"/>
              </a:rPr>
              <a:t>章</a:t>
            </a:r>
            <a:r>
              <a:rPr b="1" lang="zh-CN" sz="3600" spc="-1" strike="noStrike">
                <a:solidFill>
                  <a:srgbClr val="e68728"/>
                </a:solidFill>
                <a:latin typeface="Times New Roman"/>
                <a:ea typeface="Arial"/>
              </a:rPr>
              <a:t>  </a:t>
            </a:r>
            <a:r>
              <a:rPr b="1" lang="zh-CN" sz="3600" spc="-1" strike="noStrike">
                <a:solidFill>
                  <a:srgbClr val="e68728"/>
                </a:solidFill>
                <a:latin typeface="Times New Roman"/>
                <a:ea typeface="黑体"/>
              </a:rPr>
              <a:t>电子商务概述</a:t>
            </a:r>
            <a:r>
              <a:rPr b="1" lang="zh-CN" sz="3600" spc="-1" strike="noStrike">
                <a:solidFill>
                  <a:srgbClr val="e68728"/>
                </a:solidFill>
                <a:latin typeface="Times New Roman"/>
                <a:ea typeface="Arial"/>
              </a:rPr>
              <a:t>	</a:t>
            </a: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20570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子商务的基本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子商务的发展及其对社会的影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子商务发展中的若干问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子商务典型实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Arial"/>
              </a:rPr>
              <a:t>2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Arial"/>
              </a:rPr>
              <a:t>  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黑体"/>
              </a:rPr>
              <a:t>电子商务的框架模型</a:t>
            </a: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7920" y="2209680"/>
            <a:ext cx="5823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子商务的基本要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子商务的结构模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子商务的中介服务机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例分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010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Arial"/>
              </a:rPr>
              <a:t>3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Arial"/>
              </a:rPr>
              <a:t>  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黑体"/>
              </a:rPr>
              <a:t>电子商务的技术基础</a:t>
            </a: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5120" y="2209680"/>
            <a:ext cx="61610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1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子商务与计算机网络技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2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子商务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技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3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子数据交换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DI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技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4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子商务信息安全技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Arial"/>
              </a:rPr>
              <a:t>4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Arial"/>
              </a:rPr>
              <a:t>  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黑体"/>
              </a:rPr>
              <a:t>电子商务的网上支付</a:t>
            </a: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09600" y="2126880"/>
            <a:ext cx="418284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上支付系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上支付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上银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上银行实例分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68728"/>
                </a:solidFill>
                <a:latin typeface="Times New Roman"/>
                <a:ea typeface="黑体"/>
              </a:rPr>
              <a:t>第</a:t>
            </a:r>
            <a:r>
              <a:rPr b="1" lang="zh-CN" sz="3600" spc="-1" strike="noStrike">
                <a:solidFill>
                  <a:srgbClr val="e68728"/>
                </a:solidFill>
                <a:latin typeface="Times New Roman"/>
                <a:ea typeface="黑体"/>
              </a:rPr>
              <a:t>5</a:t>
            </a:r>
            <a:r>
              <a:rPr b="1" lang="zh-CN" sz="3600" spc="-1" strike="noStrike">
                <a:solidFill>
                  <a:srgbClr val="e68728"/>
                </a:solidFill>
                <a:latin typeface="Times New Roman"/>
                <a:ea typeface="黑体"/>
              </a:rPr>
              <a:t>章  电子商务的网络营销</a:t>
            </a: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50799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市场和营销理念的变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络营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络营销模式与策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络营销技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5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上购物流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6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上营销实例分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738036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a1bd6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9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Arial"/>
              </a:rPr>
              <a:t>6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Arial"/>
              </a:rPr>
              <a:t>  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黑体"/>
              </a:rPr>
              <a:t>电子商务的物流配送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Arial"/>
              </a:rPr>
              <a:t>	</a:t>
            </a: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1304"/>
                </a:solidFill>
                <a:latin typeface="Times New Roman"/>
              </a:rPr>
              <a:t>6.1  </a:t>
            </a:r>
            <a:r>
              <a:rPr b="1" lang="zh-CN" sz="2800" spc="-1" strike="noStrike">
                <a:solidFill>
                  <a:srgbClr val="221304"/>
                </a:solidFill>
                <a:latin typeface="Times New Roman"/>
              </a:rPr>
              <a:t>电子商务与物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1304"/>
                </a:solidFill>
                <a:latin typeface="Times New Roman"/>
              </a:rPr>
              <a:t>6.2  </a:t>
            </a:r>
            <a:r>
              <a:rPr b="1" lang="zh-CN" sz="2800" spc="-1" strike="noStrike">
                <a:solidFill>
                  <a:srgbClr val="221304"/>
                </a:solidFill>
                <a:latin typeface="Times New Roman"/>
              </a:rPr>
              <a:t>电子商务与供应链管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1304"/>
                </a:solidFill>
                <a:latin typeface="Times New Roman"/>
              </a:rPr>
              <a:t>6.3  </a:t>
            </a:r>
            <a:r>
              <a:rPr b="1" lang="zh-CN" sz="2800" spc="-1" strike="noStrike">
                <a:solidFill>
                  <a:srgbClr val="221304"/>
                </a:solidFill>
                <a:latin typeface="Times New Roman"/>
              </a:rPr>
              <a:t>电子商务下全新的物流模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1304"/>
                </a:solidFill>
                <a:latin typeface="Times New Roman"/>
              </a:rPr>
              <a:t>6.4  </a:t>
            </a:r>
            <a:r>
              <a:rPr b="1" lang="zh-CN" sz="2800" spc="-1" strike="noStrike">
                <a:solidFill>
                  <a:srgbClr val="221304"/>
                </a:solidFill>
                <a:latin typeface="Times New Roman"/>
              </a:rPr>
              <a:t>现代新技术在电子商务物流配送中的应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1304"/>
                </a:solidFill>
                <a:latin typeface="Times New Roman"/>
              </a:rPr>
              <a:t>6.5  </a:t>
            </a:r>
            <a:r>
              <a:rPr b="1" lang="zh-CN" sz="2800" spc="-1" strike="noStrike">
                <a:solidFill>
                  <a:srgbClr val="221304"/>
                </a:solidFill>
                <a:latin typeface="Times New Roman"/>
              </a:rPr>
              <a:t>实例分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Arial"/>
              </a:rPr>
              <a:t>7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Arial"/>
              </a:rPr>
              <a:t>  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黑体"/>
              </a:rPr>
              <a:t>电子商务应用系统的建立</a:t>
            </a: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7162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建立电子商务应用系统的一般步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子商务解决方案综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子商务解决方案应用实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1T03:55:01Z</dcterms:created>
  <dc:creator>新人电脑</dc:creator>
  <dc:description/>
  <dc:language>en-US</dc:language>
  <cp:lastModifiedBy>新人电脑</cp:lastModifiedBy>
  <dcterms:modified xsi:type="dcterms:W3CDTF">2002-02-01T04:16:48Z</dcterms:modified>
  <cp:revision>3</cp:revision>
  <dc:subject/>
  <dc:title>PowerPoint 演示文稿</dc:title>
</cp:coreProperties>
</file>