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D4C-354C-4AC0-A1DE-CF58C15C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A4A-D7EF-496D-9706-6DB4923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29B-2111-4ACD-8A1F-27B247E7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37E-1603-411D-BFCA-A489312F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B7A-B049-4B2A-A791-EAD8AA04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E36-557A-40B9-9DE3-ACB63703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2A0D-F3DD-4912-A2CD-0BC9A0B0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4E70-5E21-41DB-883A-D42FB9CE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D906-AFD8-4A7C-90CA-CFF9E8D6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B6C4-0454-4D02-9E17-B398949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DBCF-6233-45E6-A1DF-C615C837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658-9A4A-4297-A4AE-4D034878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DFE9-84D4-468B-A2A8-BEDDD22D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C96-C207-49DC-88E4-BBCF590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6FEA-6CBE-4BC5-A745-ACB1CC5D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862E-7C6D-465C-AEE7-9DA36167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9B1-14CB-4D15-A1CF-12892433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47C-629E-4E23-8096-F18B9F8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8D6-992C-495A-A9C8-7B5C16B6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F5C-BEE4-421B-9275-D9B541F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872-9A05-4526-B89E-185BB86D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6D1-E546-4D43-A52A-5F85D940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6AD-BFE0-4472-B3B4-53C3E7E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B3C-04EF-4A76-A2DC-60F5883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框a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框a2" descr=""/>
            <p:cNvPicPr/>
            <p:nvPr/>
          </p:nvPicPr>
          <p:blipFill>
            <a:blip r:embed="rId3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框a3" descr=""/>
            <p:cNvPicPr/>
            <p:nvPr/>
          </p:nvPicPr>
          <p:blipFill>
            <a:blip r:embed="rId4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框a4" descr=""/>
            <p:cNvPicPr/>
            <p:nvPr/>
          </p:nvPicPr>
          <p:blipFill>
            <a:blip r:embed="rId5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FC98-5B4F-40F7-A876-6FEA984EA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a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框a2" descr=""/>
            <p:cNvPicPr/>
            <p:nvPr/>
          </p:nvPicPr>
          <p:blipFill>
            <a:blip r:embed="rId3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框a3" descr=""/>
            <p:cNvPicPr/>
            <p:nvPr/>
          </p:nvPicPr>
          <p:blipFill>
            <a:blip r:embed="rId4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框a4" descr=""/>
            <p:cNvPicPr/>
            <p:nvPr/>
          </p:nvPicPr>
          <p:blipFill>
            <a:blip r:embed="rId5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麒靈" descr=""/>
          <p:cNvPicPr/>
          <p:nvPr/>
        </p:nvPicPr>
        <p:blipFill>
          <a:blip r:embed="rId6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CB9B-3929-4403-A41F-CB3C05FED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&#19968;&#31456;%20%20&#35745;&#31639;&#26426;&#32593;&#32476;&#23433;&#20840;&#25216;&#26415;&#27010;&#35770;.ppt#1. &#31532;&#19968;&#31456;  &#35745;&#31639;&#26426;&#32593;&#32476;&#23433;&#20840;&#25216;&#26415;&#27010;&#35770;" TargetMode="External"/><Relationship Id="rId2" Type="http://schemas.openxmlformats.org/officeDocument/2006/relationships/hyperlink" Target="file:///&#31532;&#19968;&#31456;%20%20&#35745;&#31639;&#26426;&#32593;&#32476;&#23433;&#20840;&#25216;&#26415;&#27010;&#35770;.ppt#1. &#31532;&#19968;&#31456;  &#35745;&#31639;&#26426;&#32593;&#32476;&#23433;&#20840;&#25216;&#26415;&#27010;&#35770;" TargetMode="External"/><Relationship Id="rId3" Type="http://schemas.openxmlformats.org/officeDocument/2006/relationships/hyperlink" Target="file:///&#31532;&#19968;&#31456;%20%20&#35745;&#31639;&#26426;&#32593;&#32476;&#23433;&#20840;&#25216;&#26415;&#27010;&#35770;.ppt#1. &#31532;&#19968;&#31456;  &#35745;&#31639;&#26426;&#32593;&#32476;&#23433;&#20840;&#25216;&#26415;&#27010;&#35770;" TargetMode="External"/><Relationship Id="rId4" Type="http://schemas.openxmlformats.org/officeDocument/2006/relationships/hyperlink" Target="file:///&#31532;&#20108;&#31456;&#12288;&#23454;&#20307;&#23433;&#20840;&#19982;&#30828;&#20214;&#38450;&#25252;&#25216;&#26415;.ppt#1. &#31532;&#20108;&#31456;&#12288;&#23454;&#20307;&#23433;&#20840;&#19982;&#30828;&#20214;&#38450;&#25252;&#25216;&#26415;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华文新魏"/>
              </a:rPr>
              <a:t>计算机网络安全技术</a:t>
            </a:r>
            <a:endParaRPr b="1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038480"/>
            <a:ext cx="5425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蔡立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立明  李  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5880" y="5867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出版社出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1960" y="10666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欢迎您使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29400" y="3459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八章　计算机病毒及防治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病毒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下的病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宏病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计算机病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反病毒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典型病毒实例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I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毒介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九章　防火墙技术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680" y="20426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防火墙技术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防火墙技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防火墙设计实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第十章　系统平台与网络站点的安全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678204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indows N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的安全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UNI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的安全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站点的安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.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反黑客技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欢迎您使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03160" y="601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4341960" y="6019920"/>
            <a:ext cx="790200" cy="398880"/>
          </a:xfrm>
          <a:prstGeom prst="rect">
            <a:avLst/>
          </a:prstGeom>
          <a:noFill/>
          <a:ln cap="rnd" w="38160">
            <a:solidFill>
              <a:srgbClr val="8f6d5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2767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计算机网络安全技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电子教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目      录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  <a:hlinkClick r:id="rId1"/>
              </a:rPr>
              <a:t>第一章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  <a:hlinkClick r:id="rId3"/>
              </a:rPr>
              <a:t>计算机网络安全技术概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  <a:hlinkClick r:id="rId4"/>
              </a:rPr>
              <a:t>第二章　实体安全与硬件防护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三章　计算机软件安全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四章　网络安全防护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五章　备份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六章　密码技术与压缩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七章　数据库系统安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八章　计算机病毒及防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九章　防火墙技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十章  系统平台与网络站点的安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一章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计算机网络安全技术概论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网络安全的概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系统面临的威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系统的脆弱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安全技术的研究内容和发展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安全的三个层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安全的设计和基本原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安全技术评价标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二章　实体安全与硬件防护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实体安全技术概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房场地环境的安全防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安全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电磁防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硬件防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三章　计算机软件安全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0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软件安全技术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文件加密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运行中的反跟踪技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防止非法复制软件的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保证软件质量的安全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四章　网络安全防护技术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安全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计算机网络的安全服务和安全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网络安全防护措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五章　备份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2514240"/>
            <a:ext cx="664056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备份技术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备份技术与备份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备份方案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典型的网络系统备份方案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六章　密码技术与压缩技术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948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密码技术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加密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密钥与密码破译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常用信息加密技术介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ook Expr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的安全操作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压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七章　数据库系统安全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系统简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系统安全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的数据保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死锁、活锁和可串行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的备份与恢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攻击数据库的常用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库系统安全保护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5:27:52Z</dcterms:created>
  <dc:creator>新人电脑</dc:creator>
  <dc:description/>
  <dc:language>en-US</dc:language>
  <cp:lastModifiedBy>新人电脑</cp:lastModifiedBy>
  <dcterms:modified xsi:type="dcterms:W3CDTF">2002-01-23T05:47:28Z</dcterms:modified>
  <cp:revision>6</cp:revision>
  <dc:subject/>
  <dc:title>计算机网络实用技术</dc:title>
</cp:coreProperties>
</file>