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32360"/>
            <a:ext cx="61722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185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185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432360"/>
            <a:ext cx="61722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9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32080" y="1904760"/>
            <a:ext cx="399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9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032080" y="4093920"/>
            <a:ext cx="399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432360"/>
            <a:ext cx="61722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635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605400" y="1904760"/>
            <a:ext cx="2635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73080" y="1904760"/>
            <a:ext cx="2635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635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605400" y="4093920"/>
            <a:ext cx="2635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373080" y="4093920"/>
            <a:ext cx="2635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88CF-EE92-4585-8CA6-F1C57B559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432360"/>
            <a:ext cx="61722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1853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F373-D33A-4A56-B146-4CFB985F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432360"/>
            <a:ext cx="61722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185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9108-E340-43D9-A1AE-D94637BF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432360"/>
            <a:ext cx="61722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94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32080" y="1904760"/>
            <a:ext cx="3994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C0B9-DB79-4E4C-9EE5-B7C38BA0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432360"/>
            <a:ext cx="61722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EC76-F495-4B95-8861-D4C2DCF4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85440" y="432360"/>
            <a:ext cx="6172200" cy="55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B1CB-2341-433B-A389-DB3A609E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432360"/>
            <a:ext cx="61722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9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32080" y="1904760"/>
            <a:ext cx="3994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9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3E59-D376-4EE9-9A59-30EF9CDA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432360"/>
            <a:ext cx="61722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1853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432360"/>
            <a:ext cx="61722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94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32080" y="1904760"/>
            <a:ext cx="399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32080" y="4093920"/>
            <a:ext cx="399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2192-FB74-4300-B03F-EDC7B3F3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432360"/>
            <a:ext cx="61722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9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32080" y="1904760"/>
            <a:ext cx="399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185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A614-82D9-4483-97AD-F0827247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432360"/>
            <a:ext cx="61722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185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185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7562-04E2-4782-BBCD-9D1A046F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32360"/>
            <a:ext cx="61722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9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32080" y="1904760"/>
            <a:ext cx="399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9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032080" y="4093920"/>
            <a:ext cx="399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B677-6AA9-4351-9E33-B0B8E8FD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432360"/>
            <a:ext cx="61722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635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05400" y="1904760"/>
            <a:ext cx="2635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73080" y="1904760"/>
            <a:ext cx="2635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635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05400" y="4093920"/>
            <a:ext cx="2635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373080" y="4093920"/>
            <a:ext cx="2635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AA8E-2858-4964-9448-F93EC034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432360"/>
            <a:ext cx="61722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185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432360"/>
            <a:ext cx="61722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94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2080" y="1904760"/>
            <a:ext cx="3994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432360"/>
            <a:ext cx="61722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440" y="432360"/>
            <a:ext cx="6172200" cy="55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32360"/>
            <a:ext cx="61722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9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080" y="1904760"/>
            <a:ext cx="3994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9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432360"/>
            <a:ext cx="61722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94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080" y="1904760"/>
            <a:ext cx="399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32080" y="4093920"/>
            <a:ext cx="399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432360"/>
            <a:ext cx="61722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9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32080" y="1904760"/>
            <a:ext cx="399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185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32360"/>
            <a:ext cx="61722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185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0960" indent="-282960">
              <a:lnSpc>
                <a:spcPct val="12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66040" indent="-226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lnSpc>
                <a:spcPct val="120000"/>
              </a:lnSpc>
              <a:spcBef>
                <a:spcPts val="700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669960" y="60480"/>
            <a:ext cx="7940520" cy="398880"/>
          </a:xfrm>
          <a:prstGeom prst="rect">
            <a:avLst/>
          </a:prstGeom>
          <a:noFill/>
          <a:ln cap="rnd" w="93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第六章　密码技术与压缩技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3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4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9400" y="1886400"/>
            <a:ext cx="7678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0E6C-0802-40B1-9B68-EF2C4B801C4B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20.xml"/><Relationship Id="rId8" Type="http://schemas.openxmlformats.org/officeDocument/2006/relationships/slide" Target="slide20.xml"/><Relationship Id="rId9" Type="http://schemas.openxmlformats.org/officeDocument/2006/relationships/slide" Target="slide20.xml"/><Relationship Id="rId10" Type="http://schemas.openxmlformats.org/officeDocument/2006/relationships/slide" Target="slide35.xml"/><Relationship Id="rId11" Type="http://schemas.openxmlformats.org/officeDocument/2006/relationships/slide" Target="slide35.xml"/><Relationship Id="rId12" Type="http://schemas.openxmlformats.org/officeDocument/2006/relationships/slide" Target="slide35.xml"/><Relationship Id="rId13" Type="http://schemas.openxmlformats.org/officeDocument/2006/relationships/slide" Target="slide35.xml"/><Relationship Id="rId14" Type="http://schemas.openxmlformats.org/officeDocument/2006/relationships/slide" Target="slide38.xml"/><Relationship Id="rId15" Type="http://schemas.openxmlformats.org/officeDocument/2006/relationships/slide" Target="slide38.xml"/><Relationship Id="rId1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slide" Target="slide23.xml"/><Relationship Id="rId8" Type="http://schemas.openxmlformats.org/officeDocument/2006/relationships/slide" Target="slide23.xml"/><Relationship Id="rId9" Type="http://schemas.openxmlformats.org/officeDocument/2006/relationships/slide" Target="slide24.xml"/><Relationship Id="rId10" Type="http://schemas.openxmlformats.org/officeDocument/2006/relationships/slide" Target="slide24.xml"/><Relationship Id="rId11" Type="http://schemas.openxmlformats.org/officeDocument/2006/relationships/slide" Target="slide24.xml"/><Relationship Id="rId12" Type="http://schemas.openxmlformats.org/officeDocument/2006/relationships/slide" Target="slide24.xml"/><Relationship Id="rId13" Type="http://schemas.openxmlformats.org/officeDocument/2006/relationships/slide" Target="slide32.xml"/><Relationship Id="rId14" Type="http://schemas.openxmlformats.org/officeDocument/2006/relationships/slide" Target="slide32.xml"/><Relationship Id="rId15" Type="http://schemas.openxmlformats.org/officeDocument/2006/relationships/slide" Target="slide32.xml"/><Relationship Id="rId16" Type="http://schemas.openxmlformats.org/officeDocument/2006/relationships/slide" Target="slide32.xml"/><Relationship Id="rId17" Type="http://schemas.openxmlformats.org/officeDocument/2006/relationships/slide" Target="slide32.xml"/><Relationship Id="rId18" Type="http://schemas.openxmlformats.org/officeDocument/2006/relationships/slide" Target="slide32.xml"/><Relationship Id="rId19" Type="http://schemas.openxmlformats.org/officeDocument/2006/relationships/slide" Target="slide32.xml"/><Relationship Id="rId20" Type="http://schemas.openxmlformats.org/officeDocument/2006/relationships/slide" Target="slide34.xml"/><Relationship Id="rId21" Type="http://schemas.openxmlformats.org/officeDocument/2006/relationships/slide" Target="slide34.xml"/><Relationship Id="rId22" Type="http://schemas.openxmlformats.org/officeDocument/2006/relationships/slide" Target="slide1.xml"/><Relationship Id="rId2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第六章　密码技术与压缩技术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99"/>
                </a:solidFill>
                <a:uFillTx/>
                <a:latin typeface="Verdana"/>
                <a:hlinkClick r:id="rId1" action="ppaction://hlinksldjump"/>
              </a:rPr>
              <a:t>6.1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2" action="ppaction://hlinksldjump"/>
              </a:rPr>
              <a:t>　密码技术概述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6.2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4" action="ppaction://hlinksldjump"/>
              </a:rPr>
              <a:t>　加密方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99"/>
                </a:solidFill>
                <a:uFillTx/>
                <a:latin typeface="Verdana"/>
                <a:hlinkClick r:id="rId5" action="ppaction://hlinksldjump"/>
              </a:rPr>
              <a:t>6.3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6" action="ppaction://hlinksldjump"/>
              </a:rPr>
              <a:t>　密钥与密码破译方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99"/>
                </a:solidFill>
                <a:uFillTx/>
                <a:latin typeface="Verdana"/>
                <a:hlinkClick r:id="rId7" action="ppaction://hlinksldjump"/>
              </a:rPr>
              <a:t>6.4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8" action="ppaction://hlinksldjump"/>
              </a:rPr>
              <a:t>　常用信息加密技术介绍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9" action="ppaction://hlinksldjump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99"/>
                </a:solidFill>
                <a:uFillTx/>
                <a:latin typeface="Verdana"/>
                <a:hlinkClick r:id="rId10" action="ppaction://hlinksldjump"/>
              </a:rPr>
              <a:t>6.5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11" action="ppaction://hlinksldjump"/>
              </a:rPr>
              <a:t>　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Times New Roman"/>
                <a:hlinkClick r:id="rId12" action="ppaction://hlinksldjump"/>
              </a:rPr>
              <a:t>Outlook Express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13" action="ppaction://hlinksldjump"/>
              </a:rPr>
              <a:t>下的安全操作实例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99"/>
                </a:solidFill>
                <a:uFillTx/>
                <a:latin typeface="Verdana"/>
                <a:hlinkClick r:id="rId14" action="ppaction://hlinksldjump"/>
              </a:rPr>
              <a:t>6.6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15" action="ppaction://hlinksldjump"/>
              </a:rPr>
              <a:t>　数据压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6.1.3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加密方式和加密的实现方法</a:t>
            </a: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58320" y="2057040"/>
            <a:ext cx="8185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数据块和数据流加密的概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块加密是指把数据划分为定长的数据块，再分别加密。数据流加密是指加密后的密文前部分，用来参与报文后面部分的加密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2133360" y="2057400"/>
            <a:ext cx="60958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三种加密方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链路加密方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节点对节点加密方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端对端加密方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185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数据加密的实现方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软件加密一般是用户在发送信息前，先调用信息安全模块对信息进行加密，然后发送出去，到达接收方后，由用户用相应的解密软件进行解密，还原成明文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硬件加密可以采用标准的网络管理协议（比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NM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M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来进行管理，也可以采用统一的自定义网络管理协议进行管理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7442280" y="6281280"/>
            <a:ext cx="1473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6.2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加密方法</a:t>
            </a: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6248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99"/>
                </a:solidFill>
                <a:uFillTx/>
                <a:latin typeface="Verdana"/>
                <a:hlinkClick r:id="rId1" action="ppaction://hlinksldjump"/>
              </a:rPr>
              <a:t>6.2.1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2" action="ppaction://hlinksldjump"/>
              </a:rPr>
              <a:t>　加密系统的组成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6.2.2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4" action="ppaction://hlinksldjump"/>
              </a:rPr>
              <a:t>　四种传统加密方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>
            <a:hlinkClick r:id="rId5" action="ppaction://hlinksldjump"/>
          </p:cNvPr>
          <p:cNvSpPr/>
          <p:nvPr/>
        </p:nvSpPr>
        <p:spPr>
          <a:xfrm>
            <a:off x="738504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6.2.1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加密系统的组成</a:t>
            </a: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待加密的报文，也称明文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密后的报文，也称密文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密、解密装置或称算法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加密和解密的密钥，它可以是数字，词汇或者语句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7442280" y="6281280"/>
            <a:ext cx="1473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6.2.2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四种传统加密方法</a:t>
            </a: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14240" y="2057040"/>
            <a:ext cx="53341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代码加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替换加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变位加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一次性密码簿加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/>
          <p:nvPr/>
        </p:nvSpPr>
        <p:spPr>
          <a:xfrm>
            <a:off x="7442280" y="6281280"/>
            <a:ext cx="1473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6.3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密钥与密码破译方法</a:t>
            </a: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185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密钥的穷尽搜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破译密文就是尝试所有可能的密钥组合。虽然大多数的密钥尝试都是失败的，但最终有一个密钥让破译者得到原文，这个过程称为密钥的穷尽搜索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密码分析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已知明文的破译方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选定明文的破译方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>
            <a:hlinkClick r:id="rId1" action="ppaction://hlinksldjump"/>
          </p:cNvPr>
          <p:cNvSpPr/>
          <p:nvPr/>
        </p:nvSpPr>
        <p:spPr>
          <a:xfrm>
            <a:off x="738504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185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其他密码破译方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窥视”或“偷窃”密钥内容；利用加密系统实现中的缺陷或漏洞；对用户使用的加密系统偷梁换柱；从用户工作生活环境的其他来源获得未加密的保密信息，比如进行“垃圾分析”；让口令的另一方透露密钥或信息；威胁用户交出密钥等等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2286000" y="2057040"/>
            <a:ext cx="5486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防止密码破译的措施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强壮的加密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动态会话密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保护关键密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447920" y="47242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6.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　常见系统的口令及其对应的密钥长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33520" y="2057400"/>
          <a:ext cx="8229600" cy="20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8229600" cy="20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7442280" y="6281280"/>
            <a:ext cx="1473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本章学习目标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了解密码通信系统的模型，对称密钥密码体制和非对称密钥密码体制的加密方式和各自的特点，链路加密、节点加密和端对端加密等三种加密方式的优缺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掌握代码加密，替换加密，变位加密，以及一次性密码簿加密等４种传统加密方法的加密原理；理解常见的密码破译方法，防止密码破译的措施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98892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6.4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常用信息加密技术介</a:t>
            </a: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499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99"/>
                </a:solidFill>
                <a:uFillTx/>
                <a:latin typeface="Verdana"/>
                <a:hlinkClick r:id="rId1" action="ppaction://hlinksldjump"/>
              </a:rPr>
              <a:t>6.4.1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2" action="ppaction://hlinksldjump"/>
              </a:rPr>
              <a:t>　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Times New Roman"/>
                <a:hlinkClick r:id="rId3" action="ppaction://hlinksldjump"/>
              </a:rPr>
              <a:t>DES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4" action="ppaction://hlinksldjump"/>
              </a:rPr>
              <a:t>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99"/>
                </a:solidFill>
                <a:uFillTx/>
                <a:latin typeface="Verdana"/>
                <a:hlinkClick r:id="rId5" action="ppaction://hlinksldjump"/>
              </a:rPr>
              <a:t>6.4.2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6" action="ppaction://hlinksldjump"/>
              </a:rPr>
              <a:t>　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Times New Roman"/>
                <a:hlinkClick r:id="rId7" action="ppaction://hlinksldjump"/>
              </a:rPr>
              <a:t>IDEA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8" action="ppaction://hlinksldjump"/>
              </a:rPr>
              <a:t>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99"/>
                </a:solidFill>
                <a:uFillTx/>
                <a:latin typeface="Verdana"/>
                <a:hlinkClick r:id="rId9" action="ppaction://hlinksldjump"/>
              </a:rPr>
              <a:t>6.4.3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10" action="ppaction://hlinksldjump"/>
              </a:rPr>
              <a:t>　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Times New Roman"/>
                <a:hlinkClick r:id="rId11" action="ppaction://hlinksldjump"/>
              </a:rPr>
              <a:t>RSA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12" action="ppaction://hlinksldjump"/>
              </a:rPr>
              <a:t>公开密钥密码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99"/>
                </a:solidFill>
                <a:uFillTx/>
                <a:latin typeface="Verdana"/>
                <a:hlinkClick r:id="rId13" action="ppaction://hlinksldjump"/>
              </a:rPr>
              <a:t>6.4.4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14" action="ppaction://hlinksldjump"/>
              </a:rPr>
              <a:t>　典型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Times New Roman"/>
                <a:hlinkClick r:id="rId15" action="ppaction://hlinksldjump"/>
              </a:rPr>
              <a:t>HASH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16" action="ppaction://hlinksldjump"/>
              </a:rPr>
              <a:t>算法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黑体"/>
                <a:hlinkClick r:id="rId17" action="ppaction://hlinksldjump"/>
              </a:rPr>
              <a:t>——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黑体"/>
                <a:hlinkClick r:id="rId18" action="ppaction://hlinksldjump"/>
              </a:rPr>
              <a:t>MD5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19" action="ppaction://hlinksldjump"/>
              </a:rPr>
              <a:t>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99"/>
                </a:solidFill>
                <a:uFillTx/>
                <a:latin typeface="Verdana"/>
                <a:hlinkClick r:id="rId20" action="ppaction://hlinksldjump"/>
              </a:rPr>
              <a:t>6.4.5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21" action="ppaction://hlinksldjump"/>
              </a:rPr>
              <a:t>　信息认证技术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>
            <a:hlinkClick r:id="rId22" action="ppaction://hlinksldjump"/>
          </p:cNvPr>
          <p:cNvSpPr/>
          <p:nvPr/>
        </p:nvSpPr>
        <p:spPr>
          <a:xfrm>
            <a:off x="738504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6.4.1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</a:t>
            </a: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DES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算法</a:t>
            </a: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6781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对称密钥加密的算法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算法大致可以分成四个部分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初始置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迭代过程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逆置换和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子密钥生成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15288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0" y="5715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6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密原理示意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5288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8153280" cy="328320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685800" y="1981080"/>
            <a:ext cx="8118360" cy="0"/>
            <a:chOff x="685800" y="1981080"/>
            <a:chExt cx="8118360" cy="0"/>
          </a:xfrm>
        </p:grpSpPr>
        <p:sp>
          <p:nvSpPr>
            <p:cNvPr id="263" name=""/>
            <p:cNvSpPr/>
            <p:nvPr/>
          </p:nvSpPr>
          <p:spPr>
            <a:xfrm>
              <a:off x="685800" y="198108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05320" y="198108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18160" y="198108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7442280" y="6281280"/>
            <a:ext cx="1473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6.4.2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</a:t>
            </a: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IDEA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算法</a:t>
            </a: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185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DE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算法可用于加密和解密。主要有三种运算：异或、模加、模乘，容易用软件和硬件来实现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DE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速度：现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DE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软件实现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速度一样块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DE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密码安全分析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DE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密钥长度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2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，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密钥长度的两倍。在穷举攻击的情况下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DE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需要经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12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次加密才能恢复出密钥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"/>
          <p:cNvSpPr/>
          <p:nvPr/>
        </p:nvSpPr>
        <p:spPr>
          <a:xfrm>
            <a:off x="7442280" y="6281280"/>
            <a:ext cx="1473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1065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6.4.3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</a:t>
            </a: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RSA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公开密钥密码算法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185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算法的原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种算法的要点在于，它可以产生一对密钥，一个人可以用密钥对中的一个加密消息，另一个人则可以用密钥对中的另一个解密消息。同时，任何人都无法通过公钥确定私钥，也没有人能使用加密消息的密钥解密。只有密钥对中的另一把可以解密消息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2133720" y="2133720"/>
            <a:ext cx="5867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算法的演算过程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密钥配制过程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加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解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185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举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取两个质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=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=1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乘积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=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=14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算出另一个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z=(p-1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q-1)=12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再选取一个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z=1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质的数，例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=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公开密钥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4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于这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值，可以算出其逆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=10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=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03=72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满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 mod z =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721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 120=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成立。则秘密密钥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4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0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185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张小姐需要发送机密信息（明文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=8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给李先生，她已经从公开媒体得到了李先生的公开密钥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4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于是她算出加密值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=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mod n=8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mod 143=1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并发送给李先生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李先生在收到密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=1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后，利用只有他自己知道的秘密密钥计算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=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mod n =12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10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mod 143=8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以，李先生可以得到张小姐发给他的真正的信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=8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现了解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185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安全性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目前的计算机水平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0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的密钥是安全的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04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是绝对安全的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实验室认为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5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不够安全，应停止使用，现在的个人需要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66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公司要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0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极其重要的场合应该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04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185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于身份验证和数字签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字签名必须保证以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接收者能够核实发送者对报文的签名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发送者事后不能抵赖对报文的签名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接收者不能伪造对报文的签名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在已有多种实现各种数字方法，但签名的采用公开密钥算法要比常规算法更容易实现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391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掌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D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算法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公开密钥密码算法的原理及应用。熟悉使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Outlook Expres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的安全电子邮件的方法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熟练掌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Zi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ARJ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等常用的数据压缩工具的使用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1853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密钥分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公认的有效方法是通过密钥分配中心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D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管理和分配公开密钥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D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公开密钥和秘密密钥分别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KA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KA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个用户只保存自己的秘密密钥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D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公开密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KA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户可以通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D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获得任何其他用户的公开密钥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1980720" y="1905120"/>
            <a:ext cx="62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针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攻击方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选择密文攻击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过小加密指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计时攻击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其他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攻击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7442280" y="6281280"/>
            <a:ext cx="1473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42960" y="1065600"/>
            <a:ext cx="8501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6.4.4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　典型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HASH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算法——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MD5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算法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	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1853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MD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算法介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D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供了一种单向的哈希函数，是一个校验和工具。它将一个任意长的字串做为输入，产生一个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2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的“报文摘要”。通过计算每个文件的数字指纹（或数字签名），来检查文件是否被更换，或者是否与原来的一致。一个称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系列的算法集就是进行这项工作的。其中最常用到的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D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系统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1676520" y="1981080"/>
            <a:ext cx="6248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MD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安全性问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D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普通直接攻击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D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日攻击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其他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D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攻击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7442280" y="6281280"/>
            <a:ext cx="1473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6.4.5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信息认证技术</a:t>
            </a: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69339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AS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算法是信息认证技术中的关键技术，通常有三种实现方式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使用数学上的单向函数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使用分组密码系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基于软件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HAS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7442280" y="6281280"/>
            <a:ext cx="1473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141560"/>
            <a:ext cx="7696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6.5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Outlook Express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下的安全操作实例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96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获取用户的数字标识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果用户选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erisig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公司，用户可以通过以下步骤获得用户的数字标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访问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ttp:\\www.verisign.co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站点，按提示填入用户的个人信息及电子邮件地址，确认无误并提交后，稍过一会儿，用户可以从自己的电子信箱中收到一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erisig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公司发来的电子邮件，其中就包含了用户的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gital IDP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738504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8185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使用用户的数字标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发送签名邮件之前，必须注意电子邮件帐号与数字标识的对应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备份用户的数字标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字标识的部分信息是存储在计算机上的、不能替换的非公开关键字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837720" y="1143000"/>
            <a:ext cx="7086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安全电子邮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发送签名的邮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接收签名的邮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发送加密的邮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接收加密的邮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将用户的数字标识发送给别人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获得他人的数字标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更改数字标识的可信状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>
            <a:off x="7442280" y="6281280"/>
            <a:ext cx="1473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6.6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数据压缩</a:t>
            </a: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44480" y="2057400"/>
            <a:ext cx="61279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6.6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数据压缩概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6.6.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J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压缩工具的使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6.6.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inZ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安装和使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738504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6.6.1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数据压缩概述</a:t>
            </a: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185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压缩文件：是将普通的标准文件重新加密，生成一种尽量少占用磁盘空间的文件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压缩格式：压缩文件时使用的压缩加密方法不同，压缩生成的文件结构就不同，这种压缩文件结构就称为压缩格式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Z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件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Z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KWA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公司开发的一种压缩格式，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Z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格式压缩的文件称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Z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件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Z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件是现在流行的压缩文件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6.1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密码技术概述</a:t>
            </a: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94920" y="2133720"/>
            <a:ext cx="6705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99"/>
                </a:solidFill>
                <a:uFillTx/>
                <a:latin typeface="Verdana"/>
                <a:hlinkClick r:id="rId1" action="ppaction://hlinksldjump"/>
              </a:rPr>
              <a:t>6.1.1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2" action="ppaction://hlinksldjump"/>
              </a:rPr>
              <a:t>　密码通信系统的模型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6.1.2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4" action="ppaction://hlinksldjump"/>
              </a:rPr>
              <a:t>　密码学与密码体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99"/>
                </a:solidFill>
                <a:uFillTx/>
                <a:latin typeface="Verdana"/>
                <a:hlinkClick r:id="rId5" action="ppaction://hlinksldjump"/>
              </a:rPr>
              <a:t>6.1.3  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6" action="ppaction://hlinksldjump"/>
              </a:rPr>
              <a:t>加密方式和加密的实现方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>
            <a:hlinkClick r:id="rId7" action="ppaction://hlinksldjump"/>
          </p:cNvPr>
          <p:cNvSpPr/>
          <p:nvPr/>
        </p:nvSpPr>
        <p:spPr>
          <a:xfrm>
            <a:off x="738504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185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压缩比率：文件被压缩后，占用的磁盘空间与原文件的比率称压缩比率。在常用的压缩格式中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A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格式压缩比率较高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解压：将压缩文件还原为本来的文件格式，也称释放、扩展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压缩包：一般将通用压缩格式的文件称为压缩包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185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打包：将文件压缩成通用压缩格式的压缩文件称为打包，也指将文件压缩添加到压缩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多卷压缩：将压缩的文件包分成几个压缩文件称为多卷压缩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自解压：将文件压缩生成可执行的文件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X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件），然后在没有压缩工具的帮助下，通过执行此文件，就可将原文件解压还原出来，这个过程称为自解压，可执行文件称为自解压文件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"/>
          <p:cNvSpPr/>
          <p:nvPr/>
        </p:nvSpPr>
        <p:spPr>
          <a:xfrm>
            <a:off x="7442280" y="6281280"/>
            <a:ext cx="1473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6.6.2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</a:t>
            </a: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ARJ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压缩工具的使用</a:t>
            </a: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185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ARJ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特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经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J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压缩后，形成一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J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件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J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进行压缩时，显示当前文件的压缩进程的百分比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支持多卷压缩，即可以将文件压缩到多张磁盘上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1828800" y="2057400"/>
            <a:ext cx="6324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以生成自解压文件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以为压缩包设置口令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以连同子目录一起压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以合并多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J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压缩文件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使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校验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185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ARJ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使用方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命令格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J&l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命令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&gt;[-&l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开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&gt;[-&l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开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&g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]]&l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目标文件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&gt;[&l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源文件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J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命令实例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685440" y="1218960"/>
            <a:ext cx="8185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目录中的所有文件压缩，并命名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j1.ar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:\arjart&gt;arj a arj1 \artical\*.*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:\arjart&gt;arj a -E arj1 \artical\*.*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:\artica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两个文件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进行压缩，并命名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j2.ar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:\arjart&gt;arj a arj2\artical\a1\artical\a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:\artica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所有文件使用最大的压缩率进行压缩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:\arjart&gt;arj a -jm arj3\arjtical\*.*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:\artica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所有文件分卷压缩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盘中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:\arjart&gt;arj A -va 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\a\artical\*.*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8185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:\artica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所有文件压缩成为自解压文件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:\arjart&gt;arj a -je arj3\arjtical\*.*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:\arjart&gt;arj a -je1 arj3\arjtical\*.*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:\arjar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压缩文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j2.ar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转换为自解压文件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:\arjart&gt;arj y -je arj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:\arjar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文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j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进行解压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:\arjart&gt;arj e arj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j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加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:\artica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ame3.do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:\arjart&gt;arj m arj2 c:\artical\name3.do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958320" y="1981080"/>
            <a:ext cx="8185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带路径解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j2.ar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:\arjart&gt;arj x arj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j1.ar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j2.ar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j3.ar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并为一个文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w.ar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:\arjart&gt;arj j ww.arj arj1.arj arj2.arj arj3.arj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7442280" y="6281280"/>
            <a:ext cx="1473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6.6.3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</a:t>
            </a: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WinZip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的安装和使用</a:t>
            </a: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WinZ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概述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inZ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系统的要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Z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特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WinZ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安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inZ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安装文件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inZip95.EX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解压文件），用户只需运行此文件，按照安装界面上的步骤及提示，一步一步的操作，便可进行安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1853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WinZ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使用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Wizard and Classi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inZip Wizar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解压操作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inZip Classi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使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创建分卷压缩文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创建自解压文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442280" y="6281280"/>
            <a:ext cx="1473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6.1.1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密码通信系统的模</a:t>
            </a: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型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61468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04920" y="2151000"/>
          <a:ext cx="8458200" cy="31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51000"/>
                    <a:ext cx="8458200" cy="31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2890080" y="5715000"/>
            <a:ext cx="2895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6.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密码通信系统的模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42280" y="6281280"/>
            <a:ext cx="1473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83556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THANK YOU VERY MUCH 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！</a:t>
            </a:r>
            <a:endParaRPr b="1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</a:rPr>
              <a:t>本章到此结束，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</a:rPr>
              <a:t>谢谢您的光临！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>
            <a:hlinkClick r:id="rId1" action="ppaction://hlinksldjump"/>
          </p:cNvPr>
          <p:cNvSpPr/>
          <p:nvPr/>
        </p:nvSpPr>
        <p:spPr>
          <a:xfrm>
            <a:off x="738504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>
            <a:hlinkClick r:id="" action="ppaction://hlinkshowjump?jump=endshow"/>
          </p:cNvPr>
          <p:cNvSpPr/>
          <p:nvPr/>
        </p:nvSpPr>
        <p:spPr>
          <a:xfrm>
            <a:off x="5484960" y="6284520"/>
            <a:ext cx="79020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6.1.2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　密码学与密码体制</a:t>
            </a: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185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对称密钥密码体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对称密钥密码体制的加密方式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序列密码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组密码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对称密钥密码体制的特点：对称密钥密码系统具有加解密速度快、安全强度高、使用的加密算法比较简便高效、密钥简短和破译极其困难的优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185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非对称密钥密码体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用户可以把用于加密的密钥公开地分发给任何人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极大地简化了密钥管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公开密钥加密不仅改进了传统加密方法，还提供了传统加密方法不具备的应用，这就是数字签名系统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8185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混合加密体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公开密钥密码技术在通信双方之间传送秘密密钥，而用秘密密钥来对实际传输的数据加密解密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51460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295280" y="1981080"/>
          <a:ext cx="6629400" cy="33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81080"/>
                    <a:ext cx="6629400" cy="33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1828800" y="57913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6.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混合加密通信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442280" y="6281280"/>
            <a:ext cx="1473120" cy="3988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0T05:44:23Z</dcterms:created>
  <dc:creator>wuxian</dc:creator>
  <dc:description/>
  <dc:language>en-US</dc:language>
  <cp:lastModifiedBy>wuxian</cp:lastModifiedBy>
  <dcterms:modified xsi:type="dcterms:W3CDTF">2002-01-25T03:53:22Z</dcterms:modified>
  <cp:revision>12</cp:revision>
  <dc:subject/>
  <dc:title>第六章　密码技术与压缩技术 </dc:title>
</cp:coreProperties>
</file>