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7E3-643A-4064-B515-1727C2AB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A93-0FB8-4256-86FE-B16729A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134-3ECD-4B58-8E03-2E4FFE95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7F4-1823-4CD2-9C05-8E82726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DDE-BA30-410C-8274-A2037A5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1218240"/>
            <a:ext cx="81532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ECF-DB17-4FC1-AB16-5F4A608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98F-DAC8-407E-989F-41E4F27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9F8-6A50-40A1-B2D6-84839DA8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17E-C951-469D-94D9-CB11010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C52-B4A8-43F0-8645-1D5A522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BA1-F95C-4BBB-953A-B1B220D5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E72-94B8-4FC7-B5FC-B74A7192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218240"/>
            <a:ext cx="81532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9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7720" indent="-27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4416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5060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040" indent="-2214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1754280" y="1522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92d5b"/>
                </a:solidFill>
                <a:latin typeface="隶书"/>
                <a:ea typeface="隶书"/>
              </a:rPr>
              <a:t>第四章　网络安全防护技术</a:t>
            </a:r>
            <a:r>
              <a:rPr b="1" lang="zh-CN" sz="2000" spc="-1" strike="noStrike">
                <a:solidFill>
                  <a:srgbClr val="892d5b"/>
                </a:solidFill>
                <a:latin typeface="隶书"/>
                <a:ea typeface="隶书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533520"/>
            <a:ext cx="3124080" cy="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609480"/>
            <a:ext cx="7772400" cy="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76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C16-837D-4F62-875E-908F0A3A36E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Arial"/>
                <a:ea typeface="黑体"/>
              </a:rPr>
              <a:t>第四章　网络安全防护技术</a:t>
            </a:r>
            <a:r>
              <a:rPr b="1" lang="zh-CN" sz="3600" spc="-1" strike="noStrike">
                <a:solidFill>
                  <a:srgbClr val="892d5b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43792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安全概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计算机网络的安全服务和安全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网络安全防护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2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计算机网络的安全机制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机制概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全机制分为两类，一类是与安全服务有关，；另一类与管理功能有关。网络的安全机制主要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加密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字签名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访问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057040" y="19810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完整性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鉴别交换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业务流分析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路由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证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审计跟踪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和安全机制的关系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562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2666880"/>
          <a:ext cx="663912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66391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安全机制与安全服务的关系对照表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4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机制的配置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2840" y="21333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链路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传输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话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表示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5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安全服务与层的关系的实例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参考模型的各个层能提供的安全服务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57400" y="2057400"/>
          <a:ext cx="523872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387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防护措施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3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的动态安全策略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3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网络的安全管理与安全控制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3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网络安全的常规防护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7" action="ppaction://hlinksldjump"/>
              </a:rPr>
              <a:t>4.3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　网络安全控制措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9" action="ppaction://hlinksldjump"/>
              </a:rPr>
              <a:t>4.3.5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0" action="ppaction://hlinksldjump"/>
              </a:rPr>
              <a:t>　网络安全实施过程中需要注意的一些问题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>
            <a:hlinkClick r:id="rId1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的动态安全策略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运行系统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系统信息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信息传播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上信息内容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29456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3.2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网络的安全管理与安全控制机制</a:t>
            </a: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2209680"/>
            <a:ext cx="5410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隐患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有权账号管理混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缺乏分级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来的隐患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口程序弊病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作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通信实体上实施强制安全策略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允许实体确定与之通信一组实体的自主安全策略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控制和分配信息到提供安全服务的各类开放系统中，报告所提供的安全服务，以及已发生与安全有关的事件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一个实际的开放系统中，可设想与安全有关的信息将存储在文件或表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管理的内容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鉴别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访问控制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密钥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息网络的安全管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网络安全的基本概念和内容。了解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面临着哪些威胁和个人上网用户面临着哪些网络陷阱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理解计算机网络提供的安全服务和安全机制、安全服务和安全机制之间的关系，安全服务与层的关系以及安全服务机制的配置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网络的安全管理与安全控制机制、网络安全的常规防护和控制措施，以及网络安全实施过程中需要注意的一些问题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审计跟踪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计跟踪管理包括：远程事件收集和报告，以及允许和不允许对选择的事件进行审计跟踪。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下，可审计的事件是妨碍系统安全的各种企图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常规防护措施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8440" y="213336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采用备份来避免损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帮助用户自助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预防引导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预防文件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访问控制加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止无意的信息披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服务器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47560" y="1981080"/>
            <a:ext cx="6476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网络操作系统的安全功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阻止局外人攻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要促成过早的硬件故障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灾难准备硬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学习数据恢复的基本知识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定安全恢复策略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3.4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控制措施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80720" y="228564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访问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逻辑访问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织方面的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事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操作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62320" y="2133720"/>
            <a:ext cx="4876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程序开发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站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服务器控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传输保护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7872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2d5b"/>
                </a:solidFill>
                <a:latin typeface="Comic Sans MS"/>
              </a:rPr>
              <a:t>4.3.5</a:t>
            </a:r>
            <a:r>
              <a:rPr b="1" lang="zh-CN" sz="2800" spc="-1" strike="noStrike">
                <a:solidFill>
                  <a:srgbClr val="892d5b"/>
                </a:solidFill>
                <a:latin typeface="Times New Roman"/>
              </a:rPr>
              <a:t>　网络安全实施过程中需要注意的一些问题</a:t>
            </a:r>
            <a:endParaRPr b="1" lang="en-US" sz="28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安全分级应以风险为依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效防止部件被毁坏或丢失可以得到最佳收益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概念确定在设计早期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完善规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注重经济效益规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安全防护措施进行综合集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尽量减少与外部的联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致性与平等原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以接受的基本原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刻关注技术进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94356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바탕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바탕"/>
              </a:rPr>
              <a:t>！</a:t>
            </a:r>
            <a:endParaRPr b="1" lang="en-US" sz="40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54849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1218240"/>
            <a:ext cx="5130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概述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1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网络安全的定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1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网络安全的研究内容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5" action="ppaction://hlinksldjump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6" action="ppaction://hlinksldjump"/>
              </a:rPr>
              <a:t>4.1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7" action="ppaction://hlinksldjump"/>
              </a:rPr>
              <a:t>　</a:t>
            </a:r>
            <a:r>
              <a:rPr b="1" lang="en-US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9" action="ppaction://hlinksldjump"/>
              </a:rPr>
              <a:t>安全面临的威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0" action="ppaction://hlinksldjump"/>
              </a:rPr>
              <a:t>4.1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1" action="ppaction://hlinksldjump"/>
              </a:rPr>
              <a:t>　个人上网用户面临的网络陷阱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>
            <a:hlinkClick r:id="rId12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定义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密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完整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用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审查性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ount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2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网络安全的研究内容</a:t>
            </a: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2133360"/>
            <a:ext cx="5410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物理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逻辑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操作系统提供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联网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其他形式的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虚假安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1.3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892d5b"/>
                </a:solidFill>
                <a:latin typeface="Comic Sans MS"/>
              </a:rPr>
              <a:t>Internet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安全面临的威胁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5562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黑客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计算机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洛伊木马程序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后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窥探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21788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1.4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个人上网用户面临的网络陷阱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账号密码被窃取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电子炸弹”和“垃圾邮件”骚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网络病毒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nnuk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攻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21788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4.2</a:t>
            </a:r>
            <a:r>
              <a:rPr b="1" lang="zh-CN" sz="3200" spc="-1" strike="noStrike">
                <a:solidFill>
                  <a:srgbClr val="892d5b"/>
                </a:solidFill>
                <a:latin typeface="Times New Roman"/>
              </a:rPr>
              <a:t>　计算机网络的安全服务和安全机制</a:t>
            </a:r>
            <a:r>
              <a:rPr b="1" lang="zh-CN" sz="3200" spc="-1" strike="noStrike">
                <a:solidFill>
                  <a:srgbClr val="892d5b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1" action="ppaction://hlinksldjump"/>
              </a:rPr>
              <a:t>4.2.1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2" action="ppaction://hlinksldjump"/>
              </a:rPr>
              <a:t>　计算机网络的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3" action="ppaction://hlinksldjump"/>
              </a:rPr>
              <a:t>4.2.2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4" action="ppaction://hlinksldjump"/>
              </a:rPr>
              <a:t>　计算机网络的安全机制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5" action="ppaction://hlinksldjump"/>
              </a:rPr>
              <a:t>4.2.3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6" action="ppaction://hlinksldjump"/>
              </a:rPr>
              <a:t>　安全服务和安全机制的关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7" action="ppaction://hlinksldjump"/>
              </a:rPr>
              <a:t>4.2.4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8" action="ppaction://hlinksldjump"/>
              </a:rPr>
              <a:t>　安全服务机制的配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cc"/>
                </a:solidFill>
                <a:uFillTx/>
                <a:latin typeface="Comic Sans MS"/>
                <a:hlinkClick r:id="rId9" action="ppaction://hlinksldjump"/>
              </a:rPr>
              <a:t>4.2.5</a:t>
            </a:r>
            <a:r>
              <a:rPr b="1" lang="zh-CN" sz="2800" spc="-1" strike="noStrike" u="sng">
                <a:solidFill>
                  <a:srgbClr val="9900cc"/>
                </a:solidFill>
                <a:uFillTx/>
                <a:latin typeface="Times New Roman"/>
                <a:hlinkClick r:id="rId10" action="ppaction://hlinksldjump"/>
              </a:rPr>
              <a:t>　安全服务与层的关系的实例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>
            <a:hlinkClick r:id="rId1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cc9b1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ced"/>
            </a:gs>
            <a:gs pos="100000">
              <a:srgbClr val="c6cb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21824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92d5b"/>
                </a:solidFill>
                <a:latin typeface="Comic Sans MS"/>
              </a:rPr>
              <a:t>4.2.1</a:t>
            </a:r>
            <a:r>
              <a:rPr b="1" lang="zh-CN" sz="3600" spc="-1" strike="noStrike">
                <a:solidFill>
                  <a:srgbClr val="892d5b"/>
                </a:solidFill>
                <a:latin typeface="Times New Roman"/>
              </a:rPr>
              <a:t>　计算机网络的安全服务</a:t>
            </a:r>
            <a:endParaRPr b="1" lang="en-US" sz="3600" spc="-1" strike="noStrike">
              <a:solidFill>
                <a:srgbClr val="892d5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象认证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访问控制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保密性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完整性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抵赖安全服务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054920" y="6281280"/>
            <a:ext cx="1403280" cy="39888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9T07:19:52Z</dcterms:created>
  <dc:creator>wuxian</dc:creator>
  <dc:description/>
  <dc:language>en-US</dc:language>
  <cp:lastModifiedBy>wuxian</cp:lastModifiedBy>
  <dcterms:modified xsi:type="dcterms:W3CDTF">2002-01-25T03:45:12Z</dcterms:modified>
  <cp:revision>6</cp:revision>
  <dc:subject/>
  <dc:title>第四章　网络安全防护技术 </dc:title>
</cp:coreProperties>
</file>