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B9A-B9EB-49C6-B3E0-6DD744A7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8A5-1749-4A6E-BE0A-65B6EBEA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04D-8E4C-4784-A646-469CD3C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196-BEDB-4840-8142-9F75B63E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7BAC-0FA9-4BD2-9E9A-9C6AB0DB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E565-965C-4AAE-9198-50FBD5C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8C39-47A7-4E39-B322-F5A9D66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61B3-296E-48CA-876D-B18EFE5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C64F-BC06-4F5D-85E3-C53937E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C130-4D60-4D05-B117-963D90B6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BDC-E787-402D-A699-AF735E2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216-CFC0-45CF-A8E2-B40E885A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003-421F-4C7E-AE70-FA671D3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462C-9468-4F26-A4B1-EE75136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A8D5-6176-44F6-8D24-D242E171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1A02-725D-4A65-B83F-017ACC34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560C-988E-44AF-B1C3-0EB73E70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D0D-CA96-4C98-B7B9-B75A2F0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143-AD17-4BBD-A316-6826587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59E-1FBA-4644-9925-8E597DF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2B4-3593-426B-9712-243EAED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D97-E138-4631-89FB-46CA89B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A62-8EAE-4805-BAEF-8CEC367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AEC-0291-4817-954A-33076367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框a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框a2" descr=""/>
            <p:cNvPicPr/>
            <p:nvPr/>
          </p:nvPicPr>
          <p:blipFill>
            <a:blip r:embed="rId3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框a3" descr=""/>
            <p:cNvPicPr/>
            <p:nvPr/>
          </p:nvPicPr>
          <p:blipFill>
            <a:blip r:embed="rId4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框a4" descr=""/>
            <p:cNvPicPr/>
            <p:nvPr/>
          </p:nvPicPr>
          <p:blipFill>
            <a:blip r:embed="rId5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971-A330-43A6-B1CA-5B1C0454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a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框a2" descr=""/>
            <p:cNvPicPr/>
            <p:nvPr/>
          </p:nvPicPr>
          <p:blipFill>
            <a:blip r:embed="rId3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框a3" descr=""/>
            <p:cNvPicPr/>
            <p:nvPr/>
          </p:nvPicPr>
          <p:blipFill>
            <a:blip r:embed="rId4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框a4" descr=""/>
            <p:cNvPicPr/>
            <p:nvPr/>
          </p:nvPicPr>
          <p:blipFill>
            <a:blip r:embed="rId5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麒靈" descr=""/>
          <p:cNvPicPr/>
          <p:nvPr/>
        </p:nvPicPr>
        <p:blipFill>
          <a:blip r:embed="rId6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FBE-9A12-411E-8109-0C737120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&#19968;&#31456;%20%20&#35745;&#31639;&#26426;&#32593;&#32476;&#23433;&#20840;&#25216;&#26415;&#27010;&#35770;.ppt#1. &#31532;&#19968;&#31456;  &#35745;&#31639;&#26426;&#32593;&#32476;&#23433;&#20840;&#25216;&#26415;&#27010;&#35770;" TargetMode="External"/><Relationship Id="rId2" Type="http://schemas.openxmlformats.org/officeDocument/2006/relationships/hyperlink" Target="file:///&#31532;&#19968;&#31456;%20%20&#35745;&#31639;&#26426;&#32593;&#32476;&#23433;&#20840;&#25216;&#26415;&#27010;&#35770;.ppt#1. &#31532;&#19968;&#31456;  &#35745;&#31639;&#26426;&#32593;&#32476;&#23433;&#20840;&#25216;&#26415;&#27010;&#35770;" TargetMode="External"/><Relationship Id="rId3" Type="http://schemas.openxmlformats.org/officeDocument/2006/relationships/hyperlink" Target="file:///&#31532;&#19968;&#31456;%20%20&#35745;&#31639;&#26426;&#32593;&#32476;&#23433;&#20840;&#25216;&#26415;&#27010;&#35770;.ppt#1. &#31532;&#19968;&#31456;  &#35745;&#31639;&#26426;&#32593;&#32476;&#23433;&#20840;&#25216;&#26415;&#27010;&#35770;" TargetMode="External"/><Relationship Id="rId4" Type="http://schemas.openxmlformats.org/officeDocument/2006/relationships/hyperlink" Target="file:///&#31532;&#20108;&#31456;&#12288;&#23454;&#20307;&#23433;&#20840;&#19982;&#30828;&#20214;&#38450;&#25252;&#25216;&#26415;.ppt#1. &#31532;&#20108;&#31456;&#12288;&#23454;&#20307;&#23433;&#20840;&#19982;&#30828;&#20214;&#38450;&#25252;&#25216;&#26415;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华文新魏"/>
              </a:rPr>
              <a:t>计算机网络安全技术</a:t>
            </a:r>
            <a:endParaRPr b="1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038480"/>
            <a:ext cx="5425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蔡立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立明  李  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5880" y="5867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出版社出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1960" y="10666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欢迎您使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29400" y="3459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八章　计算机病毒及防治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病毒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下的病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宏病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计算机病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反病毒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典型病毒实例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I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毒介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九章　防火墙技术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680" y="20426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防火墙技术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防火墙技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防火墙设计实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第十章　系统平台与网络站点的安全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678204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indows N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的安全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UNI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的安全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站点的安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反黑客技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欢迎您使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03160" y="601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4341960" y="6019920"/>
            <a:ext cx="790200" cy="398880"/>
          </a:xfrm>
          <a:prstGeom prst="rect">
            <a:avLst/>
          </a:prstGeom>
          <a:noFill/>
          <a:ln cap="rnd" w="38160">
            <a:solidFill>
              <a:srgbClr val="8f6d5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2767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计算机网络安全技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电子教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目      录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  <a:hlinkClick r:id="rId1"/>
              </a:rPr>
              <a:t>第一章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  <a:hlinkClick r:id="rId3"/>
              </a:rPr>
              <a:t>计算机网络安全技术概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  <a:hlinkClick r:id="rId4"/>
              </a:rPr>
              <a:t>第二章　实体安全与硬件防护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三章　计算机软件安全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四章　网络安全防护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五章　备份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六章　密码技术与压缩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七章　数据库系统安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八章　计算机病毒及防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九章　防火墙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十章  系统平台与网络站点的安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一章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计算机网络安全技术概论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网络安全的概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系统面临的威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系统的脆弱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安全技术的研究内容和发展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安全的三个层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安全的设计和基本原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安全技术评价标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二章　实体安全与硬件防护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实体安全技术概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房场地环境的安全防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安全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电磁防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硬件防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三章　计算机软件安全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0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软件安全技术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文件加密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运行中的反跟踪技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防止非法复制软件的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保证软件质量的安全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四章　网络安全防护技术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安全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的安全服务和安全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安全防护措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五章　备份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2514240"/>
            <a:ext cx="664056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备份技术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备份技术与备份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备份方案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典型的网络系统备份方案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六章　密码技术与压缩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948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密码技术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加密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密钥与密码破译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常用信息加密技术介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ook Expr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的安全操作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压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七章　数据库系统安全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系统简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系统安全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的数据保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死锁、活锁和可串行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的备份与恢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攻击数据库的常用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系统安全保护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5:27:52Z</dcterms:created>
  <dc:creator>新人电脑</dc:creator>
  <dc:description/>
  <dc:language>en-US</dc:language>
  <cp:lastModifiedBy>新人电脑</cp:lastModifiedBy>
  <dcterms:modified xsi:type="dcterms:W3CDTF">2002-01-23T05:47:28Z</dcterms:modified>
  <cp:revision>6</cp:revision>
  <dc:subject/>
  <dc:title>计算机网络实用技术</dc:title>
</cp:coreProperties>
</file>