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3208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0540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7308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0540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7308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640-EE34-4375-970F-308BE303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E41-B888-4455-A884-67075857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25D-F909-4C5C-B204-70619E1E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A72-D361-4FFD-B358-897C92A8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FF0-40C7-4E9D-BD49-5789A1A2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440" y="432360"/>
            <a:ext cx="61722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04B-B2EE-4200-A1C0-C2F81ACC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676-4D7B-4141-8674-3BF986AE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08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51F-5748-4695-BE87-7D9DE1CF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4CA-4295-4501-896E-920267B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5F9-17D9-464C-990A-CFDBE1AA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3208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C60-6749-4463-9481-7808F1EE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0540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7308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0540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7308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4CB-B9A2-4BB3-B15D-8CC4EDD5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440" y="432360"/>
            <a:ext cx="61722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08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0960" indent="-28296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604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669960" y="60480"/>
            <a:ext cx="7940520" cy="39888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第六章　密码技术与压缩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400" y="188640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04C8-B728-45EF-A6E8-5505BA4975E1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35.xml"/><Relationship Id="rId13" Type="http://schemas.openxmlformats.org/officeDocument/2006/relationships/slide" Target="slide35.xml"/><Relationship Id="rId14" Type="http://schemas.openxmlformats.org/officeDocument/2006/relationships/slide" Target="slide38.xml"/><Relationship Id="rId15" Type="http://schemas.openxmlformats.org/officeDocument/2006/relationships/slide" Target="slide38.xml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32.xml"/><Relationship Id="rId14" Type="http://schemas.openxmlformats.org/officeDocument/2006/relationships/slide" Target="slide32.xml"/><Relationship Id="rId15" Type="http://schemas.openxmlformats.org/officeDocument/2006/relationships/slide" Target="slide32.xml"/><Relationship Id="rId16" Type="http://schemas.openxmlformats.org/officeDocument/2006/relationships/slide" Target="slide32.xml"/><Relationship Id="rId17" Type="http://schemas.openxmlformats.org/officeDocument/2006/relationships/slide" Target="slide32.xml"/><Relationship Id="rId18" Type="http://schemas.openxmlformats.org/officeDocument/2006/relationships/slide" Target="slide32.xml"/><Relationship Id="rId19" Type="http://schemas.openxmlformats.org/officeDocument/2006/relationships/slide" Target="slide32.xml"/><Relationship Id="rId20" Type="http://schemas.openxmlformats.org/officeDocument/2006/relationships/slide" Target="slide34.xml"/><Relationship Id="rId21" Type="http://schemas.openxmlformats.org/officeDocument/2006/relationships/slide" Target="slide34.xml"/><Relationship Id="rId22" Type="http://schemas.openxmlformats.org/officeDocument/2006/relationships/slide" Target="slide1.xml"/><Relationship Id="rId2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第六章　密码技术与压缩技术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6.1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　密码技术概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6.2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　加密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6.3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6" action="ppaction://hlinksldjump"/>
              </a:rPr>
              <a:t>　密钥与密码破译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6.4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8" action="ppaction://hlinksldjump"/>
              </a:rPr>
              <a:t>　常用信息加密技术介绍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9" action="ppaction://hlinksldjump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6.5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1" action="ppaction://hlinksldjump"/>
              </a:rPr>
              <a:t>　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12" action="ppaction://hlinksldjump"/>
              </a:rPr>
              <a:t>Outlook Express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3" action="ppaction://hlinksldjump"/>
              </a:rPr>
              <a:t>下的安全操作实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6.6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5" action="ppaction://hlinksldjump"/>
              </a:rPr>
              <a:t>　数据压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1.3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加密方式和加密的实现方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58320" y="2057040"/>
            <a:ext cx="8185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块和数据流加密的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块加密是指把数据划分为定长的数据块，再分别加密。数据流加密是指加密后的密文前部分，用来参与报文后面部分的加密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133360" y="205740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三种加密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链路加密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节点对节点加密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端对端加密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加密的实现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软件加密一般是用户在发送信息前，先调用信息安全模块对信息进行加密，然后发送出去，到达接收方后，由用户用相应的解密软件进行解密，还原成明文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硬件加密可以采用标准的网络管理协议（比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NM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M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来进行管理，也可以采用统一的自定义网络管理协议进行管理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加密方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6.2.1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　加密系统的组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6.2.2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　四种传统加密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>
            <a:hlinkClick r:id="rId5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2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加密系统的组成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待加密的报文，也称明文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密后的报文，也称密文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密、解密装置或称算法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加密和解密的密钥，它可以是数字，词汇或者语句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2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四种传统加密方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14240" y="2057040"/>
            <a:ext cx="5334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代码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替换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变位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次性密码簿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密钥与密码破译方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密钥的穷尽搜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破译密文就是尝试所有可能的密钥组合。虽然大多数的密钥尝试都是失败的，但最终有一个密钥让破译者得到原文，这个过程称为密钥的穷尽搜索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密码分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已知明文的破译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定明文的破译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其他密码破译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窥视”或“偷窃”密钥内容；利用加密系统实现中的缺陷或漏洞；对用户使用的加密系统偷梁换柱；从用户工作生活环境的其他来源获得未加密的保密信息，比如进行“垃圾分析”；让口令的另一方透露密钥或信息；威胁用户交出密钥等等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0" y="205704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防止密码破译的措施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强壮的加密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动态会话密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护关键密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47920" y="4724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常见系统的口令及其对应的密钥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2057400"/>
          <a:ext cx="82296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了解密码通信系统的模型，对称密钥密码体制和非对称密钥密码体制的加密方式和各自的特点，链路加密、节点加密和端对端加密等三种加密方式的优缺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掌握代码加密，替换加密，变位加密，以及一次性密码簿加密等４种传统加密方法的加密原理；理解常见的密码破译方法，防止密码破译的措施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98892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常用信息加密技术介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99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6.4.1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　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3" action="ppaction://hlinksldjump"/>
              </a:rPr>
              <a:t>DES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6.4.2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6" action="ppaction://hlinksldjump"/>
              </a:rPr>
              <a:t>　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7" action="ppaction://hlinksldjump"/>
              </a:rPr>
              <a:t>IDEA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8" action="ppaction://hlinksldjump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6.4.3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0" action="ppaction://hlinksldjump"/>
              </a:rPr>
              <a:t>　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11" action="ppaction://hlinksldjump"/>
              </a:rPr>
              <a:t>RSA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2" action="ppaction://hlinksldjump"/>
              </a:rPr>
              <a:t>公开密钥密码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6.4.4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4" action="ppaction://hlinksldjump"/>
              </a:rPr>
              <a:t>　典型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15" action="ppaction://hlinksldjump"/>
              </a:rPr>
              <a:t>HASH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6" action="ppaction://hlinksldjump"/>
              </a:rPr>
              <a:t>算法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黑体"/>
                <a:hlinkClick r:id="rId17" action="ppaction://hlinksldjump"/>
              </a:rPr>
              <a:t>——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黑体"/>
                <a:hlinkClick r:id="rId18" action="ppaction://hlinksldjump"/>
              </a:rPr>
              <a:t>MD5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9" action="ppaction://hlinksldjump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20" action="ppaction://hlinksldjump"/>
              </a:rPr>
              <a:t>6.4.5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1" action="ppaction://hlinksldjump"/>
              </a:rPr>
              <a:t>　信息认证技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>
            <a:hlinkClick r:id="rId22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ES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算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对称密钥加密的算法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法大致可以分成四个部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初始置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迭代过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逆置换和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子密钥生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1528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6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密原理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528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153280" cy="32832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685800" y="1981080"/>
            <a:ext cx="8118360" cy="0"/>
            <a:chOff x="685800" y="1981080"/>
            <a:chExt cx="8118360" cy="0"/>
          </a:xfrm>
        </p:grpSpPr>
        <p:sp>
          <p:nvSpPr>
            <p:cNvPr id="263" name=""/>
            <p:cNvSpPr/>
            <p:nvPr/>
          </p:nvSpPr>
          <p:spPr>
            <a:xfrm>
              <a:off x="685800" y="19810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5320" y="19810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8160" y="19810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IDEA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算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法可用于加密和解密。主要有三种运算：异或、模加、模乘，容易用软件和硬件来实现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速度：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软件实现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速度一样块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密码安全分析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密钥长度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，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密钥长度的两倍。在穷举攻击的情况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需要经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1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加密才能恢复出密钥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1065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.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RSA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公开密钥密码算法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的原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种算法的要点在于，它可以产生一对密钥，一个人可以用密钥对中的一个加密消息，另一个人则可以用密钥对中的另一个解密消息。同时，任何人都无法通过公钥确定私钥，也没有人能使用加密消息的密钥解密。只有密钥对中的另一把可以解密消息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133720" y="21337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的演算过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密钥配制过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解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举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两个质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=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=1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乘积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=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=1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出另一个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=(p-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-1)=1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选取一个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=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质的数，例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=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公开密钥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这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值，可以算出其逆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=10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=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3=72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 mod z 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721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 120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立。则秘密密钥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张小姐需要发送机密信息（明文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=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李先生，她已经从公开媒体得到了李先生的公开密钥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她算出加密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od n=8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od 143=1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发送给李先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先生在收到密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=1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，利用只有他自己知道的秘密密钥计算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od n =12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od 143=8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，李先生可以得到张小姐发给他的真正的信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=8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现了解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安全性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目前的计算机水平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0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密钥是安全的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是绝对安全的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室认为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不够安全，应停止使用，现在的个人需要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6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司要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0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其重要的场合应该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于身份验证和数字签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字签名必须保证以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收者能够核实发送者对报文的签名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送者事后不能抵赖对报文的签名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收者不能伪造对报文的签名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已有多种实现各种数字方法，但签名的采用公开密钥算法要比常规算法更容易实现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掌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开密钥密码算法的原理及应用。熟悉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Outlook Expr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安全电子邮件的方法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熟练掌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Z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常用的数据压缩工具的使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密钥分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认的有效方法是通过密钥分配中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管理和分配公开密钥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公开密钥和秘密密钥分别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K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K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用户只保存自己的秘密密钥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公开密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K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户可以通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任何其他用户的公开密钥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980720" y="1905120"/>
            <a:ext cx="62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针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攻击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密文攻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过小加密指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计时攻击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其他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攻击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1065600"/>
            <a:ext cx="8501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6.4.4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　典型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HASH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算法——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MD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算法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8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介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了一种单向的哈希函数，是一个校验和工具。它将一个任意长的字串做为输入，产生一个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“报文摘要”。通过计算每个文件的数字指纹（或数字签名），来检查文件是否被更换，或者是否与原来的一致。一个称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的算法集就是进行这项工作的。其中最常用到的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系统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248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安全性问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普通直接攻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日攻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其他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攻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.5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信息认证技术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933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AS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法是信息认证技术中的关键技术，通常有三种实现方式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数学上的单向函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分组密码系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基于软件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HAS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141560"/>
            <a:ext cx="7696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6.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Outlook Express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下的安全操作实例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获取用户的数字标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用户选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isig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司，用户可以通过以下步骤获得用户的数字标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ttp:\\www.verisign.c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站点，按提示填入用户的个人信息及电子邮件地址，确认无误并提交后，稍过一会儿，用户可以从自己的电子信箱中收到一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isig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司发来的电子邮件，其中就包含了用户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gital IDP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185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用户的数字标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送签名邮件之前，必须注意电子邮件帐号与数字标识的对应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备份用户的数字标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字标识的部分信息是存储在计算机上的、不能替换的非公开关键字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电子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发送签名的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接收签名的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发送加密的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接收加密的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用户的数字标识发送给别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获得他人的数字标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更改数字标识的可信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6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数据压缩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44480" y="2057400"/>
            <a:ext cx="6127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.6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压缩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.6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缩工具的使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.6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装和使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6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数据压缩概述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压缩文件：是将普通的标准文件重新加密，生成一种尽量少占用磁盘空间的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压缩格式：压缩文件时使用的压缩加密方法不同，压缩生成的文件结构就不同，这种压缩文件结构就称为压缩格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KWA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司开发的一种压缩格式，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压缩的文件称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是现在流行的压缩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密码技术概述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6.1.1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　密码通信系统的模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6.1.2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　密码学与密码体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6.1.3  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6" action="ppaction://hlinksldjump"/>
              </a:rPr>
              <a:t>加密方式和加密的实现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压缩比率：文件被压缩后，占用的磁盘空间与原文件的比率称压缩比率。在常用的压缩格式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压缩比率较高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解压：将压缩文件还原为本来的文件格式，也称释放、扩展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压缩包：一般将通用压缩格式的文件称为压缩包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包：将文件压缩成通用压缩格式的压缩文件称为打包，也指将文件压缩添加到压缩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多卷压缩：将压缩的文件包分成几个压缩文件称为多卷压缩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自解压：将文件压缩生成可执行的文件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），然后在没有压缩工具的帮助下，通过执行此文件，就可将原文件解压还原出来，这个过程称为自解压，可执行文件称为自解压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6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ARJ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压缩工具的使用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经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缩后，形成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进行压缩时，显示当前文件的压缩进程的百分比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支持多卷压缩，即可以将文件压缩到多张磁盘上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生成自解压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为压缩包设置口令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连同子目录一起压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合并多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缩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校验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使用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命令格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J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&gt;[-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&gt;[-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]]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标文件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&gt;[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源文件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实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818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目录中的所有文件压缩，并命名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1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arj1 \artical\*.*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E arj1 \artical\*.*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两个文件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行压缩，并命名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arj2\artical\a1\artical\a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文件使用最大的压缩率进行压缩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jm arj3\arjtical\*.*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文件分卷压缩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盘中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va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\a\artical\*.*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85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文件压缩成为自解压文件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je arj3\arjtical\*.*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je1 arj3\arjtical\*.*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压缩文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.ar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为自解压文件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y -je arj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文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行解压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e arj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加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3.d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m arj2 c:\artical\name3.d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58320" y="1981080"/>
            <a:ext cx="8185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路径解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x arj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1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3.ar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并为一个文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w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j ww.arj arj1.arj arj2.arj arj3.arj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6.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WinZi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的安装和使用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系统的要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安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装文件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95.EX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解压文件），用户只需运行此文件，按照安装界面上的步骤及提示，一步一步的操作，便可进行安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使用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Wizard and Class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 Wizar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压操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 Classi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创建分卷压缩文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创建自解压文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1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密码通信系统的模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型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61468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51000"/>
          <a:ext cx="845820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51000"/>
                    <a:ext cx="845820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890080" y="5715000"/>
            <a:ext cx="2895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6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密码通信系统的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83556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THANK YOU VERY MUCH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！</a:t>
            </a:r>
            <a:endParaRPr b="1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endshow"/>
          </p:cNvPr>
          <p:cNvSpPr/>
          <p:nvPr/>
        </p:nvSpPr>
        <p:spPr>
          <a:xfrm>
            <a:off x="54849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1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密码学与密码体制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85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称密钥密码体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称密钥密码体制的加密方式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序列密码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组密码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称密钥密码体制的特点：对称密钥密码系统具有加解密速度快、安全强度高、使用的加密算法比较简便高效、密钥简短和破译极其困难的优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非对称密钥密码体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户可以把用于加密的密钥公开地分发给任何人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极大地简化了密钥管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公开密钥加密不仅改进了传统加密方法，还提供了传统加密方法不具备的应用，这就是数字签名系统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18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混合加密体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公开密钥密码技术在通信双方之间传送秘密密钥，而用秘密密钥来对实际传输的数据加密解密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146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295280" y="1981080"/>
          <a:ext cx="662940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62940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828800" y="5791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6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混合加密通信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5:44:23Z</dcterms:created>
  <dc:creator>wuxian</dc:creator>
  <dc:description/>
  <dc:language>en-US</dc:language>
  <cp:lastModifiedBy>wuxian</cp:lastModifiedBy>
  <dcterms:modified xsi:type="dcterms:W3CDTF">2002-01-25T03:53:22Z</dcterms:modified>
  <cp:revision>12</cp:revision>
  <dc:subject/>
  <dc:title>第六章　密码技术与压缩技术 </dc:title>
</cp:coreProperties>
</file>