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D37F-FC32-4CF0-ACF7-0430268A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D88-AE47-406C-8644-10D2DC5F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2233-F413-4C5D-A85D-55B55856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9719-CB2D-4869-B0D4-7C6CD86F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76A1-EC42-4D68-9F18-98AD2050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90720" y="1218240"/>
            <a:ext cx="81532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C7E1-0FD9-458D-8272-3D2A3E2F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B8A0-1349-4B70-9886-0C675486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090F-18DA-4090-B5EE-5C1E033E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007-EBC5-4E66-8FAE-84F07E53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52E9-B239-4EC1-BA99-C187F9C7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7DA-1EFB-4FB1-B619-7296A7BF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50F4-0384-4A6C-B7CD-D0C21FE0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1218240"/>
            <a:ext cx="81532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9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2d5b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37720" indent="-2772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244160" indent="-2214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50600" indent="-2214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040" indent="-2214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040" indent="-2214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040" indent="-2214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"/>
          <p:cNvSpPr/>
          <p:nvPr/>
        </p:nvSpPr>
        <p:spPr>
          <a:xfrm>
            <a:off x="1754280" y="15228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92d5b"/>
                </a:solidFill>
                <a:latin typeface="隶书"/>
                <a:ea typeface="隶书"/>
              </a:rPr>
              <a:t>第四章　网络安全防护技术</a:t>
            </a:r>
            <a:r>
              <a:rPr b="1" lang="zh-CN" sz="2000" spc="-1" strike="noStrike">
                <a:solidFill>
                  <a:srgbClr val="892d5b"/>
                </a:solidFill>
                <a:latin typeface="隶书"/>
                <a:ea typeface="隶书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7920" y="533520"/>
            <a:ext cx="3124080" cy="0"/>
          </a:xfrm>
          <a:prstGeom prst="line">
            <a:avLst/>
          </a:prstGeom>
          <a:ln cap="rnd" w="93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609480"/>
            <a:ext cx="7772400" cy="0"/>
          </a:xfrm>
          <a:prstGeom prst="line">
            <a:avLst/>
          </a:prstGeom>
          <a:ln cap="rnd" w="93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5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2d5b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DDA6-9DC0-4410-A703-E98F912A197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23.xml"/><Relationship Id="rId8" Type="http://schemas.openxmlformats.org/officeDocument/2006/relationships/slide" Target="slide23.xml"/><Relationship Id="rId9" Type="http://schemas.openxmlformats.org/officeDocument/2006/relationships/slide" Target="slide25.xml"/><Relationship Id="rId10" Type="http://schemas.openxmlformats.org/officeDocument/2006/relationships/slide" Target="slide25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" Target="slide1.xml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Arial"/>
                <a:ea typeface="黑体"/>
              </a:rPr>
              <a:t>第四章　网络安全防护技术</a:t>
            </a:r>
            <a:r>
              <a:rPr b="1" lang="zh-CN" sz="3600" spc="-1" strike="noStrike">
                <a:solidFill>
                  <a:srgbClr val="892d5b"/>
                </a:solidFill>
                <a:latin typeface="Arial"/>
                <a:ea typeface="Arial"/>
              </a:rPr>
              <a:t>	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2437920"/>
            <a:ext cx="7467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1" action="ppaction://hlinksldjump"/>
              </a:rPr>
              <a:t>4.1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2" action="ppaction://hlinksldjump"/>
              </a:rPr>
              <a:t>　网络安全概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3" action="ppaction://hlinksldjump"/>
              </a:rPr>
              <a:t>4.2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4" action="ppaction://hlinksldjump"/>
              </a:rPr>
              <a:t>　计算机网络的安全服务和安全机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5" action="ppaction://hlinksldjump"/>
              </a:rPr>
              <a:t>4.3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6" action="ppaction://hlinksldjump"/>
              </a:rPr>
              <a:t>　网络安全防护措施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2.2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计算机网络的安全机制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安全机制概述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安全机制分为两类，一类是与安全服务有关，；另一类与管理功能有关。网络的安全机制主要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加密机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数字签名机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访问控制机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057040" y="1981080"/>
            <a:ext cx="6095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数据完整性机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鉴别交换机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防业务流分析机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路由控制机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公证机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安全审计跟踪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2.3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安全服务和安全机制的关系</a:t>
            </a: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	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55627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95280" y="2666880"/>
          <a:ext cx="6639120" cy="30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666880"/>
                    <a:ext cx="663912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20574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4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安全机制与安全服务的关系对照表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2.4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安全服务机制的配置</a:t>
            </a: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	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742840" y="21333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物理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数据链路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网络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传输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会话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表示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应用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2.5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安全服务与层的关系的实例</a:t>
            </a: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	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47560" y="563832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4.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　参考模型的各个层能提供的安全服务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057400" y="2057400"/>
          <a:ext cx="5238720" cy="34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23872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3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网络安全防护措施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1" action="ppaction://hlinksldjump"/>
              </a:rPr>
              <a:t>4.3.1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2" action="ppaction://hlinksldjump"/>
              </a:rPr>
              <a:t>　网络的动态安全策略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3" action="ppaction://hlinksldjump"/>
              </a:rPr>
              <a:t>4.3.2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4" action="ppaction://hlinksldjump"/>
              </a:rPr>
              <a:t>　网络的安全管理与安全控制机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5" action="ppaction://hlinksldjump"/>
              </a:rPr>
              <a:t>4.3.3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6" action="ppaction://hlinksldjump"/>
              </a:rPr>
              <a:t>　网络安全的常规防护措施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7" action="ppaction://hlinksldjump"/>
              </a:rPr>
              <a:t>4.3.4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8" action="ppaction://hlinksldjump"/>
              </a:rPr>
              <a:t>　网络安全控制措施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9" action="ppaction://hlinksldjump"/>
              </a:rPr>
              <a:t>4.3.5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10" action="ppaction://hlinksldjump"/>
              </a:rPr>
              <a:t>　网络安全实施过程中需要注意的一些问题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>
            <a:hlinkClick r:id="rId11" action="ppaction://hlinksldjump"/>
          </p:cNvPr>
          <p:cNvSpPr/>
          <p:nvPr/>
        </p:nvSpPr>
        <p:spPr>
          <a:xfrm>
            <a:off x="738504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cc9b1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3.1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网络的动态安全策略</a:t>
            </a: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	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运行系统的安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网络上系统信息的安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网络上信息传播的安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网络上信息内容的安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129456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92d5b"/>
                </a:solidFill>
                <a:latin typeface="Comic Sans MS"/>
              </a:rPr>
              <a:t>4.3.2</a:t>
            </a:r>
            <a:r>
              <a:rPr b="1" lang="zh-CN" sz="3200" spc="-1" strike="noStrike">
                <a:solidFill>
                  <a:srgbClr val="892d5b"/>
                </a:solidFill>
                <a:latin typeface="Times New Roman"/>
              </a:rPr>
              <a:t>　网络的安全管理与安全控制机制</a:t>
            </a:r>
            <a:r>
              <a:rPr b="1" lang="zh-CN" sz="3200" spc="-1" strike="noStrike">
                <a:solidFill>
                  <a:srgbClr val="892d5b"/>
                </a:solidFill>
                <a:latin typeface="Comic Sans MS"/>
              </a:rPr>
              <a:t>	</a:t>
            </a:r>
            <a:endParaRPr b="1" lang="en-US" sz="32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0720" y="2209680"/>
            <a:ext cx="5410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网络安全管理的隐患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有权账号管理混乱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系统缺乏分级管理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带来的隐患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G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口程序弊病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网络安全管理的作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通信实体上实施强制安全策略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允许实体确定与之通信一组实体的自主安全策略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控制和分配信息到提供安全服务的各类开放系统中，报告所提供的安全服务，以及已发生与安全有关的事件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一个实际的开放系统中，可设想与安全有关的信息将存储在文件或表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14400" y="1371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网络安全管理的内容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鉴别管理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访问控制管理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密钥管理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信息网络的安全管理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本章学习目标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掌握网络安全的基本概念和内容。了解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Interne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全面临着哪些威胁和个人上网用户面临着哪些网络陷阱。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理解计算机网络提供的安全服务和安全机制、安全服务和安全机制之间的关系，安全服务与层的关系以及安全服务机制的配置。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掌握网络的安全管理与安全控制机制、网络安全的常规防护和控制措施，以及网络安全实施过程中需要注意的一些问题。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738504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cc9b1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安全审计跟踪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审计跟踪管理包括：远程事件收集和报告，以及允许和不允许对选择的事件进行审计跟踪。在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S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环境下，可审计的事件是妨碍系统安全的各种企图。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3.3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网络安全的常规防护措施</a:t>
            </a: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	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28440" y="2133360"/>
            <a:ext cx="6095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采用备份来避免损失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帮助用户自助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预防引导病毒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预防文件病毒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将访问控制加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P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机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防止无意的信息披露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服务器安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447560" y="1981080"/>
            <a:ext cx="64767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网络操作系统的安全功能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阻止局外人攻击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不要促成过早的硬件故障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为灾难准备硬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学习数据恢复的基本知识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制定安全恢复策略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3.4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网络安全控制措施</a:t>
            </a: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	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80720" y="2285640"/>
            <a:ext cx="4343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物理访问控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逻辑访问控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组织方面的控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人事控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操作控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362320" y="2133720"/>
            <a:ext cx="4876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应用程序开发控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工作站控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服务器控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数据传输保护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1278720"/>
            <a:ext cx="8153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92d5b"/>
                </a:solidFill>
                <a:latin typeface="Comic Sans MS"/>
              </a:rPr>
              <a:t>4.3.5</a:t>
            </a:r>
            <a:r>
              <a:rPr b="1" lang="zh-CN" sz="2800" spc="-1" strike="noStrike">
                <a:solidFill>
                  <a:srgbClr val="892d5b"/>
                </a:solidFill>
                <a:latin typeface="Times New Roman"/>
              </a:rPr>
              <a:t>　网络安全实施过程中需要注意的一些问题</a:t>
            </a:r>
            <a:endParaRPr b="1" lang="en-US" sz="28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网络安全分级应以风险为依据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有效防止部件被毁坏或丢失可以得到最佳收益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安全概念确定在设计早期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完善规则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注重经济效益规则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477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对安全防护措施进行综合集成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尽量减少与外部的联系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致性与平等原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可以接受的基本原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时刻关注技术进步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943560"/>
            <a:ext cx="7696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  <a:ea typeface="바탕"/>
              </a:rPr>
              <a:t>THANK YOU VERY MUCH 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  <a:ea typeface="바탕"/>
              </a:rPr>
              <a:t>！</a:t>
            </a:r>
            <a:endParaRPr b="1" lang="en-US" sz="40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本章到此结束，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谢谢您的光临！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738504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cc9b1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endshow"/>
          </p:cNvPr>
          <p:cNvSpPr/>
          <p:nvPr/>
        </p:nvSpPr>
        <p:spPr>
          <a:xfrm>
            <a:off x="5484960" y="6284520"/>
            <a:ext cx="790200" cy="398880"/>
          </a:xfrm>
          <a:prstGeom prst="rect">
            <a:avLst/>
          </a:prstGeom>
          <a:noFill/>
          <a:ln cap="rnd" w="38160">
            <a:solidFill>
              <a:srgbClr val="cc9b1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6840" y="1218240"/>
            <a:ext cx="5130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1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网络安全概述</a:t>
            </a: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	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1" action="ppaction://hlinksldjump"/>
              </a:rPr>
              <a:t>4.1.1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2" action="ppaction://hlinksldjump"/>
              </a:rPr>
              <a:t>　网络安全的定义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3" action="ppaction://hlinksldjump"/>
              </a:rPr>
              <a:t>4.1.2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4" action="ppaction://hlinksldjump"/>
              </a:rPr>
              <a:t>　网络安全的研究内容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5" action="ppaction://hlinksldjump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6" action="ppaction://hlinksldjump"/>
              </a:rPr>
              <a:t>4.1.3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7" action="ppaction://hlinksldjump"/>
              </a:rPr>
              <a:t>　</a:t>
            </a:r>
            <a:r>
              <a:rPr b="1" lang="en-US" sz="2800" spc="-1" strike="noStrike" u="sng">
                <a:solidFill>
                  <a:srgbClr val="9900cc"/>
                </a:solidFill>
                <a:uFillTx/>
                <a:latin typeface="Times New Roman"/>
                <a:hlinkClick r:id="rId8" action="ppaction://hlinksldjump"/>
              </a:rPr>
              <a:t>Internet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9" action="ppaction://hlinksldjump"/>
              </a:rPr>
              <a:t>安全面临的威胁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10" action="ppaction://hlinksldjump"/>
              </a:rPr>
              <a:t>4.1.4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11" action="ppaction://hlinksldjump"/>
              </a:rPr>
              <a:t>　个人上网用户面临的网络陷阱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>
            <a:hlinkClick r:id="rId12" action="ppaction://hlinksldjump"/>
          </p:cNvPr>
          <p:cNvSpPr/>
          <p:nvPr/>
        </p:nvSpPr>
        <p:spPr>
          <a:xfrm>
            <a:off x="738504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cc9b1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1.1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网络安全的定义</a:t>
            </a: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	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保密性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fidential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完整性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egr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用性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riabil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审查性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countabil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1.2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网络安全的研究内容</a:t>
            </a: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	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520" y="2133360"/>
            <a:ext cx="5410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物理安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逻辑安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操作系统提供的安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联网安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其他形式的安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虚假安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1.3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</a:t>
            </a:r>
            <a:r>
              <a:rPr b="1" lang="en-US" sz="3600" spc="-1" strike="noStrike">
                <a:solidFill>
                  <a:srgbClr val="892d5b"/>
                </a:solidFill>
                <a:latin typeface="Comic Sans MS"/>
              </a:rPr>
              <a:t>Internet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安全面临的威胁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0" y="2286000"/>
            <a:ext cx="55627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黑客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计算机病毒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特洛伊木马程序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后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窥探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121788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92d5b"/>
                </a:solidFill>
                <a:latin typeface="Comic Sans MS"/>
              </a:rPr>
              <a:t>4.1.4</a:t>
            </a:r>
            <a:r>
              <a:rPr b="1" lang="zh-CN" sz="3200" spc="-1" strike="noStrike">
                <a:solidFill>
                  <a:srgbClr val="892d5b"/>
                </a:solidFill>
                <a:latin typeface="Times New Roman"/>
              </a:rPr>
              <a:t>　个人上网用户面临的网络陷阱</a:t>
            </a:r>
            <a:endParaRPr b="1" lang="en-US" sz="32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账号密码被窃取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“电子炸弹”和“垃圾邮件”骚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网络病毒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innuk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攻击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121788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92d5b"/>
                </a:solidFill>
                <a:latin typeface="Comic Sans MS"/>
              </a:rPr>
              <a:t>4.2</a:t>
            </a:r>
            <a:r>
              <a:rPr b="1" lang="zh-CN" sz="3200" spc="-1" strike="noStrike">
                <a:solidFill>
                  <a:srgbClr val="892d5b"/>
                </a:solidFill>
                <a:latin typeface="Times New Roman"/>
              </a:rPr>
              <a:t>　计算机网络的安全服务和安全机制</a:t>
            </a:r>
            <a:r>
              <a:rPr b="1" lang="zh-CN" sz="3200" spc="-1" strike="noStrike">
                <a:solidFill>
                  <a:srgbClr val="892d5b"/>
                </a:solidFill>
                <a:latin typeface="Comic Sans MS"/>
              </a:rPr>
              <a:t>	</a:t>
            </a:r>
            <a:endParaRPr b="1" lang="en-US" sz="32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1" action="ppaction://hlinksldjump"/>
              </a:rPr>
              <a:t>4.2.1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2" action="ppaction://hlinksldjump"/>
              </a:rPr>
              <a:t>　计算机网络的安全服务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3" action="ppaction://hlinksldjump"/>
              </a:rPr>
              <a:t>4.2.2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4" action="ppaction://hlinksldjump"/>
              </a:rPr>
              <a:t>　计算机网络的安全机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5" action="ppaction://hlinksldjump"/>
              </a:rPr>
              <a:t>4.2.3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6" action="ppaction://hlinksldjump"/>
              </a:rPr>
              <a:t>　安全服务和安全机制的关系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7" action="ppaction://hlinksldjump"/>
              </a:rPr>
              <a:t>4.2.4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8" action="ppaction://hlinksldjump"/>
              </a:rPr>
              <a:t>　安全服务机制的配置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9" action="ppaction://hlinksldjump"/>
              </a:rPr>
              <a:t>4.2.5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10" action="ppaction://hlinksldjump"/>
              </a:rPr>
              <a:t>　安全服务与层的关系的实例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>
            <a:hlinkClick r:id="rId11" action="ppaction://hlinksldjump"/>
          </p:cNvPr>
          <p:cNvSpPr/>
          <p:nvPr/>
        </p:nvSpPr>
        <p:spPr>
          <a:xfrm>
            <a:off x="738504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cc9b1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2.1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计算机网络的安全服务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99840" y="2057400"/>
            <a:ext cx="5181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对象认证安全服务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访问控制安全服务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数据保密性安全服务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数据完整性安全服务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防抵赖安全服务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9T07:19:52Z</dcterms:created>
  <dc:creator>wuxian</dc:creator>
  <dc:description/>
  <dc:language>en-US</dc:language>
  <cp:lastModifiedBy>wuxian</cp:lastModifiedBy>
  <dcterms:modified xsi:type="dcterms:W3CDTF">2002-01-25T03:45:12Z</dcterms:modified>
  <cp:revision>6</cp:revision>
  <dc:subject/>
  <dc:title>第四章　网络安全防护技术 </dc:title>
</cp:coreProperties>
</file>