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A4E-545E-432D-A16C-661CD89B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520-84AB-4B05-9903-901C553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DDB-C980-4DE9-8146-D04CD29A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316-3718-45E2-9DD2-509F7D22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B7E-2839-4898-B93E-11FBFAA7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8775-11AB-467D-B894-BEE39BF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7E0-0E67-49A3-BDB6-CBB3BD02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DA5-D222-469D-A799-12DAF316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28A-DE3B-46FE-9BB2-DA182ED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D19D-542D-4A77-8C00-92BD3E10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7A2-995C-4E17-8EE8-E679A52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43C-2B82-4498-A159-78DAEEB9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EC7E-49E0-4095-A840-997DF21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F19F-1B81-43E9-B0CE-5990B20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7B11-7C7C-4676-94E1-94D0C04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2D8B-4885-46D7-B7D5-C92C8992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4419-BB30-4861-BB8B-3B33CABC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990-CDFA-4BC2-8E9B-FAB5E3A6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7F9-A65F-4142-9FAB-FA16FF0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CAA-84F6-4CE3-AE8A-AA8F3E5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4FA-69EE-4DAE-BC70-36E79F5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362-0F62-415A-8F30-75C65C4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E42-DB53-41AF-B6E9-573303D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54C-9DC3-4DF9-B65E-5AA1A60D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457200"/>
            <a:ext cx="8239320" cy="61628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284-C812-440B-AE24-6E2A6B004E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699200" y="-324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21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世纪高职高专新概念教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380880"/>
            <a:ext cx="4114800" cy="0"/>
          </a:xfrm>
          <a:prstGeom prst="line">
            <a:avLst/>
          </a:prstGeom>
          <a:ln cap="rnd" w="9360">
            <a:solidFill>
              <a:srgbClr val="99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647-CC72-4F0C-BE94-890AAB6221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5745;&#31639;&#26426;&#32593;&#32476;&#27010;&#35770;.ppt#1. &#31532;1&#31456;  &#35745;&#31639;&#26426;&#32593;&#32476;&#27010;&#35770;" TargetMode="External"/><Relationship Id="rId2" Type="http://schemas.openxmlformats.org/officeDocument/2006/relationships/hyperlink" Target="file:///&#31532;2&#31456;%20%20&#25968;&#25454;&#36890;&#20449;&#22522;&#30784;.ppt#1. &#31532;2&#31456;  &#25968;&#25454;&#36890;&#20449;&#22522;&#30784;" TargetMode="External"/><Relationship Id="rId3" Type="http://schemas.openxmlformats.org/officeDocument/2006/relationships/hyperlink" Target="file:///&#31532;3&#31456;%20%20&#35745;&#31639;&#26426;&#32593;&#32476;&#20307;&#31995;&#32467;&#26500;.ppt#1. &#31532;3&#31456;  &#35745;&#31639;&#26426;&#32593;&#32476;&#20307;&#31995;&#32467;&#26500;" TargetMode="External"/><Relationship Id="rId4" Type="http://schemas.openxmlformats.org/officeDocument/2006/relationships/hyperlink" Target="file:///&#31532;4&#31456;%20%20&#35745;&#31639;&#26426;&#23616;&#22495;&#32593;.ppt#1. &#31532;4&#31456;  &#35745;&#31639;&#26426;&#23616;&#22495;&#32593;" TargetMode="External"/><Relationship Id="rId5" Type="http://schemas.openxmlformats.org/officeDocument/2006/relationships/hyperlink" Target="file:///&#31532;5&#31456;%20%20&#32593;&#32476;&#20114;&#36830;&#19982;Internet.ppt#1. &#31532;5&#31456;  &#32593;&#32476;&#20114;&#36830;&#19982;Internet" TargetMode="External"/><Relationship Id="rId6" Type="http://schemas.openxmlformats.org/officeDocument/2006/relationships/hyperlink" Target="file:///&#31532;5&#31456;%20%20&#32593;&#32476;&#20114;&#36830;&#19982;Internet.ppt#1. &#31532;5&#31456;  &#32593;&#32476;&#20114;&#36830;&#19982;Internet" TargetMode="External"/><Relationship Id="rId7" Type="http://schemas.openxmlformats.org/officeDocument/2006/relationships/hyperlink" Target="file:///&#31532;5&#31456;%20%20&#32593;&#32476;&#20114;&#36830;&#19982;Internet.ppt#1. &#31532;5&#31456;  &#32593;&#32476;&#20114;&#36830;&#19982;Internet" TargetMode="External"/><Relationship Id="rId8" Type="http://schemas.openxmlformats.org/officeDocument/2006/relationships/hyperlink" Target="file:///&#31532;5&#31456;%20%20&#32593;&#32476;&#20114;&#36830;&#19982;Internet.ppt#1. &#31532;5&#31456;  &#32593;&#32476;&#20114;&#36830;&#19982;Internet" TargetMode="External"/><Relationship Id="rId9" Type="http://schemas.openxmlformats.org/officeDocument/2006/relationships/hyperlink" Target="file:///&#31532;5&#31456;%20%20&#32593;&#32476;&#20114;&#36830;&#19982;Internet.ppt#1. &#31532;5&#31456;  &#32593;&#32476;&#20114;&#36830;&#19982;Internet" TargetMode="External"/><Relationship Id="rId10" Type="http://schemas.openxmlformats.org/officeDocument/2006/relationships/hyperlink" Target="file:///&#31532;6&#31456;%20%20Windows%202000&#31616;&#20171;&#21450;&#23433;&#35013;.ppt#1. &#31532;6&#31456;  Windows 2000&#31616;&#20171;&#21450;&#23433;&#35013;" TargetMode="External"/><Relationship Id="rId11" Type="http://schemas.openxmlformats.org/officeDocument/2006/relationships/hyperlink" Target="file:///&#31532;6&#31456;%20%20Windows%202000&#31616;&#20171;&#21450;&#23433;&#35013;.ppt#1. &#31532;6&#31456;  Windows 2000&#31616;&#20171;&#21450;&#23433;&#35013;" TargetMode="External"/><Relationship Id="rId12" Type="http://schemas.openxmlformats.org/officeDocument/2006/relationships/hyperlink" Target="file:///&#31532;6&#31456;%20%20Windows%202000&#31616;&#20171;&#21450;&#23433;&#35013;.ppt#1. &#31532;6&#31456;  Windows 2000&#31616;&#20171;&#21450;&#23433;&#35013;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361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21304"/>
                </a:solidFill>
                <a:latin typeface="Arial"/>
                <a:ea typeface="华文新魏"/>
              </a:rPr>
              <a:t>计算机网络实用技术</a:t>
            </a:r>
            <a:endParaRPr b="1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4038480"/>
            <a:ext cx="542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雷建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罗  忠  王  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85880" y="5867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出版社出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4600" y="762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欢迎您使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bbd83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章  使用和管理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indows 2000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活动目录 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5257800" cy="29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动目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2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织单位的管理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3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户账户的管理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4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的建立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18509-E065-4BD8-877D-5CE40489FD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8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Windows 2000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的网络互连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022480"/>
            <a:ext cx="76201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8.1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网络通信协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8.2  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协议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8.3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Windows 9x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工作站登录网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8.4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Windows 2000 Professional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登录网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5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共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0240" y="456840"/>
            <a:ext cx="70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9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目录与文件权限的管理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723924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享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和文件夹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户的有效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工作站连接共享文件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共享文件夹发布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章  用户工作环境的管理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10.1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用户配置文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10.2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登录脚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10.3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主文件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10.4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环境变量的管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10.5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</a:rPr>
              <a:t>磁盘配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11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组策略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62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策略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理模板策略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3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策略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软件设置策略部署应用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12</a:t>
            </a:r>
            <a:r>
              <a:rPr b="0" lang="zh-CN" sz="3600" spc="-1" strike="noStrike">
                <a:solidFill>
                  <a:srgbClr val="221304"/>
                </a:solidFill>
                <a:latin typeface="Arial"/>
                <a:ea typeface="黑体"/>
              </a:rPr>
              <a:t>章  终端服务的安装与设置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0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端服务的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装终端服务器与客户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程管理与远程控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端服务器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终端服务器安装应用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章  配置</a:t>
            </a:r>
            <a:r>
              <a:rPr b="1" lang="en-US" sz="3600" spc="-1" strike="noStrike">
                <a:solidFill>
                  <a:srgbClr val="221304"/>
                </a:solidFill>
                <a:latin typeface="宋体"/>
              </a:rPr>
              <a:t>DHCP</a:t>
            </a:r>
            <a:r>
              <a:rPr b="1" lang="en-US" sz="3600" spc="-1" strike="noStrike">
                <a:solidFill>
                  <a:srgbClr val="221304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221304"/>
                </a:solidFill>
                <a:latin typeface="宋体"/>
              </a:rPr>
              <a:t>WINS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和</a:t>
            </a:r>
            <a:r>
              <a:rPr b="1" lang="en-US" sz="3600" spc="-1" strike="noStrike">
                <a:solidFill>
                  <a:srgbClr val="221304"/>
                </a:solidFill>
                <a:latin typeface="宋体"/>
              </a:rPr>
              <a:t>DNS</a:t>
            </a:r>
            <a:r>
              <a:rPr b="1" lang="en-US" sz="3600" spc="-1" strike="noStrike">
                <a:solidFill>
                  <a:srgbClr val="221304"/>
                </a:solidFill>
                <a:latin typeface="宋体"/>
              </a:rPr>
              <a:t>	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1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的安装与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的安装与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的安装与设置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14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章  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IIS 5.0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Internet/Intranet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  <a:ea typeface="黑体"/>
              </a:rPr>
              <a:t>中的应用</a:t>
            </a:r>
            <a:endParaRPr b="1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装卸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 5.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3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4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5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服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计算机属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0316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endshow"/>
          </p:cNvPr>
          <p:cNvSpPr/>
          <p:nvPr/>
        </p:nvSpPr>
        <p:spPr>
          <a:xfrm>
            <a:off x="4338720" y="6019920"/>
            <a:ext cx="790200" cy="398880"/>
          </a:xfrm>
          <a:prstGeom prst="rect">
            <a:avLst/>
          </a:prstGeom>
          <a:noFill/>
          <a:ln cap="rnd" w="38160">
            <a:solidFill>
              <a:srgbClr val="8f6d5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3526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21304"/>
                </a:solidFill>
                <a:latin typeface="Arial"/>
                <a:ea typeface="华文行楷"/>
              </a:rPr>
              <a:t>计算机网络实用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21304"/>
                </a:solidFill>
                <a:latin typeface="Arial"/>
                <a:ea typeface="华文行楷"/>
              </a:rPr>
              <a:t>电子教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目       录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1"/>
              </a:rPr>
              <a:t>第1章   计算机网络概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2"/>
              </a:rPr>
              <a:t>第2章   数据通信基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3"/>
              </a:rPr>
              <a:t>第3章   计算机网络体系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4"/>
              </a:rPr>
              <a:t>第4章   计算机局域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5"/>
              </a:rPr>
              <a:t>第5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6"/>
              </a:rPr>
              <a:t>章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7"/>
              </a:rPr>
              <a:t>   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8"/>
              </a:rPr>
              <a:t>网络互连与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宋体"/>
                <a:hlinkClick r:id="rId9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10"/>
              </a:rPr>
              <a:t>第6章 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宋体"/>
                <a:hlinkClick r:id="rId11"/>
              </a:rPr>
              <a:t>Windows 2000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  <a:hlinkClick r:id="rId12"/>
              </a:rPr>
              <a:t>简介及安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 使用和管理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Windows 2000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活动目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 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Windows 2000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的网络互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 目录与文件权限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用户工作环境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组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终端服务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配置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DHCP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WINS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DNS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13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章  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IIS 5.0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221304"/>
                </a:solidFill>
                <a:latin typeface="宋体"/>
              </a:rPr>
              <a:t>Internet/Intranet</a:t>
            </a:r>
            <a:r>
              <a:rPr b="1" lang="zh-CN" sz="2800" spc="-1" strike="noStrike">
                <a:solidFill>
                  <a:srgbClr val="221304"/>
                </a:solidFill>
                <a:latin typeface="宋体"/>
              </a:rPr>
              <a:t>中的应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  计算机网络概论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的产生与发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的组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的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的拓扑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数据通信基础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90920" y="16761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概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调制与编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路复用技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步与同步通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5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传输介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差错控制与校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7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息交换技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  计算机网络体系结构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4343400" cy="3200400"/>
          </a:xfrm>
          <a:prstGeom prst="rect">
            <a:avLst/>
          </a:prstGeom>
          <a:noFill/>
          <a:ln cap="rnd" w="9360">
            <a:solidFill>
              <a:srgbClr val="8f6d58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体系结构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I/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重要概念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物理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链路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共数据网网络协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2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295360"/>
            <a:ext cx="3200400" cy="3032280"/>
          </a:xfrm>
          <a:prstGeom prst="rect">
            <a:avLst/>
          </a:prstGeom>
          <a:noFill/>
          <a:ln cap="rnd" w="1260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输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输控制协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话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计算机局域网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2057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域网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域网介质访问控制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域网体系结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域网组网技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域网操作系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网络互连与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ternet</a:t>
            </a:r>
            <a:r>
              <a:rPr b="1" lang="en-US" sz="3600" spc="-1" strike="noStrike">
                <a:solidFill>
                  <a:srgbClr val="221304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5268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互连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章 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221304"/>
                </a:solidFill>
                <a:latin typeface="Times New Roman"/>
              </a:rPr>
              <a:t>简介及安装 </a:t>
            </a:r>
            <a:endParaRPr b="1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49280" y="2041560"/>
            <a:ext cx="605124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简介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特点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网络类型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安装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4:54:33Z</dcterms:created>
  <dc:creator>新人电脑</dc:creator>
  <dc:description/>
  <dc:language>en-US</dc:language>
  <cp:lastModifiedBy>新人电脑</cp:lastModifiedBy>
  <dcterms:modified xsi:type="dcterms:W3CDTF">2002-01-25T02:54:45Z</dcterms:modified>
  <cp:revision>13</cp:revision>
  <dc:subject/>
  <dc:title>计算机网络实用技术</dc:title>
</cp:coreProperties>
</file>