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DCD-F50C-4231-878F-3DA975F7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DFF-8062-4C35-B311-9CAB966C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A1E-7228-4FC3-A75F-687A2C19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22C-E69F-4CA8-AAF7-FC3B6045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4B37-7097-437A-A700-028FE1AF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305D-38F8-4AE3-AE9E-C5299F5E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235-A8BE-49DA-8811-AE453CEE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3390-884F-4C6D-8331-70B322D4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DF33-3553-4995-B333-81E90CBE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D882-60AC-4E65-99C3-090348D2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BC94-FA46-46B8-983A-B7CB669C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405-CC4D-432B-B1A6-CA6AD5EC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D76B-B6CC-48D4-ABAE-182F76E2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A258-9E61-49D6-A40D-CC4151C9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3A1E-E297-4952-8A9E-4FF10352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8B19-70C2-4D12-A8DD-F8A887E3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E026-A651-436D-9249-EA213ECB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9AD-E2E0-4AB2-A98A-E2E45386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054-4D13-4482-82CA-07250CF0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55C-1287-47D6-8717-7DAA94CD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298-867A-4AF1-9277-48BE394A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304-AAE4-4C02-83E7-6765BB63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3B6-5357-4C55-81DF-11307337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E5B-52C3-4477-A8F1-F3732229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ACFB-BDD4-4413-81C2-7654459F5DF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0"/>
            <a:ext cx="3532320" cy="368280"/>
          </a:xfrm>
          <a:prstGeom prst="rect">
            <a:avLst/>
          </a:prstGeom>
          <a:noFill/>
          <a:ln cap="rnd" w="1260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4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7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D0C6-4063-462B-82BB-B5D0547706A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lnSpc>
                <a:spcPct val="12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lnSpc>
                <a:spcPct val="12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lnSpc>
                <a:spcPct val="12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31532;1&#31456;%20%20&#24037;&#21378;&#30005;&#27668;&#25511;&#21046;&#21021;&#27493;.ppt#1. &#31532;1&#31456;  &#24037;&#21378;&#30005;&#27668;&#25511;&#21046;&#21021;&#27493;" TargetMode="External"/><Relationship Id="rId3" Type="http://schemas.openxmlformats.org/officeDocument/2006/relationships/hyperlink" Target="file:///&#31532;2&#31456;&#12288;&#21487;&#32534;&#31243;&#24207;&#25511;&#21046;&#22120;&#27010;&#35770;.ppt#1. &#31532;2&#31456;&#12288;&#21487;&#32534;&#31243;&#24207;&#25511;&#21046;&#22120;&#27010;&#35770;" TargetMode="External"/><Relationship Id="rId4" Type="http://schemas.openxmlformats.org/officeDocument/2006/relationships/hyperlink" Target="file:///&#31532;3&#31456;&#12288;S7-200&#21487;&#32534;.ppt#1. &#31532;3&#31456;&#12288;S7-200&#21487;&#32534;&#31243;&#24207;&#25511;&#21046;&#22120;" TargetMode="External"/><Relationship Id="rId5" Type="http://schemas.openxmlformats.org/officeDocument/2006/relationships/hyperlink" Target="file:///&#31532;3&#31456;&#12288;S7-200&#21487;&#32534;.ppt#1. &#31532;3&#31456;&#12288;S7-200&#21487;&#32534;&#31243;&#24207;&#25511;&#21046;&#22120;" TargetMode="External"/><Relationship Id="rId6" Type="http://schemas.openxmlformats.org/officeDocument/2006/relationships/hyperlink" Target="file:///&#31532;3&#31456;&#12288;S7-200&#21487;&#32534;.ppt#1. &#31532;3&#31456;&#12288;S7-200&#21487;&#32534;&#31243;&#24207;&#25511;&#21046;&#22120;" TargetMode="External"/><Relationship Id="rId7" Type="http://schemas.openxmlformats.org/officeDocument/2006/relationships/hyperlink" Target="file:///&#31532;4&#31456;%20%20&#22522;&#26412;&#25351;&#20196;.ppt#1. &#31532;4&#31456;  &#22522;&#26412;&#25351;&#20196;" TargetMode="External"/><Relationship Id="rId8" Type="http://schemas.openxmlformats.org/officeDocument/2006/relationships/hyperlink" Target="file:///&#31532;5&#31456;&#12288;&#24212;&#29992;&#25351;&#20196;.ppt#1. &#31532;5&#31456;&#12288;&#24212;&#29992;&#25351;&#20196;" TargetMode="External"/><Relationship Id="rId9" Type="http://schemas.openxmlformats.org/officeDocument/2006/relationships/hyperlink" Target="file:///&#31532;6&#31456;&#12288;&#32534;&#31243;&#36719;&#20214;.ppt#1. &#31532;6&#31456;&#12288;&#32534;&#31243;&#36719;&#20214;" TargetMode="External"/><Relationship Id="rId10" Type="http://schemas.openxmlformats.org/officeDocument/2006/relationships/hyperlink" Target="file:///&#31532;7&#31456;%20%20&#24212;&#29992;&#35774;&#35745;.ppt#1. &#31532;7&#31456;  &#24212;&#29992;&#35774;&#35745;" TargetMode="External"/><Relationship Id="rId11" Type="http://schemas.openxmlformats.org/officeDocument/2006/relationships/hyperlink" Target="file:///&#31532;8&#31456;&#12288;&#36890;&#20449;&#21450;&#32593;&#32476;.ppt#1. &#31532;8&#31456;&#12288;&#36890;&#20449;&#21450;&#32593;&#32476;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Arial"/>
                <a:ea typeface="隶书"/>
              </a:rPr>
              <a:t>可编程序控制器应用教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361960" y="4800240"/>
            <a:ext cx="5562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主    编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: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台  方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副主编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: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耿红旗　吕冬艳　黄逵中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主　审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: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杨崇刚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8040" y="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15960" y="63770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934920"/>
            <a:ext cx="67816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8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　通信及网络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9056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.1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通信及网络概述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.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通信实现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.3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网络通信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8.4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自由口通信 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欢迎您使用</a:t>
            </a:r>
            <a:endParaRPr b="1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00"/>
                </a:solidFill>
                <a:latin typeface="Arial"/>
                <a:ea typeface="隶书"/>
              </a:rPr>
              <a:t>可编程序控制器应用教程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13040" y="6324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4262400" y="6423120"/>
            <a:ext cx="790200" cy="3988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343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目　　录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5640" y="1752120"/>
            <a:ext cx="57387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第1章    工厂电气控制初步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第2章　可编程序控制器概论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第3章　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S7-200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可编程序控制器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第4章    基本指令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第5章　应用指令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第6章　编程软件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第7章    应用设计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第8章　通信及网络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  工厂电气控制初步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2742840"/>
            <a:ext cx="4343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1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工厂常用电器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基本控制电路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控制系统实例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　可编程序控制器概论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1080" y="1828440"/>
            <a:ext cx="6553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2.1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PLC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的发展、分类及应用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2.2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　结构和工作原理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2.3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　技术性能指标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2.4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　编程语言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6735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章　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S7-200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可编程序控制器 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88800" y="1905120"/>
            <a:ext cx="541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系列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PLC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发展概述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S7-200 PLC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系统组成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3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编程元件及程序知识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相关设备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工业软件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5956200" cy="9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  基本指令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43200" y="2438280"/>
            <a:ext cx="5740560" cy="31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位操作类指令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运算指令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其他数据处理指令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表功能指令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.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转换指令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118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cc6600"/>
            </a:solidFill>
            <a:ln w="1260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　应用指令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46280" y="2279520"/>
            <a:ext cx="5181840" cy="32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5.1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程序控制类指令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5.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特殊指令 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62320" y="114264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第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6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章　编程软件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06840" y="2369880"/>
            <a:ext cx="5564160" cy="29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6.1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编程软件安装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6.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功能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6.3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编程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6.4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调试及运行监控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应用设计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76360" y="2057040"/>
            <a:ext cx="4343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7.1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系统设计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7.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程序设计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7.3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设计实例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06:26:38Z</dcterms:created>
  <dc:creator>新人电脑</dc:creator>
  <dc:description/>
  <dc:language>en-US</dc:language>
  <cp:lastModifiedBy>新人电脑</cp:lastModifiedBy>
  <dcterms:modified xsi:type="dcterms:W3CDTF">2002-01-13T11:07:14Z</dcterms:modified>
  <cp:revision>6</cp:revision>
  <dc:subject/>
  <dc:title>可编程序控制器应用教程</dc:title>
</cp:coreProperties>
</file>