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3CB-82EB-4D51-901D-138AC7E2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E2E-D9B4-46D8-9202-BDB739C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DA2-FDDC-4301-AF9E-AC66E743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C51-040C-4C43-BB4C-68DB8919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A9F8-E4A9-447D-840D-D617113D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1D8-1F29-4521-9D56-1C0662CF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8CF-E00F-4913-835C-8BA8B5D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E7C-B226-48E2-B8C4-F58DB50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5EAF-1A2A-4B32-AE86-3DCD015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B0F-B8E3-4A50-9576-DE383D3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71C-A4B2-42AF-99F0-221660C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12C-5532-45C8-9F9B-32BA377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6E7-F699-4A83-B593-4586CD9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29B-FB79-4A3C-AC8B-97C43E8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3910-A52D-42A1-AC17-D48B73F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7B8E-4A9F-4362-AC40-59DF49D1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CCB5-F075-453C-855A-807504AF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73A-B3E2-4425-A3EB-F2437195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C52-4BD5-429A-A6ED-4E5732B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645-6E78-45A3-94A8-C46A17F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F26-6D94-4E33-BF85-AD10016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F43-CD34-4E12-BE4B-ACD9D45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040-3641-4A56-B442-B94F6A5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D3A-1B99-4D67-AA1B-762601C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DE8B-2DFE-4C76-BFC8-EF75DAB72F0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0"/>
            <a:ext cx="3532320" cy="368280"/>
          </a:xfrm>
          <a:prstGeom prst="rect">
            <a:avLst/>
          </a:prstGeom>
          <a:noFill/>
          <a:ln cap="rnd" w="1260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970-449B-4C40-93FB-7DC4822E15A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31532;1&#31456;%20%20&#24037;&#21378;&#30005;&#27668;&#25511;&#21046;&#21021;&#27493;.ppt#1. &#31532;1&#31456;  &#24037;&#21378;&#30005;&#27668;&#25511;&#21046;&#21021;&#27493;" TargetMode="External"/><Relationship Id="rId3" Type="http://schemas.openxmlformats.org/officeDocument/2006/relationships/hyperlink" Target="file:///&#31532;2&#31456;&#12288;&#21487;&#32534;&#31243;&#24207;&#25511;&#21046;&#22120;&#27010;&#35770;.ppt#1. &#31532;2&#31456;&#12288;&#21487;&#32534;&#31243;&#24207;&#25511;&#21046;&#22120;&#27010;&#35770;" TargetMode="External"/><Relationship Id="rId4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5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6" Type="http://schemas.openxmlformats.org/officeDocument/2006/relationships/hyperlink" Target="file:///&#31532;3&#31456;&#12288;S7-200&#21487;&#32534;.ppt#1. &#31532;3&#31456;&#12288;S7-200&#21487;&#32534;&#31243;&#24207;&#25511;&#21046;&#22120;" TargetMode="External"/><Relationship Id="rId7" Type="http://schemas.openxmlformats.org/officeDocument/2006/relationships/hyperlink" Target="file:///&#31532;4&#31456;%20%20&#22522;&#26412;&#25351;&#20196;.ppt#1. &#31532;4&#31456;  &#22522;&#26412;&#25351;&#20196;" TargetMode="External"/><Relationship Id="rId8" Type="http://schemas.openxmlformats.org/officeDocument/2006/relationships/hyperlink" Target="file:///&#31532;5&#31456;&#12288;&#24212;&#29992;&#25351;&#20196;.ppt#1. &#31532;5&#31456;&#12288;&#24212;&#29992;&#25351;&#20196;" TargetMode="External"/><Relationship Id="rId9" Type="http://schemas.openxmlformats.org/officeDocument/2006/relationships/hyperlink" Target="file:///&#31532;6&#31456;&#12288;&#32534;&#31243;&#36719;&#20214;.ppt#1. &#31532;6&#31456;&#12288;&#32534;&#31243;&#36719;&#20214;" TargetMode="External"/><Relationship Id="rId10" Type="http://schemas.openxmlformats.org/officeDocument/2006/relationships/hyperlink" Target="file:///&#31532;7&#31456;%20%20&#24212;&#29992;&#35774;&#35745;.ppt#1. &#31532;7&#31456;  &#24212;&#29992;&#35774;&#35745;" TargetMode="External"/><Relationship Id="rId11" Type="http://schemas.openxmlformats.org/officeDocument/2006/relationships/hyperlink" Target="file:///&#31532;8&#31456;&#12288;&#36890;&#20449;&#21450;&#32593;&#32476;.ppt#1. &#31532;8&#31456;&#12288;&#36890;&#20449;&#21450;&#32593;&#32476;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Arial"/>
                <a:ea typeface="隶书"/>
              </a:rPr>
              <a:t>可编程序控制器应用教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361960" y="4800240"/>
            <a:ext cx="5562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主    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台  方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副主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耿红旗　吕冬艳　黄逵中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主　审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: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杨崇刚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8040" y="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5960" y="6377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934920"/>
            <a:ext cx="67816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8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通信及网络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通信及网络概述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通信实现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网络通信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8.4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自由口通信 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隶书"/>
              </a:rPr>
              <a:t>可编程序控制器应用教程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304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4262400" y="6423120"/>
            <a:ext cx="79020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343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目　　录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752120"/>
            <a:ext cx="5738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第1章    工厂电气控制初步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第2章　可编程序控制器概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第3章　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S7-200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可编程序控制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第4章    基本指令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第5章　应用指令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第6章　编程软件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第7章    应用设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第8章　通信及网络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  工厂电气控制初步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274284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工厂常用电器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基本控制电路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控制系统实例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可编程序控制器概论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1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PLC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的发展、分类及应用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2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结构和工作原理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3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技术性能指标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2.4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　编程语言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735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章　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S7-200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可编程序控制器 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8800" y="1905120"/>
            <a:ext cx="541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系列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PL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发展概述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S7-200 PL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系统组成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3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编程元件及程序知识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相关设备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工业软件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59562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  基本指令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3200" y="2438280"/>
            <a:ext cx="5740560" cy="31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位操作类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运算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其他数据处理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表功能指令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转换指令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18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cc6600"/>
            </a:solidFill>
            <a:ln w="1260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cc6600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　应用指令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46280" y="2279520"/>
            <a:ext cx="5181840" cy="32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1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程序控制类指令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特殊指令 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2320" y="114264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第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章　编程软件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06840" y="2369880"/>
            <a:ext cx="5564160" cy="29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编程软件安装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功能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编程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6.4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调试及运行监控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章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应用设计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76360" y="205704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1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系统设计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程序设计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7.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　设计实例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06:26:38Z</dcterms:created>
  <dc:creator>新人电脑</dc:creator>
  <dc:description/>
  <dc:language>en-US</dc:language>
  <cp:lastModifiedBy>新人电脑</cp:lastModifiedBy>
  <dcterms:modified xsi:type="dcterms:W3CDTF">2002-01-13T11:07:14Z</dcterms:modified>
  <cp:revision>6</cp:revision>
  <dc:subject/>
  <dc:title>可编程序控制器应用教程</dc:title>
</cp:coreProperties>
</file>