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23.wmf" ContentType="image/x-wmf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33.wmf" ContentType="image/x-wmf"/>
  <Override PartName="/ppt/media/image46.png" ContentType="image/png"/>
  <Override PartName="/ppt/media/image11.png" ContentType="image/png"/>
  <Override PartName="/ppt/media/image47.png" ContentType="image/png"/>
  <Override PartName="/ppt/media/image12.png" ContentType="image/png"/>
  <Override PartName="/ppt/media/image50.png" ContentType="image/png"/>
  <Override PartName="/ppt/media/image48.wmf" ContentType="image/x-wmf"/>
  <Override PartName="/ppt/media/image13.wmf" ContentType="image/x-wmf"/>
  <Override PartName="/ppt/media/image28.png" ContentType="image/png"/>
  <Override PartName="/ppt/media/image39.wmf" ContentType="image/x-wmf"/>
  <Override PartName="/ppt/media/image49.wmf" ContentType="image/x-wmf"/>
  <Override PartName="/ppt/media/image51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17.wmf" ContentType="image/x-wmf"/>
  <Override PartName="/ppt/media/image38.png" ContentType="image/png"/>
  <Override PartName="/ppt/media/image41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0.wmf" ContentType="image/x-wmf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417060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4640" y="19810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600" y="19810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41706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4640" y="41706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600" y="41706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E1E-DD31-4D11-990D-D82F0865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A93-3237-4B93-B995-D8468AEE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068-F9A3-46CE-B77A-9039C9C0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4C0-B329-4D29-9AC0-69D685BA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B0F-48EC-406D-B7B6-D14627B4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0CC-EAEF-4CA5-8745-D098AC2D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001-2E34-46F8-B7A2-8BC17DFE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972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264-3662-49C7-BF1C-AB3E750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7060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013-65F4-4224-8EBB-0A17D402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040" y="417060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BA3-705E-4016-BB0C-B001C0A4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972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B4E-75C3-4CE8-8795-0CBE258B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4640" y="19810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5600" y="19810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040" y="41706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4640" y="41706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5600" y="41706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F10-CDC4-4F7E-AE5F-7A5EC021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41706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19810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417060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21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21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21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21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21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17680" y="87480"/>
            <a:ext cx="8626320" cy="39888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章　应用指令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304920"/>
            <a:ext cx="3048120" cy="0"/>
          </a:xfrm>
          <a:prstGeom prst="line">
            <a:avLst/>
          </a:prstGeom>
          <a:ln cap="rnd" w="1908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43600" y="320760"/>
            <a:ext cx="3048120" cy="0"/>
          </a:xfrm>
          <a:prstGeom prst="line">
            <a:avLst/>
          </a:prstGeom>
          <a:ln cap="rnd" w="1908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0DDB-0885-4A86-AD98-23681670B75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8377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Arial"/>
              </a:rPr>
              <a:t>第</a:t>
            </a:r>
            <a:r>
              <a:rPr b="1" lang="zh-CN" sz="3600" spc="-1" strike="noStrike">
                <a:solidFill>
                  <a:srgbClr val="f1b60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1b60f"/>
                </a:solidFill>
                <a:latin typeface="Times New Roman"/>
              </a:rPr>
              <a:t>章　应用指令</a:t>
            </a:r>
            <a:r>
              <a:rPr b="1" lang="zh-CN" sz="36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600" y="2361960"/>
            <a:ext cx="5029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6600"/>
                </a:solidFill>
                <a:uFillTx/>
                <a:latin typeface="Arial"/>
                <a:hlinkClick r:id="rId1" action="ppaction://hlinksldjump"/>
              </a:rPr>
              <a:t>5.1   </a:t>
            </a:r>
            <a:r>
              <a:rPr b="1" lang="zh-CN" sz="3200" spc="-1" strike="noStrike" u="sng">
                <a:solidFill>
                  <a:srgbClr val="ff6600"/>
                </a:solidFill>
                <a:uFillTx/>
                <a:latin typeface="Times New Roman"/>
                <a:hlinkClick r:id="rId2" action="ppaction://hlinksldjump"/>
              </a:rPr>
              <a:t>程序控制类指令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6600"/>
                </a:solidFill>
                <a:uFillTx/>
                <a:latin typeface="Times New Roman"/>
                <a:hlinkClick r:id="rId3" action="ppaction://hlinksldjump"/>
              </a:rPr>
              <a:t>5.2　特殊指令 </a:t>
            </a:r>
            <a:r>
              <a:rPr b="1" lang="zh-CN" sz="3200" spc="-1" strike="noStrike" u="sng">
                <a:solidFill>
                  <a:srgbClr val="ff6600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954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838080"/>
          <a:ext cx="6096240" cy="54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838080"/>
                    <a:ext cx="609624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004240" y="1834560"/>
            <a:ext cx="54612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程序跳转实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5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子程序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520" y="228600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建立子程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子程序调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带参数的子程序调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建立子程序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用编程软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di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菜单中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nser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选项，选择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ubrout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以建立或插入一个新的子程序，同时在指令树窗口可以看到新建的子程序图标，默认的程序名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BR_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编号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开始按递增顺序生成，可以在图标上直接更改子程序的程序名。在指令树窗口双击子程序的图标就可对它进行编辑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子程序调用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019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子程序调用和返回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子程序调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子程序条件返回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注意事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应用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360" y="1066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的程序实现用外部控制条件分别调用两个子程序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27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3880" y="2666880"/>
          <a:ext cx="6629400" cy="200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6880"/>
                    <a:ext cx="662940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340440" y="5181480"/>
            <a:ext cx="306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5.4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子程序调用举例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09680" y="18288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子程序参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变量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变量类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类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参数子程序调用的规则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变量表使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程序实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带参数的子程序调用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42640" y="1218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上面指令为例，局部变量表分配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，程序段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59560" y="2590920"/>
            <a:ext cx="283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5.1 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局部变量表例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9343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824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447920" y="2362320"/>
          <a:ext cx="682452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62320"/>
                    <a:ext cx="68245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362760" y="5105520"/>
            <a:ext cx="28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5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带参数的子程序调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20280" y="631332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6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程序循环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76720" y="2438280"/>
            <a:ext cx="3962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循环开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循环结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527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14400" y="1523880"/>
          <a:ext cx="7696080" cy="37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696080" cy="37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581280" y="5869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程序循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 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程序控制类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776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00"/>
                </a:solidFill>
                <a:uFillTx/>
                <a:latin typeface="Arial"/>
                <a:hlinkClick r:id="rId1" action="ppaction://hlinksldjump"/>
              </a:rPr>
              <a:t>5.1.1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  <a:hlinkClick r:id="rId2" action="ppaction://hlinksldjump"/>
              </a:rPr>
              <a:t>　空操作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00"/>
                </a:solidFill>
                <a:uFillTx/>
                <a:latin typeface="Arial"/>
                <a:hlinkClick r:id="rId4" action="ppaction://hlinksldjump"/>
              </a:rPr>
              <a:t>5.1.2    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  <a:hlinkClick r:id="rId5" action="ppaction://hlinksldjump"/>
              </a:rPr>
              <a:t>结束及暂停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看门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.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跳转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子程序指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程序循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.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顺序控制继电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.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6262560"/>
            <a:ext cx="180180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0120" y="6324480"/>
            <a:ext cx="15238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8116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8116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3880" y="1295280"/>
          <a:ext cx="6324840" cy="44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95280"/>
                    <a:ext cx="6324840" cy="44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27672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程序循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7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顺序控制继电器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5333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顺序继电器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定义顺序段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段开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段结束        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段转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注意事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顺序结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2209680" cy="472428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本例是用顺序继电器实现的顺序控制中的一个步的程序段，这一步实现的功能是使两个电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起动运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秒后停止，切换到下一步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程序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0016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8120" y="1447920"/>
          <a:ext cx="5790960" cy="47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447920"/>
                    <a:ext cx="579096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7620120" y="6324480"/>
            <a:ext cx="15238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8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与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ENO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EN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梯形图和功能框图编程时指令盒的布尔能流输出端。如果指令盒的能流输入有效，同时执行没有错误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就置位，将能流向下传递。当用梯形图编程时，且指令盒后串联一个指令盒或线圈，语句表语言中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EN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描述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格式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EN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无操作数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05740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2438280"/>
          <a:ext cx="7086600" cy="294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708660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923920" y="5791320"/>
            <a:ext cx="26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914400"/>
            <a:ext cx="6939000" cy="4597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EN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指令只能在语句表中使用，将栈顶值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位的逻辑与运算，运算结果保存到栈顶。程序如图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.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6324480"/>
            <a:ext cx="15238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特殊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时钟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.2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.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通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高速计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.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高速脉冲输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.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回路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248520"/>
            <a:ext cx="19227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.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时钟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读实时时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OD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读实时时钟指令。当使能输入有效时，系统读当前时间和日期，并把它装入一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节的缓冲区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写实时时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ODW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写实时时钟指令。用来设定实时时钟。当使能输入有效时，系统将包含当前时间和日期，一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节的缓冲区将装入时钟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时钟缓冲区的格式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7319880" cy="1116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31440" y="320040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5.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时钟缓冲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14400" y="12193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程序实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控制要求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编写一段程序，可实现读、写实时时钟，并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BC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码显示分钟。时钟缓冲区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VB10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开始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程序中的子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SBR_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写时钟子程序，将当前时间写入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VB10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开始的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字节时间缓冲区，时间设置如下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程序实现：读写时钟程序如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5.9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14400" y="4343400"/>
          <a:ext cx="7753320" cy="15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343400"/>
                    <a:ext cx="775332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93824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1295280"/>
          <a:ext cx="7238880" cy="39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238880" cy="39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335268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读写时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120" y="6324480"/>
            <a:ext cx="15238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空操作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O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空操作指令。使能输入有效时，执行空操作指令。空操作指令不影响用户程序的执行，操作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标号，是一个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~25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常数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OP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OP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程序如下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2876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371600" y="5105520"/>
          <a:ext cx="7315200" cy="99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105520"/>
                    <a:ext cx="73152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7820280" y="631332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.2 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中断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断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断源及种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源，即中断事件发出中断请求的来源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7-2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编程序控制器具有最多可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中断源，每个中断源都分配一个编号用以识别，称为中断事件号。这些中断源大致分为三大类：通信中断、输入输出中断和时基中断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断优先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优先级由高到低依次是：通信中断、输入输出中断、时基中断。每种中断中的不同中断事件又有不同的优先权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机中的所有中断事件及优先级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438280" y="1523880"/>
          <a:ext cx="498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3880"/>
                    <a:ext cx="498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382200" y="762120"/>
            <a:ext cx="28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5.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中断事件及优先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52480" y="1600200"/>
          <a:ext cx="592956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92956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断调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即调用中断程序，使系统对特殊的内部或外部事件作出响应。系统响应中断时自动保存逻辑堆栈、累加器和某些特殊标志存储器位，即保护现场。中断处理完成时，又自动恢复这些单元原来的状态，即恢复现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断调用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注意事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程序实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3048120" cy="495288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程序实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控制要求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程序实现的功能是调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0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点的上升沿中断，若发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/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错误，则禁止本中断，用外部条件可以禁止全局中断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程序实现：本程序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9548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038480" y="1828800"/>
          <a:ext cx="4924440" cy="354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828800"/>
                    <a:ext cx="492444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308920" y="5562720"/>
            <a:ext cx="26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中断调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断程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构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程序必须由三部分构成：中断程序标号、中断程序指令和无条件返回指令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要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编制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注意事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324480"/>
            <a:ext cx="152424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.3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通信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90920" y="1904760"/>
            <a:ext cx="5410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信指令包括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自由口发送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CV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自由口接收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ET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网络读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ETW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网络写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GP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获取口地址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.4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高速计数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0" y="21333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速计数器介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9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高速计数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9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高速计数器的使用方法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9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用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高速计数器介绍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5257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数量及编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断事件类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工作模式及输入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2 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结束及暂停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9680" y="1828800"/>
            <a:ext cx="6400800" cy="4191120"/>
          </a:xfrm>
          <a:prstGeom prst="rect">
            <a:avLst/>
          </a:prstGeom>
          <a:noFill/>
          <a:ln cap="rnd" w="12600">
            <a:solidFill>
              <a:srgbClr val="ffcc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结束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结束指令有两条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EN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两条指令在梯形图中以线圈形式编程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条件结束指令。使能输入有效时，终止用户主程序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EN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无条件结束指令。无条件终止用户程序的执行，返回主程序的第一条指令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icro/Win3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编程时，编程人员不需手工输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EN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，而是由软件自动加在主程序结尾。指令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无操作数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106668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数量及编号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高速计数器在程序中使用时的地址编号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Cn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来表示（在非程序中有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SCn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表编程元件名称为高速计数器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编号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Cn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除了表示高速计数器的编号之外，还代表两方面的含义：高速计数器位和高速计数器当前值。编程时，从所用的指令可以看出是位还是当前值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不同型号的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主机，高速计数器的数量对应如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76197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中断事件类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高速计数器的计数和动作可采用中断方式进行控制，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扫描周期关系不大，各种型号的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可用的高速计数器的中断事件大致分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类：当前值等于预设值中断、输入方向改变中断和外部复位中断。所有高速计数器都支持当前值等于预设值中断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每个高速计数器的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种中断的优先级由高到低，不同高速计数器之间的优先级又按编号顺序由高到低。具体对应关系如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53722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905120" y="13716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工作模式及输入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作模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输入端连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高速计数器的工作模式共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种。以模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例，时序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90980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14400" y="1523880"/>
          <a:ext cx="723888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23888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956320" y="5715000"/>
            <a:ext cx="29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模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操作时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447920" y="2666880"/>
          <a:ext cx="6238800" cy="30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666880"/>
                    <a:ext cx="623880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295280" y="1066680"/>
            <a:ext cx="65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用某个高速计数器在某种工作模式下工作，高速计数器的输入端不是任意选择，必须按系统指定的输入点。如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高速计数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124080" y="1904760"/>
            <a:ext cx="5105520" cy="419076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高速计数器指令有两条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DE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S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DE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DE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定义高速计数器指令。使能输入有效时，为指定的高速计数器分配一种工作模式，即用来建立高速计数器与工作模式之间的联系。梯形图指令盒中有两个数据输入端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S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高速计数器编号，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~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常数，字节型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OD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工作模式，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~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常数，字节型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20574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00040" y="1828800"/>
            <a:ext cx="5257800" cy="41911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S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S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高速计数器指令。使能输入有效时，根据高速计数器特殊存储器位的状态，并按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DE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指定的工作模式，设置高速计数器并控制其工作。梯形图指令盒数据输入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高速计数器编号，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~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常数，字型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19814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360" y="19051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个高速计数器都有固定的特殊功能存储器与之相配合，完成高速计数功能。具体对应关系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5943600" cy="2189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14300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高速计数器的使用方法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个高速计数器都有一个状态字节，程序运行时根据运行状况自动使某些位置位，可以通过程序来读相关位的状态，用以作为判断条件实现相应的操作。状态字节中各状态位的功能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723924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选择计数器及工作模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设置控制字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执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DE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设定当前值和预设值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设置中断事件并全局开中断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执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S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使用高速计数器时，要按以下步骤进行：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5715000" cy="46483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暂停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TO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暂停指令。使能输入有效时，该指令使主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工作方式由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U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切换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TO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方式，从而立即终止用户程序的执行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TO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在梯形图中以线圈形式编程。指令不含操作数。指令的执行不考虑对特殊标志寄存器位和能流的影响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格式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O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无操作数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1523880" cy="696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467480" y="6313320"/>
            <a:ext cx="12826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523880" y="2819520"/>
          <a:ext cx="662940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19520"/>
                    <a:ext cx="662940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3400200" y="171756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5.13 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控制位含义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应用实例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要对一高速事件精确控制，通过对脉冲信号进行增计数，计数当前值达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产生中断，重新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计数，对中断次数进行累计。计数方向用一个外部信号控制，并能实现外部复位。所用的主机型号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PU22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计步骤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高速计数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SC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并确定工作方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M37=16#F8 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执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DE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，输入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S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OD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装入当前值，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MD38=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装入设定值，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MD42=2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执行中断连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TC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，输入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T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VN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程序、初始化子程序和中断程序分别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020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47920" y="3505320"/>
          <a:ext cx="6781680" cy="118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05320"/>
                    <a:ext cx="678168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219840" y="5181480"/>
            <a:ext cx="19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2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主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7664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591080" cy="2371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622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209680" y="3124080"/>
          <a:ext cx="4619880" cy="281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124080"/>
                    <a:ext cx="46198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3497760" y="6095880"/>
            <a:ext cx="22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1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　初始化子程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0492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5120" y="1371600"/>
          <a:ext cx="5257800" cy="39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5257800" cy="39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434760" y="5486400"/>
            <a:ext cx="21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4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断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67480" y="6324480"/>
            <a:ext cx="152424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.5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高速脉冲输出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62320" y="2057400"/>
            <a:ext cx="5410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速脉冲输出介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高速脉冲输出的形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输出端子的确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相关寄存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脉冲输出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每个高速脉冲发生器对应一定数量特殊标志寄存器，这些寄存器包括控制字节寄存器、状态字节寄存器和参数数值寄存器，用以控制高速脉冲的输出形式、反映输出状态和参数值。各寄存器分配如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600200" y="3429000"/>
            <a:ext cx="6019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142640" y="12193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       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状态字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每个高速脉冲输出都有一个状态字节，程序运行时根据运行状况自动使某些位置位，可以通过程序来读相关位的状态，用以作为判断条件实现相应的操作。状态字节中各状态位的功能如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523880" y="3886200"/>
          <a:ext cx="678204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86200"/>
                    <a:ext cx="678204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      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控制字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每个高速脉冲输出都对应一个控制字节，通过对控制字节中指定位的编程，可以根据操作要求设置字节中各控制位，如脉冲输出允许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TO/PW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模式选择、单段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段选择、更新方式、时间基准、允许更新等。控制字节中各控制位的功能如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3880" y="3733920"/>
          <a:ext cx="655344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733920"/>
                    <a:ext cx="655344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高速脉冲串输出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楷体_GB2312"/>
              </a:rPr>
              <a:t>PTO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14600" y="220968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周期和脉冲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T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种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断事件类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T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使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3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看门狗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D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看门狗复位指令。当使能输入有效时，执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D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，每执行一次，看门狗定时器就被复位一次。用本指令可用以延长扫描周期，从而可以有效避免看门狗超时错误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格式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DR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无操作数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实例：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TO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D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应用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）周期和脉冲数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周期：单位可以是微秒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μ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或毫秒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无符号数据，周期变化范围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0~65535μ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~65535m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通常应设定周期值为偶数，若设置为奇数，则会引起输出波形占空比的轻微失真。如果编程时设定周期单位小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系统默认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进行设置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脉冲数：用双字长无符号数表示，脉冲数取值范围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~429496729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之间。如果编程时指定脉冲数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则系统默认脉冲数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PTO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的种类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T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式中，如果要输出多个脉冲串，允许脉冲串进行排队，形成管线，当前输出的脉冲串完成之后，立即输出新脉冲串，这保证了脉冲串顺序输出的连续性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单段管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多段管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包络表由包络段数和各段构成。每段长度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字节，包括：脉冲周期值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）、周期增量值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）和脉冲计数值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）。以包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段的包络表为例，包络表的结构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3532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）中断事件类型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高速脉冲串输出可以采用中断方式进行控制，各种型号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用的高速脉冲串输出的中断事件有两个，如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701028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PTO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的使用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553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高速脉冲串输出时，要按以下步骤进行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确定脉冲发生器及工作模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控制字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写入周期值、周期增量值和脉冲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装入包络的首地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中断事件并全局开中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执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L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应用实例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控制要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步进电机转动过程中，要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加速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后恒速运行，又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开始减速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，完成这一过程时用指示灯显示。电机的转动受脉冲控制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的脉冲频率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k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的频率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0k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加速过程的脉冲数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，恒速转动的脉冲数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0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，减速过程脉冲数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作过程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5239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90720" y="1295280"/>
          <a:ext cx="761976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61976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849400" y="5332320"/>
            <a:ext cx="29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步进电机工作过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981080" y="16002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分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确定脉冲发生器及工作模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控制字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写入周期值、周期增量值和脉冲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装入包络表首地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断调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执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L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程序实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本控制系统主程序如下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初始化子程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BR_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包络表子程序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中断程序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6684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066680" y="3048120"/>
          <a:ext cx="7315200" cy="183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48120"/>
                    <a:ext cx="731520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3457440" y="5560920"/>
            <a:ext cx="20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主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0001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000160" y="914400"/>
          <a:ext cx="514368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914400"/>
                    <a:ext cx="51436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2286000" y="6018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初始化子程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BR_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524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05120" y="1600200"/>
          <a:ext cx="5410080" cy="371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541008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832560" y="5715000"/>
            <a:ext cx="16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停止、结束、看门狗指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20280" y="631332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057400" y="-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286000" y="685800"/>
          <a:ext cx="4216320" cy="58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685800"/>
                    <a:ext cx="4216320" cy="58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7165800" y="753480"/>
            <a:ext cx="546120" cy="59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包络表子程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BR_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574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133720" y="762120"/>
          <a:ext cx="5029200" cy="29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2120"/>
                    <a:ext cx="50292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2949840" y="3962520"/>
            <a:ext cx="37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1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　包络表子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SBR_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7188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676520" y="4724280"/>
          <a:ext cx="6476760" cy="938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724280"/>
                    <a:ext cx="647676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3703320" y="5943600"/>
            <a:ext cx="17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19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断程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宽度可调脉冲输出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PWM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14240" y="228600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周期和脉冲宽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更新方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W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使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38880" y="6313320"/>
            <a:ext cx="15112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2.6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PID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回路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8640" y="2286000"/>
            <a:ext cx="3962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算法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用实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1. PID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算法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. PI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算法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果一个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回路的输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(t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时间的函数，则可以看作是比例项、积分项和微分项三部分之和。即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2971800" cy="7016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990720" y="4495680"/>
            <a:ext cx="784836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数字计算机处理这样的控制算式，连续的算式必须周期采样进行离散化，同时各信号也要离散化，公式如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MPn=Kc*(SPn-PVn)+Kc*Ts/Ti*(SPn-PVn)+MX+Kc*Td/Ts*(PV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Times New Roman"/>
              </a:rPr>
              <a:t>n-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-PV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914400" y="837720"/>
            <a:ext cx="2362320" cy="54104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回路表初始化程序实例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K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秒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钟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钟，则可以建立一个子程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BR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来对回路表进行初始化。程序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2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9548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581280" y="990720"/>
          <a:ext cx="5153040" cy="45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990720"/>
                    <a:ext cx="515304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4540320" y="5791320"/>
            <a:ext cx="32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20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回路表初始化子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SBR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590920" y="1218960"/>
            <a:ext cx="5943600" cy="5181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回路指令。使能输入有效时，该指令利用回路表中的输入信息和组态信息，进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运算。梯形图的指令盒中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数据输入端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B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回路表的起始地址，是由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V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的字节型数据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LOO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回路号，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~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常数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影响的特殊标志存储器位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M1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溢出）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能流输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N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断开的出错条件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M1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溢出）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M4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运行时间）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00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间接寻址）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BL,  LO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1514520" cy="9144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2. PID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指令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应用实例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控制要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有一水箱有一条进水管和一条出水管，进水管的水流量随时间不断变化，要求控制出水管阀门的开度，使水箱内的液位始终保持在水满时液位的一半。系统使用比例积分微分控制，假设采用下列控制参数值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K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0.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T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0.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秒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Ti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分钟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T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分钟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分析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本系统标准化时可采用单极性方案，系统的输入来自液位计的液位测量采样；设定值是液位的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0%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输出是单极性模拟量用以控制阀门的开度，可以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0%~100%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之间变化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程序实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本程序的主程序如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2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，回路表初始化子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SBR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2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，中断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INT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2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6684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057400" y="1523880"/>
          <a:ext cx="4809960" cy="15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996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3000240" y="3198960"/>
            <a:ext cx="20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2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主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272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981080" y="3733920"/>
          <a:ext cx="5038920" cy="2828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733920"/>
                    <a:ext cx="50389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318800" y="3733920"/>
            <a:ext cx="79020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2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　初始化子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SB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2420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62320" y="685800"/>
          <a:ext cx="42354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85800"/>
                    <a:ext cx="42354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7166520" y="1299240"/>
            <a:ext cx="485280" cy="43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.2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　中断子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INT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5.1.4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</a:rPr>
              <a:t>　跳转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跳转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跳转相关的指令有下面两条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跳转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JM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跳转指令。使能输入有效时，使程序流程跳到同一程序中的指定标号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处执行。执行跳转指令时，逻辑堆栈的栈顶值总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标号指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LB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标号指令。标记程序段，作为跳转指令执行时跳转到的目的位置。操作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~25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字型数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800280" cy="514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62520" y="4724280"/>
            <a:ext cx="102852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676520" y="1295280"/>
          <a:ext cx="577692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77692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568600" y="5791320"/>
            <a:ext cx="37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.23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断子程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T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15200" y="6313320"/>
            <a:ext cx="14349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86600" y="6248520"/>
            <a:ext cx="192240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endshow"/>
          </p:cNvPr>
          <p:cNvSpPr/>
          <p:nvPr/>
        </p:nvSpPr>
        <p:spPr>
          <a:xfrm>
            <a:off x="5665680" y="6248520"/>
            <a:ext cx="119232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结    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94920" y="1599840"/>
            <a:ext cx="6782040" cy="30481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实例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右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用增减计数器进行计数，如果当前值小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则程序按原顺序执行，若当前值超过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则跳转到从标号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开始的程序执行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954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20280" y="631332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12:16:20Z</dcterms:created>
  <dc:creator>新人电脑</dc:creator>
  <dc:description/>
  <dc:language>en-US</dc:language>
  <cp:lastModifiedBy>li</cp:lastModifiedBy>
  <dcterms:modified xsi:type="dcterms:W3CDTF">2002-02-01T03:22:25Z</dcterms:modified>
  <cp:revision>64</cp:revision>
  <dc:subject/>
  <dc:title>第5章　应用指令 </dc:title>
</cp:coreProperties>
</file>