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48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8824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36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48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8824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A0A-1062-4223-8699-7D6972EC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FCA-DD17-48E1-917E-A2286D1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F62-0619-4245-AF99-C958A48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865-7B13-4173-81C6-3DA7371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AF0-9918-4555-BE88-F07C40A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837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B04-7F9A-4CA5-B1CC-BA68CBE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995-8F9B-4553-8F57-FC8E8F5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D49-7BBF-439E-A484-C9F231C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2ED-8BFD-417C-9699-550D64F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74E-6E6F-4325-B71B-8AD2D94A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03E-C1E7-4F8C-BBF5-B43FB2D3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948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8240" y="175212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9036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8948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8240" y="4060800"/>
            <a:ext cx="237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16B-9639-4DA0-AFF7-CE742DDD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7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7920" y="40608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920" y="17521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060800"/>
            <a:ext cx="739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2743200"/>
            <a:ext cx="53316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2286000"/>
            <a:ext cx="762120" cy="914040"/>
            <a:chOff x="0" y="2286000"/>
            <a:chExt cx="762120" cy="914040"/>
          </a:xfrm>
        </p:grpSpPr>
        <p:sp>
          <p:nvSpPr>
            <p:cNvPr id="7" name=""/>
            <p:cNvSpPr/>
            <p:nvPr/>
          </p:nvSpPr>
          <p:spPr>
            <a:xfrm>
              <a:off x="0" y="2286000"/>
              <a:ext cx="381240" cy="45684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1240" y="2742840"/>
              <a:ext cx="380880" cy="45720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775080" y="-3240"/>
            <a:ext cx="23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ffccff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ccff"/>
                </a:solidFill>
                <a:latin typeface="隶书"/>
                <a:ea typeface="隶书"/>
              </a:rPr>
              <a:t>章　可编程序控制器概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633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633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81E-3588-4694-B208-63472119A52B}" type="slidenum">
              <a:rPr b="1" lang="zh-CN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章　可编程序控制器概论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1" action="ppaction://hlinksldjump"/>
              </a:rPr>
              <a:t>2.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2" action="ppaction://hlinksldjump"/>
              </a:rPr>
              <a:t>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3" action="ppaction://hlinksldjump"/>
              </a:rPr>
              <a:t>PLC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4" action="ppaction://hlinksldjump"/>
              </a:rPr>
              <a:t>的发展、分类及应用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5" action="ppaction://hlinksldjump"/>
              </a:rPr>
              <a:t>2.2　结构和工作原理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6" action="ppaction://hlinksldjump"/>
              </a:rPr>
              <a:t>2.3　技术性能指标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hlinkClick r:id="rId7" action="ppaction://hlinksldjump"/>
              </a:rPr>
              <a:t>2.4　编程语言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2.1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结构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91160" cy="1447920"/>
          </a:xfrm>
          <a:prstGeom prst="rect">
            <a:avLst/>
          </a:prstGeom>
          <a:noFill/>
          <a:ln cap="rnd" w="38160">
            <a:solidFill>
              <a:srgbClr val="ff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专为工业场合设计，采用了典型的计算机结构，主要是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电源、存储器和专门设计的输入输出接口电路等组成。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一典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简图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4717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4560" y="6219720"/>
            <a:ext cx="16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结构简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17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19320" y="3429000"/>
          <a:ext cx="655308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655308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中央处理单元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央处理单元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般由控制器、运算器和寄存器组成，这些电路都集成在一个芯片上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功能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存储器中读取指令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执行指令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顺序取指令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处理中断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存储器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720" y="2437920"/>
            <a:ext cx="4419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只读存储器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随机存储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输入输出单元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4114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接口电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出接口电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通常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输入类型可以是直流、交流和交直流。输入电路的电源可由外部供给，有的也可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内部提供。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别为一种型号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直流和交流输入接口电路的电路图，采用的是外接电源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描述了一个输入点的接口电路。其输入电路的一次电路与二次电路用光耦合器相连，当行程开关闭合时，输入电路和一次电路接通，上面的发光管用于对外显示，同时光耦合器中的发光管使三极管导通，信号进入内部电路，此输入点对应的位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即输入映像寄存器的对应位由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07320" y="522144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流输入电路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764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676520"/>
          <a:ext cx="7010280" cy="29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010280" cy="29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380040" y="579132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交流输入电路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18840" y="6386400"/>
            <a:ext cx="72936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17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1600200"/>
          <a:ext cx="754380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5438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2.2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工作原理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循环扫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采用循环扫描工作方式，这个工作过程一般包括五个阶段：内部处理、与编程器等的通信处理、输入扫描、用户程序执行、输出处理，其工作过程如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式开关置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运行）时，执行所有阶段；当方式开关置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T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停止）时，不执行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阶段，此时可进行通信处理，如对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机或离线编程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8400" y="2272320"/>
            <a:ext cx="9118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050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90920" y="838080"/>
          <a:ext cx="32763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838080"/>
                    <a:ext cx="3276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010640" cy="3353040"/>
          </a:xfrm>
          <a:prstGeom prst="rect">
            <a:avLst/>
          </a:prstGeom>
          <a:noFill/>
          <a:ln cap="rnd" w="38160">
            <a:solidFill>
              <a:srgbClr val="ff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编程序控制器的输入处理、执行用户程序和输出处理过程的原理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执行的五个阶段，称为一个扫描周期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成一个周期后，又重新执行上述过程，扫描周而复始地进行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本章内容包括：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发展、分类及应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及工作原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技术性能指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编程语言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440480" y="632448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2408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133720"/>
          <a:ext cx="8001000" cy="23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800100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362320" y="5105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程序执行原理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6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与计算机的异同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基本结构相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程序执行原理相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者的不同点主要体现在工作方式上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与继电接触器的异同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形结构和逻辑关系相同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实现原理不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方式不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590240" y="6310440"/>
            <a:ext cx="72936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3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技术性能指标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05320" y="1828440"/>
            <a:ext cx="3047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形尺寸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输出点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字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系统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储器容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扩展性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信功能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440480" y="640080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.4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编程语言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00040" y="2133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梯形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逻辑符号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级语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440480" y="632448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440480" y="632448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endshow"/>
          </p:cNvPr>
          <p:cNvSpPr/>
          <p:nvPr/>
        </p:nvSpPr>
        <p:spPr>
          <a:xfrm>
            <a:off x="5470560" y="6324480"/>
            <a:ext cx="138744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.1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PLC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的发展、分类及应用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24080" y="19051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" action="ppaction://hlinksldjump"/>
              </a:rPr>
              <a:t>2.1.1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　产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2.1.2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　发展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7" action="ppaction://hlinksldjump"/>
              </a:rPr>
              <a:t>2.1.3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　特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0" action="ppaction://hlinksldjump"/>
              </a:rPr>
              <a:t>2.1.4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　分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3" action="ppaction://hlinksldjump"/>
              </a:rPr>
              <a:t>2.1.5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　应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16" action="ppaction://hlinksldjump"/>
          </p:cNvPr>
          <p:cNvSpPr/>
          <p:nvPr/>
        </p:nvSpPr>
        <p:spPr>
          <a:xfrm>
            <a:off x="7431480" y="640080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1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产生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编程序逻辑控制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最初只具备逻辑控制、定时、计数等功能，主要是用来取代继电接触器控制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所说的可编程序控制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rogrammable Controll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以来，美、日、德等国由先前的可编程序逻辑控制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一步发展而来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国际电工委员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可编程序控制器作了如下规定：可编程序控制器是一种数字运算操作的电子系统，专为工业环境下应用而设计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234200" y="6400800"/>
            <a:ext cx="1376280" cy="40500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2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发展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2320" y="18284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展及现状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展趋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计算机联系密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发展多样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模块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网络与通信能力增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多样化与标准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业软件发展迅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234200" y="6324480"/>
            <a:ext cx="130032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3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特点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3200" y="19051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靠性高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能强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简单方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0" y="6400800"/>
            <a:ext cx="130032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4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分类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结构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编程序控制器从结构上可分为整体式和模块式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规模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输入输出点数可分为小型、中型和大型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6324480"/>
            <a:ext cx="128124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2.1.5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应用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开关量控制，如逻辑、定时、计数、顺序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模拟量控制，部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功能模块具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功能，可实现过程控制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监控，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构成数据采集和处理的监控系统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建立工业网络，为适应复杂的控制任务且节省资源，可采用单级网络或多级分布式控制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行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编程序控制器在其他行业的应用也日益广泛：在国防和民用，如建筑，环保，家用电器等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6400800"/>
            <a:ext cx="1280880" cy="368280"/>
          </a:xfrm>
          <a:prstGeom prst="rect">
            <a:avLst/>
          </a:prstGeom>
          <a:noFill/>
          <a:ln cap="rnd" w="2844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.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结构和工作原理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0400" y="2133360"/>
            <a:ext cx="3733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1" action="ppaction://hlinksldjump"/>
              </a:rPr>
              <a:t>2.2.1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　结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2.2.2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　工作原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7431480" y="6400800"/>
            <a:ext cx="1003680" cy="368280"/>
          </a:xfrm>
          <a:prstGeom prst="rect">
            <a:avLst/>
          </a:prstGeom>
          <a:noFill/>
          <a:ln cap="rnd" w="255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8:17:39Z</dcterms:created>
  <dc:creator>新人电脑</dc:creator>
  <dc:description/>
  <dc:language>en-US</dc:language>
  <cp:lastModifiedBy>li</cp:lastModifiedBy>
  <dcterms:modified xsi:type="dcterms:W3CDTF">2002-02-01T03:01:02Z</dcterms:modified>
  <cp:revision>24</cp:revision>
  <dc:subject/>
  <dc:title>第2章　可编程序控制器概论 </dc:title>
</cp:coreProperties>
</file>