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D05-786B-497B-AAB6-0D2564A9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928-7553-4DF4-893C-628695F9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C7C-67B9-4172-9EF3-30B9F114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B8A-290D-46F5-9049-59027C22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48D-61DC-4C45-BDFE-6BCA5488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359-B975-4073-A3E9-4B552481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672-6903-4D57-9D52-D9DE73C6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BAE-35E8-4CBF-8C2B-5167104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873-907B-4831-9D67-D17750B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364-9706-46BD-874C-49FF6A1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3C9-045B-485A-B344-41AAD7FA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7C2-CDDC-4E66-BD44-A74F19A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063-6FA3-42B7-94F4-B55DF6F26D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2720" y="0"/>
            <a:ext cx="2612880" cy="459720"/>
          </a:xfrm>
          <a:prstGeom prst="rect">
            <a:avLst/>
          </a:prstGeom>
          <a:noFill/>
          <a:ln cap="rnd" w="93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Unicode MS"/>
                <a:ea typeface="楷体_GB2312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世纪高职高专新概念教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1&#31456;%20%20&#24494;&#26426;&#31995;&#32479;&#19982;&#25509;&#21475;&#25216;&#26415;&#27010;&#36848;.ppt#1. &#31532;1&#31456;  &#24494;&#26426;&#31995;&#32479;&#19982;&#25509;&#21475;&#25216;&#26415;&#27010;&#36848;" TargetMode="External"/><Relationship Id="rId3" Type="http://schemas.openxmlformats.org/officeDocument/2006/relationships/hyperlink" Target="file:///&#31532;2&#31456;%20%20&#24494;&#22411;&#35745;&#31639;&#26426;&#30340;&#31995;&#32479;&#32467;&#26500;.ppt#1. &#31532;2&#31456;  &#24494;&#22411;&#35745;&#31639;&#26426;&#30340;&#31995;&#32479;&#32467;&#26500;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微机接口技术</a:t>
            </a:r>
            <a:endParaRPr b="0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80720" y="3809880"/>
            <a:ext cx="5867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主    编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董方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副主编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官东  黄振轩  廉长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14480" y="6248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 Unicode MS"/>
                <a:ea typeface="Arial Unicode MS"/>
              </a:rPr>
              <a:t>8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章</a:t>
            </a:r>
            <a:r>
              <a:rPr b="0" lang="zh-CN" sz="3600" spc="-1" strike="noStrike">
                <a:solidFill>
                  <a:srgbClr val="ff9933"/>
                </a:solidFill>
                <a:latin typeface="Arial Unicode MS"/>
                <a:ea typeface="Arial Unicode MS"/>
              </a:rPr>
              <a:t> 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磁盘接口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514240"/>
            <a:ext cx="625464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概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盘驱动器接口电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硬盘驱动器接口电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代硬盘及接口技术的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8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磁盘驱动器接口软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9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黑体"/>
              </a:rPr>
              <a:t>章  其他接口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6594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9.1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声卡及其接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9.2  AMR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及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CNR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接口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9.3  PCMCIA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接口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欢迎您使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7747200" y="617220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cc00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962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微机接口技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目      录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2"/>
              </a:rPr>
              <a:t>第1章  微机系统与接口技术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隶书"/>
                <a:ea typeface="隶书"/>
                <a:hlinkClick r:id="rId3"/>
              </a:rPr>
              <a:t>第2章  微型计算机的系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微机系统的中断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DMA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控制器与定时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/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计数器及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SI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键盘与鼠标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视频显示接口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打印接口及串行通信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磁盘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9</a:t>
            </a:r>
            <a:r>
              <a:rPr b="1" lang="zh-CN" sz="2800" spc="-1" strike="noStrike">
                <a:solidFill>
                  <a:srgbClr val="ff9933"/>
                </a:solidFill>
                <a:latin typeface="隶书"/>
                <a:ea typeface="隶书"/>
              </a:rPr>
              <a:t>章  其他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086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"/>
              </a:rPr>
              <a:t>1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"/>
              </a:rPr>
              <a:t>  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微机系统与接口技术概述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型计算机系统结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机接口技术概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机系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道与总线概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隶书"/>
              </a:rPr>
              <a:t>第</a:t>
            </a:r>
            <a:r>
              <a:rPr b="1" lang="zh-CN" sz="4000" spc="-1" strike="noStrike">
                <a:solidFill>
                  <a:srgbClr val="ff9933"/>
                </a:solidFill>
                <a:latin typeface="隶书"/>
              </a:rPr>
              <a:t>2</a:t>
            </a:r>
            <a:r>
              <a:rPr b="1" lang="zh-CN" sz="4000" spc="-1" strike="noStrike">
                <a:solidFill>
                  <a:srgbClr val="ff9933"/>
                </a:solidFill>
                <a:latin typeface="隶书"/>
              </a:rPr>
              <a:t>章  微型计算机的系统结构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1  PC/X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PC/AT IS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EIS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总线技术的微型计算机结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2  PCI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GP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局部总线的微型计算机系统结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3  Pentium 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型计算机系统结构简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章  微机系统的中断系统</a:t>
            </a:r>
            <a:r>
              <a:rPr b="1" lang="zh-CN" sz="3600" spc="-1" strike="noStrike">
                <a:solidFill>
                  <a:srgbClr val="ff9933"/>
                </a:solidFill>
                <a:latin typeface="隶书"/>
              </a:rPr>
              <a:t>	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系统概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系统的中断类型及机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系统的中断过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断优先级管理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259A 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5  8259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C/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38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机系统中的应用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章  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DMA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控制器与定时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计数器及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SICL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  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37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  8237A D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控制在微机系统中的应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编程计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时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53/8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功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口电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3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6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代微型计算机系统接口控制逻辑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IC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4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5</a:t>
            </a:r>
            <a:r>
              <a:rPr b="0" lang="zh-CN" sz="3600" spc="-1" strike="noStrike">
                <a:solidFill>
                  <a:srgbClr val="ff9933"/>
                </a:solidFill>
                <a:latin typeface="隶书"/>
                <a:ea typeface="隶书"/>
              </a:rPr>
              <a:t>章  键盘与鼠标接口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2285640"/>
            <a:ext cx="601164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键盘概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键盘的工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3  P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扩展键盘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键盘中断与键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鼠标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 Unicode MS"/>
              </a:rPr>
              <a:t>6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 Unicode MS"/>
              </a:rPr>
              <a:t>  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黑体"/>
              </a:rPr>
              <a:t>视频显示接口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系统的组成及其工作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显示器的类型及性能参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标准及视频接口的基本类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4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5  VG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视频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6.6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几种典型的显示卡参数与现代显卡中的新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Arial"/>
              </a:rPr>
              <a:t>7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打印接口及串行通信接口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1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打印机结构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2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并行打印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3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并行打印的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/O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服务功能及服务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4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通信技术概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5   RS-232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接口标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6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串行通信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7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串行端口的中断服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7.8  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</a:rPr>
              <a:t>通用串行总线接口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1:59:56Z</dcterms:created>
  <dc:creator>新人电脑</dc:creator>
  <dc:description/>
  <dc:language>en-US</dc:language>
  <cp:lastModifiedBy>新人电脑</cp:lastModifiedBy>
  <dcterms:modified xsi:type="dcterms:W3CDTF">2002-01-18T02:58:07Z</dcterms:modified>
  <cp:revision>13</cp:revision>
  <dc:subject/>
  <dc:title>微机接口技术</dc:title>
</cp:coreProperties>
</file>