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011-E6CC-4C1F-9DE0-1AE453EF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09F-C48A-4231-BFD0-A0A90B37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D47-16ED-40EF-B2BA-6AB1FA33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B4B-88C4-496A-9108-54123B45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842-B33F-4FF1-8D63-9B49FBB9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26C-D76C-4811-9F8F-54A70AF7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DD9-65A3-4438-A37C-A0D3248B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53F-5AC1-45C8-B837-C9DA2312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5A4-A0FC-4E54-B93F-223C2D3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242-5A4E-411C-9957-510E2321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84E-290E-4C35-A11E-1E8F966F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0FA-A185-4D14-994D-5AE9ED22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230B-E530-4B6E-A486-073C414A65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0" y="41400"/>
            <a:ext cx="8986680" cy="459720"/>
          </a:xfrm>
          <a:prstGeom prst="rect">
            <a:avLst/>
          </a:prstGeom>
          <a:noFill/>
          <a:ln cap="rnd" w="7632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21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31532;1&#31456;%20%20&#24494;&#26426;&#36828;&#21160;&#25216;&#26415;&#27010;&#36848;.ppt#1. &#31532;1&#31456;  &#24494;&#26426;&#36828;&#21160;&#25216;&#26415;&#27010;&#36848;" TargetMode="External"/><Relationship Id="rId3" Type="http://schemas.openxmlformats.org/officeDocument/2006/relationships/hyperlink" Target="file:///&#31532;2&#31456;%20%20&#36828;&#21160;&#20449;&#24687;&#19982;&#32534;&#30721;.ppt#1. &#31532;2&#31456;  &#36828;&#21160;&#20449;&#24687;&#19982;&#32534;&#30721;&#30340;&#22522;&#26412;&#29702;&#35770;" TargetMode="External"/><Relationship Id="rId4" Type="http://schemas.openxmlformats.org/officeDocument/2006/relationships/hyperlink" Target="file:///&#31532;3&#31456;%20%20&#35843;&#24230;&#31471;.ppt#1. &#31532;3&#31456;  &#35843;&#24230;&#31471;" TargetMode="External"/><Relationship Id="rId5" Type="http://schemas.openxmlformats.org/officeDocument/2006/relationships/hyperlink" Target="file:///&#31532;4&#31456;%20%20&#36828;&#21160;&#32456;&#31471;&#65288;RTU.ppt#1. &#31532;4&#31456;  &#36828;&#21160;&#32456;&#31471;&#65288;RTU&#65289;" TargetMode="External"/><Relationship Id="rId6" Type="http://schemas.openxmlformats.org/officeDocument/2006/relationships/hyperlink" Target="file:///&#31532;4&#31456;%20%20&#36828;&#21160;&#32456;&#31471;&#65288;RTU.ppt#1. &#31532;4&#31456;  &#36828;&#21160;&#32456;&#31471;&#65288;RTU&#65289;" TargetMode="External"/><Relationship Id="rId7" Type="http://schemas.openxmlformats.org/officeDocument/2006/relationships/hyperlink" Target="file:///&#31532;5&#31456;%20%20&#36828;&#21160;&#36890;&#20449;&#21407;&#29702;&#21644;.ppt#1. &#31532;5&#31456;  &#36828;&#21160;&#36890;&#20449;&#21407;&#29702;&#21644;&#20449;&#36947;" TargetMode="External"/><Relationship Id="rId8" Type="http://schemas.openxmlformats.org/officeDocument/2006/relationships/hyperlink" Target="file:///&#31532;6&#31456;%20%20&#24494;&#26426;&#36828;&#21160;&#36890;&#20449;&#35268;&#32422;.ppt#1. &#31532;6&#31456;  &#24494;&#26426;&#36828;&#21160;&#36890;&#20449;&#35268;&#32422;" TargetMode="External"/><Relationship Id="rId9" Type="http://schemas.openxmlformats.org/officeDocument/2006/relationships/hyperlink" Target="file:///&#31532;7&#31456;%20%20&#36965;&#27979;&#37327;&#30340;&#27979;&#37327;.ppt#1. &#31532;7&#31456;  &#36965;&#27979;&#37327;&#30340;&#27979;&#37327;" TargetMode="External"/><Relationship Id="rId10" Type="http://schemas.openxmlformats.org/officeDocument/2006/relationships/hyperlink" Target="file:///&#31532;7&#31456;%20%20&#36965;&#27979;&#37327;&#30340;&#27979;&#37327;.ppt#1. &#31532;7&#31456;  &#36965;&#27979;&#37327;&#30340;&#27979;&#37327;" TargetMode="External"/><Relationship Id="rId11" Type="http://schemas.openxmlformats.org/officeDocument/2006/relationships/hyperlink" Target="file:///&#31532;8&#31456;%20%20&#24494;&#26426;&#30417;&#25511;&#19982;&#32508;&#21512;&#33258;&#21160;&#21270;.ppt#1. &#31532;8&#31456;  &#24494;&#26426;&#30417;&#25511;&#19982;&#32508;&#21512;&#33258;&#21160;&#21270;" TargetMode="External"/><Relationship Id="rId12" Type="http://schemas.openxmlformats.org/officeDocument/2006/relationships/hyperlink" Target="file:///&#31532;9&#31456;%20%20&#24494;&#26426;&#36828;&#21160;&#31995;&#32479;&#30340;.ppt#1. &#31532;9&#31456;  &#24494;&#26426;&#36828;&#21160;&#31995;&#32479;&#30340;&#25239;&#24178;&#25200;&#25514;&#26045;" TargetMode="External"/><Relationship Id="rId13" Type="http://schemas.openxmlformats.org/officeDocument/2006/relationships/hyperlink" Target="file:///&#31532;10&#31456;%20%20&#36828;&#21160;&#25216;&#26415;&#22312;&#38081;&#36335;.ppt#1. &#31532;10&#31456;  &#36828;&#21160;&#25216;&#26415;&#22312;&#38081;&#36335;&#36816;&#36755;&#35843;&#24230;&#20013;&#30340;&#24212;&#29992;" TargetMode="External"/><Relationship Id="rId14" Type="http://schemas.openxmlformats.org/officeDocument/2006/relationships/hyperlink" Target="file:///&#31532;11&#31456;%20%20&#31995;&#32479;&#35774;&#35745;.ppt#1. &#31532;11&#31456;  &#31995;&#32479;&#35774;&#35745;" TargetMode="External"/><Relationship Id="rId15" Type="http://schemas.openxmlformats.org/officeDocument/2006/relationships/hyperlink" Target="file:///&#31532;12&#31456;%20%20&#36828;&#21160;&#31995;&#32479;&#30340;&#22522;&#26412;.ppt#1. &#31532;12&#31456;  &#36828;&#21160;&#31995;&#32479;&#30340;&#22522;&#26412;&#29615;&#33410;&#30340;&#35774;&#35745;&#21644;&#24212;&#29992;&#20030;&#20363;" TargetMode="External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31532;1&#31456;%20%20&#24494;&#26426;&#36828;&#21160;&#25216;&#26415;&#27010;&#36848;.ppt#1. &#31532;1&#31456;  &#24494;&#26426;&#36828;&#21160;&#25216;&#26415;&#27010;&#36848;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31532;2&#31456;%20%20&#36828;&#21160;&#20449;&#24687;&#19982;&#32534;&#30721;.ppt#1. &#31532;2&#31456;  &#36828;&#21160;&#20449;&#24687;&#19982;&#32534;&#30721;&#30340;&#22522;&#26412;&#29702;&#35770;" TargetMode="External"/><Relationship Id="rId3" Type="http://schemas.openxmlformats.org/officeDocument/2006/relationships/hyperlink" Target="file:///&#31532;2&#31456;%20%20&#36828;&#21160;&#20449;&#24687;&#19982;&#32534;&#30721;.ppt#1. &#31532;2&#31456;  &#36828;&#21160;&#20449;&#24687;&#19982;&#32534;&#30721;&#30340;&#22522;&#26412;&#29702;&#35770;" TargetMode="External"/><Relationship Id="rId4" Type="http://schemas.openxmlformats.org/officeDocument/2006/relationships/hyperlink" Target="file:///&#31532;2&#31456;%20%20&#36828;&#21160;&#20449;&#24687;&#19982;&#32534;&#30721;.ppt#1. &#31532;2&#31456;  &#36828;&#21160;&#20449;&#24687;&#19982;&#32534;&#30721;&#30340;&#22522;&#26412;&#29702;&#35770;" TargetMode="External"/><Relationship Id="rId5" Type="http://schemas.openxmlformats.org/officeDocument/2006/relationships/hyperlink" Target="file:///&#31532;2&#31456;%20%20&#36828;&#21160;&#20449;&#24687;&#19982;&#32534;&#30721;.ppt#1. &#31532;2&#31456;  &#36828;&#21160;&#20449;&#24687;&#19982;&#32534;&#30721;&#30340;&#22522;&#26412;&#29702;&#35770;" TargetMode="External"/><Relationship Id="rId6" Type="http://schemas.openxmlformats.org/officeDocument/2006/relationships/hyperlink" Target="file:///&#31532;2&#31456;%20%20&#36828;&#21160;&#20449;&#24687;&#19982;&#32534;&#30721;.ppt#1. &#31532;2&#31456;  &#36828;&#21160;&#20449;&#24687;&#19982;&#32534;&#30721;&#30340;&#22522;&#26412;&#29702;&#35770;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31532;3&#31456;%20%20&#35843;&#24230;&#31471;.ppt#1. &#31532;3&#31456;  &#35843;&#24230;&#31471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31532;4&#31456;%20%20&#36828;&#21160;&#32456;&#31471;&#65288;RTU.ppt#1. &#31532;4&#31456;  &#36828;&#21160;&#32456;&#31471;&#65288;RTU&#65289;" TargetMode="External"/><Relationship Id="rId3" Type="http://schemas.openxmlformats.org/officeDocument/2006/relationships/hyperlink" Target="file:///&#31532;4&#31456;%20%20&#36828;&#21160;&#32456;&#31471;&#65288;RTU.ppt#1. &#31532;4&#31456;  &#36828;&#21160;&#32456;&#31471;&#65288;RTU&#6528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cc00"/>
                </a:solidFill>
                <a:latin typeface="Arial"/>
                <a:ea typeface="华文行楷"/>
              </a:rPr>
              <a:t>微机远动技术</a:t>
            </a:r>
            <a:endParaRPr b="1" lang="en-US" sz="8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47560" y="3657600"/>
            <a:ext cx="6933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主　编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:  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刘家军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副主编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:  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王国思　李　康　郭春生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主　审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:  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陈剑云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73240" y="6116760"/>
            <a:ext cx="1826640" cy="459720"/>
          </a:xfrm>
          <a:prstGeom prst="rect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Arial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章  微机监控与综合自动化 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8.1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传统监控系统工作模式及其存在的问题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8.2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微机监控与综合自动化系统概述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8.3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模拟量输入、输出通道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8.4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开关量输入、输出通道与输入方式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8.5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变电所综合自动化系统举例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8.6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综合系统软件设计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章  微机远动系统的抗干扰措施 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61960" y="1904760"/>
            <a:ext cx="587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9.1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硬件抗干扰措施概述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9.2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软件的抗干扰设计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9.3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故障自动检测程序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9.4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远动装置的故障检测及诊断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9.5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数据滤波程序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9.6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变电站内的电磁兼容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9.7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变电站抗电磁干扰的措施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章  远动技术在铁路运输调度中的应用 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5120" y="2286000"/>
            <a:ext cx="62006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0.1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系统的网络结构与通信制式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0.2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线路控制方式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0.3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铁路信号远程控制系统中具体采用的几种线路控制方法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章  系统设计 </a:t>
            </a:r>
            <a:endParaRPr b="1" lang="en-US" sz="4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1.1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系统设计的任务与要求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1.2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系统设计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1.3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中心控制机的系统设计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1.4 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控制机的几种结构形式分析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1.5 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中心控制机系统的可靠性 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1.6 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区域机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章  远动系统的基本环节的设计和应用举例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2.1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基本环节的分类和作用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2.2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时钟脉冲发生器和时间划分开关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2.3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编码电路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2.4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译码电路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2.5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同步形成电路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2.6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调频式调度集中总机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1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ff"/>
                </a:solidFill>
                <a:latin typeface="Times New Roman"/>
              </a:rPr>
              <a:t>欢迎您使用</a:t>
            </a:r>
            <a:endParaRPr b="1" lang="en-US" sz="44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0384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cc00"/>
                </a:solidFill>
                <a:latin typeface="Arial"/>
                <a:ea typeface="华文行楷"/>
              </a:rPr>
              <a:t>微机远动技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9480" y="6324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endshow"/>
          </p:cNvPr>
          <p:cNvSpPr/>
          <p:nvPr/>
        </p:nvSpPr>
        <p:spPr>
          <a:xfrm>
            <a:off x="4262400" y="6324480"/>
            <a:ext cx="790200" cy="3988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ff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目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Arial"/>
              </a:rPr>
              <a:t>      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录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1080" y="152352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第1章   微机远动技术概述 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第2章   远动信息与编码的基本理论 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第3章   调度端 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第4章   远动终端（</a:t>
            </a: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RTU） 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第5章   远动通信原理和信道 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第6章    微机远动通信规约 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第7章    遥测量的测量</a:t>
            </a: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 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第8章    微机监控与综合自动化 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第9章    微机远动系统的抗干扰措施 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第10章  远动技术在铁路运输调度中的应用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第11章  系统设计 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第12章  远动系统的基本环节的设计和应用举例 </a:t>
            </a:r>
            <a:endParaRPr b="1" lang="en-US" sz="2000" spc="-1" strike="noStrike">
              <a:solidFill>
                <a:srgbClr val="cc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第1章  微机远动技术概述 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61960" y="2133720"/>
            <a:ext cx="590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.1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远动技术的概念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.2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远动技术的发展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.3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计算机远动技术的应用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.4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计算机远动系统的模式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1.5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对计算机远动系统的要求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2"/>
              </a:rPr>
              <a:t>第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2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4"/>
              </a:rPr>
              <a:t>章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  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6"/>
              </a:rPr>
              <a:t>远动信息与编码的基本理论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800" y="1904760"/>
            <a:ext cx="6324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2.1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数据传输系统的组成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2.2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信息量及数字信号传输要求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2.3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错误图样及差错控制方式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2.4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抗干扰编码的基本概念及理论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2.5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常用检错码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2.6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线性分组码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2.7  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</a:rPr>
              <a:t>循环码 </a:t>
            </a:r>
            <a:endParaRPr b="1" lang="en-US" sz="2800" spc="-1" strike="noStrike">
              <a:solidFill>
                <a:srgbClr val="cc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第3章  调度端 </a:t>
            </a:r>
            <a:endParaRPr b="1" lang="en-US" sz="4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71800" y="2133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3.1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调度端功能 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3.2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调度端的硬件结构 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3.3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微机远动工作模式 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3.4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系统软件介绍 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3.5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微机远动数据库系统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3.6 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信息收集系统 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3.7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人—机联系系统 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3.8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调度端远动系统维护 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44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/>
              </a:rPr>
              <a:t>第4章  远动终端（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3"/>
              </a:rPr>
              <a:t>RTU）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3372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4.1  RTU</a:t>
            </a: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的主要功能 </a:t>
            </a:r>
            <a:endParaRPr b="1" lang="en-US" sz="22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4.2  RTU</a:t>
            </a: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的硬件构成 </a:t>
            </a:r>
            <a:endParaRPr b="1" lang="en-US" sz="22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4.3  RTU</a:t>
            </a: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分类 </a:t>
            </a:r>
            <a:endParaRPr b="1" lang="en-US" sz="22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4.4  RTU</a:t>
            </a: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软件</a:t>
            </a:r>
            <a:endParaRPr b="1" lang="en-US" sz="22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4.5  </a:t>
            </a: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遥信量的采集与处理 </a:t>
            </a:r>
            <a:endParaRPr b="1" lang="en-US" sz="22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4.6  </a:t>
            </a: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遥测量的采集与处理 </a:t>
            </a:r>
            <a:endParaRPr b="1" lang="en-US" sz="22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4.7  </a:t>
            </a: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遥控操作输出 </a:t>
            </a:r>
            <a:endParaRPr b="1" lang="en-US" sz="22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4.8  </a:t>
            </a: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环境温度和湿度对</a:t>
            </a: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RTU</a:t>
            </a: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的影响及解决措施</a:t>
            </a:r>
            <a:endParaRPr b="1" lang="en-US" sz="22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4.9  RTU</a:t>
            </a:r>
            <a:r>
              <a:rPr b="1" lang="zh-CN" sz="2200" spc="-1" strike="noStrike">
                <a:solidFill>
                  <a:srgbClr val="cc66ff"/>
                </a:solidFill>
                <a:latin typeface="Times New Roman"/>
              </a:rPr>
              <a:t>模板的日常维护及注意事项 </a:t>
            </a:r>
            <a:endParaRPr b="1" lang="en-US" sz="2200" spc="-1" strike="noStrike">
              <a:solidFill>
                <a:srgbClr val="cc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章  远动通信原理和信道 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172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1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电力系统分层调度控制及通信发展趋势 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2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通信原理概述 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3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数字幅度调制与解调 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4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数字频率调制与解调 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5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数字相位调制与解调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6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位同步</a:t>
            </a:r>
            <a:endParaRPr b="1" lang="en-US" sz="24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3124080"/>
            <a:ext cx="318132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7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载波同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8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群同步（帧同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9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信道概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10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有线通信线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11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光纤信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12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多路复用技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5.13  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串行通信接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marL="50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第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章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微机远动通信规约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宋体"/>
              </a:rPr>
              <a:t>6.1  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微机远动常用规约的特点</a:t>
            </a:r>
            <a:r>
              <a:rPr b="1" lang="zh-CN" sz="3200" spc="-1" strike="noStrike">
                <a:solidFill>
                  <a:srgbClr val="cc66ff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宋体"/>
              </a:rPr>
              <a:t>6.2  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远动中信息的帧格式</a:t>
            </a:r>
            <a:r>
              <a:rPr b="1" lang="zh-CN" sz="3200" spc="-1" strike="noStrike">
                <a:solidFill>
                  <a:srgbClr val="cc66ff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宋体"/>
              </a:rPr>
              <a:t>6.3  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微机远动的循环式远动规约简介</a:t>
            </a:r>
            <a:r>
              <a:rPr b="1" lang="zh-CN" sz="3200" spc="-1" strike="noStrike">
                <a:solidFill>
                  <a:srgbClr val="cc66ff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cc66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宋体"/>
              </a:rPr>
              <a:t>6.4  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问答式远动规约介绍</a:t>
            </a:r>
            <a:r>
              <a:rPr b="1" lang="zh-CN" sz="3200" spc="-1" strike="noStrike">
                <a:solidFill>
                  <a:srgbClr val="cc66ff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cc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B5E42-61FD-4200-9D21-AFD4110AA4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章  遥测量的测量 </a:t>
            </a:r>
            <a:endParaRPr b="1" lang="en-US" sz="4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32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7.1  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直流采样和交流采样 </a:t>
            </a:r>
            <a:endParaRPr b="1" lang="en-US" sz="3200" spc="-1" strike="noStrike">
              <a:solidFill>
                <a:srgbClr val="cc66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7.2  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变送器 </a:t>
            </a:r>
            <a:endParaRPr b="1" lang="en-US" sz="3200" spc="-1" strike="noStrike">
              <a:solidFill>
                <a:srgbClr val="cc66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7.3  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电度量采集</a:t>
            </a:r>
            <a:endParaRPr b="1" lang="en-US" sz="3200" spc="-1" strike="noStrike">
              <a:solidFill>
                <a:srgbClr val="cc66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7.4  A/D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D/A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转换器 </a:t>
            </a:r>
            <a:endParaRPr b="1" lang="en-US" sz="3200" spc="-1" strike="noStrike">
              <a:solidFill>
                <a:srgbClr val="cc66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7.5  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遥测量的标度变换 </a:t>
            </a:r>
            <a:endParaRPr b="1" lang="en-US" sz="3200" spc="-1" strike="noStrike">
              <a:solidFill>
                <a:srgbClr val="cc66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7.6  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电量的计算 </a:t>
            </a:r>
            <a:endParaRPr b="1" lang="en-US" sz="3200" spc="-1" strike="noStrike">
              <a:solidFill>
                <a:srgbClr val="cc66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18:13Z</dcterms:created>
  <dc:creator>新人电脑</dc:creator>
  <dc:description/>
  <dc:language>en-US</dc:language>
  <cp:lastModifiedBy>新人电脑</cp:lastModifiedBy>
  <dcterms:modified xsi:type="dcterms:W3CDTF">2002-01-13T11:07:57Z</dcterms:modified>
  <cp:revision>10</cp:revision>
  <dc:subject/>
  <dc:title>目      录</dc:title>
</cp:coreProperties>
</file>