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840" indent="-27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22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92160" y="38160"/>
            <a:ext cx="92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00"/>
                </a:solidFill>
                <a:latin typeface="华文行楷"/>
                <a:ea typeface="华文行楷"/>
              </a:rPr>
              <a:t>21</a:t>
            </a:r>
            <a:r>
              <a:rPr b="0" lang="zh-CN" sz="2000" spc="-1" strike="noStrike">
                <a:solidFill>
                  <a:srgbClr val="009900"/>
                </a:solidFill>
                <a:latin typeface="华文行楷"/>
                <a:ea typeface="华文行楷"/>
              </a:rPr>
              <a:t>世纪高职高专新概念教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80880"/>
            <a:ext cx="4114800" cy="0"/>
          </a:xfrm>
          <a:prstGeom prst="line">
            <a:avLst/>
          </a:prstGeom>
          <a:ln w="19080">
            <a:solidFill>
              <a:srgbClr val="ff00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31532;&#19968;&#31456;%20%20&#32490;&#35770;.ppt#1. &#31532;&#19968;&#31456;  &#32490;&#35770;" TargetMode="External"/><Relationship Id="rId3" Type="http://schemas.openxmlformats.org/officeDocument/2006/relationships/hyperlink" Target="file:///&#31532;&#20108;&#31456;%20%20&#24494;&#22411;&#35745;&#31639;&#26426;&#25509;&#21475;&#25216;&#26415;.ppt#1. &#31532;&#20108;&#31456;  &#24494;&#22411;&#35745;&#31639;&#26426;&#25509;&#21475;&#25216;&#26415;" TargetMode="External"/><Relationship Id="rId4" Type="http://schemas.openxmlformats.org/officeDocument/2006/relationships/hyperlink" Target="file:///&#31532;&#19977;&#31456;%20%20&#24120;&#29992;&#25511;&#21046;&#31243;&#24207;&#35774;&#35745;.ppt#1. &#31532;&#19977;&#31456;  &#24120;&#29992;&#25511;&#21046;&#31243;&#24207;&#35774;&#35745;" TargetMode="External"/><Relationship Id="rId5" Type="http://schemas.openxmlformats.org/officeDocument/2006/relationships/hyperlink" Target="file:///&#31532;&#22235;&#31456;%20%20&#30452;&#25509;&#25968;&#23383;&#25511;&#21046;&#21450;&#20854;&#31639;&#27861;.ppt#1. &#31532;&#22235;&#31456;  &#30452;&#25509;&#25968;&#23383;&#25511;&#21046;&#21450;&#20854;&#31639;&#27861;" TargetMode="External"/><Relationship Id="rId6" Type="http://schemas.openxmlformats.org/officeDocument/2006/relationships/hyperlink" Target="file:///&#31532;&#20116;&#31456;%20%20&#35745;&#31639;&#26426;&#25511;&#21046;&#31995;&#32479;&#30340;&#25968;&#25454;&#22788;&#29702;.ppt#1. &#31532;&#20116;&#31456;  &#35745;&#31639;&#26426;&#25511;&#21046;&#31995;&#32479;&#30340;&#25968;&#25454;&#22788;&#29702;" TargetMode="External"/><Relationship Id="rId7" Type="http://schemas.openxmlformats.org/officeDocument/2006/relationships/hyperlink" Target="file:///&#31532;&#20116;&#31456;%20%20&#35745;&#31639;&#26426;&#25511;&#21046;&#31995;&#32479;&#30340;&#25968;&#25454;&#22788;&#29702;.ppt#1. &#31532;&#20116;&#31456;  &#35745;&#31639;&#26426;&#25511;&#21046;&#31995;&#32479;&#30340;&#25968;&#25454;&#22788;&#29702;" TargetMode="External"/><Relationship Id="rId8" Type="http://schemas.openxmlformats.org/officeDocument/2006/relationships/hyperlink" Target="file:///&#31532;&#20116;&#31456;%20%20&#35745;&#31639;&#26426;&#25511;&#21046;&#31995;&#32479;&#30340;&#25968;&#25454;&#22788;&#29702;.ppt#1. &#31532;&#20116;&#31456;  &#35745;&#31639;&#26426;&#25511;&#21046;&#31995;&#32479;&#30340;&#25968;&#25454;&#22788;&#29702;" TargetMode="External"/><Relationship Id="rId9" Type="http://schemas.openxmlformats.org/officeDocument/2006/relationships/hyperlink" Target="file:///&#31532;&#20845;&#31456;%20%20&#24494;&#22411;&#35745;&#31639;&#26426;&#25511;&#21046;&#31995;&#32479;&#30340;&#35774;&#35745;.ppt#1. &#31532;&#20845;&#31456;  &#24494;&#22411;&#35745;&#31639;&#26426;&#25511;&#21046;&#31995;&#32479;&#30340;&#35774;&#35745;&#19982;&#23454;&#36341;" TargetMode="External"/><Relationship Id="rId10" Type="http://schemas.openxmlformats.org/officeDocument/2006/relationships/hyperlink" Target="file:///&#31532;&#19971;&#31456;%20%20&#23454;&#39564;.ppt#1. &#31532;&#19971;&#31456;  &#23454;&#39564;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Times New Roman"/>
                <a:ea typeface="华文行楷"/>
              </a:rPr>
              <a:t>微型计算机控制技术</a:t>
            </a:r>
            <a:endParaRPr b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819160" y="3352680"/>
            <a:ext cx="5257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    编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台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副主编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张明波     李井竹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    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张维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86040" y="6172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中国水利水电出版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欢迎您使用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79480" y="6324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endshow"/>
          </p:cNvPr>
          <p:cNvSpPr/>
          <p:nvPr/>
        </p:nvSpPr>
        <p:spPr>
          <a:xfrm>
            <a:off x="4262400" y="6402240"/>
            <a:ext cx="790200" cy="3988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733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Times New Roman"/>
                <a:ea typeface="华文行楷"/>
              </a:rPr>
              <a:t>微型计算机控制技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目　　　录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第一章  绪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第二章  微型计算机接口技术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第三章  常用控制程序设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第四章  直接数字控制及其算法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第五章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7"/>
              </a:rPr>
              <a:t>  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8"/>
              </a:rPr>
              <a:t>计算机控制系统的数据处理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第六章  微型计算机控制系统的设计与实践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第七章  实验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一章  绪论 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800" y="2209320"/>
            <a:ext cx="6781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1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型计算机控制系统的组成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型计算机控制系统分类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型计算机控制系统的发展趋势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章  微型计算机接口技术 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66520" y="1828440"/>
            <a:ext cx="5410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1  D/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换器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2  MCS-5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换器的接口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3  A/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换器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4  MCS-5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/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换器的接口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5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的采样及保持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6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常用输出驱动电路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章  常用控制程序设计 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24080" y="167616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3.1 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判断程序设计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3.2 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巡回检测程序设计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3.3 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数字滤波程序设计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3.4 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标度变换程序设计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3.5 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上下限报警处理程序设计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3.6  LED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数码管显示程序设计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3.7 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定时程序设计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3.8 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键盘控制程序设计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3.9 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抗干扰技术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3.10 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电机控制程序设计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3.11 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步进电机控制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章</a:t>
            </a:r>
            <a:r>
              <a:rPr b="1" lang="zh-CN" sz="3600" spc="-1" strike="noStrike">
                <a:solidFill>
                  <a:srgbClr val="ffcc66"/>
                </a:solidFill>
                <a:latin typeface="宋体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直接数字控制及其算法</a:t>
            </a:r>
            <a:r>
              <a:rPr b="1" lang="zh-CN" sz="3600" spc="-1" strike="noStrike">
                <a:solidFill>
                  <a:srgbClr val="ffcc66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2133360"/>
            <a:ext cx="4724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4.1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4.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算法的数字实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4.3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算法的几种发展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4.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数的整定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.5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林算法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章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计算机控制系统的数据处理 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7040" y="2269800"/>
            <a:ext cx="61722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计算法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查表法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非线性补偿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数据极性和字长的预处理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6858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第六章  微型计算机控制系统的设计与实践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553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机控制系统设计的基本要求和特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机控制系统的设计方法及步骤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机控制系统设计举例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第七章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实验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Arial"/>
              </a:rPr>
              <a:t>	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6880" y="2133360"/>
            <a:ext cx="5564160" cy="34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.1   D/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转换实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.2    A/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换实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.3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运算程序练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.4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综合实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07:13:28Z</dcterms:created>
  <dc:creator>新人电脑</dc:creator>
  <dc:description/>
  <dc:language>en-US</dc:language>
  <cp:lastModifiedBy>新人电脑</cp:lastModifiedBy>
  <dcterms:modified xsi:type="dcterms:W3CDTF">2002-01-13T11:06:55Z</dcterms:modified>
  <cp:revision>8</cp:revision>
  <dc:subject/>
  <dc:title>PowerPoint 演示文稿</dc:title>
</cp:coreProperties>
</file>