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D08-BCD7-47A2-AE59-445C201E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F51-DC69-4D71-9020-6F34919A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2C3-E0C9-428F-ADF2-BCF6E5AC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405-BC24-45B6-B0B7-87F4CCB2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8E0-389C-4F4B-9A87-8E78957E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FB8-C2CC-4E6C-8C9E-DDAD4CEA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402-9EBE-475E-97DB-2153C9B7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D41-EF8A-4FA5-8214-D7A3A8FE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BA7-C6B0-4776-9FEE-0F56BDEF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B76-F805-4562-B22C-38C4A159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33A-7CE4-4306-9267-32DC546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072-CCFB-4CAA-82B0-0A0B0144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3B94-79B1-446D-A457-A63B4D6B6C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賀年卡01" descr="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453960"/>
          </a:xfrm>
          <a:prstGeom prst="rect">
            <a:avLst/>
          </a:prstGeom>
          <a:ln w="0">
            <a:noFill/>
          </a:ln>
        </p:spPr>
      </p:pic>
      <p:pic>
        <p:nvPicPr>
          <p:cNvPr id="6" name="賀年卡01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31532;1&#31456;%20&#27010;&#36848;.ppt#1. &#31532;1&#31456;      &#27010;&#36848;" TargetMode="External"/><Relationship Id="rId3" Type="http://schemas.openxmlformats.org/officeDocument/2006/relationships/hyperlink" Target="file:///&#31532;2&#31456;%20%20&#24494;&#22788;&#29702;&#22120;.ppt#1. &#31532;2&#31456;   &#24494;&#22788;&#29702;&#22120;" TargetMode="External"/><Relationship Id="rId4" Type="http://schemas.openxmlformats.org/officeDocument/2006/relationships/hyperlink" Target="file:///&#31532;3&#31456;%20%20&#24635;&#32447;&#21644;&#20027;&#26495;.ppt#1.        &#31532;3&#31456;   &#24635;&#32447;&#21644;&#20027;&#26495;" TargetMode="External"/><Relationship Id="rId5" Type="http://schemas.openxmlformats.org/officeDocument/2006/relationships/hyperlink" Target="file:///&#31532;4&#31456;%20%20&#23384;&#20648;&#22120;.ppt#1. &#31532;4&#31456;  &#23384;&#20648;&#22120;" TargetMode="External"/><Relationship Id="rId6" Type="http://schemas.openxmlformats.org/officeDocument/2006/relationships/hyperlink" Target="file:///&#31532;4&#31456;%20%20&#23384;&#20648;&#22120;.ppt#1. &#31532;4&#31456;  &#23384;&#20648;&#22120;" TargetMode="External"/><Relationship Id="rId7" Type="http://schemas.openxmlformats.org/officeDocument/2006/relationships/hyperlink" Target="file:///&#31532;4&#31456;%20%20&#23384;&#20648;&#22120;.ppt#1. &#31532;4&#31456;  &#23384;&#20648;&#22120;" TargetMode="External"/><Relationship Id="rId8" Type="http://schemas.openxmlformats.org/officeDocument/2006/relationships/hyperlink" Target="file:///&#31532;4&#31456;%20%20&#23384;&#20648;&#22120;.ppt#1. &#31532;4&#31456;  &#23384;&#20648;&#22120;" TargetMode="External"/><Relationship Id="rId9" Type="http://schemas.openxmlformats.org/officeDocument/2006/relationships/hyperlink" Target="file:///&#31532;4&#31456;%20%20&#23384;&#20648;&#22120;.ppt#1. &#31532;4&#31456;  &#23384;&#20648;&#22120;" TargetMode="External"/><Relationship Id="rId10" Type="http://schemas.openxmlformats.org/officeDocument/2006/relationships/hyperlink" Target="file:///&#31532;5&#31456;%20%20&#20013;&#26029;&#31995;&#32479;.ppt#1. &#31532;5&#31456;  &#20013;&#26029;&#31995;&#32479;" TargetMode="External"/><Relationship Id="rId11" Type="http://schemas.openxmlformats.org/officeDocument/2006/relationships/hyperlink" Target="file:///&#31532;5&#31456;%20%20&#20013;&#26029;&#31995;&#32479;.ppt#1. &#31532;5&#31456;  &#20013;&#26029;&#31995;&#32479;" TargetMode="External"/><Relationship Id="rId12" Type="http://schemas.openxmlformats.org/officeDocument/2006/relationships/hyperlink" Target="file:///&#31532;5&#31456;%20%20&#20013;&#26029;&#31995;&#32479;.ppt#1. &#31532;5&#31456;  &#20013;&#26029;&#31995;&#32479;" TargetMode="External"/><Relationship Id="rId13" Type="http://schemas.openxmlformats.org/officeDocument/2006/relationships/hyperlink" Target="file:///&#31532;5&#31456;%20%20&#20013;&#26029;&#31995;&#32479;.ppt#1. &#31532;5&#31456;  &#20013;&#26029;&#31995;&#32479;" TargetMode="External"/><Relationship Id="rId14" Type="http://schemas.openxmlformats.org/officeDocument/2006/relationships/hyperlink" Target="file:///&#31532;5&#31456;%20%20&#20013;&#26029;&#31995;&#32479;.ppt#1. &#31532;5&#31456;  &#20013;&#26029;&#31995;&#32479;" TargetMode="External"/><Relationship Id="rId15" Type="http://schemas.openxmlformats.org/officeDocument/2006/relationships/hyperlink" Target="file:///&#31532;&#20845;&#31456;&#24494;&#22411;&#35745;&#31639;&#26426;&#30340;&#25509;&#21475;&#25216;&#26415;.ppt#1. &#31532;6&#31456;  &#24494;&#22411;&#35745;&#31639;&#26426;&#25509;&#21475;&#25216;&#26415;" TargetMode="External"/><Relationship Id="rId16" Type="http://schemas.openxmlformats.org/officeDocument/2006/relationships/hyperlink" Target="file:///&#31532;&#20845;&#31456;&#24494;&#22411;&#35745;&#31639;&#26426;&#30340;&#25509;&#21475;&#25216;&#26415;.ppt#1. &#31532;6&#31456;  &#24494;&#22411;&#35745;&#31639;&#26426;&#25509;&#21475;&#25216;&#26415;" TargetMode="External"/><Relationship Id="rId17" Type="http://schemas.openxmlformats.org/officeDocument/2006/relationships/hyperlink" Target="file:///&#31532;&#20845;&#31456;&#24494;&#22411;&#35745;&#31639;&#26426;&#30340;&#25509;&#21475;&#25216;&#26415;.ppt#1. &#31532;6&#31456;  &#24494;&#22411;&#35745;&#31639;&#26426;&#25509;&#21475;&#25216;&#26415;" TargetMode="External"/><Relationship Id="rId18" Type="http://schemas.openxmlformats.org/officeDocument/2006/relationships/hyperlink" Target="file:///&#31532;&#20845;&#31456;&#24494;&#22411;&#35745;&#31639;&#26426;&#30340;&#25509;&#21475;&#25216;&#26415;.ppt#1. &#31532;6&#31456;  &#24494;&#22411;&#35745;&#31639;&#26426;&#25509;&#21475;&#25216;&#26415;" TargetMode="External"/><Relationship Id="rId19" Type="http://schemas.openxmlformats.org/officeDocument/2006/relationships/hyperlink" Target="file:///&#31532;&#20845;&#31456;&#24494;&#22411;&#35745;&#31639;&#26426;&#30340;&#25509;&#21475;&#25216;&#26415;.ppt#1. &#31532;6&#31456;  &#24494;&#22411;&#35745;&#31639;&#26426;&#25509;&#21475;&#25216;&#26415;" TargetMode="External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Times New Roman"/>
                <a:ea typeface="华文隶书"/>
              </a:rPr>
              <a:t>欢迎您使用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微型计算机原理及应用</a:t>
            </a:r>
            <a:endParaRPr b="0" lang="en-US" sz="5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15320" y="42670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电子教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目      录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5867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第1章   概述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第2章   微处理器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第3章   总线和主板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5"/>
              </a:rPr>
              <a:t>第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4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7"/>
              </a:rPr>
              <a:t>章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8"/>
              </a:rPr>
              <a:t>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9"/>
              </a:rPr>
              <a:t>存储器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0"/>
              </a:rPr>
              <a:t>第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1"/>
              </a:rPr>
              <a:t>5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2"/>
              </a:rPr>
              <a:t>章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3"/>
              </a:rPr>
              <a:t>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4"/>
              </a:rPr>
              <a:t>中断系统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5"/>
              </a:rPr>
              <a:t>第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6"/>
              </a:rPr>
              <a:t>6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7"/>
              </a:rPr>
              <a:t>章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8"/>
              </a:rPr>
              <a:t>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9"/>
              </a:rPr>
              <a:t>微型计算机接口技术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第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章      概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81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1·1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计算机和微型计算机的发展概况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2481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1·2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微型计算机的特点和应用范围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2481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1·3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微型计算机的基本组成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2481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1·4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微型计算机中的数的编码和字符的表示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</a:rPr>
              <a:t>第</a:t>
            </a:r>
            <a:r>
              <a:rPr b="1" lang="zh-CN" sz="4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cc00"/>
                </a:solidFill>
                <a:latin typeface="Times New Roman"/>
              </a:rPr>
              <a:t>章   微处理器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952560">
              <a:lnSpc>
                <a:spcPct val="14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2·1 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微处理器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indent="952560">
              <a:lnSpc>
                <a:spcPct val="14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2·2  8086/8088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微处理器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indent="952560">
              <a:lnSpc>
                <a:spcPct val="14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2·3  8086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指令系统和汇编语言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indent="952560">
              <a:lnSpc>
                <a:spcPct val="14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2·4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飞速发展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CPU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第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章   总线和主板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40960" y="1905120"/>
            <a:ext cx="62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1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总线基本概念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2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总线原理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3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微机系统总线标准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4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总线新技术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5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认识主板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6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主板结构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7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主板控制芯片组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8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主板发展趋势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4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  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存储器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.1  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存储器的概念、分类和要素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4.2  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随机读写存储器（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4.3  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只读存储器（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ROM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.4    CPU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与存储器的连接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4.5    IBM-PC/XT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中的存储器，扩展存储器及其管理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5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  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中断系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.1 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中断系统基本概念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.2 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中断的处理过程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.3  IBM-PC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机中断系统结构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.4  Intel 8259A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可编程中断控制器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.5 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中断程序举例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6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  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微型计算机接口技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1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微型计算机接口技术概述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2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输入与输出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3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并行数据接口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4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串行数据接口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5  DMA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接口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6  8253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可编程定时计数器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7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数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模、模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数转换器及其与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的接口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THANK YOU VERY MUCH </a:t>
            </a: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！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Times New Roman"/>
                <a:ea typeface="华文隶书"/>
              </a:rPr>
              <a:t>欢迎您使用</a:t>
            </a:r>
            <a:endParaRPr b="0" lang="en-US" sz="54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微型计算机原理及应用</a:t>
            </a:r>
            <a:endParaRPr b="0" lang="en-US" sz="5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endshow"/>
          </p:cNvPr>
          <p:cNvSpPr/>
          <p:nvPr/>
        </p:nvSpPr>
        <p:spPr>
          <a:xfrm>
            <a:off x="7597080" y="556272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cc00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00:53:17Z</dcterms:created>
  <dc:creator>新人电脑</dc:creator>
  <dc:description/>
  <dc:language>en-US</dc:language>
  <cp:lastModifiedBy>新人电脑</cp:lastModifiedBy>
  <dcterms:modified xsi:type="dcterms:W3CDTF">2002-01-18T01:50:22Z</dcterms:modified>
  <cp:revision>8</cp:revision>
  <dc:subject/>
  <dc:title>PowerPoint 演示文稿</dc:title>
</cp:coreProperties>
</file>