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BE6F-4166-44C3-9CF2-D35396802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5D4-AD66-4937-B337-504A3D16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1AB3-EA27-4270-ABEF-07E32A4B2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C21-E279-4B43-AC28-FF1F4D88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2D1-C7F5-439F-BEFC-15DB22D3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ABD-DE41-4502-9932-4051E679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66E-69D6-4B87-8C81-6BE67DBD2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118-42B9-463D-BF08-C3DD6E47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E1E-5283-49BB-B46E-42AF646C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CD4-0E81-4C07-BAA8-C55369B1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13ED-DF81-4D47-B189-867C8578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AC3-5BEF-41BA-8E09-F7C2BD4A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F077-8A17-49DF-871C-51A46F0185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賀年卡01" descr="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453960"/>
          </a:xfrm>
          <a:prstGeom prst="rect">
            <a:avLst/>
          </a:prstGeom>
          <a:ln w="0">
            <a:noFill/>
          </a:ln>
        </p:spPr>
      </p:pic>
      <p:pic>
        <p:nvPicPr>
          <p:cNvPr id="6" name="賀年卡01" descr=""/>
          <p:cNvPicPr/>
          <p:nvPr/>
        </p:nvPicPr>
        <p:blipFill>
          <a:blip r:embed="rId4"/>
          <a:stretch/>
        </p:blipFill>
        <p:spPr>
          <a:xfrm>
            <a:off x="0" y="6095880"/>
            <a:ext cx="9144000" cy="45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31532;1&#31456;%20&#27010;&#36848;.ppt#1. &#31532;1&#31456;      &#27010;&#36848;" TargetMode="External"/><Relationship Id="rId3" Type="http://schemas.openxmlformats.org/officeDocument/2006/relationships/hyperlink" Target="file:///&#31532;2&#31456;%20%20&#24494;&#22788;&#29702;&#22120;.ppt#1. &#31532;2&#31456;   &#24494;&#22788;&#29702;&#22120;" TargetMode="External"/><Relationship Id="rId4" Type="http://schemas.openxmlformats.org/officeDocument/2006/relationships/hyperlink" Target="file:///&#31532;3&#31456;%20%20&#24635;&#32447;&#21644;&#20027;&#26495;.ppt#1.        &#31532;3&#31456;   &#24635;&#32447;&#21644;&#20027;&#26495;" TargetMode="External"/><Relationship Id="rId5" Type="http://schemas.openxmlformats.org/officeDocument/2006/relationships/hyperlink" Target="file:///&#31532;4&#31456;%20%20&#23384;&#20648;&#22120;.ppt#1. &#31532;4&#31456;  &#23384;&#20648;&#22120;" TargetMode="External"/><Relationship Id="rId6" Type="http://schemas.openxmlformats.org/officeDocument/2006/relationships/hyperlink" Target="file:///&#31532;4&#31456;%20%20&#23384;&#20648;&#22120;.ppt#1. &#31532;4&#31456;  &#23384;&#20648;&#22120;" TargetMode="External"/><Relationship Id="rId7" Type="http://schemas.openxmlformats.org/officeDocument/2006/relationships/hyperlink" Target="file:///&#31532;4&#31456;%20%20&#23384;&#20648;&#22120;.ppt#1. &#31532;4&#31456;  &#23384;&#20648;&#22120;" TargetMode="External"/><Relationship Id="rId8" Type="http://schemas.openxmlformats.org/officeDocument/2006/relationships/hyperlink" Target="file:///&#31532;4&#31456;%20%20&#23384;&#20648;&#22120;.ppt#1. &#31532;4&#31456;  &#23384;&#20648;&#22120;" TargetMode="External"/><Relationship Id="rId9" Type="http://schemas.openxmlformats.org/officeDocument/2006/relationships/hyperlink" Target="file:///&#31532;4&#31456;%20%20&#23384;&#20648;&#22120;.ppt#1. &#31532;4&#31456;  &#23384;&#20648;&#22120;" TargetMode="External"/><Relationship Id="rId10" Type="http://schemas.openxmlformats.org/officeDocument/2006/relationships/hyperlink" Target="file:///&#31532;5&#31456;%20%20&#20013;&#26029;&#31995;&#32479;.ppt#1. &#31532;5&#31456;  &#20013;&#26029;&#31995;&#32479;" TargetMode="External"/><Relationship Id="rId11" Type="http://schemas.openxmlformats.org/officeDocument/2006/relationships/hyperlink" Target="file:///&#31532;5&#31456;%20%20&#20013;&#26029;&#31995;&#32479;.ppt#1. &#31532;5&#31456;  &#20013;&#26029;&#31995;&#32479;" TargetMode="External"/><Relationship Id="rId12" Type="http://schemas.openxmlformats.org/officeDocument/2006/relationships/hyperlink" Target="file:///&#31532;5&#31456;%20%20&#20013;&#26029;&#31995;&#32479;.ppt#1. &#31532;5&#31456;  &#20013;&#26029;&#31995;&#32479;" TargetMode="External"/><Relationship Id="rId13" Type="http://schemas.openxmlformats.org/officeDocument/2006/relationships/hyperlink" Target="file:///&#31532;5&#31456;%20%20&#20013;&#26029;&#31995;&#32479;.ppt#1. &#31532;5&#31456;  &#20013;&#26029;&#31995;&#32479;" TargetMode="External"/><Relationship Id="rId14" Type="http://schemas.openxmlformats.org/officeDocument/2006/relationships/hyperlink" Target="file:///&#31532;5&#31456;%20%20&#20013;&#26029;&#31995;&#32479;.ppt#1. &#31532;5&#31456;  &#20013;&#26029;&#31995;&#32479;" TargetMode="External"/><Relationship Id="rId15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6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7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8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19" Type="http://schemas.openxmlformats.org/officeDocument/2006/relationships/hyperlink" Target="file:///&#31532;&#20845;&#31456;&#24494;&#22411;&#35745;&#31639;&#26426;&#30340;&#25509;&#21475;&#25216;&#26415;.ppt#1. &#31532;6&#31456;  &#24494;&#22411;&#35745;&#31639;&#26426;&#25509;&#21475;&#25216;&#26415;" TargetMode="External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cap="rnd" w="38160">
            <a:solidFill>
              <a:srgbClr val="ff99cc"/>
            </a:solidFill>
            <a:custDash>
              <a:ds d="100000" sp="1000"/>
            </a:custDash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欢迎您使用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微型计算机原理及应用</a:t>
            </a:r>
            <a:endParaRPr b="0" lang="en-US" sz="5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15320" y="426708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Times New Roman"/>
                <a:ea typeface="华文新魏"/>
              </a:rPr>
              <a:t>电子教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目      录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5867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第1章   概述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第2章   微处理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第3章   总线和主板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5"/>
              </a:rPr>
              <a:t>第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4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7"/>
              </a:rPr>
              <a:t>章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8"/>
              </a:rPr>
              <a:t>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9"/>
              </a:rPr>
              <a:t>存储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0"/>
              </a:rPr>
              <a:t>第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1"/>
              </a:rPr>
              <a:t>5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2"/>
              </a:rPr>
              <a:t>章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3"/>
              </a:rPr>
              <a:t>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4"/>
              </a:rPr>
              <a:t>中断系统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5"/>
              </a:rPr>
              <a:t>第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6"/>
              </a:rPr>
              <a:t>6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7"/>
              </a:rPr>
              <a:t>章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8"/>
              </a:rPr>
              <a:t> 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Arial"/>
                <a:ea typeface="黑体"/>
                <a:hlinkClick r:id="rId19"/>
              </a:rPr>
              <a:t>微型计算机接口技术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章      概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1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计算机和微型计算机的发展概况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2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的特点和应用范围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3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的基本组成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248112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1·4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中的数的编码和字符的表示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ffcc00"/>
                </a:solidFill>
                <a:latin typeface="Times New Roman"/>
              </a:rPr>
              <a:t>章   微处理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693396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1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微处理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2  8086/8088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微处理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3  8086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指令系统和汇编语言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indent="952560">
              <a:lnSpc>
                <a:spcPct val="140000"/>
              </a:lnSpc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2·4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飞速发展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CPU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ffcc00"/>
                </a:solidFill>
                <a:latin typeface="Times New Roman"/>
              </a:rPr>
              <a:t>章   总线和主板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40960" y="1905120"/>
            <a:ext cx="626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1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总线基本概念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2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总线原理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3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微机系统总线标准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4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总线新技术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5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认识主板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6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主板结构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7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主板控制芯片组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3·8  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主板发展趋势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4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存储器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104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.1  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存储器的概念、分类和要素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4.2  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随机读写存储器（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RAM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4.3  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只读存储器（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ROM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4.4    CPU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与存储器的连接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4.5    IBM-PC/XT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中的存储器，扩展存储器及其管理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5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中断系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68580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1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中断系统基本概念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2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中断的处理过程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3  IBM-PC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机中断系统结构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4  Intel 8259A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可编程中断控制器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5.5  </a:t>
            </a:r>
            <a:r>
              <a:rPr b="1" lang="zh-CN" sz="3200" spc="-1" strike="noStrike">
                <a:solidFill>
                  <a:srgbClr val="339933"/>
                </a:solidFill>
                <a:latin typeface="Times New Roman"/>
              </a:rPr>
              <a:t>中断程序举例</a:t>
            </a:r>
            <a:endParaRPr b="0" lang="en-US" sz="32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第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6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章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Arial"/>
              </a:rPr>
              <a:t> 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  <a:ea typeface="黑体"/>
              </a:rPr>
              <a:t>微型计算机接口技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1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微型计算机接口技术概述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2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输入与输出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3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并行数据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4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串行数据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5  DMA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6  8253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可编程定时计数器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6.7  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数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模、模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/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数转换器及其与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  <a:ea typeface="Times New Roman"/>
              </a:rPr>
              <a:t>CPU</a:t>
            </a:r>
            <a:r>
              <a:rPr b="1" lang="zh-CN" sz="2800" spc="-1" strike="noStrike">
                <a:solidFill>
                  <a:srgbClr val="339933"/>
                </a:solidFill>
                <a:latin typeface="Times New Roman"/>
              </a:rPr>
              <a:t>的接口</a:t>
            </a:r>
            <a:endParaRPr b="0" lang="en-US" sz="2800" spc="-1" strike="noStrike">
              <a:solidFill>
                <a:srgbClr val="339933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THANK YOU VERY MUCH </a:t>
            </a:r>
            <a:r>
              <a:rPr b="1" lang="zh-CN" sz="4800" spc="-1" strike="noStrike">
                <a:solidFill>
                  <a:srgbClr val="009900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3123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欢迎您使用</a:t>
            </a:r>
            <a:endParaRPr b="0" lang="en-US" sz="5400" spc="-1" strike="noStrike">
              <a:solidFill>
                <a:srgbClr val="339933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微型计算机原理及应用</a:t>
            </a:r>
            <a:endParaRPr b="0" lang="en-US" sz="5400" spc="-1" strike="noStrike">
              <a:solidFill>
                <a:srgbClr val="339933"/>
              </a:solidFill>
              <a:latin typeface="Times New Roman"/>
            </a:endParaRPr>
          </a:p>
        </p:txBody>
      </p:sp>
      <p:sp>
        <p:nvSpPr>
          <p:cNvPr id="64" name="">
            <a:hlinkClick r:id="" action="ppaction://hlinkshowjump?jump=endshow"/>
          </p:cNvPr>
          <p:cNvSpPr/>
          <p:nvPr/>
        </p:nvSpPr>
        <p:spPr>
          <a:xfrm>
            <a:off x="7597080" y="5562720"/>
            <a:ext cx="788760" cy="368280"/>
          </a:xfrm>
          <a:prstGeom prst="rect">
            <a:avLst/>
          </a:prstGeom>
          <a:noFill/>
          <a:ln cap="rnd" w="381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cc00"/>
                </a:solidFill>
                <a:latin typeface="Times New Roman"/>
              </a:rPr>
              <a:t>结 束放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8T00:53:17Z</dcterms:created>
  <dc:creator>新人电脑</dc:creator>
  <dc:description/>
  <dc:language>en-US</dc:language>
  <cp:lastModifiedBy>新人电脑</cp:lastModifiedBy>
  <dcterms:modified xsi:type="dcterms:W3CDTF">2002-01-18T01:50:22Z</dcterms:modified>
  <cp:revision>8</cp:revision>
  <dc:subject/>
  <dc:title>PowerPoint 演示文稿</dc:title>
</cp:coreProperties>
</file>