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4DC-B999-410C-9E77-8DAC2F20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A1C-7670-4076-A8DA-65EF1DE4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4D9-A717-4D50-B539-098347E0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AB5-E29C-44BF-A1D7-317CF894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3A0A-509E-44C6-91C3-DBB29773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3822-C4E9-4A82-B865-F3AC6222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2632-A145-4408-9191-EC6672A8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91A4-541A-4106-BC7C-7763895D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3018-C230-4D49-B23D-AE38F063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5257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BF6D-DED6-4EF3-9762-56138CD0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EE32-E622-41D8-9B08-71A16F55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A4D-8304-4878-994F-ADA72BF9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3DB6-C4FE-419D-BF9E-1B58FB59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F76C-0728-4A08-B832-327D2FF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C409-0B17-4724-9508-6D35BEFE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CEAF-BDCB-492F-B253-8D71E91D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2B7B-EB60-4726-B227-CE35A158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308-C7C8-469E-A1F7-C3FAF16F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2F7-CBB2-4293-98D5-A5B1D479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E4F-F103-41A8-AEB9-7C064D7B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5257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530-13EC-41D0-973B-456F10BA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42F-FEA1-4229-8176-2CE22A1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641-A4BF-4A7B-BF2B-E6395248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6CC-E8B6-4FE1-B15B-5EFEA5EF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2d" descr=""/>
          <p:cNvPicPr/>
          <p:nvPr/>
        </p:nvPicPr>
        <p:blipFill>
          <a:blip r:embed="rId2"/>
          <a:stretch/>
        </p:blipFill>
        <p:spPr>
          <a:xfrm>
            <a:off x="4446720" y="3274920"/>
            <a:ext cx="4411440" cy="2739960"/>
          </a:xfrm>
          <a:prstGeom prst="rect">
            <a:avLst/>
          </a:prstGeom>
          <a:ln w="0">
            <a:noFill/>
          </a:ln>
        </p:spPr>
      </p:pic>
      <p:pic>
        <p:nvPicPr>
          <p:cNvPr id="1" name="D2e" descr=""/>
          <p:cNvPicPr/>
          <p:nvPr/>
        </p:nvPicPr>
        <p:blipFill>
          <a:blip r:embed="rId3"/>
          <a:stretch/>
        </p:blipFill>
        <p:spPr>
          <a:xfrm>
            <a:off x="8332920" y="1658880"/>
            <a:ext cx="561960" cy="2605320"/>
          </a:xfrm>
          <a:prstGeom prst="rect">
            <a:avLst/>
          </a:prstGeom>
          <a:ln w="0">
            <a:noFill/>
          </a:ln>
        </p:spPr>
      </p:pic>
      <p:pic>
        <p:nvPicPr>
          <p:cNvPr id="2" name="D2c" descr=""/>
          <p:cNvPicPr/>
          <p:nvPr/>
        </p:nvPicPr>
        <p:blipFill>
          <a:blip r:embed="rId4"/>
          <a:stretch/>
        </p:blipFill>
        <p:spPr>
          <a:xfrm>
            <a:off x="299880" y="5916600"/>
            <a:ext cx="8589960" cy="628560"/>
          </a:xfrm>
          <a:prstGeom prst="rect">
            <a:avLst/>
          </a:prstGeom>
          <a:ln w="0">
            <a:noFill/>
          </a:ln>
        </p:spPr>
      </p:pic>
      <p:pic>
        <p:nvPicPr>
          <p:cNvPr id="3" name="D2b" descr=""/>
          <p:cNvPicPr/>
          <p:nvPr/>
        </p:nvPicPr>
        <p:blipFill>
          <a:blip r:embed="rId5"/>
          <a:stretch/>
        </p:blipFill>
        <p:spPr>
          <a:xfrm>
            <a:off x="295200" y="1254240"/>
            <a:ext cx="515880" cy="4738680"/>
          </a:xfrm>
          <a:prstGeom prst="rect">
            <a:avLst/>
          </a:prstGeom>
          <a:ln w="0">
            <a:noFill/>
          </a:ln>
        </p:spPr>
      </p:pic>
      <p:pic>
        <p:nvPicPr>
          <p:cNvPr id="4" name="D2a" descr=""/>
          <p:cNvPicPr/>
          <p:nvPr/>
        </p:nvPicPr>
        <p:blipFill>
          <a:blip r:embed="rId6"/>
          <a:stretch/>
        </p:blipFill>
        <p:spPr>
          <a:xfrm>
            <a:off x="233280" y="311040"/>
            <a:ext cx="8663040" cy="136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ddddd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215A-7435-42A4-B2F8-2FD97DBEF6F6}" type="slidenum"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066680" y="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172200" y="609480"/>
            <a:ext cx="2438280" cy="3373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ddddd"/>
                </a:solidFill>
                <a:latin typeface="Arial"/>
                <a:ea typeface="黑体"/>
              </a:rPr>
              <a:t>计算机操作系统教程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1e" descr=""/>
          <p:cNvPicPr/>
          <p:nvPr/>
        </p:nvPicPr>
        <p:blipFill>
          <a:blip r:embed="rId2"/>
          <a:stretch/>
        </p:blipFill>
        <p:spPr>
          <a:xfrm>
            <a:off x="655560" y="2952720"/>
            <a:ext cx="3886200" cy="3268800"/>
          </a:xfrm>
          <a:prstGeom prst="rect">
            <a:avLst/>
          </a:prstGeom>
          <a:ln w="0">
            <a:noFill/>
          </a:ln>
        </p:spPr>
      </p:pic>
      <p:pic>
        <p:nvPicPr>
          <p:cNvPr id="49" name="D1d" descr=""/>
          <p:cNvPicPr/>
          <p:nvPr/>
        </p:nvPicPr>
        <p:blipFill>
          <a:blip r:embed="rId3"/>
          <a:stretch/>
        </p:blipFill>
        <p:spPr>
          <a:xfrm>
            <a:off x="8344080" y="1328760"/>
            <a:ext cx="471240" cy="4799160"/>
          </a:xfrm>
          <a:prstGeom prst="rect">
            <a:avLst/>
          </a:prstGeom>
          <a:ln w="0">
            <a:noFill/>
          </a:ln>
        </p:spPr>
      </p:pic>
      <p:pic>
        <p:nvPicPr>
          <p:cNvPr id="50" name="D1c" descr=""/>
          <p:cNvPicPr/>
          <p:nvPr/>
        </p:nvPicPr>
        <p:blipFill>
          <a:blip r:embed="rId4"/>
          <a:stretch/>
        </p:blipFill>
        <p:spPr>
          <a:xfrm>
            <a:off x="344520" y="6099120"/>
            <a:ext cx="840096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D1b" descr=""/>
          <p:cNvPicPr/>
          <p:nvPr/>
        </p:nvPicPr>
        <p:blipFill>
          <a:blip r:embed="rId5"/>
          <a:stretch/>
        </p:blipFill>
        <p:spPr>
          <a:xfrm>
            <a:off x="328680" y="1430280"/>
            <a:ext cx="471600" cy="4681440"/>
          </a:xfrm>
          <a:prstGeom prst="rect">
            <a:avLst/>
          </a:prstGeom>
          <a:ln w="0">
            <a:noFill/>
          </a:ln>
        </p:spPr>
      </p:pic>
      <p:pic>
        <p:nvPicPr>
          <p:cNvPr id="52" name="D1a" descr=""/>
          <p:cNvPicPr/>
          <p:nvPr/>
        </p:nvPicPr>
        <p:blipFill>
          <a:blip r:embed="rId6"/>
          <a:stretch/>
        </p:blipFill>
        <p:spPr>
          <a:xfrm>
            <a:off x="328680" y="299880"/>
            <a:ext cx="8400960" cy="1211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666880"/>
            <a:ext cx="41148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22C-298D-4C69-8905-DFE5C8117A3C}" type="slidenum"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700" spc="-1" strike="noStrike">
              <a:solidFill>
                <a:srgbClr val="dddddd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2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3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4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5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6" Type="http://schemas.openxmlformats.org/officeDocument/2006/relationships/hyperlink" Target="file:///&#31532;2&#31456;%20%20&#25805;&#20316;&#31995;&#32479;&#30340;&#29992;&#25143;&#30028;&#38754;.ppt#1. &#31532;2&#31456;  &#25805;&#20316;&#31995;&#32479;&#30340;&#29992;&#25143;&#30028;&#38754;" TargetMode="External"/><Relationship Id="rId7" Type="http://schemas.openxmlformats.org/officeDocument/2006/relationships/hyperlink" Target="file:///&#31532;2&#31456;%20%20&#25805;&#20316;&#31995;&#32479;&#30340;&#29992;&#25143;&#30028;&#38754;.ppt#1. &#31532;2&#31456;  &#25805;&#20316;&#31995;&#32479;&#30340;&#29992;&#25143;&#30028;&#38754;" TargetMode="External"/><Relationship Id="rId8" Type="http://schemas.openxmlformats.org/officeDocument/2006/relationships/hyperlink" Target="file:///&#31532;3&#31456;%20%20&#36827;&#31243;&#31649;&#29702;.ppt#1. &#31532;3&#31456;  &#36827;&#31243;&#31649;&#29702;" TargetMode="External"/><Relationship Id="rId9" Type="http://schemas.openxmlformats.org/officeDocument/2006/relationships/hyperlink" Target="file:///&#31532;4&#31456;%20%20&#23384;&#20648;&#31649;&#29702;.ppt#1. &#31532;4&#31456;  &#23384;&#20648;&#31649;&#29702;" TargetMode="External"/><Relationship Id="rId10" Type="http://schemas.openxmlformats.org/officeDocument/2006/relationships/hyperlink" Target="file:///&#31532;5&#31456;%20%20&#35774;&#22791;&#31649;&#29702;.ppt#1. &#31532;5&#31456;  &#35774;&#22791;&#31649;&#29702;" TargetMode="External"/><Relationship Id="rId11" Type="http://schemas.openxmlformats.org/officeDocument/2006/relationships/hyperlink" Target="file:///&#31532;6&#31456;%20%20&#25991;&#20214;&#31649;&#29702;.ppt#1. &#31532;6&#31456;  &#25991;&#20214;&#31649;&#29702;" TargetMode="External"/><Relationship Id="rId12" Type="http://schemas.openxmlformats.org/officeDocument/2006/relationships/hyperlink" Target="file:///&#31532;7&#31456;%20%20Windows%2098&#20013;&#25991;&#29256;&#30340;.ppt#1. &#31532;7&#31456;  Windows 98&#20013;&#25991;&#29256;&#30340;&#20351;&#29992;" TargetMode="External"/><Relationship Id="rId13" Type="http://schemas.openxmlformats.org/officeDocument/2006/relationships/hyperlink" Target="file:///&#31532;7&#31456;%20%20Windows%2098&#20013;&#25991;&#29256;&#30340;.ppt#1. &#31532;7&#31456;  Windows 98&#20013;&#25991;&#29256;&#30340;&#20351;&#29992;" TargetMode="External"/><Relationship Id="rId14" Type="http://schemas.openxmlformats.org/officeDocument/2006/relationships/hyperlink" Target="file:///&#31532;7&#31456;%20%20Windows%2098&#20013;&#25991;&#29256;&#30340;.ppt#1. &#31532;7&#31456;  Windows 98&#20013;&#25991;&#29256;&#30340;&#20351;&#29992;" TargetMode="External"/><Relationship Id="rId15" Type="http://schemas.openxmlformats.org/officeDocument/2006/relationships/hyperlink" Target="file:///&#31532;7&#31456;%20%20Windows%2098&#20013;&#25991;&#29256;&#30340;.ppt#1. &#31532;7&#31456;  Windows 98&#20013;&#25991;&#29256;&#30340;&#20351;&#29992;" TargetMode="External"/><Relationship Id="rId1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99920" y="1370160"/>
            <a:ext cx="313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Arial Narrow"/>
                <a:ea typeface="楷体_GB2312"/>
              </a:rPr>
              <a:t>21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主　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柯敏毅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87692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副主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徐小平　宋士银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苏桂莲     黄逵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47840" y="6400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6781680" cy="121896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计算机操作系统教程</a:t>
            </a:r>
            <a:endParaRPr b="1" lang="en-US" sz="4000" spc="-1" strike="noStrike">
              <a:solidFill>
                <a:srgbClr val="ff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 Narrow"/>
              </a:rPr>
              <a:t>欢迎您使用</a:t>
            </a:r>
            <a:endParaRPr b="0" lang="en-US" sz="4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200400"/>
            <a:ext cx="60962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计算机操作系统教程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334120"/>
            <a:ext cx="388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　编：柯敏毅</a:t>
            </a:r>
            <a:r>
              <a:rPr b="0" lang="zh-CN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endshow"/>
          </p:cNvPr>
          <p:cNvSpPr/>
          <p:nvPr/>
        </p:nvSpPr>
        <p:spPr>
          <a:xfrm>
            <a:off x="7086600" y="6421320"/>
            <a:ext cx="1828800" cy="457200"/>
          </a:xfrm>
          <a:prstGeom prst="flowChartTermina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Times New Roman"/>
                <a:ea typeface="华文行楷"/>
              </a:rPr>
              <a:t>结束放映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77120" y="609480"/>
            <a:ext cx="2438280" cy="3373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ddddd"/>
                </a:solidFill>
                <a:latin typeface="Arial"/>
                <a:ea typeface="黑体"/>
              </a:rPr>
              <a:t>计算机操作系统教程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0"/>
            <a:ext cx="3200400" cy="337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10680" y="1676520"/>
            <a:ext cx="41781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 Narrow"/>
                <a:hlinkClick r:id="rId1"/>
              </a:rPr>
              <a:t>第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ea typeface="Arial"/>
                <a:hlinkClick r:id="rId2"/>
              </a:rPr>
              <a:t>1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ea typeface="Arial"/>
                <a:hlinkClick r:id="rId4"/>
              </a:rPr>
              <a:t>  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ea typeface="黑体"/>
                <a:hlinkClick r:id="rId5"/>
              </a:rPr>
              <a:t>计算机操作系统概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 Narrow"/>
                <a:hlinkClick r:id="rId6"/>
              </a:rPr>
              <a:t>第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 Narrow"/>
                <a:hlinkClick r:id="rId7"/>
              </a:rPr>
              <a:t>2章  操作系统的用户界面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8"/>
              </a:rPr>
              <a:t>第3章  进程管理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9"/>
              </a:rPr>
              <a:t>第4章  存储管理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0"/>
              </a:rPr>
              <a:t>第5章  设备管理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1"/>
              </a:rPr>
              <a:t>第6章  文件管理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2"/>
              </a:rPr>
              <a:t>第7章  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3"/>
              </a:rPr>
              <a:t>Windows 98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4"/>
              </a:rPr>
              <a:t>中文版的使用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hlinkClick r:id="rId15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2590560" cy="914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目   录</a:t>
            </a:r>
            <a:br>
              <a:rPr sz="4000"/>
            </a:br>
            <a:endParaRPr b="1" lang="en-US" sz="4000" spc="-1" strike="noStrike">
              <a:solidFill>
                <a:srgbClr val="ff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章  计算机操作系统概述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1.1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存储程序式计算机模型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1.2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操作系统的发展历史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1.3 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操作系统的基本概念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1.4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操作系统的逻辑模型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1.5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微机操作系统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16002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章  操作系统的用户界面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120" y="2514600"/>
            <a:ext cx="6782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2.1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运行一个用户程序的过程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2.2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操作系统的用户界面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2.3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操作系统提供给用户程序的服务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2.4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用户界面的发展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46483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章  进程管理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1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引言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2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的引入和定义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3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的状态和进程控制块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4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控制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5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线程的基本概念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6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调度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7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通信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8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死锁问题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447920"/>
            <a:ext cx="47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章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存储管理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0720" y="23623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0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本章学习目标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1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存储管理的功能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2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实存管理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3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虚拟存储器管理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4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碎片与抖动问题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499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5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章  设备管理 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0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本章学习目标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1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概述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2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数据传送控制方式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3 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缓冲技术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4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设备分配技术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5    I/O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进程控制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章  文件管理 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本章学习目标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1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与文件系统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2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逻辑结构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3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物理结构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4  UNIX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系统文件索引结构举例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5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目录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6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操作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7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共享与保护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8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完整性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9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外存空间的管理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章  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Windows 98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中文版的使用 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2362320"/>
            <a:ext cx="54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本章学习目标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1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文件和文件夹的管理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2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磁盘驱动器的管理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3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附件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4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打印机的管理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5  Windows 98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的设置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40:56Z</dcterms:created>
  <dc:creator>新人电脑</dc:creator>
  <dc:description/>
  <dc:language>en-US</dc:language>
  <cp:lastModifiedBy>新人电脑</cp:lastModifiedBy>
  <dcterms:modified xsi:type="dcterms:W3CDTF">2001-12-24T02:07:29Z</dcterms:modified>
  <cp:revision>15</cp:revision>
  <dc:subject/>
  <dc:title>PowerPoint 演示文稿</dc:title>
</cp:coreProperties>
</file>