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FA7-C56C-499F-AD78-27B615E8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7E4-B1D2-450C-B993-40E13FF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C8C-7902-4702-BA86-3C20222E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9B0-185A-4845-BA3C-5885050D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56D9-D516-44B6-BA8E-12F3AA63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E16-CC96-42EB-9765-E9DD015B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F41C-94BF-42C4-AFB9-F6F1244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932-8FF3-4042-88A8-3422531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2CA-ED03-4D0E-8139-6F8C84A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5257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9798-6349-4F6F-8E10-69F672D3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B63-715A-4205-9037-250CF76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B2F-008C-40C7-A493-D9BEA572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389B-299F-4EF7-9EB4-6E088C5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BD3C-B8FB-4BCC-8EB9-4F8E396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6981-E42D-485B-A675-71558C1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5DB-4097-444A-AE4A-4842EB08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792-40C1-42BF-A5B8-3FA8D918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ACA-1532-4EDB-980F-0CE085D6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53F-E318-4E51-BA27-86A731A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84C-23EB-48A1-9172-4F859483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5257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9CA-812C-45CC-81CF-D2119C7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EF1-C393-4C39-8CD8-E7E197AE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AA2-E7F5-45C4-A0F0-B266DEB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E0A-D011-4375-9F81-741E589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2d" descr=""/>
          <p:cNvPicPr/>
          <p:nvPr/>
        </p:nvPicPr>
        <p:blipFill>
          <a:blip r:embed="rId2"/>
          <a:stretch/>
        </p:blipFill>
        <p:spPr>
          <a:xfrm>
            <a:off x="4446720" y="3274920"/>
            <a:ext cx="4411440" cy="2739960"/>
          </a:xfrm>
          <a:prstGeom prst="rect">
            <a:avLst/>
          </a:prstGeom>
          <a:ln w="0">
            <a:noFill/>
          </a:ln>
        </p:spPr>
      </p:pic>
      <p:pic>
        <p:nvPicPr>
          <p:cNvPr id="1" name="D2e" descr=""/>
          <p:cNvPicPr/>
          <p:nvPr/>
        </p:nvPicPr>
        <p:blipFill>
          <a:blip r:embed="rId3"/>
          <a:stretch/>
        </p:blipFill>
        <p:spPr>
          <a:xfrm>
            <a:off x="8332920" y="1658880"/>
            <a:ext cx="561960" cy="2605320"/>
          </a:xfrm>
          <a:prstGeom prst="rect">
            <a:avLst/>
          </a:prstGeom>
          <a:ln w="0">
            <a:noFill/>
          </a:ln>
        </p:spPr>
      </p:pic>
      <p:pic>
        <p:nvPicPr>
          <p:cNvPr id="2" name="D2c" descr=""/>
          <p:cNvPicPr/>
          <p:nvPr/>
        </p:nvPicPr>
        <p:blipFill>
          <a:blip r:embed="rId4"/>
          <a:stretch/>
        </p:blipFill>
        <p:spPr>
          <a:xfrm>
            <a:off x="299880" y="5916600"/>
            <a:ext cx="8589960" cy="628560"/>
          </a:xfrm>
          <a:prstGeom prst="rect">
            <a:avLst/>
          </a:prstGeom>
          <a:ln w="0">
            <a:noFill/>
          </a:ln>
        </p:spPr>
      </p:pic>
      <p:pic>
        <p:nvPicPr>
          <p:cNvPr id="3" name="D2b" descr=""/>
          <p:cNvPicPr/>
          <p:nvPr/>
        </p:nvPicPr>
        <p:blipFill>
          <a:blip r:embed="rId5"/>
          <a:stretch/>
        </p:blipFill>
        <p:spPr>
          <a:xfrm>
            <a:off x="295200" y="1254240"/>
            <a:ext cx="515880" cy="4738680"/>
          </a:xfrm>
          <a:prstGeom prst="rect">
            <a:avLst/>
          </a:prstGeom>
          <a:ln w="0">
            <a:noFill/>
          </a:ln>
        </p:spPr>
      </p:pic>
      <p:pic>
        <p:nvPicPr>
          <p:cNvPr id="4" name="D2a" descr=""/>
          <p:cNvPicPr/>
          <p:nvPr/>
        </p:nvPicPr>
        <p:blipFill>
          <a:blip r:embed="rId6"/>
          <a:stretch/>
        </p:blipFill>
        <p:spPr>
          <a:xfrm>
            <a:off x="233280" y="311040"/>
            <a:ext cx="8663040" cy="136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ddddd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B00-88B7-4091-BBCC-8C107F741703}" type="slidenum"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066680" y="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09480"/>
            <a:ext cx="2438280" cy="337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ddddd"/>
                </a:solidFill>
                <a:latin typeface="Arial"/>
                <a:ea typeface="黑体"/>
              </a:rPr>
              <a:t>计算机操作系统教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1e" descr=""/>
          <p:cNvPicPr/>
          <p:nvPr/>
        </p:nvPicPr>
        <p:blipFill>
          <a:blip r:embed="rId2"/>
          <a:stretch/>
        </p:blipFill>
        <p:spPr>
          <a:xfrm>
            <a:off x="655560" y="2952720"/>
            <a:ext cx="3886200" cy="3268800"/>
          </a:xfrm>
          <a:prstGeom prst="rect">
            <a:avLst/>
          </a:prstGeom>
          <a:ln w="0">
            <a:noFill/>
          </a:ln>
        </p:spPr>
      </p:pic>
      <p:pic>
        <p:nvPicPr>
          <p:cNvPr id="49" name="D1d" descr=""/>
          <p:cNvPicPr/>
          <p:nvPr/>
        </p:nvPicPr>
        <p:blipFill>
          <a:blip r:embed="rId3"/>
          <a:stretch/>
        </p:blipFill>
        <p:spPr>
          <a:xfrm>
            <a:off x="8344080" y="1328760"/>
            <a:ext cx="471240" cy="4799160"/>
          </a:xfrm>
          <a:prstGeom prst="rect">
            <a:avLst/>
          </a:prstGeom>
          <a:ln w="0">
            <a:noFill/>
          </a:ln>
        </p:spPr>
      </p:pic>
      <p:pic>
        <p:nvPicPr>
          <p:cNvPr id="50" name="D1c" descr=""/>
          <p:cNvPicPr/>
          <p:nvPr/>
        </p:nvPicPr>
        <p:blipFill>
          <a:blip r:embed="rId4"/>
          <a:stretch/>
        </p:blipFill>
        <p:spPr>
          <a:xfrm>
            <a:off x="344520" y="6099120"/>
            <a:ext cx="8400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D1b" descr=""/>
          <p:cNvPicPr/>
          <p:nvPr/>
        </p:nvPicPr>
        <p:blipFill>
          <a:blip r:embed="rId5"/>
          <a:stretch/>
        </p:blipFill>
        <p:spPr>
          <a:xfrm>
            <a:off x="328680" y="1430280"/>
            <a:ext cx="471600" cy="4681440"/>
          </a:xfrm>
          <a:prstGeom prst="rect">
            <a:avLst/>
          </a:prstGeom>
          <a:ln w="0">
            <a:noFill/>
          </a:ln>
        </p:spPr>
      </p:pic>
      <p:pic>
        <p:nvPicPr>
          <p:cNvPr id="52" name="D1a" descr=""/>
          <p:cNvPicPr/>
          <p:nvPr/>
        </p:nvPicPr>
        <p:blipFill>
          <a:blip r:embed="rId6"/>
          <a:stretch/>
        </p:blipFill>
        <p:spPr>
          <a:xfrm>
            <a:off x="328680" y="299880"/>
            <a:ext cx="8400960" cy="1211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41148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FA5-5E40-4D36-8600-8904B5C61B18}" type="slidenum">
              <a:rPr b="0" lang="zh-CN" sz="1400" spc="-1" strike="noStrike">
                <a:solidFill>
                  <a:srgbClr val="ddddd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2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3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4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5" Type="http://schemas.openxmlformats.org/officeDocument/2006/relationships/hyperlink" Target="file:///&#31532;1&#31456;%20%20&#35745;&#31639;&#26426;&#25805;&#20316;&#31995;&#32479;&#27010;&#36848;.ppt#1. &#31532;1&#31456;  &#35745;&#31639;&#26426;&#25805;&#20316;&#31995;&#32479;&#27010;&#36848;" TargetMode="External"/><Relationship Id="rId6" Type="http://schemas.openxmlformats.org/officeDocument/2006/relationships/hyperlink" Target="file:///&#31532;2&#31456;%20%20&#25805;&#20316;&#31995;&#32479;&#30340;&#29992;&#25143;&#30028;&#38754;.ppt#1. &#31532;2&#31456;  &#25805;&#20316;&#31995;&#32479;&#30340;&#29992;&#25143;&#30028;&#38754;" TargetMode="External"/><Relationship Id="rId7" Type="http://schemas.openxmlformats.org/officeDocument/2006/relationships/hyperlink" Target="file:///&#31532;2&#31456;%20%20&#25805;&#20316;&#31995;&#32479;&#30340;&#29992;&#25143;&#30028;&#38754;.ppt#1. &#31532;2&#31456;  &#25805;&#20316;&#31995;&#32479;&#30340;&#29992;&#25143;&#30028;&#38754;" TargetMode="External"/><Relationship Id="rId8" Type="http://schemas.openxmlformats.org/officeDocument/2006/relationships/hyperlink" Target="file:///&#31532;3&#31456;%20%20&#36827;&#31243;&#31649;&#29702;.ppt#1. &#31532;3&#31456;  &#36827;&#31243;&#31649;&#29702;" TargetMode="External"/><Relationship Id="rId9" Type="http://schemas.openxmlformats.org/officeDocument/2006/relationships/hyperlink" Target="file:///&#31532;4&#31456;%20%20&#23384;&#20648;&#31649;&#29702;.ppt#1. &#31532;4&#31456;  &#23384;&#20648;&#31649;&#29702;" TargetMode="External"/><Relationship Id="rId10" Type="http://schemas.openxmlformats.org/officeDocument/2006/relationships/hyperlink" Target="file:///&#31532;5&#31456;%20%20&#35774;&#22791;&#31649;&#29702;.ppt#1. &#31532;5&#31456;  &#35774;&#22791;&#31649;&#29702;" TargetMode="External"/><Relationship Id="rId11" Type="http://schemas.openxmlformats.org/officeDocument/2006/relationships/hyperlink" Target="file:///&#31532;6&#31456;%20%20&#25991;&#20214;&#31649;&#29702;.ppt#1. &#31532;6&#31456;  &#25991;&#20214;&#31649;&#29702;" TargetMode="External"/><Relationship Id="rId12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3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4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5" Type="http://schemas.openxmlformats.org/officeDocument/2006/relationships/hyperlink" Target="file:///&#31532;7&#31456;%20%20Windows%2098&#20013;&#25991;&#29256;&#30340;.ppt#1. &#31532;7&#31456;  Windows 98&#20013;&#25991;&#29256;&#30340;&#20351;&#29992;" TargetMode="External"/><Relationship Id="rId1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9920" y="1370160"/>
            <a:ext cx="313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Arial Narrow"/>
                <a:ea typeface="楷体_GB2312"/>
              </a:rPr>
              <a:t>21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主　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柯敏毅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8769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副主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徐小平　宋士银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苏桂莲     黄逵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47840" y="6400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6781680" cy="121896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计算机操作系统教程</a:t>
            </a:r>
            <a:endParaRPr b="1" lang="en-US" sz="4000" spc="-1" strike="noStrike">
              <a:solidFill>
                <a:srgbClr val="ff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</a:rPr>
              <a:t>欢迎您使用</a:t>
            </a:r>
            <a:endParaRPr b="0" lang="en-US" sz="4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200400"/>
            <a:ext cx="60962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计算机操作系统教程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334120"/>
            <a:ext cx="388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编：柯敏毅</a:t>
            </a:r>
            <a:r>
              <a:rPr b="0" lang="zh-CN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endshow"/>
          </p:cNvPr>
          <p:cNvSpPr/>
          <p:nvPr/>
        </p:nvSpPr>
        <p:spPr>
          <a:xfrm>
            <a:off x="7086600" y="6421320"/>
            <a:ext cx="1828800" cy="457200"/>
          </a:xfrm>
          <a:prstGeom prst="flowChartTermina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Times New Roman"/>
                <a:ea typeface="华文行楷"/>
              </a:rPr>
              <a:t>结束放映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77120" y="609480"/>
            <a:ext cx="2438280" cy="337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ddddd"/>
                </a:solidFill>
                <a:latin typeface="Arial"/>
                <a:ea typeface="黑体"/>
              </a:rPr>
              <a:t>计算机操作系统教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0"/>
            <a:ext cx="3200400" cy="337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10680" y="1676520"/>
            <a:ext cx="41781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1"/>
              </a:rPr>
              <a:t>第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  <a:hlinkClick r:id="rId2"/>
              </a:rPr>
              <a:t>1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  <a:hlinkClick r:id="rId4"/>
              </a:rPr>
              <a:t>  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5"/>
              </a:rPr>
              <a:t>计算机操作系统概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6"/>
              </a:rPr>
              <a:t>第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 Narrow"/>
                <a:hlinkClick r:id="rId7"/>
              </a:rPr>
              <a:t>2章  操作系统的用户界面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8"/>
              </a:rPr>
              <a:t>第3章  进程管理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9"/>
              </a:rPr>
              <a:t>第4章  存储管理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0"/>
              </a:rPr>
              <a:t>第5章  设备管理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1"/>
              </a:rPr>
              <a:t>第6章  文件管理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2"/>
              </a:rPr>
              <a:t>第7章  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3"/>
              </a:rPr>
              <a:t>Windows 98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Times New Roman"/>
                <a:hlinkClick r:id="rId14"/>
              </a:rPr>
              <a:t>中文版的使用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Arial"/>
                <a:hlinkClick r:id="rId15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2590560" cy="914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目   录</a:t>
            </a:r>
            <a:br>
              <a:rPr sz="4000"/>
            </a:br>
            <a:endParaRPr b="1" lang="en-US" sz="4000" spc="-1" strike="noStrike">
              <a:solidFill>
                <a:srgbClr val="ff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计算机操作系统概述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1.1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存储程序式计算机模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1.2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发展历史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3 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基本概念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4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操作系统的逻辑模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1.5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微机操作系统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6002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操作系统的用户界面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6782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1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运行一个用户程序的过程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2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操作系统的用户界面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3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操作系统提供给用户程序的服务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2.4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用户界面的发展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46483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章  进程管理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1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引言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2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的引入和定义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3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的状态和进程控制块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4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控制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线程的基本概念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6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调度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7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进程通信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8  </a:t>
            </a:r>
            <a:r>
              <a:rPr b="1" lang="zh-CN" sz="2600" spc="-1" strike="noStrike">
                <a:solidFill>
                  <a:srgbClr val="dddddd"/>
                </a:solidFill>
                <a:latin typeface="Times New Roman"/>
              </a:rPr>
              <a:t>死锁问题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447920"/>
            <a:ext cx="47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存储管理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3623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0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本章学习目标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1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存储管理的功能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2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实存管理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3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虚拟存储器管理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4.4  </a:t>
            </a:r>
            <a:r>
              <a:rPr b="1" lang="zh-CN" sz="3000" spc="-1" strike="noStrike">
                <a:solidFill>
                  <a:srgbClr val="dddddd"/>
                </a:solidFill>
                <a:latin typeface="Times New Roman"/>
              </a:rPr>
              <a:t>碎片与抖动问题</a:t>
            </a:r>
            <a:r>
              <a:rPr b="1" lang="zh-CN" sz="3000" spc="-1" strike="noStrike">
                <a:solidFill>
                  <a:srgbClr val="dddddd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设备管理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0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1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概述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2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数据传送控制方式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3 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缓冲技术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4 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设备分配技术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5.5    I/O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进程控制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文件管理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1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与文件系统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2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逻辑结构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3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物理结构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4  UNIX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系统文件索引结构举例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5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目录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6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操作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7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共享与保护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8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文件的完整性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  <a:p>
            <a:pPr>
              <a:spcBef>
                <a:spcPts val="649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6.9  </a:t>
            </a:r>
            <a:r>
              <a:rPr b="1" lang="zh-CN" sz="2600" spc="-1" strike="noStrike">
                <a:solidFill>
                  <a:srgbClr val="dddddd"/>
                </a:solidFill>
                <a:latin typeface="Arial Narrow"/>
              </a:rPr>
              <a:t>外存空间的管理 </a:t>
            </a:r>
            <a:endParaRPr b="0" lang="en-US" sz="26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章  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Windows 98</a:t>
            </a:r>
            <a:r>
              <a:rPr b="1" lang="zh-CN" sz="3000" spc="-1" strike="noStrike">
                <a:solidFill>
                  <a:srgbClr val="ff3300"/>
                </a:solidFill>
                <a:latin typeface="Arial Narrow"/>
              </a:rPr>
              <a:t>中文版的使用 </a:t>
            </a:r>
            <a:endParaRPr b="1" lang="en-US" sz="3000" spc="-1" strike="noStrike">
              <a:solidFill>
                <a:srgbClr val="ff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236232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本章学习目标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1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文件和文件夹的管理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2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磁盘驱动器的管理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3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附件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4 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打印机的管理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ddddd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7.5  Windows 98 </a:t>
            </a:r>
            <a:r>
              <a:rPr b="1" lang="zh-CN" sz="3000" spc="-1" strike="noStrike">
                <a:solidFill>
                  <a:srgbClr val="dddddd"/>
                </a:solidFill>
                <a:latin typeface="Arial Narrow"/>
              </a:rPr>
              <a:t>的设置 </a:t>
            </a:r>
            <a:endParaRPr b="0" lang="en-US" sz="30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40:56Z</dcterms:created>
  <dc:creator>新人电脑</dc:creator>
  <dc:description/>
  <dc:language>en-US</dc:language>
  <cp:lastModifiedBy>新人电脑</cp:lastModifiedBy>
  <dcterms:modified xsi:type="dcterms:W3CDTF">2001-12-24T02:07:29Z</dcterms:modified>
  <cp:revision>15</cp:revision>
  <dc:subject/>
  <dc:title>PowerPoint 演示文稿</dc:title>
</cp:coreProperties>
</file>