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BCC-550D-41AC-9CAC-DAC383FE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4CF-2712-4BF7-8B4D-43A69AA8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EDF-E279-472F-8AB7-909CD494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D97-7574-4988-9C34-761DC0D8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287-CDB2-48B6-B914-245463EC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8FA-284F-4BAA-8637-F855B63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5DC-8D2B-4454-9EEE-E105E1CA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41F-1C7D-4EA1-88E3-C25333F8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895-493A-4B82-9EA9-035BEE7A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8E2-3FE3-4F50-AF1E-2CEDDF9D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056-99B5-4605-919C-92A7F37F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5C1-560D-401E-9FD2-988ECEC5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CEB8-B87C-4780-AA5D-783151100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600200"/>
            <a:ext cx="6019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数字电子技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4343400"/>
            <a:ext cx="4856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湖南计算机高等专科学校李中发  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数字电子技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182880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 数字电子技术基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259092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 组合逻辑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335268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 时序逻辑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11480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 脉冲信号的产生与整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487692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 数模和模数转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2209680" y="563868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06:34:09Z</dcterms:created>
  <dc:creator>li</dc:creator>
  <dc:description/>
  <dc:language>en-US</dc:language>
  <cp:lastModifiedBy>li</cp:lastModifiedBy>
  <dcterms:modified xsi:type="dcterms:W3CDTF">2001-08-08T14:18:34Z</dcterms:modified>
  <cp:revision>7</cp:revision>
  <dc:subject/>
  <dc:title>没有幻灯片标题</dc:title>
</cp:coreProperties>
</file>