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368-088C-4604-83C6-D6E58933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3F1-0AA0-4F34-B1BD-7D57B62B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421-750B-43FC-B255-246CC260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7A6-EC29-4845-807D-F5DC946E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036-3138-44FE-A3C4-0DAA0D2C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005-916C-432F-BBDF-569F1160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251-D4F5-4ED1-8FC2-78F2224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2F2-5446-461A-9F52-E206BDE0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FC9-6A8B-4DE3-9368-D388FB86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CEB-8BD2-4385-BA5D-E9B31F5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176-51CE-423F-AFEA-585B4E3A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BBA-A639-49F5-96ED-EE36BD04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E806-FFB8-4265-9C0C-B099D698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字电子技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4343400"/>
            <a:ext cx="4856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湖南计算机高等专科学校李中发 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字电子技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182880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数字电子技术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259092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组合逻辑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35268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时序逻辑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11480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脉冲信号的产生与整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487692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   数模和模数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2209680" y="5638680"/>
            <a:ext cx="5105520" cy="685800"/>
          </a:xfrm>
          <a:custGeom>
            <a:avLst/>
            <a:gdLst>
              <a:gd name="textAreaLeft" fmla="*/ 44280 w 5105520"/>
              <a:gd name="textAreaRight" fmla="*/ 5061240 w 5105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60731" h="21600">
                <a:moveTo>
                  <a:pt x="0" y="0"/>
                </a:moveTo>
                <a:lnTo>
                  <a:pt x="160731" y="0"/>
                </a:lnTo>
                <a:lnTo>
                  <a:pt x="160731" y="21600"/>
                </a:lnTo>
                <a:lnTo>
                  <a:pt x="0" y="21600"/>
                </a:lnTo>
                <a:close/>
              </a:path>
              <a:path fill="lightenLess" w="160731" h="21600">
                <a:moveTo>
                  <a:pt x="0" y="0"/>
                </a:moveTo>
                <a:lnTo>
                  <a:pt x="160731" y="0"/>
                </a:lnTo>
                <a:lnTo>
                  <a:pt x="159331" y="1400"/>
                </a:lnTo>
                <a:lnTo>
                  <a:pt x="1400" y="1400"/>
                </a:lnTo>
                <a:close/>
              </a:path>
              <a:path fill="darken" w="160731" h="21600">
                <a:moveTo>
                  <a:pt x="160731" y="0"/>
                </a:moveTo>
                <a:lnTo>
                  <a:pt x="160731" y="21600"/>
                </a:lnTo>
                <a:lnTo>
                  <a:pt x="159331" y="20200"/>
                </a:lnTo>
                <a:lnTo>
                  <a:pt x="159331" y="1400"/>
                </a:lnTo>
                <a:close/>
              </a:path>
              <a:path fill="darkenLess" w="160731" h="21600">
                <a:moveTo>
                  <a:pt x="16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331" y="20200"/>
                </a:lnTo>
                <a:close/>
              </a:path>
              <a:path fill="lighten" w="16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6:34:09Z</dcterms:created>
  <dc:creator>li</dc:creator>
  <dc:description/>
  <dc:language>en-US</dc:language>
  <cp:lastModifiedBy>li</cp:lastModifiedBy>
  <dcterms:modified xsi:type="dcterms:W3CDTF">2001-08-08T14:18:34Z</dcterms:modified>
  <cp:revision>7</cp:revision>
  <dc:subject/>
  <dc:title>没有幻灯片标题</dc:title>
</cp:coreProperties>
</file>