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8.png" ContentType="image/png"/>
  <Override PartName="/ppt/media/image70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86.png" ContentType="image/png"/>
  <Override PartName="/ppt/media/image42.wmf" ContentType="image/x-wmf"/>
  <Override PartName="/ppt/media/image82.jpeg" ContentType="image/jpeg"/>
  <Override PartName="/ppt/media/image85.png" ContentType="image/png"/>
  <Override PartName="/ppt/media/image41.wmf" ContentType="image/x-wmf"/>
  <Override PartName="/ppt/media/image84.png" ContentType="image/png"/>
  <Override PartName="/ppt/media/image40.wmf" ContentType="image/x-wmf"/>
  <Override PartName="/ppt/media/image35.wmf" ContentType="image/x-wmf"/>
  <Override PartName="/ppt/media/image78.png" ContentType="image/png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38.wmf" ContentType="image/x-wmf"/>
  <Override PartName="/ppt/media/image8.wmf" ContentType="image/x-wmf"/>
  <Override PartName="/ppt/media/image51.png" ContentType="image/png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6.wmf" ContentType="image/x-wmf"/>
  <Override PartName="/ppt/media/image77.wmf" ContentType="image/x-wmf"/>
  <Override PartName="/ppt/media/image79.wmf" ContentType="image/x-wmf"/>
  <Override PartName="/ppt/media/image101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100.wmf" ContentType="image/x-wmf"/>
  <Override PartName="/ppt/media/image14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72.wmf" ContentType="image/x-wmf"/>
  <Override PartName="/ppt/media/image87.png" ContentType="image/png"/>
  <Override PartName="/ppt/media/image97.wmf" ContentType="image/x-wmf"/>
  <Override PartName="/ppt/media/image60.wmf" ContentType="image/x-wmf"/>
  <Override PartName="/ppt/media/image96.wmf" ContentType="image/x-wmf"/>
  <Override PartName="/ppt/media/image17.wmf" ContentType="image/x-wmf"/>
  <Override PartName="/ppt/media/image95.wmf" ContentType="image/x-wmf"/>
  <Override PartName="/ppt/media/image75.wmf" ContentType="image/x-wmf"/>
  <Override PartName="/ppt/media/image92.png" ContentType="image/png"/>
  <Override PartName="/ppt/media/image73.wmf" ContentType="image/x-wmf"/>
  <Override PartName="/ppt/media/image88.png" ContentType="image/png"/>
  <Override PartName="/ppt/media/image90.png" ContentType="image/png"/>
  <Override PartName="/ppt/media/image74.wmf" ContentType="image/x-wmf"/>
  <Override PartName="/ppt/media/image91.png" ContentType="image/png"/>
  <Override PartName="/ppt/media/image89.png" ContentType="image/png"/>
  <Override PartName="/ppt/media/image93.wmf" ContentType="image/x-wmf"/>
  <Override PartName="/ppt/media/image28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5.wmf" ContentType="image/x-wmf"/>
  <Override PartName="/ppt/media/image80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4.wmf" ContentType="image/x-wmf"/>
  <Override PartName="/ppt/media/image29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38D-80BD-4438-83D5-A4A54D43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234-5499-4C78-AA08-A33CC64F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BA2-9D87-45F6-A6A1-1A46AA6E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B63-26E4-4679-95C5-FFE192A4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232F-ECB2-4A48-8BCC-E3AC68DD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DBFC-902E-427B-B35C-308484B9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CF70-7B0F-4E52-9382-F1ADDFB9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FB87-454C-48B4-A3AA-9E7FBB18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3D52-9A2A-4058-8488-6D7C39B6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8584-2A74-4AE2-B6BB-D6161FE7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50A9-5D2A-4FB6-A5B3-3ACB9412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8D6-35E8-468C-A9D5-CBAB8626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76F7-0A5A-48E3-9B47-7341830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6582-9537-46BA-AEB8-30F35447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D90B-9D63-40A9-8F1C-38EE9CA3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1783-C625-4C69-9995-9D90A5C1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11C7-FEE3-4628-BFFE-F07F0664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7A5-E548-480B-A891-EDC1C4D9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C10-8D7F-4350-BA82-D1E76899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9C6-8D49-41A6-BAD3-0F7DD355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9A7-891B-42FC-8BD2-ED7ED3AC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AFF-D830-4D70-B654-434E404D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A86-F40B-4F4E-81EA-DD7BF89D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1DB-8E6B-4FDE-8E7A-D35C6FB1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3349-AA10-49D5-81CD-DCAA769CC7E2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A305-D940-4487-B824-65C892488D09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3d7a"/>
                </a:solidFill>
                <a:latin typeface="Times New Roman"/>
                <a:ea typeface="黑体"/>
              </a:rPr>
              <a:t>《单片微型计算机原理</a:t>
            </a:r>
            <a:br>
              <a:rPr sz="4800"/>
            </a:br>
            <a:r>
              <a:rPr b="1" lang="zh-CN" sz="4800" spc="-1" strike="noStrike">
                <a:solidFill>
                  <a:srgbClr val="2a3d7a"/>
                </a:solidFill>
                <a:latin typeface="Times New Roman"/>
                <a:ea typeface="黑体"/>
              </a:rPr>
              <a:t>及其应用》电子教案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赵秀珍   王乃钊    制作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中国水利水电出版社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    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2001 . 8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1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       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二、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805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单片机的内部结构和工作原理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320040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80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单片机的内部结构框图如图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‑2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所示，下面分别进行介绍：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"/>
          <p:cNvSpPr/>
          <p:nvPr/>
        </p:nvSpPr>
        <p:spPr>
          <a:xfrm>
            <a:off x="0" y="1066680"/>
            <a:ext cx="9144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4  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相互通道接口标准及其选择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685800" y="2057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一、相互通道的典型结构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685800" y="2666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关于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S-232C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S-449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S-422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S-423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S-485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接口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201456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1" name="多机系统通道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5419440" cy="4943520"/>
          </a:xfrm>
          <a:prstGeom prst="rect">
            <a:avLst/>
          </a:prstGeom>
          <a:ln w="0">
            <a:noFill/>
          </a:ln>
        </p:spPr>
      </p:pic>
      <p:sp>
        <p:nvSpPr>
          <p:cNvPr id="3132" name=""/>
          <p:cNvSpPr/>
          <p:nvPr/>
        </p:nvSpPr>
        <p:spPr>
          <a:xfrm flipV="1">
            <a:off x="0" y="6019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571200" y="6095880"/>
            <a:ext cx="254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7-14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多机系统的相互通道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"/>
          <p:cNvSpPr/>
          <p:nvPr/>
        </p:nvSpPr>
        <p:spPr>
          <a:xfrm>
            <a:off x="457200" y="10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5249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5b5249"/>
                </a:solidFill>
                <a:latin typeface="宋体"/>
              </a:rPr>
              <a:t>．抗干扰能力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457200" y="1523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S-232C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接口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201924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37" name="远程连接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77120" cy="2057400"/>
          </a:xfrm>
          <a:prstGeom prst="rect">
            <a:avLst/>
          </a:prstGeom>
          <a:ln w="0">
            <a:noFill/>
          </a:ln>
        </p:spPr>
      </p:pic>
      <p:sp>
        <p:nvSpPr>
          <p:cNvPr id="3138" name=""/>
          <p:cNvSpPr/>
          <p:nvPr/>
        </p:nvSpPr>
        <p:spPr>
          <a:xfrm>
            <a:off x="0" y="472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7-15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通过电话网实现远程连接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"/>
          <p:cNvSpPr/>
          <p:nvPr/>
        </p:nvSpPr>
        <p:spPr>
          <a:xfrm>
            <a:off x="3240" y="-534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7-3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微机中常用的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RS-232C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接口信号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1905120" y="838080"/>
            <a:ext cx="5943240" cy="5715000"/>
            <a:chOff x="1905120" y="838080"/>
            <a:chExt cx="5943240" cy="5715000"/>
          </a:xfrm>
        </p:grpSpPr>
        <p:grpSp>
          <p:nvGrpSpPr>
            <p:cNvPr id="3141" name=""/>
            <p:cNvGrpSpPr/>
            <p:nvPr/>
          </p:nvGrpSpPr>
          <p:grpSpPr>
            <a:xfrm>
              <a:off x="1910160" y="841680"/>
              <a:ext cx="5932080" cy="5707080"/>
              <a:chOff x="1910160" y="841680"/>
              <a:chExt cx="5932080" cy="5707080"/>
            </a:xfrm>
          </p:grpSpPr>
          <p:grpSp>
            <p:nvGrpSpPr>
              <p:cNvPr id="3142" name=""/>
              <p:cNvGrpSpPr/>
              <p:nvPr/>
            </p:nvGrpSpPr>
            <p:grpSpPr>
              <a:xfrm>
                <a:off x="1910160" y="841680"/>
                <a:ext cx="638280" cy="594360"/>
                <a:chOff x="1910160" y="841680"/>
                <a:chExt cx="638280" cy="594360"/>
              </a:xfrm>
            </p:grpSpPr>
            <p:sp>
              <p:nvSpPr>
                <p:cNvPr id="3143" name=""/>
                <p:cNvSpPr/>
                <p:nvPr/>
              </p:nvSpPr>
              <p:spPr>
                <a:xfrm>
                  <a:off x="1929960" y="841680"/>
                  <a:ext cx="59904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引脚号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1910160" y="841680"/>
                  <a:ext cx="63828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5" name=""/>
              <p:cNvGrpSpPr/>
              <p:nvPr/>
            </p:nvGrpSpPr>
            <p:grpSpPr>
              <a:xfrm>
                <a:off x="2548800" y="841680"/>
                <a:ext cx="779760" cy="594360"/>
                <a:chOff x="2548800" y="841680"/>
                <a:chExt cx="779760" cy="594360"/>
              </a:xfrm>
            </p:grpSpPr>
            <p:sp>
              <p:nvSpPr>
                <p:cNvPr id="3146" name=""/>
                <p:cNvSpPr/>
                <p:nvPr/>
              </p:nvSpPr>
              <p:spPr>
                <a:xfrm>
                  <a:off x="2568600" y="841680"/>
                  <a:ext cx="7401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符号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2548800" y="841680"/>
                  <a:ext cx="7797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8" name=""/>
              <p:cNvGrpSpPr/>
              <p:nvPr/>
            </p:nvGrpSpPr>
            <p:grpSpPr>
              <a:xfrm>
                <a:off x="3329280" y="841680"/>
                <a:ext cx="1134360" cy="594360"/>
                <a:chOff x="3329280" y="841680"/>
                <a:chExt cx="1134360" cy="594360"/>
              </a:xfrm>
            </p:grpSpPr>
            <p:sp>
              <p:nvSpPr>
                <p:cNvPr id="3149" name=""/>
                <p:cNvSpPr/>
                <p:nvPr/>
              </p:nvSpPr>
              <p:spPr>
                <a:xfrm>
                  <a:off x="3348720" y="841680"/>
                  <a:ext cx="10951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名称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3329280" y="841680"/>
                  <a:ext cx="11343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1" name=""/>
              <p:cNvGrpSpPr/>
              <p:nvPr/>
            </p:nvGrpSpPr>
            <p:grpSpPr>
              <a:xfrm>
                <a:off x="4464000" y="841680"/>
                <a:ext cx="3378240" cy="594360"/>
                <a:chOff x="4464000" y="841680"/>
                <a:chExt cx="3378240" cy="594360"/>
              </a:xfrm>
            </p:grpSpPr>
            <p:sp>
              <p:nvSpPr>
                <p:cNvPr id="3152" name=""/>
                <p:cNvSpPr/>
                <p:nvPr/>
              </p:nvSpPr>
              <p:spPr>
                <a:xfrm>
                  <a:off x="4483440" y="841680"/>
                  <a:ext cx="33393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说明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4464000" y="841680"/>
                  <a:ext cx="337824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4" name=""/>
              <p:cNvGrpSpPr/>
              <p:nvPr/>
            </p:nvGrpSpPr>
            <p:grpSpPr>
              <a:xfrm>
                <a:off x="1910160" y="1436040"/>
                <a:ext cx="638280" cy="475200"/>
                <a:chOff x="1910160" y="1436040"/>
                <a:chExt cx="638280" cy="475200"/>
              </a:xfrm>
            </p:grpSpPr>
            <p:sp>
              <p:nvSpPr>
                <p:cNvPr id="3155" name=""/>
                <p:cNvSpPr/>
                <p:nvPr/>
              </p:nvSpPr>
              <p:spPr>
                <a:xfrm>
                  <a:off x="1929960" y="1436040"/>
                  <a:ext cx="59904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1910160" y="1436040"/>
                  <a:ext cx="63828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7" name=""/>
              <p:cNvGrpSpPr/>
              <p:nvPr/>
            </p:nvGrpSpPr>
            <p:grpSpPr>
              <a:xfrm>
                <a:off x="2548800" y="1436040"/>
                <a:ext cx="779760" cy="475200"/>
                <a:chOff x="2548800" y="1436040"/>
                <a:chExt cx="779760" cy="475200"/>
              </a:xfrm>
            </p:grpSpPr>
            <p:sp>
              <p:nvSpPr>
                <p:cNvPr id="3158" name=""/>
                <p:cNvSpPr/>
                <p:nvPr/>
              </p:nvSpPr>
              <p:spPr>
                <a:xfrm>
                  <a:off x="2568600" y="1436040"/>
                  <a:ext cx="7401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PGN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2548800" y="1436040"/>
                  <a:ext cx="7797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0" name=""/>
              <p:cNvGrpSpPr/>
              <p:nvPr/>
            </p:nvGrpSpPr>
            <p:grpSpPr>
              <a:xfrm>
                <a:off x="3329280" y="1436040"/>
                <a:ext cx="1134360" cy="475200"/>
                <a:chOff x="3329280" y="1436040"/>
                <a:chExt cx="1134360" cy="475200"/>
              </a:xfrm>
            </p:grpSpPr>
            <p:sp>
              <p:nvSpPr>
                <p:cNvPr id="3161" name=""/>
                <p:cNvSpPr/>
                <p:nvPr/>
              </p:nvSpPr>
              <p:spPr>
                <a:xfrm>
                  <a:off x="3348720" y="1436040"/>
                  <a:ext cx="109512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保护地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3329280" y="1436040"/>
                  <a:ext cx="11343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3" name=""/>
              <p:cNvGrpSpPr/>
              <p:nvPr/>
            </p:nvGrpSpPr>
            <p:grpSpPr>
              <a:xfrm>
                <a:off x="4464000" y="1436040"/>
                <a:ext cx="3378240" cy="475200"/>
                <a:chOff x="4464000" y="1436040"/>
                <a:chExt cx="3378240" cy="475200"/>
              </a:xfrm>
            </p:grpSpPr>
            <p:sp>
              <p:nvSpPr>
                <p:cNvPr id="3164" name=""/>
                <p:cNvSpPr/>
                <p:nvPr/>
              </p:nvSpPr>
              <p:spPr>
                <a:xfrm>
                  <a:off x="4483440" y="1436040"/>
                  <a:ext cx="33393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为了安全和大地相连，有时可不接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4464000" y="1436040"/>
                  <a:ext cx="337824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6" name=""/>
              <p:cNvGrpSpPr/>
              <p:nvPr/>
            </p:nvGrpSpPr>
            <p:grpSpPr>
              <a:xfrm>
                <a:off x="1910160" y="1911600"/>
                <a:ext cx="638280" cy="475560"/>
                <a:chOff x="1910160" y="1911600"/>
                <a:chExt cx="638280" cy="475560"/>
              </a:xfrm>
            </p:grpSpPr>
            <p:sp>
              <p:nvSpPr>
                <p:cNvPr id="3167" name=""/>
                <p:cNvSpPr/>
                <p:nvPr/>
              </p:nvSpPr>
              <p:spPr>
                <a:xfrm>
                  <a:off x="1929960" y="1911600"/>
                  <a:ext cx="59904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1910160" y="1911600"/>
                  <a:ext cx="63828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9" name=""/>
              <p:cNvGrpSpPr/>
              <p:nvPr/>
            </p:nvGrpSpPr>
            <p:grpSpPr>
              <a:xfrm>
                <a:off x="2548800" y="1911600"/>
                <a:ext cx="779760" cy="475560"/>
                <a:chOff x="2548800" y="1911600"/>
                <a:chExt cx="779760" cy="475560"/>
              </a:xfrm>
            </p:grpSpPr>
            <p:sp>
              <p:nvSpPr>
                <p:cNvPr id="3170" name=""/>
                <p:cNvSpPr/>
                <p:nvPr/>
              </p:nvSpPr>
              <p:spPr>
                <a:xfrm>
                  <a:off x="2568600" y="1911600"/>
                  <a:ext cx="7401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X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2548800" y="1911600"/>
                  <a:ext cx="77976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2" name=""/>
              <p:cNvGrpSpPr/>
              <p:nvPr/>
            </p:nvGrpSpPr>
            <p:grpSpPr>
              <a:xfrm>
                <a:off x="3329280" y="1911600"/>
                <a:ext cx="1134360" cy="475560"/>
                <a:chOff x="3329280" y="1911600"/>
                <a:chExt cx="1134360" cy="475560"/>
              </a:xfrm>
            </p:grpSpPr>
            <p:sp>
              <p:nvSpPr>
                <p:cNvPr id="3173" name=""/>
                <p:cNvSpPr/>
                <p:nvPr/>
              </p:nvSpPr>
              <p:spPr>
                <a:xfrm>
                  <a:off x="3348720" y="1911600"/>
                  <a:ext cx="109512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送数据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3329280" y="1911600"/>
                  <a:ext cx="113436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5" name=""/>
              <p:cNvGrpSpPr/>
              <p:nvPr/>
            </p:nvGrpSpPr>
            <p:grpSpPr>
              <a:xfrm>
                <a:off x="4464000" y="1911600"/>
                <a:ext cx="3378240" cy="475560"/>
                <a:chOff x="4464000" y="1911600"/>
                <a:chExt cx="3378240" cy="475560"/>
              </a:xfrm>
            </p:grpSpPr>
            <p:sp>
              <p:nvSpPr>
                <p:cNvPr id="3176" name=""/>
                <p:cNvSpPr/>
                <p:nvPr/>
              </p:nvSpPr>
              <p:spPr>
                <a:xfrm>
                  <a:off x="4483440" y="1911600"/>
                  <a:ext cx="33393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从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到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的数据线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4464000" y="1911600"/>
                  <a:ext cx="337824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8" name=""/>
              <p:cNvGrpSpPr/>
              <p:nvPr/>
            </p:nvGrpSpPr>
            <p:grpSpPr>
              <a:xfrm>
                <a:off x="1910160" y="2387520"/>
                <a:ext cx="638280" cy="475200"/>
                <a:chOff x="1910160" y="2387520"/>
                <a:chExt cx="638280" cy="475200"/>
              </a:xfrm>
            </p:grpSpPr>
            <p:sp>
              <p:nvSpPr>
                <p:cNvPr id="3179" name=""/>
                <p:cNvSpPr/>
                <p:nvPr/>
              </p:nvSpPr>
              <p:spPr>
                <a:xfrm>
                  <a:off x="1929960" y="2387520"/>
                  <a:ext cx="59904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1910160" y="2387520"/>
                  <a:ext cx="63828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1" name=""/>
              <p:cNvGrpSpPr/>
              <p:nvPr/>
            </p:nvGrpSpPr>
            <p:grpSpPr>
              <a:xfrm>
                <a:off x="2548800" y="2387520"/>
                <a:ext cx="779760" cy="475200"/>
                <a:chOff x="2548800" y="2387520"/>
                <a:chExt cx="779760" cy="475200"/>
              </a:xfrm>
            </p:grpSpPr>
            <p:sp>
              <p:nvSpPr>
                <p:cNvPr id="3182" name=""/>
                <p:cNvSpPr/>
                <p:nvPr/>
              </p:nvSpPr>
              <p:spPr>
                <a:xfrm>
                  <a:off x="2568600" y="2387520"/>
                  <a:ext cx="7401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X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2548800" y="2387520"/>
                  <a:ext cx="7797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4" name=""/>
              <p:cNvGrpSpPr/>
              <p:nvPr/>
            </p:nvGrpSpPr>
            <p:grpSpPr>
              <a:xfrm>
                <a:off x="3329280" y="2387520"/>
                <a:ext cx="1134360" cy="475200"/>
                <a:chOff x="3329280" y="2387520"/>
                <a:chExt cx="1134360" cy="475200"/>
              </a:xfrm>
            </p:grpSpPr>
            <p:sp>
              <p:nvSpPr>
                <p:cNvPr id="3185" name=""/>
                <p:cNvSpPr/>
                <p:nvPr/>
              </p:nvSpPr>
              <p:spPr>
                <a:xfrm>
                  <a:off x="3348720" y="2387520"/>
                  <a:ext cx="109512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接收数据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3329280" y="2387520"/>
                  <a:ext cx="11343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7" name=""/>
              <p:cNvGrpSpPr/>
              <p:nvPr/>
            </p:nvGrpSpPr>
            <p:grpSpPr>
              <a:xfrm>
                <a:off x="4464000" y="2387520"/>
                <a:ext cx="3378240" cy="475200"/>
                <a:chOff x="4464000" y="2387520"/>
                <a:chExt cx="3378240" cy="475200"/>
              </a:xfrm>
            </p:grpSpPr>
            <p:sp>
              <p:nvSpPr>
                <p:cNvPr id="3188" name=""/>
                <p:cNvSpPr/>
                <p:nvPr/>
              </p:nvSpPr>
              <p:spPr>
                <a:xfrm>
                  <a:off x="4483440" y="2387520"/>
                  <a:ext cx="33393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从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到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的数据线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4464000" y="2387520"/>
                  <a:ext cx="337824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0" name=""/>
              <p:cNvGrpSpPr/>
              <p:nvPr/>
            </p:nvGrpSpPr>
            <p:grpSpPr>
              <a:xfrm>
                <a:off x="1910160" y="2863080"/>
                <a:ext cx="638280" cy="594360"/>
                <a:chOff x="1910160" y="2863080"/>
                <a:chExt cx="638280" cy="594360"/>
              </a:xfrm>
            </p:grpSpPr>
            <p:sp>
              <p:nvSpPr>
                <p:cNvPr id="3191" name=""/>
                <p:cNvSpPr/>
                <p:nvPr/>
              </p:nvSpPr>
              <p:spPr>
                <a:xfrm>
                  <a:off x="1929960" y="2863080"/>
                  <a:ext cx="59904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4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1910160" y="2863080"/>
                  <a:ext cx="63828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3" name=""/>
              <p:cNvGrpSpPr/>
              <p:nvPr/>
            </p:nvGrpSpPr>
            <p:grpSpPr>
              <a:xfrm>
                <a:off x="2548800" y="2863080"/>
                <a:ext cx="779760" cy="594360"/>
                <a:chOff x="2548800" y="2863080"/>
                <a:chExt cx="779760" cy="594360"/>
              </a:xfrm>
            </p:grpSpPr>
            <p:sp>
              <p:nvSpPr>
                <p:cNvPr id="3194" name=""/>
                <p:cNvSpPr/>
                <p:nvPr/>
              </p:nvSpPr>
              <p:spPr>
                <a:xfrm>
                  <a:off x="2568600" y="2863080"/>
                  <a:ext cx="7401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TS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2548800" y="2863080"/>
                  <a:ext cx="7797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6" name=""/>
              <p:cNvGrpSpPr/>
              <p:nvPr/>
            </p:nvGrpSpPr>
            <p:grpSpPr>
              <a:xfrm>
                <a:off x="3329280" y="2863080"/>
                <a:ext cx="1134360" cy="594360"/>
                <a:chOff x="3329280" y="2863080"/>
                <a:chExt cx="1134360" cy="594360"/>
              </a:xfrm>
            </p:grpSpPr>
            <p:sp>
              <p:nvSpPr>
                <p:cNvPr id="3197" name=""/>
                <p:cNvSpPr/>
                <p:nvPr/>
              </p:nvSpPr>
              <p:spPr>
                <a:xfrm>
                  <a:off x="3348720" y="2863080"/>
                  <a:ext cx="10951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请求发送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3329280" y="2863080"/>
                  <a:ext cx="11343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9" name=""/>
              <p:cNvGrpSpPr/>
              <p:nvPr/>
            </p:nvGrpSpPr>
            <p:grpSpPr>
              <a:xfrm>
                <a:off x="4464000" y="2863080"/>
                <a:ext cx="3378240" cy="594360"/>
                <a:chOff x="4464000" y="2863080"/>
                <a:chExt cx="3378240" cy="594360"/>
              </a:xfrm>
            </p:grpSpPr>
            <p:sp>
              <p:nvSpPr>
                <p:cNvPr id="3200" name=""/>
                <p:cNvSpPr/>
                <p:nvPr/>
              </p:nvSpPr>
              <p:spPr>
                <a:xfrm>
                  <a:off x="4483440" y="2863080"/>
                  <a:ext cx="33393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当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希望在数据线上传递数据时由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出，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通过所得到的控制信号决定是否响应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4464000" y="2863080"/>
                  <a:ext cx="337824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2" name=""/>
              <p:cNvGrpSpPr/>
              <p:nvPr/>
            </p:nvGrpSpPr>
            <p:grpSpPr>
              <a:xfrm>
                <a:off x="1910160" y="3457800"/>
                <a:ext cx="638280" cy="475200"/>
                <a:chOff x="1910160" y="3457800"/>
                <a:chExt cx="638280" cy="475200"/>
              </a:xfrm>
            </p:grpSpPr>
            <p:sp>
              <p:nvSpPr>
                <p:cNvPr id="3203" name=""/>
                <p:cNvSpPr/>
                <p:nvPr/>
              </p:nvSpPr>
              <p:spPr>
                <a:xfrm>
                  <a:off x="1929960" y="3457800"/>
                  <a:ext cx="59904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5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1910160" y="3457800"/>
                  <a:ext cx="63828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5" name=""/>
              <p:cNvGrpSpPr/>
              <p:nvPr/>
            </p:nvGrpSpPr>
            <p:grpSpPr>
              <a:xfrm>
                <a:off x="2548800" y="3457800"/>
                <a:ext cx="779760" cy="475200"/>
                <a:chOff x="2548800" y="3457800"/>
                <a:chExt cx="779760" cy="475200"/>
              </a:xfrm>
            </p:grpSpPr>
            <p:sp>
              <p:nvSpPr>
                <p:cNvPr id="3206" name=""/>
                <p:cNvSpPr/>
                <p:nvPr/>
              </p:nvSpPr>
              <p:spPr>
                <a:xfrm>
                  <a:off x="2568600" y="3457800"/>
                  <a:ext cx="7401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CTS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2548800" y="3457800"/>
                  <a:ext cx="7797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8" name=""/>
              <p:cNvGrpSpPr/>
              <p:nvPr/>
            </p:nvGrpSpPr>
            <p:grpSpPr>
              <a:xfrm>
                <a:off x="3329280" y="3457800"/>
                <a:ext cx="1134360" cy="475200"/>
                <a:chOff x="3329280" y="3457800"/>
                <a:chExt cx="1134360" cy="475200"/>
              </a:xfrm>
            </p:grpSpPr>
            <p:sp>
              <p:nvSpPr>
                <p:cNvPr id="3209" name=""/>
                <p:cNvSpPr/>
                <p:nvPr/>
              </p:nvSpPr>
              <p:spPr>
                <a:xfrm>
                  <a:off x="3348720" y="3457800"/>
                  <a:ext cx="109512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允许发送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3329280" y="3457800"/>
                  <a:ext cx="11343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1" name=""/>
              <p:cNvGrpSpPr/>
              <p:nvPr/>
            </p:nvGrpSpPr>
            <p:grpSpPr>
              <a:xfrm>
                <a:off x="4464000" y="3457800"/>
                <a:ext cx="3378240" cy="475200"/>
                <a:chOff x="4464000" y="3457800"/>
                <a:chExt cx="3378240" cy="475200"/>
              </a:xfrm>
            </p:grpSpPr>
            <p:sp>
              <p:nvSpPr>
                <p:cNvPr id="3212" name=""/>
                <p:cNvSpPr/>
                <p:nvPr/>
              </p:nvSpPr>
              <p:spPr>
                <a:xfrm>
                  <a:off x="4483440" y="3457800"/>
                  <a:ext cx="33393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允许计算机发送数据时，则由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出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4464000" y="3457800"/>
                  <a:ext cx="337824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4" name=""/>
              <p:cNvGrpSpPr/>
              <p:nvPr/>
            </p:nvGrpSpPr>
            <p:grpSpPr>
              <a:xfrm>
                <a:off x="1910160" y="3933000"/>
                <a:ext cx="638280" cy="475200"/>
                <a:chOff x="1910160" y="3933000"/>
                <a:chExt cx="638280" cy="475200"/>
              </a:xfrm>
            </p:grpSpPr>
            <p:sp>
              <p:nvSpPr>
                <p:cNvPr id="3215" name=""/>
                <p:cNvSpPr/>
                <p:nvPr/>
              </p:nvSpPr>
              <p:spPr>
                <a:xfrm>
                  <a:off x="1929960" y="3933000"/>
                  <a:ext cx="59904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6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1910160" y="3933000"/>
                  <a:ext cx="63828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7" name=""/>
              <p:cNvGrpSpPr/>
              <p:nvPr/>
            </p:nvGrpSpPr>
            <p:grpSpPr>
              <a:xfrm>
                <a:off x="2548800" y="3933000"/>
                <a:ext cx="779760" cy="475200"/>
                <a:chOff x="2548800" y="3933000"/>
                <a:chExt cx="779760" cy="475200"/>
              </a:xfrm>
            </p:grpSpPr>
            <p:sp>
              <p:nvSpPr>
                <p:cNvPr id="3218" name=""/>
                <p:cNvSpPr/>
                <p:nvPr/>
              </p:nvSpPr>
              <p:spPr>
                <a:xfrm>
                  <a:off x="2568600" y="3933000"/>
                  <a:ext cx="7401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SR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2548800" y="3933000"/>
                  <a:ext cx="7797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0" name=""/>
              <p:cNvGrpSpPr/>
              <p:nvPr/>
            </p:nvGrpSpPr>
            <p:grpSpPr>
              <a:xfrm>
                <a:off x="3329280" y="3933000"/>
                <a:ext cx="1134360" cy="475200"/>
                <a:chOff x="3329280" y="3933000"/>
                <a:chExt cx="1134360" cy="475200"/>
              </a:xfrm>
            </p:grpSpPr>
            <p:sp>
              <p:nvSpPr>
                <p:cNvPr id="3221" name=""/>
                <p:cNvSpPr/>
                <p:nvPr/>
              </p:nvSpPr>
              <p:spPr>
                <a:xfrm>
                  <a:off x="3348720" y="3933000"/>
                  <a:ext cx="109512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数字置位就绪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3329280" y="3933000"/>
                  <a:ext cx="11343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3" name=""/>
              <p:cNvGrpSpPr/>
              <p:nvPr/>
            </p:nvGrpSpPr>
            <p:grpSpPr>
              <a:xfrm>
                <a:off x="4464000" y="3933000"/>
                <a:ext cx="3378240" cy="475200"/>
                <a:chOff x="4464000" y="3933000"/>
                <a:chExt cx="3378240" cy="475200"/>
              </a:xfrm>
            </p:grpSpPr>
            <p:sp>
              <p:nvSpPr>
                <p:cNvPr id="3224" name=""/>
                <p:cNvSpPr/>
                <p:nvPr/>
              </p:nvSpPr>
              <p:spPr>
                <a:xfrm>
                  <a:off x="4483440" y="3933000"/>
                  <a:ext cx="33393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当数据线已被接好后由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出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4464000" y="3933000"/>
                  <a:ext cx="337824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6" name=""/>
              <p:cNvGrpSpPr/>
              <p:nvPr/>
            </p:nvGrpSpPr>
            <p:grpSpPr>
              <a:xfrm>
                <a:off x="1910160" y="4408560"/>
                <a:ext cx="638280" cy="475560"/>
                <a:chOff x="1910160" y="4408560"/>
                <a:chExt cx="638280" cy="475560"/>
              </a:xfrm>
            </p:grpSpPr>
            <p:sp>
              <p:nvSpPr>
                <p:cNvPr id="3227" name=""/>
                <p:cNvSpPr/>
                <p:nvPr/>
              </p:nvSpPr>
              <p:spPr>
                <a:xfrm>
                  <a:off x="1929960" y="4408560"/>
                  <a:ext cx="59904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7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1910160" y="4408560"/>
                  <a:ext cx="63828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9" name=""/>
              <p:cNvGrpSpPr/>
              <p:nvPr/>
            </p:nvGrpSpPr>
            <p:grpSpPr>
              <a:xfrm>
                <a:off x="2548800" y="4408560"/>
                <a:ext cx="779760" cy="475560"/>
                <a:chOff x="2548800" y="4408560"/>
                <a:chExt cx="779760" cy="475560"/>
              </a:xfrm>
            </p:grpSpPr>
            <p:sp>
              <p:nvSpPr>
                <p:cNvPr id="3230" name=""/>
                <p:cNvSpPr/>
                <p:nvPr/>
              </p:nvSpPr>
              <p:spPr>
                <a:xfrm>
                  <a:off x="2568600" y="4408560"/>
                  <a:ext cx="7401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GN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2548800" y="4408560"/>
                  <a:ext cx="77976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2" name=""/>
              <p:cNvGrpSpPr/>
              <p:nvPr/>
            </p:nvGrpSpPr>
            <p:grpSpPr>
              <a:xfrm>
                <a:off x="3329280" y="4408560"/>
                <a:ext cx="1134360" cy="475560"/>
                <a:chOff x="3329280" y="4408560"/>
                <a:chExt cx="1134360" cy="475560"/>
              </a:xfrm>
            </p:grpSpPr>
            <p:sp>
              <p:nvSpPr>
                <p:cNvPr id="3233" name=""/>
                <p:cNvSpPr/>
                <p:nvPr/>
              </p:nvSpPr>
              <p:spPr>
                <a:xfrm>
                  <a:off x="3348720" y="4408560"/>
                  <a:ext cx="109512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信号地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3329280" y="4408560"/>
                  <a:ext cx="113436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5" name=""/>
              <p:cNvGrpSpPr/>
              <p:nvPr/>
            </p:nvGrpSpPr>
            <p:grpSpPr>
              <a:xfrm>
                <a:off x="4464000" y="4408560"/>
                <a:ext cx="3378240" cy="475560"/>
                <a:chOff x="4464000" y="4408560"/>
                <a:chExt cx="3378240" cy="475560"/>
              </a:xfrm>
            </p:grpSpPr>
            <p:sp>
              <p:nvSpPr>
                <p:cNvPr id="3236" name=""/>
                <p:cNvSpPr/>
                <p:nvPr/>
              </p:nvSpPr>
              <p:spPr>
                <a:xfrm>
                  <a:off x="4483440" y="4408560"/>
                  <a:ext cx="33393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作为信号地的公共回路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4464000" y="4408560"/>
                  <a:ext cx="3378240" cy="47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8" name=""/>
              <p:cNvGrpSpPr/>
              <p:nvPr/>
            </p:nvGrpSpPr>
            <p:grpSpPr>
              <a:xfrm>
                <a:off x="1910160" y="4884480"/>
                <a:ext cx="638280" cy="475200"/>
                <a:chOff x="1910160" y="4884480"/>
                <a:chExt cx="638280" cy="475200"/>
              </a:xfrm>
            </p:grpSpPr>
            <p:sp>
              <p:nvSpPr>
                <p:cNvPr id="3239" name=""/>
                <p:cNvSpPr/>
                <p:nvPr/>
              </p:nvSpPr>
              <p:spPr>
                <a:xfrm>
                  <a:off x="1929960" y="4884480"/>
                  <a:ext cx="59904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1910160" y="4884480"/>
                  <a:ext cx="63828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1" name=""/>
              <p:cNvGrpSpPr/>
              <p:nvPr/>
            </p:nvGrpSpPr>
            <p:grpSpPr>
              <a:xfrm>
                <a:off x="2548800" y="4884480"/>
                <a:ext cx="779760" cy="475200"/>
                <a:chOff x="2548800" y="4884480"/>
                <a:chExt cx="779760" cy="475200"/>
              </a:xfrm>
            </p:grpSpPr>
            <p:sp>
              <p:nvSpPr>
                <p:cNvPr id="3242" name=""/>
                <p:cNvSpPr/>
                <p:nvPr/>
              </p:nvSpPr>
              <p:spPr>
                <a:xfrm>
                  <a:off x="2568600" y="4884480"/>
                  <a:ext cx="7401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2548800" y="4884480"/>
                  <a:ext cx="7797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4" name=""/>
              <p:cNvGrpSpPr/>
              <p:nvPr/>
            </p:nvGrpSpPr>
            <p:grpSpPr>
              <a:xfrm>
                <a:off x="3329280" y="4884480"/>
                <a:ext cx="1134360" cy="475200"/>
                <a:chOff x="3329280" y="4884480"/>
                <a:chExt cx="1134360" cy="475200"/>
              </a:xfrm>
            </p:grpSpPr>
            <p:sp>
              <p:nvSpPr>
                <p:cNvPr id="3245" name=""/>
                <p:cNvSpPr/>
                <p:nvPr/>
              </p:nvSpPr>
              <p:spPr>
                <a:xfrm>
                  <a:off x="3348720" y="4884480"/>
                  <a:ext cx="109512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数据载波检测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3329280" y="4884480"/>
                  <a:ext cx="113436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7" name=""/>
              <p:cNvGrpSpPr/>
              <p:nvPr/>
            </p:nvGrpSpPr>
            <p:grpSpPr>
              <a:xfrm>
                <a:off x="4464000" y="4884480"/>
                <a:ext cx="3378240" cy="475200"/>
                <a:chOff x="4464000" y="4884480"/>
                <a:chExt cx="3378240" cy="475200"/>
              </a:xfrm>
            </p:grpSpPr>
            <p:sp>
              <p:nvSpPr>
                <p:cNvPr id="3248" name=""/>
                <p:cNvSpPr/>
                <p:nvPr/>
              </p:nvSpPr>
              <p:spPr>
                <a:xfrm>
                  <a:off x="4483440" y="4884480"/>
                  <a:ext cx="33393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当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已经从数据线上接收到信号时发出此信号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4464000" y="4884480"/>
                  <a:ext cx="3378240" cy="47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0" name=""/>
              <p:cNvGrpSpPr/>
              <p:nvPr/>
            </p:nvGrpSpPr>
            <p:grpSpPr>
              <a:xfrm>
                <a:off x="1910160" y="5360040"/>
                <a:ext cx="638280" cy="594360"/>
                <a:chOff x="1910160" y="5360040"/>
                <a:chExt cx="638280" cy="594360"/>
              </a:xfrm>
            </p:grpSpPr>
            <p:sp>
              <p:nvSpPr>
                <p:cNvPr id="3251" name=""/>
                <p:cNvSpPr/>
                <p:nvPr/>
              </p:nvSpPr>
              <p:spPr>
                <a:xfrm>
                  <a:off x="1929960" y="5360040"/>
                  <a:ext cx="59904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1910160" y="5360040"/>
                  <a:ext cx="63828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3" name=""/>
              <p:cNvGrpSpPr/>
              <p:nvPr/>
            </p:nvGrpSpPr>
            <p:grpSpPr>
              <a:xfrm>
                <a:off x="2548800" y="5360040"/>
                <a:ext cx="779760" cy="594360"/>
                <a:chOff x="2548800" y="5360040"/>
                <a:chExt cx="779760" cy="594360"/>
              </a:xfrm>
            </p:grpSpPr>
            <p:sp>
              <p:nvSpPr>
                <p:cNvPr id="3254" name=""/>
                <p:cNvSpPr/>
                <p:nvPr/>
              </p:nvSpPr>
              <p:spPr>
                <a:xfrm>
                  <a:off x="2568600" y="5360040"/>
                  <a:ext cx="7401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R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2548800" y="5360040"/>
                  <a:ext cx="7797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6" name=""/>
              <p:cNvGrpSpPr/>
              <p:nvPr/>
            </p:nvGrpSpPr>
            <p:grpSpPr>
              <a:xfrm>
                <a:off x="3329280" y="5360040"/>
                <a:ext cx="1134360" cy="594360"/>
                <a:chOff x="3329280" y="5360040"/>
                <a:chExt cx="1134360" cy="594360"/>
              </a:xfrm>
            </p:grpSpPr>
            <p:sp>
              <p:nvSpPr>
                <p:cNvPr id="3257" name=""/>
                <p:cNvSpPr/>
                <p:nvPr/>
              </p:nvSpPr>
              <p:spPr>
                <a:xfrm>
                  <a:off x="3348720" y="5360040"/>
                  <a:ext cx="109512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数字终端就绪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3329280" y="5360040"/>
                  <a:ext cx="113436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9" name=""/>
              <p:cNvGrpSpPr/>
              <p:nvPr/>
            </p:nvGrpSpPr>
            <p:grpSpPr>
              <a:xfrm>
                <a:off x="4464000" y="5360040"/>
                <a:ext cx="3378240" cy="594360"/>
                <a:chOff x="4464000" y="5360040"/>
                <a:chExt cx="3378240" cy="594360"/>
              </a:xfrm>
            </p:grpSpPr>
            <p:sp>
              <p:nvSpPr>
                <p:cNvPr id="3260" name=""/>
                <p:cNvSpPr/>
                <p:nvPr/>
              </p:nvSpPr>
              <p:spPr>
                <a:xfrm>
                  <a:off x="4483440" y="5360040"/>
                  <a:ext cx="3339360" cy="5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当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已准备好和调制解调器交换数据时，由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T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出，使用公共通信网时才需要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4464000" y="5360040"/>
                  <a:ext cx="3378240" cy="59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2" name=""/>
              <p:cNvGrpSpPr/>
              <p:nvPr/>
            </p:nvGrpSpPr>
            <p:grpSpPr>
              <a:xfrm>
                <a:off x="1910160" y="5954760"/>
                <a:ext cx="638280" cy="594000"/>
                <a:chOff x="1910160" y="5954760"/>
                <a:chExt cx="638280" cy="594000"/>
              </a:xfrm>
            </p:grpSpPr>
            <p:sp>
              <p:nvSpPr>
                <p:cNvPr id="3263" name=""/>
                <p:cNvSpPr/>
                <p:nvPr/>
              </p:nvSpPr>
              <p:spPr>
                <a:xfrm>
                  <a:off x="1929960" y="5954760"/>
                  <a:ext cx="59904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1910160" y="5954760"/>
                  <a:ext cx="63828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5" name=""/>
              <p:cNvGrpSpPr/>
              <p:nvPr/>
            </p:nvGrpSpPr>
            <p:grpSpPr>
              <a:xfrm>
                <a:off x="2548800" y="5954760"/>
                <a:ext cx="779760" cy="594000"/>
                <a:chOff x="2548800" y="5954760"/>
                <a:chExt cx="779760" cy="594000"/>
              </a:xfrm>
            </p:grpSpPr>
            <p:sp>
              <p:nvSpPr>
                <p:cNvPr id="3266" name=""/>
                <p:cNvSpPr/>
                <p:nvPr/>
              </p:nvSpPr>
              <p:spPr>
                <a:xfrm>
                  <a:off x="2568600" y="5954760"/>
                  <a:ext cx="7401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I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2548800" y="5954760"/>
                  <a:ext cx="7797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8" name=""/>
              <p:cNvGrpSpPr/>
              <p:nvPr/>
            </p:nvGrpSpPr>
            <p:grpSpPr>
              <a:xfrm>
                <a:off x="3329280" y="5954760"/>
                <a:ext cx="1134360" cy="594000"/>
                <a:chOff x="3329280" y="5954760"/>
                <a:chExt cx="1134360" cy="594000"/>
              </a:xfrm>
            </p:grpSpPr>
            <p:sp>
              <p:nvSpPr>
                <p:cNvPr id="3269" name=""/>
                <p:cNvSpPr/>
                <p:nvPr/>
              </p:nvSpPr>
              <p:spPr>
                <a:xfrm>
                  <a:off x="3348720" y="5954760"/>
                  <a:ext cx="10951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振铃指示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3329280" y="5954760"/>
                  <a:ext cx="11343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1" name=""/>
              <p:cNvGrpSpPr/>
              <p:nvPr/>
            </p:nvGrpSpPr>
            <p:grpSpPr>
              <a:xfrm>
                <a:off x="4464000" y="5954760"/>
                <a:ext cx="3378240" cy="594000"/>
                <a:chOff x="4464000" y="5954760"/>
                <a:chExt cx="3378240" cy="594000"/>
              </a:xfrm>
            </p:grpSpPr>
            <p:sp>
              <p:nvSpPr>
                <p:cNvPr id="3272" name=""/>
                <p:cNvSpPr/>
                <p:nvPr/>
              </p:nvSpPr>
              <p:spPr>
                <a:xfrm>
                  <a:off x="4483440" y="5954760"/>
                  <a:ext cx="33393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当正在进行通信时，由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CE</a:t>
                  </a: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发出，使用公共通信网时才需要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4464000" y="5954760"/>
                  <a:ext cx="337824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74" name=""/>
            <p:cNvSpPr/>
            <p:nvPr/>
          </p:nvSpPr>
          <p:spPr>
            <a:xfrm>
              <a:off x="1905120" y="838080"/>
              <a:ext cx="5943240" cy="5715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75" name=""/>
          <p:cNvSpPr/>
          <p:nvPr/>
        </p:nvSpPr>
        <p:spPr>
          <a:xfrm>
            <a:off x="2590920" y="3049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表格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7-3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微机中常用的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S-232C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接口信号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"/>
          <p:cNvSpPr/>
          <p:nvPr/>
        </p:nvSpPr>
        <p:spPr>
          <a:xfrm>
            <a:off x="226692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77" name="简单RS232通讯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19920" cy="2209680"/>
          </a:xfrm>
          <a:prstGeom prst="rect">
            <a:avLst/>
          </a:prstGeom>
          <a:ln w="0">
            <a:noFill/>
          </a:ln>
        </p:spPr>
      </p:pic>
      <p:sp>
        <p:nvSpPr>
          <p:cNvPr id="3278" name=""/>
          <p:cNvSpPr/>
          <p:nvPr/>
        </p:nvSpPr>
        <p:spPr>
          <a:xfrm>
            <a:off x="22860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7-16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简单的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RS-232C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数据通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/>
          <p:nvPr/>
        </p:nvSpPr>
        <p:spPr>
          <a:xfrm>
            <a:off x="533520" y="22860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RS-449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、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RS-422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、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RS-423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和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RS-485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0" y="-13590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7-4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几种串行接口标准的比较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81" name=""/>
          <p:cNvGrpSpPr/>
          <p:nvPr/>
        </p:nvGrpSpPr>
        <p:grpSpPr>
          <a:xfrm>
            <a:off x="1371600" y="609480"/>
            <a:ext cx="6248160" cy="6248520"/>
            <a:chOff x="1371600" y="609480"/>
            <a:chExt cx="6248160" cy="6248520"/>
          </a:xfrm>
        </p:grpSpPr>
        <p:grpSp>
          <p:nvGrpSpPr>
            <p:cNvPr id="3282" name=""/>
            <p:cNvGrpSpPr/>
            <p:nvPr/>
          </p:nvGrpSpPr>
          <p:grpSpPr>
            <a:xfrm>
              <a:off x="1377360" y="612720"/>
              <a:ext cx="6235560" cy="6241320"/>
              <a:chOff x="1377360" y="612720"/>
              <a:chExt cx="6235560" cy="6241320"/>
            </a:xfrm>
          </p:grpSpPr>
          <p:grpSp>
            <p:nvGrpSpPr>
              <p:cNvPr id="3283" name=""/>
              <p:cNvGrpSpPr/>
              <p:nvPr/>
            </p:nvGrpSpPr>
            <p:grpSpPr>
              <a:xfrm>
                <a:off x="1377360" y="612720"/>
                <a:ext cx="1492920" cy="443520"/>
                <a:chOff x="1377360" y="612720"/>
                <a:chExt cx="1492920" cy="443520"/>
              </a:xfrm>
            </p:grpSpPr>
            <p:sp>
              <p:nvSpPr>
                <p:cNvPr id="3284" name=""/>
                <p:cNvSpPr/>
                <p:nvPr/>
              </p:nvSpPr>
              <p:spPr>
                <a:xfrm>
                  <a:off x="1399320" y="61272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特性参数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1377360" y="61272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6" name=""/>
              <p:cNvGrpSpPr/>
              <p:nvPr/>
            </p:nvGrpSpPr>
            <p:grpSpPr>
              <a:xfrm>
                <a:off x="2870640" y="612720"/>
                <a:ext cx="1185120" cy="443520"/>
                <a:chOff x="2870640" y="612720"/>
                <a:chExt cx="1185120" cy="44352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2891880" y="612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S-232C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2870640" y="612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9" name=""/>
              <p:cNvGrpSpPr/>
              <p:nvPr/>
            </p:nvGrpSpPr>
            <p:grpSpPr>
              <a:xfrm>
                <a:off x="4056480" y="612720"/>
                <a:ext cx="1185120" cy="443520"/>
                <a:chOff x="4056480" y="612720"/>
                <a:chExt cx="1185120" cy="443520"/>
              </a:xfrm>
            </p:grpSpPr>
            <p:sp>
              <p:nvSpPr>
                <p:cNvPr id="3290" name=""/>
                <p:cNvSpPr/>
                <p:nvPr/>
              </p:nvSpPr>
              <p:spPr>
                <a:xfrm>
                  <a:off x="4077720" y="612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S-423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4056480" y="612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2" name=""/>
              <p:cNvGrpSpPr/>
              <p:nvPr/>
            </p:nvGrpSpPr>
            <p:grpSpPr>
              <a:xfrm>
                <a:off x="5242320" y="612720"/>
                <a:ext cx="1185120" cy="443520"/>
                <a:chOff x="5242320" y="612720"/>
                <a:chExt cx="1185120" cy="443520"/>
              </a:xfrm>
            </p:grpSpPr>
            <p:sp>
              <p:nvSpPr>
                <p:cNvPr id="3293" name=""/>
                <p:cNvSpPr/>
                <p:nvPr/>
              </p:nvSpPr>
              <p:spPr>
                <a:xfrm>
                  <a:off x="5263560" y="612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S-42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5242320" y="612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5" name=""/>
              <p:cNvGrpSpPr/>
              <p:nvPr/>
            </p:nvGrpSpPr>
            <p:grpSpPr>
              <a:xfrm>
                <a:off x="6427800" y="612720"/>
                <a:ext cx="1185120" cy="443520"/>
                <a:chOff x="6427800" y="612720"/>
                <a:chExt cx="1185120" cy="443520"/>
              </a:xfrm>
            </p:grpSpPr>
            <p:sp>
              <p:nvSpPr>
                <p:cNvPr id="3296" name=""/>
                <p:cNvSpPr/>
                <p:nvPr/>
              </p:nvSpPr>
              <p:spPr>
                <a:xfrm>
                  <a:off x="6449040" y="612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S-485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6427800" y="612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8" name=""/>
              <p:cNvGrpSpPr/>
              <p:nvPr/>
            </p:nvGrpSpPr>
            <p:grpSpPr>
              <a:xfrm>
                <a:off x="1377360" y="1056240"/>
                <a:ext cx="1492920" cy="443520"/>
                <a:chOff x="1377360" y="1056240"/>
                <a:chExt cx="1492920" cy="44352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1399320" y="105624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工作模式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1377360" y="105624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1" name=""/>
              <p:cNvGrpSpPr/>
              <p:nvPr/>
            </p:nvGrpSpPr>
            <p:grpSpPr>
              <a:xfrm>
                <a:off x="2870640" y="1056240"/>
                <a:ext cx="1185120" cy="443520"/>
                <a:chOff x="2870640" y="1056240"/>
                <a:chExt cx="1185120" cy="443520"/>
              </a:xfrm>
            </p:grpSpPr>
            <p:sp>
              <p:nvSpPr>
                <p:cNvPr id="3302" name=""/>
                <p:cNvSpPr/>
                <p:nvPr/>
              </p:nvSpPr>
              <p:spPr>
                <a:xfrm>
                  <a:off x="2891880" y="105624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单端发 单端收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2870640" y="105624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4" name=""/>
              <p:cNvGrpSpPr/>
              <p:nvPr/>
            </p:nvGrpSpPr>
            <p:grpSpPr>
              <a:xfrm>
                <a:off x="4056480" y="1056240"/>
                <a:ext cx="1185120" cy="443520"/>
                <a:chOff x="4056480" y="1056240"/>
                <a:chExt cx="1185120" cy="443520"/>
              </a:xfrm>
            </p:grpSpPr>
            <p:sp>
              <p:nvSpPr>
                <p:cNvPr id="3305" name=""/>
                <p:cNvSpPr/>
                <p:nvPr/>
              </p:nvSpPr>
              <p:spPr>
                <a:xfrm>
                  <a:off x="4077720" y="105624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单端发 双端收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4056480" y="105624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7" name=""/>
              <p:cNvGrpSpPr/>
              <p:nvPr/>
            </p:nvGrpSpPr>
            <p:grpSpPr>
              <a:xfrm>
                <a:off x="5242320" y="1056240"/>
                <a:ext cx="1185120" cy="443520"/>
                <a:chOff x="5242320" y="1056240"/>
                <a:chExt cx="1185120" cy="443520"/>
              </a:xfrm>
            </p:grpSpPr>
            <p:sp>
              <p:nvSpPr>
                <p:cNvPr id="3308" name=""/>
                <p:cNvSpPr/>
                <p:nvPr/>
              </p:nvSpPr>
              <p:spPr>
                <a:xfrm>
                  <a:off x="5263560" y="105624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双端发 双端收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5242320" y="105624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0" name=""/>
              <p:cNvGrpSpPr/>
              <p:nvPr/>
            </p:nvGrpSpPr>
            <p:grpSpPr>
              <a:xfrm>
                <a:off x="6427800" y="1056240"/>
                <a:ext cx="1185120" cy="443520"/>
                <a:chOff x="6427800" y="1056240"/>
                <a:chExt cx="1185120" cy="443520"/>
              </a:xfrm>
            </p:grpSpPr>
            <p:sp>
              <p:nvSpPr>
                <p:cNvPr id="3311" name=""/>
                <p:cNvSpPr/>
                <p:nvPr/>
              </p:nvSpPr>
              <p:spPr>
                <a:xfrm>
                  <a:off x="6449040" y="105624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双端发 双端收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6427800" y="105624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3" name=""/>
              <p:cNvGrpSpPr/>
              <p:nvPr/>
            </p:nvGrpSpPr>
            <p:grpSpPr>
              <a:xfrm>
                <a:off x="1377360" y="1499760"/>
                <a:ext cx="1492920" cy="647640"/>
                <a:chOff x="1377360" y="1499760"/>
                <a:chExt cx="1492920" cy="647640"/>
              </a:xfrm>
            </p:grpSpPr>
            <p:sp>
              <p:nvSpPr>
                <p:cNvPr id="3314" name=""/>
                <p:cNvSpPr/>
                <p:nvPr/>
              </p:nvSpPr>
              <p:spPr>
                <a:xfrm>
                  <a:off x="1399320" y="1499760"/>
                  <a:ext cx="144900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在传输线上允许的驱动器和接收器数目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1377360" y="1499760"/>
                  <a:ext cx="149292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6" name=""/>
              <p:cNvGrpSpPr/>
              <p:nvPr/>
            </p:nvGrpSpPr>
            <p:grpSpPr>
              <a:xfrm>
                <a:off x="2870640" y="1499760"/>
                <a:ext cx="1185120" cy="647640"/>
                <a:chOff x="2870640" y="1499760"/>
                <a:chExt cx="1185120" cy="647640"/>
              </a:xfrm>
            </p:grpSpPr>
            <p:sp>
              <p:nvSpPr>
                <p:cNvPr id="3317" name=""/>
                <p:cNvSpPr/>
                <p:nvPr/>
              </p:nvSpPr>
              <p:spPr>
                <a:xfrm>
                  <a:off x="2891880" y="1499760"/>
                  <a:ext cx="11415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驱动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接收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2870640" y="1499760"/>
                  <a:ext cx="118512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9" name=""/>
              <p:cNvGrpSpPr/>
              <p:nvPr/>
            </p:nvGrpSpPr>
            <p:grpSpPr>
              <a:xfrm>
                <a:off x="4056480" y="1499760"/>
                <a:ext cx="1185120" cy="647640"/>
                <a:chOff x="4056480" y="1499760"/>
                <a:chExt cx="1185120" cy="647640"/>
              </a:xfrm>
            </p:grpSpPr>
            <p:sp>
              <p:nvSpPr>
                <p:cNvPr id="3320" name=""/>
                <p:cNvSpPr/>
                <p:nvPr/>
              </p:nvSpPr>
              <p:spPr>
                <a:xfrm>
                  <a:off x="4077720" y="1499760"/>
                  <a:ext cx="11415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驱动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接收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4056480" y="1499760"/>
                  <a:ext cx="118512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2" name=""/>
              <p:cNvGrpSpPr/>
              <p:nvPr/>
            </p:nvGrpSpPr>
            <p:grpSpPr>
              <a:xfrm>
                <a:off x="5242320" y="1499760"/>
                <a:ext cx="1185120" cy="647640"/>
                <a:chOff x="5242320" y="1499760"/>
                <a:chExt cx="1185120" cy="647640"/>
              </a:xfrm>
            </p:grpSpPr>
            <p:sp>
              <p:nvSpPr>
                <p:cNvPr id="3323" name=""/>
                <p:cNvSpPr/>
                <p:nvPr/>
              </p:nvSpPr>
              <p:spPr>
                <a:xfrm>
                  <a:off x="5263560" y="1499760"/>
                  <a:ext cx="11415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驱动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接收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5242320" y="1499760"/>
                  <a:ext cx="118512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5" name=""/>
              <p:cNvGrpSpPr/>
              <p:nvPr/>
            </p:nvGrpSpPr>
            <p:grpSpPr>
              <a:xfrm>
                <a:off x="6427800" y="1499760"/>
                <a:ext cx="1185120" cy="647640"/>
                <a:chOff x="6427800" y="1499760"/>
                <a:chExt cx="1185120" cy="647640"/>
              </a:xfrm>
            </p:grpSpPr>
            <p:sp>
              <p:nvSpPr>
                <p:cNvPr id="3326" name=""/>
                <p:cNvSpPr/>
                <p:nvPr/>
              </p:nvSpPr>
              <p:spPr>
                <a:xfrm>
                  <a:off x="6449040" y="1499760"/>
                  <a:ext cx="11415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2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驱动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2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个接收器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6427800" y="1499760"/>
                  <a:ext cx="1185120" cy="64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8" name=""/>
              <p:cNvGrpSpPr/>
              <p:nvPr/>
            </p:nvGrpSpPr>
            <p:grpSpPr>
              <a:xfrm>
                <a:off x="1377360" y="2147760"/>
                <a:ext cx="1492920" cy="545400"/>
                <a:chOff x="1377360" y="2147760"/>
                <a:chExt cx="1492920" cy="545400"/>
              </a:xfrm>
            </p:grpSpPr>
            <p:sp>
              <p:nvSpPr>
                <p:cNvPr id="3329" name=""/>
                <p:cNvSpPr/>
                <p:nvPr/>
              </p:nvSpPr>
              <p:spPr>
                <a:xfrm>
                  <a:off x="1399320" y="2147760"/>
                  <a:ext cx="144900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最大电缆长度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1377360" y="2147760"/>
                  <a:ext cx="149292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1" name=""/>
              <p:cNvGrpSpPr/>
              <p:nvPr/>
            </p:nvGrpSpPr>
            <p:grpSpPr>
              <a:xfrm>
                <a:off x="2870640" y="2147760"/>
                <a:ext cx="1185120" cy="545400"/>
                <a:chOff x="2870640" y="2147760"/>
                <a:chExt cx="1185120" cy="545400"/>
              </a:xfrm>
            </p:grpSpPr>
            <p:sp>
              <p:nvSpPr>
                <p:cNvPr id="3332" name=""/>
                <p:cNvSpPr/>
                <p:nvPr/>
              </p:nvSpPr>
              <p:spPr>
                <a:xfrm>
                  <a:off x="2891880" y="2147760"/>
                  <a:ext cx="11415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2870640" y="2147760"/>
                  <a:ext cx="118512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4" name=""/>
              <p:cNvGrpSpPr/>
              <p:nvPr/>
            </p:nvGrpSpPr>
            <p:grpSpPr>
              <a:xfrm>
                <a:off x="4056480" y="2147760"/>
                <a:ext cx="1185120" cy="545400"/>
                <a:chOff x="4056480" y="2147760"/>
                <a:chExt cx="1185120" cy="545400"/>
              </a:xfrm>
            </p:grpSpPr>
            <p:sp>
              <p:nvSpPr>
                <p:cNvPr id="3335" name=""/>
                <p:cNvSpPr/>
                <p:nvPr/>
              </p:nvSpPr>
              <p:spPr>
                <a:xfrm>
                  <a:off x="4077720" y="2147760"/>
                  <a:ext cx="11415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 (1kb/s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4056480" y="2147760"/>
                  <a:ext cx="118512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7" name=""/>
              <p:cNvGrpSpPr/>
              <p:nvPr/>
            </p:nvGrpSpPr>
            <p:grpSpPr>
              <a:xfrm>
                <a:off x="5242320" y="2147760"/>
                <a:ext cx="1185120" cy="545400"/>
                <a:chOff x="5242320" y="2147760"/>
                <a:chExt cx="1185120" cy="545400"/>
              </a:xfrm>
            </p:grpSpPr>
            <p:sp>
              <p:nvSpPr>
                <p:cNvPr id="3338" name=""/>
                <p:cNvSpPr/>
                <p:nvPr/>
              </p:nvSpPr>
              <p:spPr>
                <a:xfrm>
                  <a:off x="5263560" y="2147760"/>
                  <a:ext cx="11415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 (90kb/s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5242320" y="2147760"/>
                  <a:ext cx="118512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0" name=""/>
              <p:cNvGrpSpPr/>
              <p:nvPr/>
            </p:nvGrpSpPr>
            <p:grpSpPr>
              <a:xfrm>
                <a:off x="6427800" y="2147760"/>
                <a:ext cx="1185120" cy="545400"/>
                <a:chOff x="6427800" y="2147760"/>
                <a:chExt cx="1185120" cy="545400"/>
              </a:xfrm>
            </p:grpSpPr>
            <p:sp>
              <p:nvSpPr>
                <p:cNvPr id="3341" name=""/>
                <p:cNvSpPr/>
                <p:nvPr/>
              </p:nvSpPr>
              <p:spPr>
                <a:xfrm>
                  <a:off x="6449040" y="2147760"/>
                  <a:ext cx="1141560" cy="5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 (100kb/s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6427800" y="2147760"/>
                  <a:ext cx="1185120" cy="54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3" name=""/>
              <p:cNvGrpSpPr/>
              <p:nvPr/>
            </p:nvGrpSpPr>
            <p:grpSpPr>
              <a:xfrm>
                <a:off x="1377360" y="2693160"/>
                <a:ext cx="1492920" cy="443520"/>
                <a:chOff x="1377360" y="2693160"/>
                <a:chExt cx="1492920" cy="443520"/>
              </a:xfrm>
            </p:grpSpPr>
            <p:sp>
              <p:nvSpPr>
                <p:cNvPr id="3344" name=""/>
                <p:cNvSpPr/>
                <p:nvPr/>
              </p:nvSpPr>
              <p:spPr>
                <a:xfrm>
                  <a:off x="1399320" y="269316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最大速率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1377360" y="269316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6" name=""/>
              <p:cNvGrpSpPr/>
              <p:nvPr/>
            </p:nvGrpSpPr>
            <p:grpSpPr>
              <a:xfrm>
                <a:off x="2870640" y="2693160"/>
                <a:ext cx="1185120" cy="443520"/>
                <a:chOff x="2870640" y="2693160"/>
                <a:chExt cx="1185120" cy="443520"/>
              </a:xfrm>
            </p:grpSpPr>
            <p:sp>
              <p:nvSpPr>
                <p:cNvPr id="3347" name=""/>
                <p:cNvSpPr/>
                <p:nvPr/>
              </p:nvSpPr>
              <p:spPr>
                <a:xfrm>
                  <a:off x="2891880" y="269316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b/s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2870640" y="269316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9" name=""/>
              <p:cNvGrpSpPr/>
              <p:nvPr/>
            </p:nvGrpSpPr>
            <p:grpSpPr>
              <a:xfrm>
                <a:off x="4056480" y="2693160"/>
                <a:ext cx="1185120" cy="443520"/>
                <a:chOff x="4056480" y="2693160"/>
                <a:chExt cx="1185120" cy="443520"/>
              </a:xfrm>
            </p:grpSpPr>
            <p:sp>
              <p:nvSpPr>
                <p:cNvPr id="3350" name=""/>
                <p:cNvSpPr/>
                <p:nvPr/>
              </p:nvSpPr>
              <p:spPr>
                <a:xfrm>
                  <a:off x="4077720" y="269316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b/s (12m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4056480" y="269316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2" name=""/>
              <p:cNvGrpSpPr/>
              <p:nvPr/>
            </p:nvGrpSpPr>
            <p:grpSpPr>
              <a:xfrm>
                <a:off x="5242320" y="2693160"/>
                <a:ext cx="1185120" cy="443520"/>
                <a:chOff x="5242320" y="2693160"/>
                <a:chExt cx="1185120" cy="443520"/>
              </a:xfrm>
            </p:grpSpPr>
            <p:sp>
              <p:nvSpPr>
                <p:cNvPr id="3353" name=""/>
                <p:cNvSpPr/>
                <p:nvPr/>
              </p:nvSpPr>
              <p:spPr>
                <a:xfrm>
                  <a:off x="5263560" y="269316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b/s (12m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5242320" y="269316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5" name=""/>
              <p:cNvGrpSpPr/>
              <p:nvPr/>
            </p:nvGrpSpPr>
            <p:grpSpPr>
              <a:xfrm>
                <a:off x="6427800" y="2693160"/>
                <a:ext cx="1185120" cy="443520"/>
                <a:chOff x="6427800" y="2693160"/>
                <a:chExt cx="1185120" cy="443520"/>
              </a:xfrm>
            </p:grpSpPr>
            <p:sp>
              <p:nvSpPr>
                <p:cNvPr id="3356" name=""/>
                <p:cNvSpPr/>
                <p:nvPr/>
              </p:nvSpPr>
              <p:spPr>
                <a:xfrm>
                  <a:off x="6449040" y="269316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b/s (15m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6427800" y="269316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8" name=""/>
              <p:cNvGrpSpPr/>
              <p:nvPr/>
            </p:nvGrpSpPr>
            <p:grpSpPr>
              <a:xfrm>
                <a:off x="1377360" y="3136680"/>
                <a:ext cx="1492920" cy="545760"/>
                <a:chOff x="1377360" y="3136680"/>
                <a:chExt cx="1492920" cy="545760"/>
              </a:xfrm>
            </p:grpSpPr>
            <p:sp>
              <p:nvSpPr>
                <p:cNvPr id="3359" name=""/>
                <p:cNvSpPr/>
                <p:nvPr/>
              </p:nvSpPr>
              <p:spPr>
                <a:xfrm>
                  <a:off x="1399320" y="3136680"/>
                  <a:ext cx="144900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驱动器输出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最大电压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1377360" y="3136680"/>
                  <a:ext cx="14929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1" name=""/>
              <p:cNvGrpSpPr/>
              <p:nvPr/>
            </p:nvGrpSpPr>
            <p:grpSpPr>
              <a:xfrm>
                <a:off x="2870640" y="3136680"/>
                <a:ext cx="1185120" cy="545760"/>
                <a:chOff x="2870640" y="3136680"/>
                <a:chExt cx="1185120" cy="545760"/>
              </a:xfrm>
            </p:grpSpPr>
            <p:sp>
              <p:nvSpPr>
                <p:cNvPr id="3362" name=""/>
                <p:cNvSpPr/>
                <p:nvPr/>
              </p:nvSpPr>
              <p:spPr>
                <a:xfrm>
                  <a:off x="2891880" y="313668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2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2870640" y="313668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4" name=""/>
              <p:cNvGrpSpPr/>
              <p:nvPr/>
            </p:nvGrpSpPr>
            <p:grpSpPr>
              <a:xfrm>
                <a:off x="4056480" y="3136680"/>
                <a:ext cx="1185120" cy="545760"/>
                <a:chOff x="4056480" y="3136680"/>
                <a:chExt cx="1185120" cy="545760"/>
              </a:xfrm>
            </p:grpSpPr>
            <p:sp>
              <p:nvSpPr>
                <p:cNvPr id="3365" name=""/>
                <p:cNvSpPr/>
                <p:nvPr/>
              </p:nvSpPr>
              <p:spPr>
                <a:xfrm>
                  <a:off x="4077720" y="313668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4056480" y="313668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7" name=""/>
              <p:cNvGrpSpPr/>
              <p:nvPr/>
            </p:nvGrpSpPr>
            <p:grpSpPr>
              <a:xfrm>
                <a:off x="5242320" y="3136680"/>
                <a:ext cx="1185120" cy="545760"/>
                <a:chOff x="5242320" y="3136680"/>
                <a:chExt cx="1185120" cy="545760"/>
              </a:xfrm>
            </p:grpSpPr>
            <p:sp>
              <p:nvSpPr>
                <p:cNvPr id="3368" name=""/>
                <p:cNvSpPr/>
                <p:nvPr/>
              </p:nvSpPr>
              <p:spPr>
                <a:xfrm>
                  <a:off x="5263560" y="313668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5242320" y="313668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0" name=""/>
              <p:cNvGrpSpPr/>
              <p:nvPr/>
            </p:nvGrpSpPr>
            <p:grpSpPr>
              <a:xfrm>
                <a:off x="6427800" y="3136680"/>
                <a:ext cx="1185120" cy="545760"/>
                <a:chOff x="6427800" y="3136680"/>
                <a:chExt cx="1185120" cy="545760"/>
              </a:xfrm>
            </p:grpSpPr>
            <p:sp>
              <p:nvSpPr>
                <p:cNvPr id="3371" name=""/>
                <p:cNvSpPr/>
                <p:nvPr/>
              </p:nvSpPr>
              <p:spPr>
                <a:xfrm>
                  <a:off x="6449040" y="313668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-7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+12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6427800" y="313668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3" name=""/>
              <p:cNvGrpSpPr/>
              <p:nvPr/>
            </p:nvGrpSpPr>
            <p:grpSpPr>
              <a:xfrm>
                <a:off x="1377360" y="3682440"/>
                <a:ext cx="1492920" cy="647280"/>
                <a:chOff x="1377360" y="3682440"/>
                <a:chExt cx="1492920" cy="647280"/>
              </a:xfrm>
            </p:grpSpPr>
            <p:sp>
              <p:nvSpPr>
                <p:cNvPr id="3374" name=""/>
                <p:cNvSpPr/>
                <p:nvPr/>
              </p:nvSpPr>
              <p:spPr>
                <a:xfrm>
                  <a:off x="1399320" y="3682440"/>
                  <a:ext cx="1449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驱动器输出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信号电平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1377360" y="3682440"/>
                  <a:ext cx="14929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6" name=""/>
              <p:cNvGrpSpPr/>
              <p:nvPr/>
            </p:nvGrpSpPr>
            <p:grpSpPr>
              <a:xfrm>
                <a:off x="2870640" y="3682440"/>
                <a:ext cx="1185120" cy="647280"/>
                <a:chOff x="2870640" y="3682440"/>
                <a:chExt cx="1185120" cy="647280"/>
              </a:xfrm>
            </p:grpSpPr>
            <p:sp>
              <p:nvSpPr>
                <p:cNvPr id="3377" name=""/>
                <p:cNvSpPr/>
                <p:nvPr/>
              </p:nvSpPr>
              <p:spPr>
                <a:xfrm>
                  <a:off x="2891880" y="368244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未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2870640" y="368244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9" name=""/>
              <p:cNvGrpSpPr/>
              <p:nvPr/>
            </p:nvGrpSpPr>
            <p:grpSpPr>
              <a:xfrm>
                <a:off x="4056480" y="3682440"/>
                <a:ext cx="1185120" cy="647280"/>
                <a:chOff x="4056480" y="3682440"/>
                <a:chExt cx="1185120" cy="647280"/>
              </a:xfrm>
            </p:grpSpPr>
            <p:sp>
              <p:nvSpPr>
                <p:cNvPr id="3380" name=""/>
                <p:cNvSpPr/>
                <p:nvPr/>
              </p:nvSpPr>
              <p:spPr>
                <a:xfrm>
                  <a:off x="4077720" y="368244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3.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未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4056480" y="368244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2" name=""/>
              <p:cNvGrpSpPr/>
              <p:nvPr/>
            </p:nvGrpSpPr>
            <p:grpSpPr>
              <a:xfrm>
                <a:off x="5242320" y="3682440"/>
                <a:ext cx="1185120" cy="647280"/>
                <a:chOff x="5242320" y="3682440"/>
                <a:chExt cx="1185120" cy="647280"/>
              </a:xfrm>
            </p:grpSpPr>
            <p:sp>
              <p:nvSpPr>
                <p:cNvPr id="3383" name=""/>
                <p:cNvSpPr/>
                <p:nvPr/>
              </p:nvSpPr>
              <p:spPr>
                <a:xfrm>
                  <a:off x="5263560" y="368244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未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5242320" y="368244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5" name=""/>
              <p:cNvGrpSpPr/>
              <p:nvPr/>
            </p:nvGrpSpPr>
            <p:grpSpPr>
              <a:xfrm>
                <a:off x="6427800" y="3682440"/>
                <a:ext cx="1185120" cy="647280"/>
                <a:chOff x="6427800" y="3682440"/>
                <a:chExt cx="1185120" cy="64728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6449040" y="368244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.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末带负载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6427800" y="368244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8" name=""/>
              <p:cNvGrpSpPr/>
              <p:nvPr/>
            </p:nvGrpSpPr>
            <p:grpSpPr>
              <a:xfrm>
                <a:off x="1377360" y="4329720"/>
                <a:ext cx="1492920" cy="443520"/>
                <a:chOff x="1377360" y="4329720"/>
                <a:chExt cx="1492920" cy="443520"/>
              </a:xfrm>
            </p:grpSpPr>
            <p:sp>
              <p:nvSpPr>
                <p:cNvPr id="3389" name=""/>
                <p:cNvSpPr/>
                <p:nvPr/>
              </p:nvSpPr>
              <p:spPr>
                <a:xfrm>
                  <a:off x="1399320" y="432972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驱动器负载阻抗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1377360" y="432972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1" name=""/>
              <p:cNvGrpSpPr/>
              <p:nvPr/>
            </p:nvGrpSpPr>
            <p:grpSpPr>
              <a:xfrm>
                <a:off x="2870640" y="4329720"/>
                <a:ext cx="1185120" cy="443520"/>
                <a:chOff x="2870640" y="4329720"/>
                <a:chExt cx="1185120" cy="443520"/>
              </a:xfrm>
            </p:grpSpPr>
            <p:sp>
              <p:nvSpPr>
                <p:cNvPr id="3392" name=""/>
                <p:cNvSpPr/>
                <p:nvPr/>
              </p:nvSpPr>
              <p:spPr>
                <a:xfrm>
                  <a:off x="2891880" y="4329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Ω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～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7k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2870640" y="4329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4" name=""/>
              <p:cNvGrpSpPr/>
              <p:nvPr/>
            </p:nvGrpSpPr>
            <p:grpSpPr>
              <a:xfrm>
                <a:off x="4056480" y="4329720"/>
                <a:ext cx="1185120" cy="443520"/>
                <a:chOff x="4056480" y="4329720"/>
                <a:chExt cx="1185120" cy="443520"/>
              </a:xfrm>
            </p:grpSpPr>
            <p:sp>
              <p:nvSpPr>
                <p:cNvPr id="3395" name=""/>
                <p:cNvSpPr/>
                <p:nvPr/>
              </p:nvSpPr>
              <p:spPr>
                <a:xfrm>
                  <a:off x="4077720" y="4329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45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4056480" y="4329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7" name=""/>
              <p:cNvGrpSpPr/>
              <p:nvPr/>
            </p:nvGrpSpPr>
            <p:grpSpPr>
              <a:xfrm>
                <a:off x="5242320" y="4329720"/>
                <a:ext cx="1185120" cy="443520"/>
                <a:chOff x="5242320" y="4329720"/>
                <a:chExt cx="1185120" cy="443520"/>
              </a:xfrm>
            </p:grpSpPr>
            <p:sp>
              <p:nvSpPr>
                <p:cNvPr id="3398" name=""/>
                <p:cNvSpPr/>
                <p:nvPr/>
              </p:nvSpPr>
              <p:spPr>
                <a:xfrm>
                  <a:off x="5263560" y="4329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5242320" y="4329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0" name=""/>
              <p:cNvGrpSpPr/>
              <p:nvPr/>
            </p:nvGrpSpPr>
            <p:grpSpPr>
              <a:xfrm>
                <a:off x="6427800" y="4329720"/>
                <a:ext cx="1185120" cy="443520"/>
                <a:chOff x="6427800" y="4329720"/>
                <a:chExt cx="1185120" cy="44352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6449040" y="43297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54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6427800" y="43297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3" name=""/>
              <p:cNvGrpSpPr/>
              <p:nvPr/>
            </p:nvGrpSpPr>
            <p:grpSpPr>
              <a:xfrm>
                <a:off x="1377360" y="4773600"/>
                <a:ext cx="1492920" cy="647280"/>
                <a:chOff x="1377360" y="4773600"/>
                <a:chExt cx="1492920" cy="647280"/>
              </a:xfrm>
            </p:grpSpPr>
            <p:sp>
              <p:nvSpPr>
                <p:cNvPr id="3404" name=""/>
                <p:cNvSpPr/>
                <p:nvPr/>
              </p:nvSpPr>
              <p:spPr>
                <a:xfrm>
                  <a:off x="1399320" y="4773600"/>
                  <a:ext cx="144900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驱动器电源开路电流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高阻抗态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1377360" y="4773600"/>
                  <a:ext cx="14929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6" name=""/>
              <p:cNvGrpSpPr/>
              <p:nvPr/>
            </p:nvGrpSpPr>
            <p:grpSpPr>
              <a:xfrm>
                <a:off x="2870640" y="4773600"/>
                <a:ext cx="1185120" cy="647280"/>
                <a:chOff x="2870640" y="4773600"/>
                <a:chExt cx="1185120" cy="647280"/>
              </a:xfrm>
            </p:grpSpPr>
            <p:sp>
              <p:nvSpPr>
                <p:cNvPr id="3407" name=""/>
                <p:cNvSpPr/>
                <p:nvPr/>
              </p:nvSpPr>
              <p:spPr>
                <a:xfrm>
                  <a:off x="2891880" y="477360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max/300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开路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2870640" y="477360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9" name=""/>
              <p:cNvGrpSpPr/>
              <p:nvPr/>
            </p:nvGrpSpPr>
            <p:grpSpPr>
              <a:xfrm>
                <a:off x="4056480" y="4773600"/>
                <a:ext cx="1185120" cy="647280"/>
                <a:chOff x="4056480" y="4773600"/>
                <a:chExt cx="1185120" cy="647280"/>
              </a:xfrm>
            </p:grpSpPr>
            <p:sp>
              <p:nvSpPr>
                <p:cNvPr id="3410" name=""/>
                <p:cNvSpPr/>
                <p:nvPr/>
              </p:nvSpPr>
              <p:spPr>
                <a:xfrm>
                  <a:off x="4077720" y="477360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μA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开路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4056480" y="477360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2" name=""/>
              <p:cNvGrpSpPr/>
              <p:nvPr/>
            </p:nvGrpSpPr>
            <p:grpSpPr>
              <a:xfrm>
                <a:off x="5242320" y="4773600"/>
                <a:ext cx="1185120" cy="647280"/>
                <a:chOff x="5242320" y="4773600"/>
                <a:chExt cx="1185120" cy="647280"/>
              </a:xfrm>
            </p:grpSpPr>
            <p:sp>
              <p:nvSpPr>
                <p:cNvPr id="3413" name=""/>
                <p:cNvSpPr/>
                <p:nvPr/>
              </p:nvSpPr>
              <p:spPr>
                <a:xfrm>
                  <a:off x="5263560" y="477360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μA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开路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5242320" y="477360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5" name=""/>
              <p:cNvGrpSpPr/>
              <p:nvPr/>
            </p:nvGrpSpPr>
            <p:grpSpPr>
              <a:xfrm>
                <a:off x="6427800" y="4773600"/>
                <a:ext cx="1185120" cy="647280"/>
                <a:chOff x="6427800" y="4773600"/>
                <a:chExt cx="1185120" cy="647280"/>
              </a:xfrm>
            </p:grpSpPr>
            <p:sp>
              <p:nvSpPr>
                <p:cNvPr id="3416" name=""/>
                <p:cNvSpPr/>
                <p:nvPr/>
              </p:nvSpPr>
              <p:spPr>
                <a:xfrm>
                  <a:off x="6449040" y="4773600"/>
                  <a:ext cx="1141560" cy="64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μA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开路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6427800" y="4773600"/>
                  <a:ext cx="1185120" cy="64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8" name=""/>
              <p:cNvGrpSpPr/>
              <p:nvPr/>
            </p:nvGrpSpPr>
            <p:grpSpPr>
              <a:xfrm>
                <a:off x="1377360" y="5421240"/>
                <a:ext cx="1492920" cy="545760"/>
                <a:chOff x="1377360" y="5421240"/>
                <a:chExt cx="1492920" cy="545760"/>
              </a:xfrm>
            </p:grpSpPr>
            <p:sp>
              <p:nvSpPr>
                <p:cNvPr id="3419" name=""/>
                <p:cNvSpPr/>
                <p:nvPr/>
              </p:nvSpPr>
              <p:spPr>
                <a:xfrm>
                  <a:off x="1399320" y="5421240"/>
                  <a:ext cx="144900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接收器输入电压范围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1377360" y="5421240"/>
                  <a:ext cx="14929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1" name=""/>
              <p:cNvGrpSpPr/>
              <p:nvPr/>
            </p:nvGrpSpPr>
            <p:grpSpPr>
              <a:xfrm>
                <a:off x="2870640" y="5421240"/>
                <a:ext cx="1185120" cy="545760"/>
                <a:chOff x="2870640" y="5421240"/>
                <a:chExt cx="1185120" cy="545760"/>
              </a:xfrm>
            </p:grpSpPr>
            <p:sp>
              <p:nvSpPr>
                <p:cNvPr id="3422" name=""/>
                <p:cNvSpPr/>
                <p:nvPr/>
              </p:nvSpPr>
              <p:spPr>
                <a:xfrm>
                  <a:off x="2891880" y="542124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2870640" y="542124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4" name=""/>
              <p:cNvGrpSpPr/>
              <p:nvPr/>
            </p:nvGrpSpPr>
            <p:grpSpPr>
              <a:xfrm>
                <a:off x="4056480" y="5421240"/>
                <a:ext cx="1185120" cy="545760"/>
                <a:chOff x="4056480" y="5421240"/>
                <a:chExt cx="1185120" cy="545760"/>
              </a:xfrm>
            </p:grpSpPr>
            <p:sp>
              <p:nvSpPr>
                <p:cNvPr id="3425" name=""/>
                <p:cNvSpPr/>
                <p:nvPr/>
              </p:nvSpPr>
              <p:spPr>
                <a:xfrm>
                  <a:off x="4077720" y="542124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4056480" y="542124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7" name=""/>
              <p:cNvGrpSpPr/>
              <p:nvPr/>
            </p:nvGrpSpPr>
            <p:grpSpPr>
              <a:xfrm>
                <a:off x="5242320" y="5421240"/>
                <a:ext cx="1185120" cy="545760"/>
                <a:chOff x="5242320" y="5421240"/>
                <a:chExt cx="1185120" cy="545760"/>
              </a:xfrm>
            </p:grpSpPr>
            <p:sp>
              <p:nvSpPr>
                <p:cNvPr id="3428" name=""/>
                <p:cNvSpPr/>
                <p:nvPr/>
              </p:nvSpPr>
              <p:spPr>
                <a:xfrm>
                  <a:off x="5263560" y="542124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1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5242320" y="542124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0" name=""/>
              <p:cNvGrpSpPr/>
              <p:nvPr/>
            </p:nvGrpSpPr>
            <p:grpSpPr>
              <a:xfrm>
                <a:off x="6427800" y="5421240"/>
                <a:ext cx="1185120" cy="545760"/>
                <a:chOff x="6427800" y="5421240"/>
                <a:chExt cx="1185120" cy="545760"/>
              </a:xfrm>
            </p:grpSpPr>
            <p:sp>
              <p:nvSpPr>
                <p:cNvPr id="3431" name=""/>
                <p:cNvSpPr/>
                <p:nvPr/>
              </p:nvSpPr>
              <p:spPr>
                <a:xfrm>
                  <a:off x="6449040" y="5421240"/>
                  <a:ext cx="11415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  <a:ea typeface="楷体_GB2312"/>
                    </a:rPr>
                    <a:t>-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7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  <a:ea typeface="楷体_GB2312"/>
                    </a:rPr>
                    <a:t>+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12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6427800" y="5421240"/>
                  <a:ext cx="1185120" cy="54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3" name=""/>
              <p:cNvGrpSpPr/>
              <p:nvPr/>
            </p:nvGrpSpPr>
            <p:grpSpPr>
              <a:xfrm>
                <a:off x="1377360" y="5967000"/>
                <a:ext cx="1492920" cy="443520"/>
                <a:chOff x="1377360" y="5967000"/>
                <a:chExt cx="1492920" cy="443520"/>
              </a:xfrm>
            </p:grpSpPr>
            <p:sp>
              <p:nvSpPr>
                <p:cNvPr id="3434" name=""/>
                <p:cNvSpPr/>
                <p:nvPr/>
              </p:nvSpPr>
              <p:spPr>
                <a:xfrm>
                  <a:off x="1399320" y="596700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接收器输入灵敏度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1377360" y="596700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6" name=""/>
              <p:cNvGrpSpPr/>
              <p:nvPr/>
            </p:nvGrpSpPr>
            <p:grpSpPr>
              <a:xfrm>
                <a:off x="2870640" y="5967000"/>
                <a:ext cx="1185120" cy="443520"/>
                <a:chOff x="2870640" y="5967000"/>
                <a:chExt cx="1185120" cy="443520"/>
              </a:xfrm>
            </p:grpSpPr>
            <p:sp>
              <p:nvSpPr>
                <p:cNvPr id="3437" name=""/>
                <p:cNvSpPr/>
                <p:nvPr/>
              </p:nvSpPr>
              <p:spPr>
                <a:xfrm>
                  <a:off x="2891880" y="596700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3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2870640" y="596700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9" name=""/>
              <p:cNvGrpSpPr/>
              <p:nvPr/>
            </p:nvGrpSpPr>
            <p:grpSpPr>
              <a:xfrm>
                <a:off x="4056480" y="5967000"/>
                <a:ext cx="1185120" cy="443520"/>
                <a:chOff x="4056480" y="5967000"/>
                <a:chExt cx="1185120" cy="443520"/>
              </a:xfrm>
            </p:grpSpPr>
            <p:sp>
              <p:nvSpPr>
                <p:cNvPr id="3440" name=""/>
                <p:cNvSpPr/>
                <p:nvPr/>
              </p:nvSpPr>
              <p:spPr>
                <a:xfrm>
                  <a:off x="4077720" y="596700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4056480" y="596700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2" name=""/>
              <p:cNvGrpSpPr/>
              <p:nvPr/>
            </p:nvGrpSpPr>
            <p:grpSpPr>
              <a:xfrm>
                <a:off x="5242320" y="5967000"/>
                <a:ext cx="1185120" cy="443520"/>
                <a:chOff x="5242320" y="5967000"/>
                <a:chExt cx="1185120" cy="443520"/>
              </a:xfrm>
            </p:grpSpPr>
            <p:sp>
              <p:nvSpPr>
                <p:cNvPr id="3443" name=""/>
                <p:cNvSpPr/>
                <p:nvPr/>
              </p:nvSpPr>
              <p:spPr>
                <a:xfrm>
                  <a:off x="5263560" y="596700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5242320" y="596700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5" name=""/>
              <p:cNvGrpSpPr/>
              <p:nvPr/>
            </p:nvGrpSpPr>
            <p:grpSpPr>
              <a:xfrm>
                <a:off x="6427800" y="5967000"/>
                <a:ext cx="1185120" cy="443520"/>
                <a:chOff x="6427800" y="5967000"/>
                <a:chExt cx="1185120" cy="443520"/>
              </a:xfrm>
            </p:grpSpPr>
            <p:sp>
              <p:nvSpPr>
                <p:cNvPr id="3446" name=""/>
                <p:cNvSpPr/>
                <p:nvPr/>
              </p:nvSpPr>
              <p:spPr>
                <a:xfrm>
                  <a:off x="6449040" y="596700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±200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mV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6427800" y="596700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8" name=""/>
              <p:cNvGrpSpPr/>
              <p:nvPr/>
            </p:nvGrpSpPr>
            <p:grpSpPr>
              <a:xfrm>
                <a:off x="1377360" y="6410520"/>
                <a:ext cx="1492920" cy="443520"/>
                <a:chOff x="1377360" y="6410520"/>
                <a:chExt cx="1492920" cy="443520"/>
              </a:xfrm>
            </p:grpSpPr>
            <p:sp>
              <p:nvSpPr>
                <p:cNvPr id="3449" name=""/>
                <p:cNvSpPr/>
                <p:nvPr/>
              </p:nvSpPr>
              <p:spPr>
                <a:xfrm>
                  <a:off x="1399320" y="6410520"/>
                  <a:ext cx="144900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接收器输入阻抗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1377360" y="6410520"/>
                  <a:ext cx="14929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1" name=""/>
              <p:cNvGrpSpPr/>
              <p:nvPr/>
            </p:nvGrpSpPr>
            <p:grpSpPr>
              <a:xfrm>
                <a:off x="2870640" y="6410520"/>
                <a:ext cx="1185120" cy="443520"/>
                <a:chOff x="2870640" y="6410520"/>
                <a:chExt cx="1185120" cy="443520"/>
              </a:xfrm>
            </p:grpSpPr>
            <p:sp>
              <p:nvSpPr>
                <p:cNvPr id="3452" name=""/>
                <p:cNvSpPr/>
                <p:nvPr/>
              </p:nvSpPr>
              <p:spPr>
                <a:xfrm>
                  <a:off x="2891880" y="64105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Ω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7kΩ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2870640" y="64105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4" name=""/>
              <p:cNvGrpSpPr/>
              <p:nvPr/>
            </p:nvGrpSpPr>
            <p:grpSpPr>
              <a:xfrm>
                <a:off x="4056480" y="6410520"/>
                <a:ext cx="1185120" cy="443520"/>
                <a:chOff x="4056480" y="6410520"/>
                <a:chExt cx="1185120" cy="443520"/>
              </a:xfrm>
            </p:grpSpPr>
            <p:sp>
              <p:nvSpPr>
                <p:cNvPr id="3455" name=""/>
                <p:cNvSpPr/>
                <p:nvPr/>
              </p:nvSpPr>
              <p:spPr>
                <a:xfrm>
                  <a:off x="4077720" y="64105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4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Ωmi n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4056480" y="64105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7" name=""/>
              <p:cNvGrpSpPr/>
              <p:nvPr/>
            </p:nvGrpSpPr>
            <p:grpSpPr>
              <a:xfrm>
                <a:off x="5242320" y="6410520"/>
                <a:ext cx="1185120" cy="443520"/>
                <a:chOff x="5242320" y="6410520"/>
                <a:chExt cx="1185120" cy="443520"/>
              </a:xfrm>
            </p:grpSpPr>
            <p:sp>
              <p:nvSpPr>
                <p:cNvPr id="3458" name=""/>
                <p:cNvSpPr/>
                <p:nvPr/>
              </p:nvSpPr>
              <p:spPr>
                <a:xfrm>
                  <a:off x="5263560" y="64105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4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Ωmin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5242320" y="64105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0" name=""/>
              <p:cNvGrpSpPr/>
              <p:nvPr/>
            </p:nvGrpSpPr>
            <p:grpSpPr>
              <a:xfrm>
                <a:off x="6427800" y="6410520"/>
                <a:ext cx="1185120" cy="443520"/>
                <a:chOff x="6427800" y="6410520"/>
                <a:chExt cx="1185120" cy="443520"/>
              </a:xfrm>
            </p:grpSpPr>
            <p:sp>
              <p:nvSpPr>
                <p:cNvPr id="3461" name=""/>
                <p:cNvSpPr/>
                <p:nvPr/>
              </p:nvSpPr>
              <p:spPr>
                <a:xfrm>
                  <a:off x="6449040" y="6410520"/>
                  <a:ext cx="1141560" cy="44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Ωmin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6427800" y="6410520"/>
                  <a:ext cx="1185120" cy="44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63" name=""/>
            <p:cNvSpPr/>
            <p:nvPr/>
          </p:nvSpPr>
          <p:spPr>
            <a:xfrm>
              <a:off x="1371600" y="609480"/>
              <a:ext cx="6248160" cy="6248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464" name=""/>
          <p:cNvSpPr/>
          <p:nvPr/>
        </p:nvSpPr>
        <p:spPr>
          <a:xfrm>
            <a:off x="0" y="7608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"/>
          <p:cNvSpPr/>
          <p:nvPr/>
        </p:nvSpPr>
        <p:spPr>
          <a:xfrm>
            <a:off x="0" y="91440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040" rIns="90000" tIns="35532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第八章           </a:t>
            </a:r>
            <a:r>
              <a:rPr b="0" lang="en-US" sz="32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单片机的中断系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220032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67" name="中断系统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867280" cy="3276360"/>
          </a:xfrm>
          <a:prstGeom prst="rect">
            <a:avLst/>
          </a:prstGeom>
          <a:ln w="0">
            <a:noFill/>
          </a:ln>
        </p:spPr>
      </p:pic>
      <p:sp>
        <p:nvSpPr>
          <p:cNvPr id="3468" name=""/>
          <p:cNvSpPr/>
          <p:nvPr/>
        </p:nvSpPr>
        <p:spPr>
          <a:xfrm>
            <a:off x="0" y="5562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8-1  805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中断系统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"/>
          <p:cNvSpPr/>
          <p:nvPr/>
        </p:nvSpPr>
        <p:spPr>
          <a:xfrm>
            <a:off x="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8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中断系统及其管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228600" y="18288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中断源及中断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0" y="13431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472" name=""/>
          <p:cNvGrpSpPr/>
          <p:nvPr/>
        </p:nvGrpSpPr>
        <p:grpSpPr>
          <a:xfrm>
            <a:off x="2362320" y="2819520"/>
            <a:ext cx="2949480" cy="2590560"/>
            <a:chOff x="2362320" y="2819520"/>
            <a:chExt cx="2949480" cy="2590560"/>
          </a:xfrm>
        </p:grpSpPr>
        <p:sp>
          <p:nvSpPr>
            <p:cNvPr id="3473" name=""/>
            <p:cNvSpPr/>
            <p:nvPr/>
          </p:nvSpPr>
          <p:spPr>
            <a:xfrm>
              <a:off x="2362320" y="281952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中断源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927600" y="281952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r" pos="26676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入口地址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r" pos="266760"/>
                  <a:tab algn="ctr" pos="2637000"/>
                  <a:tab algn="r" pos="52736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362320" y="325116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外部中断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927600" y="325116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003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362320" y="368316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定时器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中断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3927600" y="368316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00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B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362320" y="411480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外部中断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3927600" y="411480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013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362320" y="454644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定时器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中断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927600" y="454644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01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B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362320" y="4978440"/>
              <a:ext cx="1565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串行口中断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3927600" y="4978440"/>
              <a:ext cx="13842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023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"/>
          <p:cNvSpPr/>
          <p:nvPr/>
        </p:nvSpPr>
        <p:spPr>
          <a:xfrm>
            <a:off x="609480" y="10666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外部中断请求标志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609480" y="198108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的中断标志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609480" y="160020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中的中断标志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609480" y="22860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中断允许控制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609480" y="26668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四、中断源优先级的设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609480" y="30481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五、 中断响应处理过程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685800" y="3962520"/>
            <a:ext cx="91440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．中断处理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685800" y="3581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．中断响应的过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685800" y="44956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．中断返回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0" y="3144960"/>
            <a:ext cx="91440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533520" y="49528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   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．外部中断响应时间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"/>
          <p:cNvSpPr/>
          <p:nvPr/>
        </p:nvSpPr>
        <p:spPr>
          <a:xfrm>
            <a:off x="0" y="838080"/>
            <a:ext cx="9144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8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2  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扩充外部中断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685800" y="16002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利用定时器进行扩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246204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499" name="中断扩展" descr=""/>
          <p:cNvPicPr/>
          <p:nvPr/>
        </p:nvPicPr>
        <p:blipFill>
          <a:blip r:embed="rId1"/>
          <a:stretch/>
        </p:blipFill>
        <p:spPr>
          <a:xfrm>
            <a:off x="2209680" y="2290680"/>
            <a:ext cx="5029200" cy="2509920"/>
          </a:xfrm>
          <a:prstGeom prst="rect">
            <a:avLst/>
          </a:prstGeom>
          <a:ln w="0">
            <a:noFill/>
          </a:ln>
        </p:spPr>
      </p:pic>
      <p:sp>
        <p:nvSpPr>
          <p:cNvPr id="3500" name=""/>
          <p:cNvSpPr/>
          <p:nvPr/>
        </p:nvSpPr>
        <p:spPr>
          <a:xfrm>
            <a:off x="2971800" y="54100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8-2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多外部中断源连接方法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871640" y="44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4" name="89C51的结构框图1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953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6248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2‑2  805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内部结构框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"/>
          <p:cNvSpPr/>
          <p:nvPr/>
        </p:nvSpPr>
        <p:spPr>
          <a:xfrm>
            <a:off x="380880" y="990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采用中断和查询相结合的方法扩充外部中断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838080" y="1828800"/>
            <a:ext cx="914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EXINT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 PSW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 ACC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B 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 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B 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 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2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B 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 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3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B 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 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4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ISU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OP  ACC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OP  PSW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80880" y="3581280"/>
            <a:ext cx="9144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 …                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I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断服务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DISUB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 …                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I2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断服务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DISUB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 …                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I3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断服务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DISUB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AV4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 …                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I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断服务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DISUB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"/>
          <p:cNvSpPr/>
          <p:nvPr/>
        </p:nvSpPr>
        <p:spPr>
          <a:xfrm>
            <a:off x="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8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3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中断系统的应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28814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06" name="外部中断实验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572000" cy="3124080"/>
          </a:xfrm>
          <a:prstGeom prst="rect">
            <a:avLst/>
          </a:prstGeom>
          <a:ln w="0">
            <a:noFill/>
          </a:ln>
        </p:spPr>
      </p:pic>
      <p:sp>
        <p:nvSpPr>
          <p:cNvPr id="3507" name=""/>
          <p:cNvSpPr/>
          <p:nvPr/>
        </p:nvSpPr>
        <p:spPr>
          <a:xfrm>
            <a:off x="288144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8-3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外部中断实验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"/>
          <p:cNvSpPr/>
          <p:nvPr/>
        </p:nvSpPr>
        <p:spPr>
          <a:xfrm>
            <a:off x="-304920" y="914400"/>
            <a:ext cx="96775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040" rIns="90000" tIns="35532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九章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</a:t>
            </a:r>
            <a:r>
              <a:rPr b="0" lang="zh-CN" sz="7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 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应用系统的设计方法及实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133720" y="2057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1  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显示器、键盘与单片机的连接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304920" y="26668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LED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数码管与单片机的连接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229068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13" name="共阳共阴数码管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5791320" cy="1752840"/>
          </a:xfrm>
          <a:prstGeom prst="rect">
            <a:avLst/>
          </a:prstGeom>
          <a:ln w="0">
            <a:noFill/>
          </a:ln>
        </p:spPr>
      </p:pic>
      <p:sp>
        <p:nvSpPr>
          <p:cNvPr id="3514" name=""/>
          <p:cNvSpPr/>
          <p:nvPr/>
        </p:nvSpPr>
        <p:spPr>
          <a:xfrm>
            <a:off x="-380880" y="57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共阴极和共阳极数码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"/>
          <p:cNvSpPr/>
          <p:nvPr/>
        </p:nvSpPr>
        <p:spPr>
          <a:xfrm>
            <a:off x="609480" y="121932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．静态显示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17" name="静态显示原理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2895480"/>
          </a:xfrm>
          <a:prstGeom prst="rect">
            <a:avLst/>
          </a:prstGeom>
          <a:ln w="0">
            <a:noFill/>
          </a:ln>
        </p:spPr>
      </p:pic>
      <p:sp>
        <p:nvSpPr>
          <p:cNvPr id="3518" name=""/>
          <p:cNvSpPr/>
          <p:nvPr/>
        </p:nvSpPr>
        <p:spPr>
          <a:xfrm>
            <a:off x="0" y="5334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2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静态显示原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"/>
          <p:cNvSpPr/>
          <p:nvPr/>
        </p:nvSpPr>
        <p:spPr>
          <a:xfrm>
            <a:off x="380880" y="1447920"/>
            <a:ext cx="8534520" cy="52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IS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5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第一个显示单元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4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循环计数器赋初值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显示位指针赋初值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N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F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WA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出的数码管去显示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N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F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下一个数码管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出的数码管去显示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将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送到相应的数码管去显示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下一个显示单元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下一个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ED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数码管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JNE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未显示完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单元的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BCD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，返回继续显示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"/>
          <p:cNvSpPr/>
          <p:nvPr/>
        </p:nvSpPr>
        <p:spPr>
          <a:xfrm>
            <a:off x="27576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21" name="用译码器的静态显示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334120" cy="2762280"/>
          </a:xfrm>
          <a:prstGeom prst="rect">
            <a:avLst/>
          </a:prstGeom>
          <a:ln w="0">
            <a:noFill/>
          </a:ln>
        </p:spPr>
      </p:pic>
      <p:sp>
        <p:nvSpPr>
          <p:cNvPr id="3522" name=""/>
          <p:cNvSpPr/>
          <p:nvPr/>
        </p:nvSpPr>
        <p:spPr>
          <a:xfrm>
            <a:off x="2286000" y="5715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9-3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采用译码器的静态显示接口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"/>
          <p:cNvSpPr/>
          <p:nvPr/>
        </p:nvSpPr>
        <p:spPr>
          <a:xfrm>
            <a:off x="762120" y="99072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．串行显示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226224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25" name="串行显示接口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477120" cy="3200400"/>
          </a:xfrm>
          <a:prstGeom prst="rect">
            <a:avLst/>
          </a:prstGeom>
          <a:ln w="0">
            <a:noFill/>
          </a:ln>
        </p:spPr>
      </p:pic>
      <p:sp>
        <p:nvSpPr>
          <p:cNvPr id="3526" name=""/>
          <p:cNvSpPr/>
          <p:nvPr/>
        </p:nvSpPr>
        <p:spPr>
          <a:xfrm>
            <a:off x="3581280" y="5638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9-5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串行显示接口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"/>
          <p:cNvSpPr/>
          <p:nvPr/>
        </p:nvSpPr>
        <p:spPr>
          <a:xfrm>
            <a:off x="457200" y="838080"/>
            <a:ext cx="830592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IS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ET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.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选通显示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CON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置串口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5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第一个显示单元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4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循环计数器置初值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TA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第一个显示单元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N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F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查译码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BUF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的显示码送串口缓冲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WAIT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N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I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$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未发送完，等待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I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清发送中断标志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N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F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WA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＋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查译码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BUF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第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显示单元的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的显示码送串口缓冲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WAIT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N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I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$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未发送完，等待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I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清发送中断标志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JNZ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未发送完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单元的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个字符，返回继续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A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03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9F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25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0D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99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B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49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41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1F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01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19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"/>
          <p:cNvSpPr/>
          <p:nvPr/>
        </p:nvSpPr>
        <p:spPr>
          <a:xfrm>
            <a:off x="533520" y="83808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动态扫描显示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66220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0" name="动态显示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3200400"/>
          </a:xfrm>
          <a:prstGeom prst="rect">
            <a:avLst/>
          </a:prstGeom>
          <a:ln w="0">
            <a:noFill/>
          </a:ln>
        </p:spPr>
      </p:pic>
      <p:sp>
        <p:nvSpPr>
          <p:cNvPr id="3531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6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动态扫描显示接口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"/>
          <p:cNvSpPr/>
          <p:nvPr/>
        </p:nvSpPr>
        <p:spPr>
          <a:xfrm>
            <a:off x="0" y="0"/>
            <a:ext cx="8839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--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主程序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---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TAR: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∶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∶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LOOP: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∶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AL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00EF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将显示缓冲区内容送去显示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∶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∶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JMP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LOOP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送显示子程序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ISP: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OR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取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3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口内容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N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#0F0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保护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口高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43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取位选信号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N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#0F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选信号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的低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OR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口高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的高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34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取段选指针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#0FF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关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输出位选信号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@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显示内容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PTR,#TAB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译码表首址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PTR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C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@A+DPTR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查表译显示码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输出段选信号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,43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L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3H,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选指针指向下一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INC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34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段选指针指向下一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B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C.0,DONE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不到最后一位，转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34H,#50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段选指针复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3H,#0EE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位选指针复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ONE: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ET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--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显示译码表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TAB: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0C0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显示字符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0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，相对地址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0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0F9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0A4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0B0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3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99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92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5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82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6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0F8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7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80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8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DB 90H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	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9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3288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7" name="51存储器结构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639040" cy="3124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5720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3  805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存储器组织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"/>
          <p:cNvSpPr/>
          <p:nvPr/>
        </p:nvSpPr>
        <p:spPr>
          <a:xfrm>
            <a:off x="264312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5" name="按键与单片机直接连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2361960"/>
          </a:xfrm>
          <a:prstGeom prst="rect">
            <a:avLst/>
          </a:prstGeom>
          <a:ln w="0">
            <a:noFill/>
          </a:ln>
        </p:spPr>
      </p:pic>
      <p:sp>
        <p:nvSpPr>
          <p:cNvPr id="3536" name=""/>
          <p:cNvSpPr/>
          <p:nvPr/>
        </p:nvSpPr>
        <p:spPr>
          <a:xfrm>
            <a:off x="2438280" y="510552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9-7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按键与单片机直接连接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"/>
          <p:cNvSpPr/>
          <p:nvPr/>
        </p:nvSpPr>
        <p:spPr>
          <a:xfrm>
            <a:off x="28195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38" name="带锁存器的按键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486400" cy="3124440"/>
          </a:xfrm>
          <a:prstGeom prst="rect">
            <a:avLst/>
          </a:prstGeom>
          <a:ln w="0">
            <a:noFill/>
          </a:ln>
        </p:spPr>
      </p:pic>
      <p:sp>
        <p:nvSpPr>
          <p:cNvPr id="3539" name=""/>
          <p:cNvSpPr/>
          <p:nvPr/>
        </p:nvSpPr>
        <p:spPr>
          <a:xfrm>
            <a:off x="1447920" y="5334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9-8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带锁存器的按键与单片机的接口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"/>
          <p:cNvSpPr/>
          <p:nvPr/>
        </p:nvSpPr>
        <p:spPr>
          <a:xfrm>
            <a:off x="191448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41" name="按键去抖程序框图" descr=""/>
          <p:cNvPicPr/>
          <p:nvPr/>
        </p:nvPicPr>
        <p:blipFill>
          <a:blip r:embed="rId1"/>
          <a:stretch/>
        </p:blipFill>
        <p:spPr>
          <a:xfrm>
            <a:off x="1143000" y="1542960"/>
            <a:ext cx="6248520" cy="4172040"/>
          </a:xfrm>
          <a:prstGeom prst="rect">
            <a:avLst/>
          </a:prstGeom>
          <a:ln w="0">
            <a:noFill/>
          </a:ln>
        </p:spPr>
      </p:pic>
      <p:sp>
        <p:nvSpPr>
          <p:cNvPr id="3542" name=""/>
          <p:cNvSpPr/>
          <p:nvPr/>
        </p:nvSpPr>
        <p:spPr>
          <a:xfrm>
            <a:off x="0" y="5867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9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按键接口程序流程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"/>
          <p:cNvSpPr/>
          <p:nvPr/>
        </p:nvSpPr>
        <p:spPr>
          <a:xfrm>
            <a:off x="685800" y="685800"/>
            <a:ext cx="746748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程序如下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KSCAN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#7FFF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指向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244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MOVX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@DPT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读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244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NL 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#0F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取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个按键的值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JNE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#0F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LOOS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无键按下，转去判断是否键放开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B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1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L0475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有效标志等于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，等待键放开，返回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0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ETSYN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第一次发现键按下，转去置标志，存键值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JNE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9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LRSYN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两次读得的按键值不同，键无效，清第一次发现键按下标志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ETB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1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置键有效标志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LOOS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NB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1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有效标志等于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，未按过键，返回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KEYDO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放开，转键处理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ETSYN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ETB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0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置第一次发现键按下标志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9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保存键值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返回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LRK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L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1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清键有效标志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LRSYN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CL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10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清第一次发现键按下标志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MOV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#00H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清键值暂存单元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KEYDO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R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2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没按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再判断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2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L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1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转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2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3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没按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再判断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3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L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2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转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3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没按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3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再判断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4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L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3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转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3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US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JC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没按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误判断，退出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AL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转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4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1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1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2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2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3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3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DOS4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键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4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处理程序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SJMP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RETU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"/>
          <p:cNvSpPr/>
          <p:nvPr/>
        </p:nvSpPr>
        <p:spPr>
          <a:xfrm>
            <a:off x="533520" y="11430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键盘与单片机的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279576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46" name="键盘与单片机的接口" descr=""/>
          <p:cNvPicPr/>
          <p:nvPr/>
        </p:nvPicPr>
        <p:blipFill>
          <a:blip r:embed="rId1"/>
          <a:stretch/>
        </p:blipFill>
        <p:spPr>
          <a:xfrm>
            <a:off x="1981080" y="2048040"/>
            <a:ext cx="5105520" cy="3286080"/>
          </a:xfrm>
          <a:prstGeom prst="rect">
            <a:avLst/>
          </a:prstGeom>
          <a:ln w="0">
            <a:noFill/>
          </a:ln>
        </p:spPr>
      </p:pic>
      <p:sp>
        <p:nvSpPr>
          <p:cNvPr id="3547" name=""/>
          <p:cNvSpPr/>
          <p:nvPr/>
        </p:nvSpPr>
        <p:spPr>
          <a:xfrm>
            <a:off x="0" y="54864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0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键盘与单片机的接口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"/>
          <p:cNvSpPr/>
          <p:nvPr/>
        </p:nvSpPr>
        <p:spPr>
          <a:xfrm>
            <a:off x="2181240" y="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49" name="键盘接口程序流程图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5943600" cy="5867640"/>
          </a:xfrm>
          <a:prstGeom prst="rect">
            <a:avLst/>
          </a:prstGeom>
          <a:ln w="0">
            <a:noFill/>
          </a:ln>
        </p:spPr>
      </p:pic>
      <p:sp>
        <p:nvSpPr>
          <p:cNvPr id="3550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键盘接口程序流程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"/>
          <p:cNvSpPr/>
          <p:nvPr/>
        </p:nvSpPr>
        <p:spPr>
          <a:xfrm>
            <a:off x="53352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/D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转换器与单片机的接口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52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1114200" cy="2133720"/>
          </a:xfrm>
          <a:prstGeom prst="rect">
            <a:avLst/>
          </a:prstGeom>
          <a:ln w="0">
            <a:noFill/>
          </a:ln>
        </p:spPr>
      </p:pic>
      <p:sp>
        <p:nvSpPr>
          <p:cNvPr id="3553" name=""/>
          <p:cNvSpPr/>
          <p:nvPr/>
        </p:nvSpPr>
        <p:spPr>
          <a:xfrm>
            <a:off x="533520" y="5029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9-12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C0801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C0805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275760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55" name="ADC0801与单片机的接口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3629160" cy="2666880"/>
          </a:xfrm>
          <a:prstGeom prst="rect">
            <a:avLst/>
          </a:prstGeom>
          <a:ln w="0">
            <a:noFill/>
          </a:ln>
        </p:spPr>
      </p:pic>
      <p:sp>
        <p:nvSpPr>
          <p:cNvPr id="3556" name=""/>
          <p:cNvSpPr/>
          <p:nvPr/>
        </p:nvSpPr>
        <p:spPr>
          <a:xfrm>
            <a:off x="205740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3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DC0801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黑体"/>
              </a:rPr>
              <a:t>～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0805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与单片机的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"/>
          <p:cNvSpPr/>
          <p:nvPr/>
        </p:nvSpPr>
        <p:spPr>
          <a:xfrm>
            <a:off x="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9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3 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D/A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转换器与单片机的连接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228600" y="17524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D/A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转换器的基本原理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58588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60" name="T型网络DA转换器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486400" cy="2286000"/>
          </a:xfrm>
          <a:prstGeom prst="rect">
            <a:avLst/>
          </a:prstGeom>
          <a:ln w="0">
            <a:noFill/>
          </a:ln>
        </p:spPr>
      </p:pic>
      <p:sp>
        <p:nvSpPr>
          <p:cNvPr id="3561" name="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4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型网络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/A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转换器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"/>
          <p:cNvSpPr/>
          <p:nvPr/>
        </p:nvSpPr>
        <p:spPr>
          <a:xfrm>
            <a:off x="304920" y="990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D/A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转换器与单片机的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609480" y="1523880"/>
            <a:ext cx="9144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内部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226224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65" name="DAC0830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791320" cy="2895480"/>
          </a:xfrm>
          <a:prstGeom prst="rect">
            <a:avLst/>
          </a:prstGeom>
          <a:ln w="0">
            <a:noFill/>
          </a:ln>
        </p:spPr>
      </p:pic>
      <p:sp>
        <p:nvSpPr>
          <p:cNvPr id="3566" name=""/>
          <p:cNvSpPr/>
          <p:nvPr/>
        </p:nvSpPr>
        <p:spPr>
          <a:xfrm>
            <a:off x="-22860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5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AC083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的引脚排列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       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6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AC083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结构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"/>
          <p:cNvSpPr/>
          <p:nvPr/>
        </p:nvSpPr>
        <p:spPr>
          <a:xfrm>
            <a:off x="304920" y="114300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接口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304920" y="1600200"/>
            <a:ext cx="9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） 单缓冲器方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206208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70" name="DAC0832与单片机的接口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324480" cy="2666880"/>
          </a:xfrm>
          <a:prstGeom prst="rect">
            <a:avLst/>
          </a:prstGeom>
          <a:ln w="0">
            <a:noFill/>
          </a:ln>
        </p:spPr>
      </p:pic>
      <p:sp>
        <p:nvSpPr>
          <p:cNvPr id="3571" name=""/>
          <p:cNvSpPr/>
          <p:nvPr/>
        </p:nvSpPr>
        <p:spPr>
          <a:xfrm>
            <a:off x="0" y="5334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7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AC083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与单片机的接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371600" y="838080"/>
            <a:ext cx="6483240" cy="5410800"/>
            <a:chOff x="1371600" y="838080"/>
            <a:chExt cx="6483240" cy="5410800"/>
          </a:xfrm>
        </p:grpSpPr>
        <p:sp>
          <p:nvSpPr>
            <p:cNvPr id="220" name=""/>
            <p:cNvSpPr/>
            <p:nvPr/>
          </p:nvSpPr>
          <p:spPr>
            <a:xfrm>
              <a:off x="1440000" y="838080"/>
              <a:ext cx="63000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字节地址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70000" y="838080"/>
              <a:ext cx="558000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位       地       址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0000" y="120852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0000" y="150480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F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180144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E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0000" y="209808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D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0000" y="239436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C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40000" y="269064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B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0000" y="298728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A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000" y="328392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9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0000" y="358020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8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000" y="387684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7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0000" y="417312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6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000" y="446976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5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000" y="476640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4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40000" y="506268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3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40000" y="535896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2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0000" y="565560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1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0000" y="5952240"/>
              <a:ext cx="5839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20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624852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92320" y="6248520"/>
              <a:ext cx="46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38400" y="6248520"/>
              <a:ext cx="663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01880" y="6248520"/>
              <a:ext cx="72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24400" y="624852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45120" y="6248520"/>
              <a:ext cx="72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67280" y="6248520"/>
              <a:ext cx="72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89440" y="624852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10160" y="6248520"/>
              <a:ext cx="72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32680" y="6248520"/>
              <a:ext cx="72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955880" y="1208520"/>
              <a:ext cx="709560" cy="296280"/>
              <a:chOff x="1955880" y="1208520"/>
              <a:chExt cx="709560" cy="296280"/>
            </a:xfrm>
          </p:grpSpPr>
          <p:sp>
            <p:nvSpPr>
              <p:cNvPr id="250" name=""/>
              <p:cNvSpPr/>
              <p:nvPr/>
            </p:nvSpPr>
            <p:spPr>
              <a:xfrm>
                <a:off x="2023920" y="120852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55880" y="120852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665440" y="1208520"/>
              <a:ext cx="722160" cy="296280"/>
              <a:chOff x="2665440" y="1208520"/>
              <a:chExt cx="722160" cy="296280"/>
            </a:xfrm>
          </p:grpSpPr>
          <p:sp>
            <p:nvSpPr>
              <p:cNvPr id="253" name=""/>
              <p:cNvSpPr/>
              <p:nvPr/>
            </p:nvSpPr>
            <p:spPr>
              <a:xfrm>
                <a:off x="2733840" y="12085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65440" y="12085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387600" y="1208520"/>
              <a:ext cx="720720" cy="296280"/>
              <a:chOff x="3387600" y="1208520"/>
              <a:chExt cx="720720" cy="296280"/>
            </a:xfrm>
          </p:grpSpPr>
          <p:sp>
            <p:nvSpPr>
              <p:cNvPr id="256" name=""/>
              <p:cNvSpPr/>
              <p:nvPr/>
            </p:nvSpPr>
            <p:spPr>
              <a:xfrm>
                <a:off x="3456000" y="12085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87600" y="12085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108320" y="1208520"/>
              <a:ext cx="722520" cy="296280"/>
              <a:chOff x="4108320" y="1208520"/>
              <a:chExt cx="722520" cy="296280"/>
            </a:xfrm>
          </p:grpSpPr>
          <p:sp>
            <p:nvSpPr>
              <p:cNvPr id="259" name=""/>
              <p:cNvSpPr/>
              <p:nvPr/>
            </p:nvSpPr>
            <p:spPr>
              <a:xfrm>
                <a:off x="4176720" y="12085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08320" y="12085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830840" y="1208520"/>
              <a:ext cx="722160" cy="296280"/>
              <a:chOff x="4830840" y="1208520"/>
              <a:chExt cx="722160" cy="296280"/>
            </a:xfrm>
          </p:grpSpPr>
          <p:sp>
            <p:nvSpPr>
              <p:cNvPr id="262" name=""/>
              <p:cNvSpPr/>
              <p:nvPr/>
            </p:nvSpPr>
            <p:spPr>
              <a:xfrm>
                <a:off x="4898880" y="120852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30840" y="12085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553000" y="1208520"/>
              <a:ext cx="720720" cy="296280"/>
              <a:chOff x="5553000" y="1208520"/>
              <a:chExt cx="720720" cy="296280"/>
            </a:xfrm>
          </p:grpSpPr>
          <p:sp>
            <p:nvSpPr>
              <p:cNvPr id="265" name=""/>
              <p:cNvSpPr/>
              <p:nvPr/>
            </p:nvSpPr>
            <p:spPr>
              <a:xfrm>
                <a:off x="5621400" y="12085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53000" y="12085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6273720" y="1208520"/>
              <a:ext cx="722520" cy="296280"/>
              <a:chOff x="6273720" y="1208520"/>
              <a:chExt cx="722520" cy="296280"/>
            </a:xfrm>
          </p:grpSpPr>
          <p:sp>
            <p:nvSpPr>
              <p:cNvPr id="268" name=""/>
              <p:cNvSpPr/>
              <p:nvPr/>
            </p:nvSpPr>
            <p:spPr>
              <a:xfrm>
                <a:off x="6342120" y="12085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73720" y="12085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996240" y="1208520"/>
              <a:ext cx="722160" cy="296280"/>
              <a:chOff x="6996240" y="1208520"/>
              <a:chExt cx="722160" cy="296280"/>
            </a:xfrm>
          </p:grpSpPr>
          <p:sp>
            <p:nvSpPr>
              <p:cNvPr id="271" name=""/>
              <p:cNvSpPr/>
              <p:nvPr/>
            </p:nvSpPr>
            <p:spPr>
              <a:xfrm>
                <a:off x="7064280" y="12085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96240" y="12085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955880" y="1504800"/>
              <a:ext cx="709560" cy="296280"/>
              <a:chOff x="1955880" y="1504800"/>
              <a:chExt cx="709560" cy="296280"/>
            </a:xfrm>
          </p:grpSpPr>
          <p:sp>
            <p:nvSpPr>
              <p:cNvPr id="274" name=""/>
              <p:cNvSpPr/>
              <p:nvPr/>
            </p:nvSpPr>
            <p:spPr>
              <a:xfrm>
                <a:off x="2023920" y="150480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55880" y="150480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665440" y="1504800"/>
              <a:ext cx="722160" cy="296280"/>
              <a:chOff x="2665440" y="1504800"/>
              <a:chExt cx="722160" cy="296280"/>
            </a:xfrm>
          </p:grpSpPr>
          <p:sp>
            <p:nvSpPr>
              <p:cNvPr id="277" name=""/>
              <p:cNvSpPr/>
              <p:nvPr/>
            </p:nvSpPr>
            <p:spPr>
              <a:xfrm>
                <a:off x="2733840" y="15048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65440" y="15048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387600" y="1504800"/>
              <a:ext cx="720720" cy="296280"/>
              <a:chOff x="3387600" y="1504800"/>
              <a:chExt cx="720720" cy="296280"/>
            </a:xfrm>
          </p:grpSpPr>
          <p:sp>
            <p:nvSpPr>
              <p:cNvPr id="280" name=""/>
              <p:cNvSpPr/>
              <p:nvPr/>
            </p:nvSpPr>
            <p:spPr>
              <a:xfrm>
                <a:off x="3456000" y="15048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87600" y="15048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108320" y="1504800"/>
              <a:ext cx="722520" cy="296280"/>
              <a:chOff x="4108320" y="1504800"/>
              <a:chExt cx="722520" cy="296280"/>
            </a:xfrm>
          </p:grpSpPr>
          <p:sp>
            <p:nvSpPr>
              <p:cNvPr id="283" name=""/>
              <p:cNvSpPr/>
              <p:nvPr/>
            </p:nvSpPr>
            <p:spPr>
              <a:xfrm>
                <a:off x="4176720" y="15048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08320" y="15048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30840" y="1504800"/>
              <a:ext cx="722160" cy="296280"/>
              <a:chOff x="4830840" y="1504800"/>
              <a:chExt cx="722160" cy="296280"/>
            </a:xfrm>
          </p:grpSpPr>
          <p:sp>
            <p:nvSpPr>
              <p:cNvPr id="286" name=""/>
              <p:cNvSpPr/>
              <p:nvPr/>
            </p:nvSpPr>
            <p:spPr>
              <a:xfrm>
                <a:off x="4898880" y="150480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30840" y="15048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553000" y="1504800"/>
              <a:ext cx="720720" cy="296280"/>
              <a:chOff x="5553000" y="1504800"/>
              <a:chExt cx="720720" cy="296280"/>
            </a:xfrm>
          </p:grpSpPr>
          <p:sp>
            <p:nvSpPr>
              <p:cNvPr id="289" name=""/>
              <p:cNvSpPr/>
              <p:nvPr/>
            </p:nvSpPr>
            <p:spPr>
              <a:xfrm>
                <a:off x="5621400" y="15048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553000" y="15048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273720" y="1504800"/>
              <a:ext cx="722520" cy="296280"/>
              <a:chOff x="6273720" y="1504800"/>
              <a:chExt cx="722520" cy="296280"/>
            </a:xfrm>
          </p:grpSpPr>
          <p:sp>
            <p:nvSpPr>
              <p:cNvPr id="292" name=""/>
              <p:cNvSpPr/>
              <p:nvPr/>
            </p:nvSpPr>
            <p:spPr>
              <a:xfrm>
                <a:off x="6342120" y="15048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73720" y="15048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996240" y="1504800"/>
              <a:ext cx="722160" cy="296280"/>
              <a:chOff x="6996240" y="1504800"/>
              <a:chExt cx="722160" cy="296280"/>
            </a:xfrm>
          </p:grpSpPr>
          <p:sp>
            <p:nvSpPr>
              <p:cNvPr id="295" name=""/>
              <p:cNvSpPr/>
              <p:nvPr/>
            </p:nvSpPr>
            <p:spPr>
              <a:xfrm>
                <a:off x="7064280" y="15048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996240" y="15048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955880" y="1801440"/>
              <a:ext cx="709560" cy="296280"/>
              <a:chOff x="1955880" y="1801440"/>
              <a:chExt cx="709560" cy="296280"/>
            </a:xfrm>
          </p:grpSpPr>
          <p:sp>
            <p:nvSpPr>
              <p:cNvPr id="298" name=""/>
              <p:cNvSpPr/>
              <p:nvPr/>
            </p:nvSpPr>
            <p:spPr>
              <a:xfrm>
                <a:off x="2023920" y="180144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55880" y="180144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665440" y="1801440"/>
              <a:ext cx="722160" cy="296280"/>
              <a:chOff x="2665440" y="1801440"/>
              <a:chExt cx="722160" cy="296280"/>
            </a:xfrm>
          </p:grpSpPr>
          <p:sp>
            <p:nvSpPr>
              <p:cNvPr id="301" name=""/>
              <p:cNvSpPr/>
              <p:nvPr/>
            </p:nvSpPr>
            <p:spPr>
              <a:xfrm>
                <a:off x="2733840" y="18014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65440" y="18014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387600" y="1801440"/>
              <a:ext cx="720720" cy="296280"/>
              <a:chOff x="3387600" y="1801440"/>
              <a:chExt cx="720720" cy="296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456000" y="18014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87600" y="18014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108320" y="1801440"/>
              <a:ext cx="722520" cy="296280"/>
              <a:chOff x="4108320" y="1801440"/>
              <a:chExt cx="722520" cy="296280"/>
            </a:xfrm>
          </p:grpSpPr>
          <p:sp>
            <p:nvSpPr>
              <p:cNvPr id="307" name=""/>
              <p:cNvSpPr/>
              <p:nvPr/>
            </p:nvSpPr>
            <p:spPr>
              <a:xfrm>
                <a:off x="4176720" y="18014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08320" y="18014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830840" y="1801440"/>
              <a:ext cx="722160" cy="296280"/>
              <a:chOff x="4830840" y="1801440"/>
              <a:chExt cx="722160" cy="296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898880" y="180144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30840" y="18014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553000" y="1801440"/>
              <a:ext cx="720720" cy="296280"/>
              <a:chOff x="5553000" y="1801440"/>
              <a:chExt cx="720720" cy="296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621400" y="18014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53000" y="18014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73720" y="1801440"/>
              <a:ext cx="722520" cy="296280"/>
              <a:chOff x="6273720" y="1801440"/>
              <a:chExt cx="722520" cy="296280"/>
            </a:xfrm>
          </p:grpSpPr>
          <p:sp>
            <p:nvSpPr>
              <p:cNvPr id="316" name=""/>
              <p:cNvSpPr/>
              <p:nvPr/>
            </p:nvSpPr>
            <p:spPr>
              <a:xfrm>
                <a:off x="6342120" y="18014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73720" y="18014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996240" y="1801440"/>
              <a:ext cx="722160" cy="296280"/>
              <a:chOff x="6996240" y="1801440"/>
              <a:chExt cx="722160" cy="296280"/>
            </a:xfrm>
          </p:grpSpPr>
          <p:sp>
            <p:nvSpPr>
              <p:cNvPr id="319" name=""/>
              <p:cNvSpPr/>
              <p:nvPr/>
            </p:nvSpPr>
            <p:spPr>
              <a:xfrm>
                <a:off x="7064280" y="18014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7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96240" y="18014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955880" y="2098080"/>
              <a:ext cx="709560" cy="296280"/>
              <a:chOff x="1955880" y="2098080"/>
              <a:chExt cx="709560" cy="296280"/>
            </a:xfrm>
          </p:grpSpPr>
          <p:sp>
            <p:nvSpPr>
              <p:cNvPr id="322" name=""/>
              <p:cNvSpPr/>
              <p:nvPr/>
            </p:nvSpPr>
            <p:spPr>
              <a:xfrm>
                <a:off x="2023920" y="209808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955880" y="209808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665440" y="2098080"/>
              <a:ext cx="722160" cy="296280"/>
              <a:chOff x="2665440" y="2098080"/>
              <a:chExt cx="722160" cy="296280"/>
            </a:xfrm>
          </p:grpSpPr>
          <p:sp>
            <p:nvSpPr>
              <p:cNvPr id="325" name=""/>
              <p:cNvSpPr/>
              <p:nvPr/>
            </p:nvSpPr>
            <p:spPr>
              <a:xfrm>
                <a:off x="2733840" y="20980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65440" y="20980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387600" y="2098080"/>
              <a:ext cx="720720" cy="296280"/>
              <a:chOff x="3387600" y="2098080"/>
              <a:chExt cx="720720" cy="296280"/>
            </a:xfrm>
          </p:grpSpPr>
          <p:sp>
            <p:nvSpPr>
              <p:cNvPr id="328" name=""/>
              <p:cNvSpPr/>
              <p:nvPr/>
            </p:nvSpPr>
            <p:spPr>
              <a:xfrm>
                <a:off x="3456000" y="20980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87600" y="20980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108320" y="2098080"/>
              <a:ext cx="722520" cy="296280"/>
              <a:chOff x="4108320" y="2098080"/>
              <a:chExt cx="722520" cy="296280"/>
            </a:xfrm>
          </p:grpSpPr>
          <p:sp>
            <p:nvSpPr>
              <p:cNvPr id="331" name=""/>
              <p:cNvSpPr/>
              <p:nvPr/>
            </p:nvSpPr>
            <p:spPr>
              <a:xfrm>
                <a:off x="4176720" y="20980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108320" y="20980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830840" y="2098080"/>
              <a:ext cx="722160" cy="296280"/>
              <a:chOff x="4830840" y="2098080"/>
              <a:chExt cx="722160" cy="296280"/>
            </a:xfrm>
          </p:grpSpPr>
          <p:sp>
            <p:nvSpPr>
              <p:cNvPr id="334" name=""/>
              <p:cNvSpPr/>
              <p:nvPr/>
            </p:nvSpPr>
            <p:spPr>
              <a:xfrm>
                <a:off x="4898880" y="209808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30840" y="20980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5553000" y="2098080"/>
              <a:ext cx="720720" cy="296280"/>
              <a:chOff x="5553000" y="2098080"/>
              <a:chExt cx="720720" cy="296280"/>
            </a:xfrm>
          </p:grpSpPr>
          <p:sp>
            <p:nvSpPr>
              <p:cNvPr id="337" name=""/>
              <p:cNvSpPr/>
              <p:nvPr/>
            </p:nvSpPr>
            <p:spPr>
              <a:xfrm>
                <a:off x="5621400" y="20980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553000" y="20980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273720" y="2098080"/>
              <a:ext cx="722520" cy="296280"/>
              <a:chOff x="6273720" y="2098080"/>
              <a:chExt cx="722520" cy="296280"/>
            </a:xfrm>
          </p:grpSpPr>
          <p:sp>
            <p:nvSpPr>
              <p:cNvPr id="340" name=""/>
              <p:cNvSpPr/>
              <p:nvPr/>
            </p:nvSpPr>
            <p:spPr>
              <a:xfrm>
                <a:off x="6342120" y="20980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73720" y="20980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996240" y="2098080"/>
              <a:ext cx="722160" cy="296280"/>
              <a:chOff x="6996240" y="2098080"/>
              <a:chExt cx="722160" cy="296280"/>
            </a:xfrm>
          </p:grpSpPr>
          <p:sp>
            <p:nvSpPr>
              <p:cNvPr id="343" name=""/>
              <p:cNvSpPr/>
              <p:nvPr/>
            </p:nvSpPr>
            <p:spPr>
              <a:xfrm>
                <a:off x="7064280" y="20980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996240" y="20980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1955880" y="2394360"/>
              <a:ext cx="709560" cy="296280"/>
              <a:chOff x="1955880" y="2394360"/>
              <a:chExt cx="709560" cy="296280"/>
            </a:xfrm>
          </p:grpSpPr>
          <p:sp>
            <p:nvSpPr>
              <p:cNvPr id="346" name=""/>
              <p:cNvSpPr/>
              <p:nvPr/>
            </p:nvSpPr>
            <p:spPr>
              <a:xfrm>
                <a:off x="2023920" y="239436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55880" y="239436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2665440" y="2394360"/>
              <a:ext cx="722160" cy="296280"/>
              <a:chOff x="2665440" y="2394360"/>
              <a:chExt cx="722160" cy="296280"/>
            </a:xfrm>
          </p:grpSpPr>
          <p:sp>
            <p:nvSpPr>
              <p:cNvPr id="349" name=""/>
              <p:cNvSpPr/>
              <p:nvPr/>
            </p:nvSpPr>
            <p:spPr>
              <a:xfrm>
                <a:off x="2733840" y="23943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65440" y="23943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3387600" y="2394360"/>
              <a:ext cx="720720" cy="296280"/>
              <a:chOff x="3387600" y="2394360"/>
              <a:chExt cx="720720" cy="296280"/>
            </a:xfrm>
          </p:grpSpPr>
          <p:sp>
            <p:nvSpPr>
              <p:cNvPr id="352" name=""/>
              <p:cNvSpPr/>
              <p:nvPr/>
            </p:nvSpPr>
            <p:spPr>
              <a:xfrm>
                <a:off x="3456000" y="23943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387600" y="23943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108320" y="2394360"/>
              <a:ext cx="722520" cy="296280"/>
              <a:chOff x="4108320" y="2394360"/>
              <a:chExt cx="722520" cy="296280"/>
            </a:xfrm>
          </p:grpSpPr>
          <p:sp>
            <p:nvSpPr>
              <p:cNvPr id="355" name=""/>
              <p:cNvSpPr/>
              <p:nvPr/>
            </p:nvSpPr>
            <p:spPr>
              <a:xfrm>
                <a:off x="4176720" y="23943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08320" y="23943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830840" y="2394360"/>
              <a:ext cx="722160" cy="296280"/>
              <a:chOff x="4830840" y="2394360"/>
              <a:chExt cx="722160" cy="296280"/>
            </a:xfrm>
          </p:grpSpPr>
          <p:sp>
            <p:nvSpPr>
              <p:cNvPr id="358" name=""/>
              <p:cNvSpPr/>
              <p:nvPr/>
            </p:nvSpPr>
            <p:spPr>
              <a:xfrm>
                <a:off x="4898880" y="239436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30840" y="23943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553000" y="2394360"/>
              <a:ext cx="720720" cy="296280"/>
              <a:chOff x="5553000" y="2394360"/>
              <a:chExt cx="720720" cy="296280"/>
            </a:xfrm>
          </p:grpSpPr>
          <p:sp>
            <p:nvSpPr>
              <p:cNvPr id="361" name=""/>
              <p:cNvSpPr/>
              <p:nvPr/>
            </p:nvSpPr>
            <p:spPr>
              <a:xfrm>
                <a:off x="5621400" y="23943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53000" y="23943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273720" y="2394360"/>
              <a:ext cx="722520" cy="296280"/>
              <a:chOff x="6273720" y="2394360"/>
              <a:chExt cx="722520" cy="296280"/>
            </a:xfrm>
          </p:grpSpPr>
          <p:sp>
            <p:nvSpPr>
              <p:cNvPr id="364" name=""/>
              <p:cNvSpPr/>
              <p:nvPr/>
            </p:nvSpPr>
            <p:spPr>
              <a:xfrm>
                <a:off x="6342120" y="23943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73720" y="23943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996240" y="2394360"/>
              <a:ext cx="722160" cy="296280"/>
              <a:chOff x="6996240" y="2394360"/>
              <a:chExt cx="722160" cy="296280"/>
            </a:xfrm>
          </p:grpSpPr>
          <p:sp>
            <p:nvSpPr>
              <p:cNvPr id="367" name=""/>
              <p:cNvSpPr/>
              <p:nvPr/>
            </p:nvSpPr>
            <p:spPr>
              <a:xfrm>
                <a:off x="7064280" y="23943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6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96240" y="23943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955880" y="2690640"/>
              <a:ext cx="709560" cy="296280"/>
              <a:chOff x="1955880" y="2690640"/>
              <a:chExt cx="709560" cy="296280"/>
            </a:xfrm>
          </p:grpSpPr>
          <p:sp>
            <p:nvSpPr>
              <p:cNvPr id="370" name=""/>
              <p:cNvSpPr/>
              <p:nvPr/>
            </p:nvSpPr>
            <p:spPr>
              <a:xfrm>
                <a:off x="2023920" y="269064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55880" y="269064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665440" y="2690640"/>
              <a:ext cx="722160" cy="296280"/>
              <a:chOff x="2665440" y="2690640"/>
              <a:chExt cx="722160" cy="296280"/>
            </a:xfrm>
          </p:grpSpPr>
          <p:sp>
            <p:nvSpPr>
              <p:cNvPr id="373" name=""/>
              <p:cNvSpPr/>
              <p:nvPr/>
            </p:nvSpPr>
            <p:spPr>
              <a:xfrm>
                <a:off x="2733840" y="26906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65440" y="26906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387600" y="2690640"/>
              <a:ext cx="720720" cy="296280"/>
              <a:chOff x="3387600" y="2690640"/>
              <a:chExt cx="720720" cy="296280"/>
            </a:xfrm>
          </p:grpSpPr>
          <p:sp>
            <p:nvSpPr>
              <p:cNvPr id="376" name=""/>
              <p:cNvSpPr/>
              <p:nvPr/>
            </p:nvSpPr>
            <p:spPr>
              <a:xfrm>
                <a:off x="3456000" y="26906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87600" y="26906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108320" y="2690640"/>
              <a:ext cx="722520" cy="296280"/>
              <a:chOff x="4108320" y="2690640"/>
              <a:chExt cx="722520" cy="296280"/>
            </a:xfrm>
          </p:grpSpPr>
          <p:sp>
            <p:nvSpPr>
              <p:cNvPr id="379" name=""/>
              <p:cNvSpPr/>
              <p:nvPr/>
            </p:nvSpPr>
            <p:spPr>
              <a:xfrm>
                <a:off x="4176720" y="26906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08320" y="26906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830840" y="2690640"/>
              <a:ext cx="722160" cy="296280"/>
              <a:chOff x="4830840" y="2690640"/>
              <a:chExt cx="722160" cy="296280"/>
            </a:xfrm>
          </p:grpSpPr>
          <p:sp>
            <p:nvSpPr>
              <p:cNvPr id="382" name=""/>
              <p:cNvSpPr/>
              <p:nvPr/>
            </p:nvSpPr>
            <p:spPr>
              <a:xfrm>
                <a:off x="4898880" y="269064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30840" y="26906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5553000" y="2690640"/>
              <a:ext cx="720720" cy="296280"/>
              <a:chOff x="5553000" y="2690640"/>
              <a:chExt cx="720720" cy="296280"/>
            </a:xfrm>
          </p:grpSpPr>
          <p:sp>
            <p:nvSpPr>
              <p:cNvPr id="385" name=""/>
              <p:cNvSpPr/>
              <p:nvPr/>
            </p:nvSpPr>
            <p:spPr>
              <a:xfrm>
                <a:off x="5621400" y="26906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553000" y="26906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273720" y="2690640"/>
              <a:ext cx="722520" cy="296280"/>
              <a:chOff x="6273720" y="2690640"/>
              <a:chExt cx="722520" cy="296280"/>
            </a:xfrm>
          </p:grpSpPr>
          <p:sp>
            <p:nvSpPr>
              <p:cNvPr id="388" name=""/>
              <p:cNvSpPr/>
              <p:nvPr/>
            </p:nvSpPr>
            <p:spPr>
              <a:xfrm>
                <a:off x="6342120" y="26906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73720" y="26906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996240" y="2690640"/>
              <a:ext cx="722160" cy="296280"/>
              <a:chOff x="6996240" y="2690640"/>
              <a:chExt cx="722160" cy="296280"/>
            </a:xfrm>
          </p:grpSpPr>
          <p:sp>
            <p:nvSpPr>
              <p:cNvPr id="391" name=""/>
              <p:cNvSpPr/>
              <p:nvPr/>
            </p:nvSpPr>
            <p:spPr>
              <a:xfrm>
                <a:off x="7064280" y="26906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96240" y="26906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955880" y="2987280"/>
              <a:ext cx="709560" cy="296280"/>
              <a:chOff x="1955880" y="2987280"/>
              <a:chExt cx="709560" cy="296280"/>
            </a:xfrm>
          </p:grpSpPr>
          <p:sp>
            <p:nvSpPr>
              <p:cNvPr id="394" name=""/>
              <p:cNvSpPr/>
              <p:nvPr/>
            </p:nvSpPr>
            <p:spPr>
              <a:xfrm>
                <a:off x="2023920" y="298728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55880" y="298728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665440" y="2987280"/>
              <a:ext cx="722160" cy="296280"/>
              <a:chOff x="2665440" y="2987280"/>
              <a:chExt cx="722160" cy="296280"/>
            </a:xfrm>
          </p:grpSpPr>
          <p:sp>
            <p:nvSpPr>
              <p:cNvPr id="397" name=""/>
              <p:cNvSpPr/>
              <p:nvPr/>
            </p:nvSpPr>
            <p:spPr>
              <a:xfrm>
                <a:off x="2733840" y="29872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65440" y="29872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3387600" y="2987280"/>
              <a:ext cx="720720" cy="296280"/>
              <a:chOff x="3387600" y="2987280"/>
              <a:chExt cx="720720" cy="296280"/>
            </a:xfrm>
          </p:grpSpPr>
          <p:sp>
            <p:nvSpPr>
              <p:cNvPr id="400" name=""/>
              <p:cNvSpPr/>
              <p:nvPr/>
            </p:nvSpPr>
            <p:spPr>
              <a:xfrm>
                <a:off x="3456000" y="29872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387600" y="29872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108320" y="2987280"/>
              <a:ext cx="722520" cy="296280"/>
              <a:chOff x="4108320" y="2987280"/>
              <a:chExt cx="722520" cy="296280"/>
            </a:xfrm>
          </p:grpSpPr>
          <p:sp>
            <p:nvSpPr>
              <p:cNvPr id="403" name=""/>
              <p:cNvSpPr/>
              <p:nvPr/>
            </p:nvSpPr>
            <p:spPr>
              <a:xfrm>
                <a:off x="4176720" y="29872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08320" y="29872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4830840" y="2987280"/>
              <a:ext cx="722160" cy="296280"/>
              <a:chOff x="4830840" y="2987280"/>
              <a:chExt cx="722160" cy="296280"/>
            </a:xfrm>
          </p:grpSpPr>
          <p:sp>
            <p:nvSpPr>
              <p:cNvPr id="406" name=""/>
              <p:cNvSpPr/>
              <p:nvPr/>
            </p:nvSpPr>
            <p:spPr>
              <a:xfrm>
                <a:off x="4898880" y="298728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30840" y="29872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553000" y="2987280"/>
              <a:ext cx="720720" cy="296280"/>
              <a:chOff x="5553000" y="2987280"/>
              <a:chExt cx="720720" cy="296280"/>
            </a:xfrm>
          </p:grpSpPr>
          <p:sp>
            <p:nvSpPr>
              <p:cNvPr id="409" name=""/>
              <p:cNvSpPr/>
              <p:nvPr/>
            </p:nvSpPr>
            <p:spPr>
              <a:xfrm>
                <a:off x="5621400" y="29872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3000" y="29872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273720" y="2987280"/>
              <a:ext cx="722520" cy="296280"/>
              <a:chOff x="6273720" y="2987280"/>
              <a:chExt cx="722520" cy="296280"/>
            </a:xfrm>
          </p:grpSpPr>
          <p:sp>
            <p:nvSpPr>
              <p:cNvPr id="412" name=""/>
              <p:cNvSpPr/>
              <p:nvPr/>
            </p:nvSpPr>
            <p:spPr>
              <a:xfrm>
                <a:off x="6342120" y="29872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273720" y="29872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6996240" y="2987280"/>
              <a:ext cx="722160" cy="296280"/>
              <a:chOff x="6996240" y="2987280"/>
              <a:chExt cx="722160" cy="296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064280" y="29872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5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96240" y="29872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955880" y="3283920"/>
              <a:ext cx="709560" cy="296280"/>
              <a:chOff x="1955880" y="3283920"/>
              <a:chExt cx="709560" cy="296280"/>
            </a:xfrm>
          </p:grpSpPr>
          <p:sp>
            <p:nvSpPr>
              <p:cNvPr id="418" name=""/>
              <p:cNvSpPr/>
              <p:nvPr/>
            </p:nvSpPr>
            <p:spPr>
              <a:xfrm>
                <a:off x="2023920" y="328392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55880" y="328392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665440" y="3283920"/>
              <a:ext cx="722160" cy="296280"/>
              <a:chOff x="2665440" y="3283920"/>
              <a:chExt cx="722160" cy="296280"/>
            </a:xfrm>
          </p:grpSpPr>
          <p:sp>
            <p:nvSpPr>
              <p:cNvPr id="421" name=""/>
              <p:cNvSpPr/>
              <p:nvPr/>
            </p:nvSpPr>
            <p:spPr>
              <a:xfrm>
                <a:off x="2733840" y="32839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65440" y="32839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387600" y="3283920"/>
              <a:ext cx="720720" cy="296280"/>
              <a:chOff x="3387600" y="3283920"/>
              <a:chExt cx="720720" cy="296280"/>
            </a:xfrm>
          </p:grpSpPr>
          <p:sp>
            <p:nvSpPr>
              <p:cNvPr id="424" name=""/>
              <p:cNvSpPr/>
              <p:nvPr/>
            </p:nvSpPr>
            <p:spPr>
              <a:xfrm>
                <a:off x="3456000" y="32839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87600" y="32839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4108320" y="3283920"/>
              <a:ext cx="722520" cy="296280"/>
              <a:chOff x="4108320" y="3283920"/>
              <a:chExt cx="722520" cy="296280"/>
            </a:xfrm>
          </p:grpSpPr>
          <p:sp>
            <p:nvSpPr>
              <p:cNvPr id="427" name=""/>
              <p:cNvSpPr/>
              <p:nvPr/>
            </p:nvSpPr>
            <p:spPr>
              <a:xfrm>
                <a:off x="4176720" y="32839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108320" y="32839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4830840" y="3283920"/>
              <a:ext cx="722160" cy="296280"/>
              <a:chOff x="4830840" y="3283920"/>
              <a:chExt cx="722160" cy="296280"/>
            </a:xfrm>
          </p:grpSpPr>
          <p:sp>
            <p:nvSpPr>
              <p:cNvPr id="430" name=""/>
              <p:cNvSpPr/>
              <p:nvPr/>
            </p:nvSpPr>
            <p:spPr>
              <a:xfrm>
                <a:off x="4898880" y="328392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30840" y="32839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553000" y="3283920"/>
              <a:ext cx="720720" cy="296280"/>
              <a:chOff x="5553000" y="3283920"/>
              <a:chExt cx="720720" cy="296280"/>
            </a:xfrm>
          </p:grpSpPr>
          <p:sp>
            <p:nvSpPr>
              <p:cNvPr id="433" name=""/>
              <p:cNvSpPr/>
              <p:nvPr/>
            </p:nvSpPr>
            <p:spPr>
              <a:xfrm>
                <a:off x="5621400" y="32839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553000" y="32839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273720" y="3283920"/>
              <a:ext cx="722520" cy="296280"/>
              <a:chOff x="6273720" y="3283920"/>
              <a:chExt cx="722520" cy="296280"/>
            </a:xfrm>
          </p:grpSpPr>
          <p:sp>
            <p:nvSpPr>
              <p:cNvPr id="436" name=""/>
              <p:cNvSpPr/>
              <p:nvPr/>
            </p:nvSpPr>
            <p:spPr>
              <a:xfrm>
                <a:off x="6342120" y="32839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73720" y="32839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6996240" y="3283920"/>
              <a:ext cx="722160" cy="296280"/>
              <a:chOff x="6996240" y="3283920"/>
              <a:chExt cx="722160" cy="296280"/>
            </a:xfrm>
          </p:grpSpPr>
          <p:sp>
            <p:nvSpPr>
              <p:cNvPr id="439" name=""/>
              <p:cNvSpPr/>
              <p:nvPr/>
            </p:nvSpPr>
            <p:spPr>
              <a:xfrm>
                <a:off x="7064280" y="32839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996240" y="32839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1955880" y="3580200"/>
              <a:ext cx="709560" cy="296280"/>
              <a:chOff x="1955880" y="3580200"/>
              <a:chExt cx="709560" cy="296280"/>
            </a:xfrm>
          </p:grpSpPr>
          <p:sp>
            <p:nvSpPr>
              <p:cNvPr id="442" name=""/>
              <p:cNvSpPr/>
              <p:nvPr/>
            </p:nvSpPr>
            <p:spPr>
              <a:xfrm>
                <a:off x="2023920" y="358020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55880" y="358020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665440" y="3580200"/>
              <a:ext cx="722160" cy="296280"/>
              <a:chOff x="2665440" y="3580200"/>
              <a:chExt cx="722160" cy="296280"/>
            </a:xfrm>
          </p:grpSpPr>
          <p:sp>
            <p:nvSpPr>
              <p:cNvPr id="445" name=""/>
              <p:cNvSpPr/>
              <p:nvPr/>
            </p:nvSpPr>
            <p:spPr>
              <a:xfrm>
                <a:off x="2733840" y="35802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665440" y="35802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387600" y="3580200"/>
              <a:ext cx="720720" cy="296280"/>
              <a:chOff x="3387600" y="3580200"/>
              <a:chExt cx="720720" cy="296280"/>
            </a:xfrm>
          </p:grpSpPr>
          <p:sp>
            <p:nvSpPr>
              <p:cNvPr id="448" name=""/>
              <p:cNvSpPr/>
              <p:nvPr/>
            </p:nvSpPr>
            <p:spPr>
              <a:xfrm>
                <a:off x="3456000" y="35802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87600" y="35802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108320" y="3580200"/>
              <a:ext cx="722520" cy="296280"/>
              <a:chOff x="4108320" y="3580200"/>
              <a:chExt cx="722520" cy="296280"/>
            </a:xfrm>
          </p:grpSpPr>
          <p:sp>
            <p:nvSpPr>
              <p:cNvPr id="451" name=""/>
              <p:cNvSpPr/>
              <p:nvPr/>
            </p:nvSpPr>
            <p:spPr>
              <a:xfrm>
                <a:off x="4176720" y="35802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08320" y="35802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830840" y="3580200"/>
              <a:ext cx="722160" cy="296280"/>
              <a:chOff x="4830840" y="3580200"/>
              <a:chExt cx="722160" cy="296280"/>
            </a:xfrm>
          </p:grpSpPr>
          <p:sp>
            <p:nvSpPr>
              <p:cNvPr id="454" name=""/>
              <p:cNvSpPr/>
              <p:nvPr/>
            </p:nvSpPr>
            <p:spPr>
              <a:xfrm>
                <a:off x="4898880" y="358020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30840" y="35802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553000" y="3580200"/>
              <a:ext cx="720720" cy="296280"/>
              <a:chOff x="5553000" y="3580200"/>
              <a:chExt cx="720720" cy="296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621400" y="35802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553000" y="35802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273720" y="3580200"/>
              <a:ext cx="722520" cy="296280"/>
              <a:chOff x="6273720" y="3580200"/>
              <a:chExt cx="722520" cy="296280"/>
            </a:xfrm>
          </p:grpSpPr>
          <p:sp>
            <p:nvSpPr>
              <p:cNvPr id="460" name=""/>
              <p:cNvSpPr/>
              <p:nvPr/>
            </p:nvSpPr>
            <p:spPr>
              <a:xfrm>
                <a:off x="6342120" y="35802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273720" y="35802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996240" y="3580200"/>
              <a:ext cx="722160" cy="296280"/>
              <a:chOff x="6996240" y="3580200"/>
              <a:chExt cx="722160" cy="296280"/>
            </a:xfrm>
          </p:grpSpPr>
          <p:sp>
            <p:nvSpPr>
              <p:cNvPr id="463" name=""/>
              <p:cNvSpPr/>
              <p:nvPr/>
            </p:nvSpPr>
            <p:spPr>
              <a:xfrm>
                <a:off x="7064280" y="35802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4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996240" y="35802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955880" y="3876840"/>
              <a:ext cx="709560" cy="296280"/>
              <a:chOff x="1955880" y="3876840"/>
              <a:chExt cx="709560" cy="296280"/>
            </a:xfrm>
          </p:grpSpPr>
          <p:sp>
            <p:nvSpPr>
              <p:cNvPr id="466" name=""/>
              <p:cNvSpPr/>
              <p:nvPr/>
            </p:nvSpPr>
            <p:spPr>
              <a:xfrm>
                <a:off x="2023920" y="387684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955880" y="387684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665440" y="3876840"/>
              <a:ext cx="722160" cy="296280"/>
              <a:chOff x="2665440" y="3876840"/>
              <a:chExt cx="722160" cy="296280"/>
            </a:xfrm>
          </p:grpSpPr>
          <p:sp>
            <p:nvSpPr>
              <p:cNvPr id="469" name=""/>
              <p:cNvSpPr/>
              <p:nvPr/>
            </p:nvSpPr>
            <p:spPr>
              <a:xfrm>
                <a:off x="2733840" y="38768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65440" y="38768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387600" y="3876840"/>
              <a:ext cx="720720" cy="296280"/>
              <a:chOff x="3387600" y="3876840"/>
              <a:chExt cx="720720" cy="296280"/>
            </a:xfrm>
          </p:grpSpPr>
          <p:sp>
            <p:nvSpPr>
              <p:cNvPr id="472" name=""/>
              <p:cNvSpPr/>
              <p:nvPr/>
            </p:nvSpPr>
            <p:spPr>
              <a:xfrm>
                <a:off x="3456000" y="38768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87600" y="38768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108320" y="3876840"/>
              <a:ext cx="722520" cy="296280"/>
              <a:chOff x="4108320" y="3876840"/>
              <a:chExt cx="722520" cy="296280"/>
            </a:xfrm>
          </p:grpSpPr>
          <p:sp>
            <p:nvSpPr>
              <p:cNvPr id="475" name=""/>
              <p:cNvSpPr/>
              <p:nvPr/>
            </p:nvSpPr>
            <p:spPr>
              <a:xfrm>
                <a:off x="4176720" y="38768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08320" y="38768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830840" y="3876840"/>
              <a:ext cx="722160" cy="296280"/>
              <a:chOff x="4830840" y="3876840"/>
              <a:chExt cx="722160" cy="296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898880" y="387684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830840" y="38768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553000" y="3876840"/>
              <a:ext cx="720720" cy="296280"/>
              <a:chOff x="5553000" y="3876840"/>
              <a:chExt cx="720720" cy="296280"/>
            </a:xfrm>
          </p:grpSpPr>
          <p:sp>
            <p:nvSpPr>
              <p:cNvPr id="481" name=""/>
              <p:cNvSpPr/>
              <p:nvPr/>
            </p:nvSpPr>
            <p:spPr>
              <a:xfrm>
                <a:off x="5621400" y="38768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53000" y="38768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273720" y="3876840"/>
              <a:ext cx="722520" cy="296280"/>
              <a:chOff x="6273720" y="3876840"/>
              <a:chExt cx="722520" cy="296280"/>
            </a:xfrm>
          </p:grpSpPr>
          <p:sp>
            <p:nvSpPr>
              <p:cNvPr id="484" name=""/>
              <p:cNvSpPr/>
              <p:nvPr/>
            </p:nvSpPr>
            <p:spPr>
              <a:xfrm>
                <a:off x="6342120" y="38768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273720" y="38768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6996240" y="3876840"/>
              <a:ext cx="722160" cy="296280"/>
              <a:chOff x="6996240" y="3876840"/>
              <a:chExt cx="722160" cy="296280"/>
            </a:xfrm>
          </p:grpSpPr>
          <p:sp>
            <p:nvSpPr>
              <p:cNvPr id="487" name=""/>
              <p:cNvSpPr/>
              <p:nvPr/>
            </p:nvSpPr>
            <p:spPr>
              <a:xfrm>
                <a:off x="7064280" y="38768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96240" y="38768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1955880" y="4173120"/>
              <a:ext cx="709560" cy="296280"/>
              <a:chOff x="1955880" y="4173120"/>
              <a:chExt cx="709560" cy="296280"/>
            </a:xfrm>
          </p:grpSpPr>
          <p:sp>
            <p:nvSpPr>
              <p:cNvPr id="490" name=""/>
              <p:cNvSpPr/>
              <p:nvPr/>
            </p:nvSpPr>
            <p:spPr>
              <a:xfrm>
                <a:off x="2023920" y="417312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880" y="417312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665440" y="4173120"/>
              <a:ext cx="722160" cy="296280"/>
              <a:chOff x="2665440" y="4173120"/>
              <a:chExt cx="722160" cy="296280"/>
            </a:xfrm>
          </p:grpSpPr>
          <p:sp>
            <p:nvSpPr>
              <p:cNvPr id="493" name=""/>
              <p:cNvSpPr/>
              <p:nvPr/>
            </p:nvSpPr>
            <p:spPr>
              <a:xfrm>
                <a:off x="2733840" y="41731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665440" y="41731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387600" y="4173120"/>
              <a:ext cx="720720" cy="296280"/>
              <a:chOff x="3387600" y="4173120"/>
              <a:chExt cx="720720" cy="296280"/>
            </a:xfrm>
          </p:grpSpPr>
          <p:sp>
            <p:nvSpPr>
              <p:cNvPr id="496" name=""/>
              <p:cNvSpPr/>
              <p:nvPr/>
            </p:nvSpPr>
            <p:spPr>
              <a:xfrm>
                <a:off x="3456000" y="41731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87600" y="41731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4108320" y="4173120"/>
              <a:ext cx="722520" cy="296280"/>
              <a:chOff x="4108320" y="4173120"/>
              <a:chExt cx="722520" cy="296280"/>
            </a:xfrm>
          </p:grpSpPr>
          <p:sp>
            <p:nvSpPr>
              <p:cNvPr id="499" name=""/>
              <p:cNvSpPr/>
              <p:nvPr/>
            </p:nvSpPr>
            <p:spPr>
              <a:xfrm>
                <a:off x="4176720" y="41731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108320" y="41731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830840" y="4173120"/>
              <a:ext cx="722160" cy="296280"/>
              <a:chOff x="4830840" y="4173120"/>
              <a:chExt cx="722160" cy="296280"/>
            </a:xfrm>
          </p:grpSpPr>
          <p:sp>
            <p:nvSpPr>
              <p:cNvPr id="502" name=""/>
              <p:cNvSpPr/>
              <p:nvPr/>
            </p:nvSpPr>
            <p:spPr>
              <a:xfrm>
                <a:off x="4898880" y="417312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830840" y="41731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553000" y="4173120"/>
              <a:ext cx="720720" cy="296280"/>
              <a:chOff x="5553000" y="4173120"/>
              <a:chExt cx="720720" cy="296280"/>
            </a:xfrm>
          </p:grpSpPr>
          <p:sp>
            <p:nvSpPr>
              <p:cNvPr id="505" name=""/>
              <p:cNvSpPr/>
              <p:nvPr/>
            </p:nvSpPr>
            <p:spPr>
              <a:xfrm>
                <a:off x="5621400" y="417312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53000" y="417312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273720" y="4173120"/>
              <a:ext cx="722520" cy="296280"/>
              <a:chOff x="6273720" y="4173120"/>
              <a:chExt cx="722520" cy="296280"/>
            </a:xfrm>
          </p:grpSpPr>
          <p:sp>
            <p:nvSpPr>
              <p:cNvPr id="508" name=""/>
              <p:cNvSpPr/>
              <p:nvPr/>
            </p:nvSpPr>
            <p:spPr>
              <a:xfrm>
                <a:off x="6342120" y="41731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73720" y="417312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996240" y="4173120"/>
              <a:ext cx="722160" cy="296280"/>
              <a:chOff x="6996240" y="4173120"/>
              <a:chExt cx="722160" cy="296280"/>
            </a:xfrm>
          </p:grpSpPr>
          <p:sp>
            <p:nvSpPr>
              <p:cNvPr id="511" name=""/>
              <p:cNvSpPr/>
              <p:nvPr/>
            </p:nvSpPr>
            <p:spPr>
              <a:xfrm>
                <a:off x="7064280" y="417312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3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96240" y="417312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955880" y="4469760"/>
              <a:ext cx="709560" cy="296280"/>
              <a:chOff x="1955880" y="4469760"/>
              <a:chExt cx="709560" cy="296280"/>
            </a:xfrm>
          </p:grpSpPr>
          <p:sp>
            <p:nvSpPr>
              <p:cNvPr id="514" name=""/>
              <p:cNvSpPr/>
              <p:nvPr/>
            </p:nvSpPr>
            <p:spPr>
              <a:xfrm>
                <a:off x="2023920" y="446976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55880" y="446976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2665440" y="4469760"/>
              <a:ext cx="722160" cy="296280"/>
              <a:chOff x="2665440" y="4469760"/>
              <a:chExt cx="722160" cy="296280"/>
            </a:xfrm>
          </p:grpSpPr>
          <p:sp>
            <p:nvSpPr>
              <p:cNvPr id="517" name=""/>
              <p:cNvSpPr/>
              <p:nvPr/>
            </p:nvSpPr>
            <p:spPr>
              <a:xfrm>
                <a:off x="2733840" y="44697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65440" y="44697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387600" y="4469760"/>
              <a:ext cx="720720" cy="296280"/>
              <a:chOff x="3387600" y="4469760"/>
              <a:chExt cx="720720" cy="296280"/>
            </a:xfrm>
          </p:grpSpPr>
          <p:sp>
            <p:nvSpPr>
              <p:cNvPr id="520" name=""/>
              <p:cNvSpPr/>
              <p:nvPr/>
            </p:nvSpPr>
            <p:spPr>
              <a:xfrm>
                <a:off x="3456000" y="44697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387600" y="44697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4108320" y="4469760"/>
              <a:ext cx="722520" cy="296280"/>
              <a:chOff x="4108320" y="4469760"/>
              <a:chExt cx="722520" cy="296280"/>
            </a:xfrm>
          </p:grpSpPr>
          <p:sp>
            <p:nvSpPr>
              <p:cNvPr id="523" name=""/>
              <p:cNvSpPr/>
              <p:nvPr/>
            </p:nvSpPr>
            <p:spPr>
              <a:xfrm>
                <a:off x="4176720" y="44697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08320" y="44697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4830840" y="4469760"/>
              <a:ext cx="722160" cy="296280"/>
              <a:chOff x="4830840" y="4469760"/>
              <a:chExt cx="722160" cy="296280"/>
            </a:xfrm>
          </p:grpSpPr>
          <p:sp>
            <p:nvSpPr>
              <p:cNvPr id="526" name=""/>
              <p:cNvSpPr/>
              <p:nvPr/>
            </p:nvSpPr>
            <p:spPr>
              <a:xfrm>
                <a:off x="4898880" y="446976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30840" y="44697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553000" y="4469760"/>
              <a:ext cx="720720" cy="296280"/>
              <a:chOff x="5553000" y="4469760"/>
              <a:chExt cx="720720" cy="296280"/>
            </a:xfrm>
          </p:grpSpPr>
          <p:sp>
            <p:nvSpPr>
              <p:cNvPr id="529" name=""/>
              <p:cNvSpPr/>
              <p:nvPr/>
            </p:nvSpPr>
            <p:spPr>
              <a:xfrm>
                <a:off x="5621400" y="44697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553000" y="44697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6273720" y="4469760"/>
              <a:ext cx="722520" cy="296280"/>
              <a:chOff x="6273720" y="4469760"/>
              <a:chExt cx="722520" cy="296280"/>
            </a:xfrm>
          </p:grpSpPr>
          <p:sp>
            <p:nvSpPr>
              <p:cNvPr id="532" name=""/>
              <p:cNvSpPr/>
              <p:nvPr/>
            </p:nvSpPr>
            <p:spPr>
              <a:xfrm>
                <a:off x="6342120" y="44697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73720" y="44697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996240" y="4469760"/>
              <a:ext cx="722160" cy="296280"/>
              <a:chOff x="6996240" y="4469760"/>
              <a:chExt cx="722160" cy="296280"/>
            </a:xfrm>
          </p:grpSpPr>
          <p:sp>
            <p:nvSpPr>
              <p:cNvPr id="535" name=""/>
              <p:cNvSpPr/>
              <p:nvPr/>
            </p:nvSpPr>
            <p:spPr>
              <a:xfrm>
                <a:off x="7064280" y="44697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96240" y="44697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955880" y="4766400"/>
              <a:ext cx="709560" cy="296280"/>
              <a:chOff x="1955880" y="4766400"/>
              <a:chExt cx="709560" cy="296280"/>
            </a:xfrm>
          </p:grpSpPr>
          <p:sp>
            <p:nvSpPr>
              <p:cNvPr id="538" name=""/>
              <p:cNvSpPr/>
              <p:nvPr/>
            </p:nvSpPr>
            <p:spPr>
              <a:xfrm>
                <a:off x="2023920" y="476640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955880" y="476640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2665440" y="4766400"/>
              <a:ext cx="722160" cy="296280"/>
              <a:chOff x="2665440" y="4766400"/>
              <a:chExt cx="722160" cy="296280"/>
            </a:xfrm>
          </p:grpSpPr>
          <p:sp>
            <p:nvSpPr>
              <p:cNvPr id="541" name=""/>
              <p:cNvSpPr/>
              <p:nvPr/>
            </p:nvSpPr>
            <p:spPr>
              <a:xfrm>
                <a:off x="2733840" y="47664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665440" y="47664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3387600" y="4766400"/>
              <a:ext cx="720720" cy="296280"/>
              <a:chOff x="3387600" y="4766400"/>
              <a:chExt cx="720720" cy="296280"/>
            </a:xfrm>
          </p:grpSpPr>
          <p:sp>
            <p:nvSpPr>
              <p:cNvPr id="544" name=""/>
              <p:cNvSpPr/>
              <p:nvPr/>
            </p:nvSpPr>
            <p:spPr>
              <a:xfrm>
                <a:off x="3456000" y="47664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87600" y="47664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108320" y="4766400"/>
              <a:ext cx="722520" cy="296280"/>
              <a:chOff x="4108320" y="4766400"/>
              <a:chExt cx="722520" cy="296280"/>
            </a:xfrm>
          </p:grpSpPr>
          <p:sp>
            <p:nvSpPr>
              <p:cNvPr id="547" name=""/>
              <p:cNvSpPr/>
              <p:nvPr/>
            </p:nvSpPr>
            <p:spPr>
              <a:xfrm>
                <a:off x="4176720" y="47664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08320" y="47664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830840" y="4766400"/>
              <a:ext cx="722160" cy="296280"/>
              <a:chOff x="4830840" y="4766400"/>
              <a:chExt cx="722160" cy="296280"/>
            </a:xfrm>
          </p:grpSpPr>
          <p:sp>
            <p:nvSpPr>
              <p:cNvPr id="550" name=""/>
              <p:cNvSpPr/>
              <p:nvPr/>
            </p:nvSpPr>
            <p:spPr>
              <a:xfrm>
                <a:off x="4898880" y="476640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30840" y="47664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553000" y="4766400"/>
              <a:ext cx="720720" cy="296280"/>
              <a:chOff x="5553000" y="4766400"/>
              <a:chExt cx="720720" cy="296280"/>
            </a:xfrm>
          </p:grpSpPr>
          <p:sp>
            <p:nvSpPr>
              <p:cNvPr id="553" name=""/>
              <p:cNvSpPr/>
              <p:nvPr/>
            </p:nvSpPr>
            <p:spPr>
              <a:xfrm>
                <a:off x="5621400" y="47664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553000" y="47664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273720" y="4766400"/>
              <a:ext cx="722520" cy="296280"/>
              <a:chOff x="6273720" y="4766400"/>
              <a:chExt cx="722520" cy="296280"/>
            </a:xfrm>
          </p:grpSpPr>
          <p:sp>
            <p:nvSpPr>
              <p:cNvPr id="556" name=""/>
              <p:cNvSpPr/>
              <p:nvPr/>
            </p:nvSpPr>
            <p:spPr>
              <a:xfrm>
                <a:off x="6342120" y="47664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273720" y="47664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6996240" y="4766400"/>
              <a:ext cx="722160" cy="296280"/>
              <a:chOff x="6996240" y="4766400"/>
              <a:chExt cx="722160" cy="296280"/>
            </a:xfrm>
          </p:grpSpPr>
          <p:sp>
            <p:nvSpPr>
              <p:cNvPr id="559" name=""/>
              <p:cNvSpPr/>
              <p:nvPr/>
            </p:nvSpPr>
            <p:spPr>
              <a:xfrm>
                <a:off x="7064280" y="47664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2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996240" y="47664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955880" y="5062680"/>
              <a:ext cx="709560" cy="296280"/>
              <a:chOff x="1955880" y="5062680"/>
              <a:chExt cx="709560" cy="296280"/>
            </a:xfrm>
          </p:grpSpPr>
          <p:sp>
            <p:nvSpPr>
              <p:cNvPr id="562" name=""/>
              <p:cNvSpPr/>
              <p:nvPr/>
            </p:nvSpPr>
            <p:spPr>
              <a:xfrm>
                <a:off x="2023920" y="506268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55880" y="506268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665440" y="5062680"/>
              <a:ext cx="722160" cy="296280"/>
              <a:chOff x="2665440" y="5062680"/>
              <a:chExt cx="722160" cy="296280"/>
            </a:xfrm>
          </p:grpSpPr>
          <p:sp>
            <p:nvSpPr>
              <p:cNvPr id="565" name=""/>
              <p:cNvSpPr/>
              <p:nvPr/>
            </p:nvSpPr>
            <p:spPr>
              <a:xfrm>
                <a:off x="2733840" y="50626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65440" y="50626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387600" y="5062680"/>
              <a:ext cx="720720" cy="296280"/>
              <a:chOff x="3387600" y="5062680"/>
              <a:chExt cx="720720" cy="296280"/>
            </a:xfrm>
          </p:grpSpPr>
          <p:sp>
            <p:nvSpPr>
              <p:cNvPr id="568" name=""/>
              <p:cNvSpPr/>
              <p:nvPr/>
            </p:nvSpPr>
            <p:spPr>
              <a:xfrm>
                <a:off x="3456000" y="50626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87600" y="50626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108320" y="5062680"/>
              <a:ext cx="722520" cy="296280"/>
              <a:chOff x="4108320" y="5062680"/>
              <a:chExt cx="722520" cy="296280"/>
            </a:xfrm>
          </p:grpSpPr>
          <p:sp>
            <p:nvSpPr>
              <p:cNvPr id="571" name=""/>
              <p:cNvSpPr/>
              <p:nvPr/>
            </p:nvSpPr>
            <p:spPr>
              <a:xfrm>
                <a:off x="4176720" y="50626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108320" y="50626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830840" y="5062680"/>
              <a:ext cx="722160" cy="296280"/>
              <a:chOff x="4830840" y="5062680"/>
              <a:chExt cx="722160" cy="296280"/>
            </a:xfrm>
          </p:grpSpPr>
          <p:sp>
            <p:nvSpPr>
              <p:cNvPr id="574" name=""/>
              <p:cNvSpPr/>
              <p:nvPr/>
            </p:nvSpPr>
            <p:spPr>
              <a:xfrm>
                <a:off x="4898880" y="506268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830840" y="50626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5553000" y="5062680"/>
              <a:ext cx="720720" cy="296280"/>
              <a:chOff x="5553000" y="5062680"/>
              <a:chExt cx="720720" cy="296280"/>
            </a:xfrm>
          </p:grpSpPr>
          <p:sp>
            <p:nvSpPr>
              <p:cNvPr id="577" name=""/>
              <p:cNvSpPr/>
              <p:nvPr/>
            </p:nvSpPr>
            <p:spPr>
              <a:xfrm>
                <a:off x="5621400" y="506268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553000" y="506268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273720" y="5062680"/>
              <a:ext cx="722520" cy="296280"/>
              <a:chOff x="6273720" y="5062680"/>
              <a:chExt cx="722520" cy="296280"/>
            </a:xfrm>
          </p:grpSpPr>
          <p:sp>
            <p:nvSpPr>
              <p:cNvPr id="580" name=""/>
              <p:cNvSpPr/>
              <p:nvPr/>
            </p:nvSpPr>
            <p:spPr>
              <a:xfrm>
                <a:off x="6342120" y="50626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273720" y="506268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6996240" y="5062680"/>
              <a:ext cx="722160" cy="296280"/>
              <a:chOff x="6996240" y="5062680"/>
              <a:chExt cx="722160" cy="296280"/>
            </a:xfrm>
          </p:grpSpPr>
          <p:sp>
            <p:nvSpPr>
              <p:cNvPr id="583" name=""/>
              <p:cNvSpPr/>
              <p:nvPr/>
            </p:nvSpPr>
            <p:spPr>
              <a:xfrm>
                <a:off x="7064280" y="506268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996240" y="506268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955880" y="5358960"/>
              <a:ext cx="709560" cy="296280"/>
              <a:chOff x="1955880" y="5358960"/>
              <a:chExt cx="709560" cy="296280"/>
            </a:xfrm>
          </p:grpSpPr>
          <p:sp>
            <p:nvSpPr>
              <p:cNvPr id="586" name=""/>
              <p:cNvSpPr/>
              <p:nvPr/>
            </p:nvSpPr>
            <p:spPr>
              <a:xfrm>
                <a:off x="2023920" y="535896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55880" y="535896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665440" y="5358960"/>
              <a:ext cx="722160" cy="296280"/>
              <a:chOff x="2665440" y="5358960"/>
              <a:chExt cx="722160" cy="296280"/>
            </a:xfrm>
          </p:grpSpPr>
          <p:sp>
            <p:nvSpPr>
              <p:cNvPr id="589" name=""/>
              <p:cNvSpPr/>
              <p:nvPr/>
            </p:nvSpPr>
            <p:spPr>
              <a:xfrm>
                <a:off x="2733840" y="53589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65440" y="53589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387600" y="5358960"/>
              <a:ext cx="720720" cy="296280"/>
              <a:chOff x="3387600" y="5358960"/>
              <a:chExt cx="720720" cy="296280"/>
            </a:xfrm>
          </p:grpSpPr>
          <p:sp>
            <p:nvSpPr>
              <p:cNvPr id="592" name=""/>
              <p:cNvSpPr/>
              <p:nvPr/>
            </p:nvSpPr>
            <p:spPr>
              <a:xfrm>
                <a:off x="3456000" y="53589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387600" y="53589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4108320" y="5358960"/>
              <a:ext cx="722520" cy="296280"/>
              <a:chOff x="4108320" y="5358960"/>
              <a:chExt cx="722520" cy="296280"/>
            </a:xfrm>
          </p:grpSpPr>
          <p:sp>
            <p:nvSpPr>
              <p:cNvPr id="595" name=""/>
              <p:cNvSpPr/>
              <p:nvPr/>
            </p:nvSpPr>
            <p:spPr>
              <a:xfrm>
                <a:off x="4176720" y="53589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08320" y="53589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830840" y="5358960"/>
              <a:ext cx="722160" cy="296280"/>
              <a:chOff x="4830840" y="5358960"/>
              <a:chExt cx="722160" cy="296280"/>
            </a:xfrm>
          </p:grpSpPr>
          <p:sp>
            <p:nvSpPr>
              <p:cNvPr id="598" name=""/>
              <p:cNvSpPr/>
              <p:nvPr/>
            </p:nvSpPr>
            <p:spPr>
              <a:xfrm>
                <a:off x="4898880" y="535896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30840" y="53589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553000" y="5358960"/>
              <a:ext cx="720720" cy="296280"/>
              <a:chOff x="5553000" y="5358960"/>
              <a:chExt cx="720720" cy="296280"/>
            </a:xfrm>
          </p:grpSpPr>
          <p:sp>
            <p:nvSpPr>
              <p:cNvPr id="601" name=""/>
              <p:cNvSpPr/>
              <p:nvPr/>
            </p:nvSpPr>
            <p:spPr>
              <a:xfrm>
                <a:off x="5621400" y="535896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53000" y="535896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6273720" y="5358960"/>
              <a:ext cx="722520" cy="296280"/>
              <a:chOff x="6273720" y="5358960"/>
              <a:chExt cx="722520" cy="296280"/>
            </a:xfrm>
          </p:grpSpPr>
          <p:sp>
            <p:nvSpPr>
              <p:cNvPr id="604" name=""/>
              <p:cNvSpPr/>
              <p:nvPr/>
            </p:nvSpPr>
            <p:spPr>
              <a:xfrm>
                <a:off x="6342120" y="53589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73720" y="535896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996240" y="5358960"/>
              <a:ext cx="722160" cy="296280"/>
              <a:chOff x="6996240" y="5358960"/>
              <a:chExt cx="722160" cy="296280"/>
            </a:xfrm>
          </p:grpSpPr>
          <p:sp>
            <p:nvSpPr>
              <p:cNvPr id="607" name=""/>
              <p:cNvSpPr/>
              <p:nvPr/>
            </p:nvSpPr>
            <p:spPr>
              <a:xfrm>
                <a:off x="7064280" y="535896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1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996240" y="535896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955880" y="5655600"/>
              <a:ext cx="709560" cy="296280"/>
              <a:chOff x="1955880" y="5655600"/>
              <a:chExt cx="709560" cy="296280"/>
            </a:xfrm>
          </p:grpSpPr>
          <p:sp>
            <p:nvSpPr>
              <p:cNvPr id="610" name=""/>
              <p:cNvSpPr/>
              <p:nvPr/>
            </p:nvSpPr>
            <p:spPr>
              <a:xfrm>
                <a:off x="2023920" y="565560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955880" y="565560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2665440" y="5655600"/>
              <a:ext cx="722160" cy="296280"/>
              <a:chOff x="2665440" y="5655600"/>
              <a:chExt cx="722160" cy="296280"/>
            </a:xfrm>
          </p:grpSpPr>
          <p:sp>
            <p:nvSpPr>
              <p:cNvPr id="613" name=""/>
              <p:cNvSpPr/>
              <p:nvPr/>
            </p:nvSpPr>
            <p:spPr>
              <a:xfrm>
                <a:off x="2733840" y="56556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65440" y="56556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387600" y="5655600"/>
              <a:ext cx="720720" cy="296280"/>
              <a:chOff x="3387600" y="5655600"/>
              <a:chExt cx="720720" cy="296280"/>
            </a:xfrm>
          </p:grpSpPr>
          <p:sp>
            <p:nvSpPr>
              <p:cNvPr id="616" name=""/>
              <p:cNvSpPr/>
              <p:nvPr/>
            </p:nvSpPr>
            <p:spPr>
              <a:xfrm>
                <a:off x="3456000" y="56556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387600" y="56556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4108320" y="5655600"/>
              <a:ext cx="722520" cy="296280"/>
              <a:chOff x="4108320" y="5655600"/>
              <a:chExt cx="722520" cy="296280"/>
            </a:xfrm>
          </p:grpSpPr>
          <p:sp>
            <p:nvSpPr>
              <p:cNvPr id="619" name=""/>
              <p:cNvSpPr/>
              <p:nvPr/>
            </p:nvSpPr>
            <p:spPr>
              <a:xfrm>
                <a:off x="4176720" y="56556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108320" y="56556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4830840" y="5655600"/>
              <a:ext cx="722160" cy="296280"/>
              <a:chOff x="4830840" y="5655600"/>
              <a:chExt cx="722160" cy="296280"/>
            </a:xfrm>
          </p:grpSpPr>
          <p:sp>
            <p:nvSpPr>
              <p:cNvPr id="622" name=""/>
              <p:cNvSpPr/>
              <p:nvPr/>
            </p:nvSpPr>
            <p:spPr>
              <a:xfrm>
                <a:off x="4898880" y="565560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830840" y="56556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553000" y="5655600"/>
              <a:ext cx="720720" cy="296280"/>
              <a:chOff x="5553000" y="5655600"/>
              <a:chExt cx="720720" cy="296280"/>
            </a:xfrm>
          </p:grpSpPr>
          <p:sp>
            <p:nvSpPr>
              <p:cNvPr id="625" name=""/>
              <p:cNvSpPr/>
              <p:nvPr/>
            </p:nvSpPr>
            <p:spPr>
              <a:xfrm>
                <a:off x="5621400" y="565560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53000" y="565560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6273720" y="5655600"/>
              <a:ext cx="722520" cy="296280"/>
              <a:chOff x="6273720" y="5655600"/>
              <a:chExt cx="722520" cy="296280"/>
            </a:xfrm>
          </p:grpSpPr>
          <p:sp>
            <p:nvSpPr>
              <p:cNvPr id="628" name=""/>
              <p:cNvSpPr/>
              <p:nvPr/>
            </p:nvSpPr>
            <p:spPr>
              <a:xfrm>
                <a:off x="6342120" y="56556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73720" y="565560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6996240" y="5655600"/>
              <a:ext cx="722160" cy="296280"/>
              <a:chOff x="6996240" y="5655600"/>
              <a:chExt cx="722160" cy="296280"/>
            </a:xfrm>
          </p:grpSpPr>
          <p:sp>
            <p:nvSpPr>
              <p:cNvPr id="631" name=""/>
              <p:cNvSpPr/>
              <p:nvPr/>
            </p:nvSpPr>
            <p:spPr>
              <a:xfrm>
                <a:off x="7064280" y="565560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96240" y="565560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955880" y="5952240"/>
              <a:ext cx="709560" cy="296280"/>
              <a:chOff x="1955880" y="5952240"/>
              <a:chExt cx="709560" cy="296280"/>
            </a:xfrm>
          </p:grpSpPr>
          <p:sp>
            <p:nvSpPr>
              <p:cNvPr id="634" name=""/>
              <p:cNvSpPr/>
              <p:nvPr/>
            </p:nvSpPr>
            <p:spPr>
              <a:xfrm>
                <a:off x="2023920" y="5952240"/>
                <a:ext cx="5731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7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955880" y="5952240"/>
                <a:ext cx="7095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2665440" y="5952240"/>
              <a:ext cx="722160" cy="296280"/>
              <a:chOff x="2665440" y="5952240"/>
              <a:chExt cx="722160" cy="296280"/>
            </a:xfrm>
          </p:grpSpPr>
          <p:sp>
            <p:nvSpPr>
              <p:cNvPr id="637" name=""/>
              <p:cNvSpPr/>
              <p:nvPr/>
            </p:nvSpPr>
            <p:spPr>
              <a:xfrm>
                <a:off x="2733840" y="59522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6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665440" y="59522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3387600" y="5952240"/>
              <a:ext cx="720720" cy="296280"/>
              <a:chOff x="3387600" y="5952240"/>
              <a:chExt cx="720720" cy="296280"/>
            </a:xfrm>
          </p:grpSpPr>
          <p:sp>
            <p:nvSpPr>
              <p:cNvPr id="640" name=""/>
              <p:cNvSpPr/>
              <p:nvPr/>
            </p:nvSpPr>
            <p:spPr>
              <a:xfrm>
                <a:off x="3456000" y="59522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5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387600" y="59522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108320" y="5952240"/>
              <a:ext cx="722520" cy="296280"/>
              <a:chOff x="4108320" y="5952240"/>
              <a:chExt cx="722520" cy="296280"/>
            </a:xfrm>
          </p:grpSpPr>
          <p:sp>
            <p:nvSpPr>
              <p:cNvPr id="643" name=""/>
              <p:cNvSpPr/>
              <p:nvPr/>
            </p:nvSpPr>
            <p:spPr>
              <a:xfrm>
                <a:off x="4176720" y="59522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08320" y="59522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830840" y="5952240"/>
              <a:ext cx="722160" cy="296280"/>
              <a:chOff x="4830840" y="5952240"/>
              <a:chExt cx="722160" cy="296280"/>
            </a:xfrm>
          </p:grpSpPr>
          <p:sp>
            <p:nvSpPr>
              <p:cNvPr id="646" name=""/>
              <p:cNvSpPr/>
              <p:nvPr/>
            </p:nvSpPr>
            <p:spPr>
              <a:xfrm>
                <a:off x="4898880" y="5952240"/>
                <a:ext cx="5860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3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830840" y="59522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5553000" y="5952240"/>
              <a:ext cx="720720" cy="296280"/>
              <a:chOff x="5553000" y="5952240"/>
              <a:chExt cx="720720" cy="296280"/>
            </a:xfrm>
          </p:grpSpPr>
          <p:sp>
            <p:nvSpPr>
              <p:cNvPr id="649" name=""/>
              <p:cNvSpPr/>
              <p:nvPr/>
            </p:nvSpPr>
            <p:spPr>
              <a:xfrm>
                <a:off x="5621400" y="5952240"/>
                <a:ext cx="584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2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53000" y="5952240"/>
                <a:ext cx="7207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273720" y="5952240"/>
              <a:ext cx="722520" cy="296280"/>
              <a:chOff x="6273720" y="5952240"/>
              <a:chExt cx="722520" cy="296280"/>
            </a:xfrm>
          </p:grpSpPr>
          <p:sp>
            <p:nvSpPr>
              <p:cNvPr id="652" name=""/>
              <p:cNvSpPr/>
              <p:nvPr/>
            </p:nvSpPr>
            <p:spPr>
              <a:xfrm>
                <a:off x="6342120" y="59522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1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73720" y="5952240"/>
                <a:ext cx="72252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6996240" y="5952240"/>
              <a:ext cx="722160" cy="296280"/>
              <a:chOff x="6996240" y="5952240"/>
              <a:chExt cx="722160" cy="296280"/>
            </a:xfrm>
          </p:grpSpPr>
          <p:sp>
            <p:nvSpPr>
              <p:cNvPr id="655" name=""/>
              <p:cNvSpPr/>
              <p:nvPr/>
            </p:nvSpPr>
            <p:spPr>
              <a:xfrm>
                <a:off x="7064280" y="5952240"/>
                <a:ext cx="58572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0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96240" y="5952240"/>
                <a:ext cx="722160" cy="296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7" name=""/>
          <p:cNvSpPr/>
          <p:nvPr/>
        </p:nvSpPr>
        <p:spPr>
          <a:xfrm>
            <a:off x="0" y="86868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4  805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内部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RAM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位地址区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6248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4  805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内部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RAM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位地址区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"/>
          <p:cNvSpPr/>
          <p:nvPr/>
        </p:nvSpPr>
        <p:spPr>
          <a:xfrm>
            <a:off x="914400" y="1371600"/>
            <a:ext cx="9144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）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双缓冲器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287640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74" name="多路DAC0832同步转换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67440" cy="4181400"/>
          </a:xfrm>
          <a:prstGeom prst="rect">
            <a:avLst/>
          </a:prstGeom>
          <a:ln w="0">
            <a:noFill/>
          </a:ln>
        </p:spPr>
      </p:pic>
      <p:sp>
        <p:nvSpPr>
          <p:cNvPr id="3575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8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多路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DAC083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同步转换的接口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"/>
          <p:cNvSpPr/>
          <p:nvPr/>
        </p:nvSpPr>
        <p:spPr>
          <a:xfrm>
            <a:off x="914400" y="1828800"/>
            <a:ext cx="7315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程序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  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DFFFH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 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 data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X   @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ata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锁存器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X   @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BFFFH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 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data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X   @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ata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锁存器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  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7FFFH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和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83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的数据传送端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X   @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ata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ata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同时送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/A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转换器进行转换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"/>
          <p:cNvSpPr/>
          <p:nvPr/>
        </p:nvSpPr>
        <p:spPr>
          <a:xfrm>
            <a:off x="0" y="129528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9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4 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CS-51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单片机应用系统设计举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380880" y="2133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系统构成及控制原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266220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0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5333760" cy="2438280"/>
          </a:xfrm>
          <a:prstGeom prst="rect">
            <a:avLst/>
          </a:prstGeom>
          <a:ln w="0">
            <a:noFill/>
          </a:ln>
        </p:spPr>
      </p:pic>
      <p:sp>
        <p:nvSpPr>
          <p:cNvPr id="3581" name=""/>
          <p:cNvSpPr/>
          <p:nvPr/>
        </p:nvSpPr>
        <p:spPr>
          <a:xfrm>
            <a:off x="0" y="5638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19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糖果包装机的结构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"/>
          <p:cNvSpPr/>
          <p:nvPr/>
        </p:nvSpPr>
        <p:spPr>
          <a:xfrm>
            <a:off x="2571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3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486400" cy="2286000"/>
          </a:xfrm>
          <a:prstGeom prst="rect">
            <a:avLst/>
          </a:prstGeom>
          <a:ln w="0">
            <a:noFill/>
          </a:ln>
        </p:spPr>
      </p:pic>
      <p:sp>
        <p:nvSpPr>
          <p:cNvPr id="3584" name=""/>
          <p:cNvSpPr/>
          <p:nvPr/>
        </p:nvSpPr>
        <p:spPr>
          <a:xfrm>
            <a:off x="0" y="5334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–20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走纸轮的顶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"/>
          <p:cNvSpPr/>
          <p:nvPr/>
        </p:nvSpPr>
        <p:spPr>
          <a:xfrm>
            <a:off x="314784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6" name="速度与相位误差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791320" cy="2152800"/>
          </a:xfrm>
          <a:prstGeom prst="rect">
            <a:avLst/>
          </a:prstGeom>
          <a:ln w="0">
            <a:noFill/>
          </a:ln>
        </p:spPr>
      </p:pic>
      <p:sp>
        <p:nvSpPr>
          <p:cNvPr id="3587" name="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2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相位误差与速度误差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"/>
          <p:cNvSpPr/>
          <p:nvPr/>
        </p:nvSpPr>
        <p:spPr>
          <a:xfrm>
            <a:off x="258120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89" name="控制流程图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553440" cy="3400560"/>
          </a:xfrm>
          <a:prstGeom prst="rect">
            <a:avLst/>
          </a:prstGeom>
          <a:ln w="0">
            <a:noFill/>
          </a:ln>
        </p:spPr>
      </p:pic>
      <p:sp>
        <p:nvSpPr>
          <p:cNvPr id="3590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22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控制流程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"/>
          <p:cNvSpPr/>
          <p:nvPr/>
        </p:nvSpPr>
        <p:spPr>
          <a:xfrm>
            <a:off x="53352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硬件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533520" y="1523880"/>
            <a:ext cx="9144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主程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19382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94" name="硬件电路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05720" cy="3909960"/>
          </a:xfrm>
          <a:prstGeom prst="rect">
            <a:avLst/>
          </a:prstGeom>
          <a:ln w="0">
            <a:noFill/>
          </a:ln>
        </p:spPr>
      </p:pic>
      <p:sp>
        <p:nvSpPr>
          <p:cNvPr id="3595" name=""/>
          <p:cNvSpPr/>
          <p:nvPr/>
        </p:nvSpPr>
        <p:spPr>
          <a:xfrm>
            <a:off x="0" y="57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9-23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硬件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"/>
          <p:cNvSpPr/>
          <p:nvPr/>
        </p:nvSpPr>
        <p:spPr>
          <a:xfrm>
            <a:off x="2023920" y="-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597" name="主程序流程图" descr=""/>
          <p:cNvPicPr/>
          <p:nvPr/>
        </p:nvPicPr>
        <p:blipFill>
          <a:blip r:embed="rId1"/>
          <a:stretch/>
        </p:blipFill>
        <p:spPr>
          <a:xfrm>
            <a:off x="2023920" y="0"/>
            <a:ext cx="5096160" cy="6477120"/>
          </a:xfrm>
          <a:prstGeom prst="rect">
            <a:avLst/>
          </a:prstGeom>
          <a:ln w="0">
            <a:noFill/>
          </a:ln>
        </p:spPr>
      </p:pic>
      <p:sp>
        <p:nvSpPr>
          <p:cNvPr id="3598" name=""/>
          <p:cNvSpPr/>
          <p:nvPr/>
        </p:nvSpPr>
        <p:spPr>
          <a:xfrm>
            <a:off x="0" y="6537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9-24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主程序流程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1828800" y="1143000"/>
            <a:ext cx="91440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-----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-------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初始化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------------------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00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ADR0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03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   EX0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关外部中断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，以防止脉冲抖动造成中断重复响应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INT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0B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T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13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   EX1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关外部中断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INT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1B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T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   0030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00: MOV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#20H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20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70H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单元清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#50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   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10: MOV    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JNZ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ADR1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CALL  SUB1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清显示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   SP,#5FH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堆栈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6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开始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   SCON,#00H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串行口置为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"/>
          <p:cNvSpPr/>
          <p:nvPr/>
        </p:nvSpPr>
        <p:spPr>
          <a:xfrm>
            <a:off x="1752480" y="685800"/>
            <a:ext cx="914400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,43H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相位滞后误差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ALL  SUB2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将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中绝对误差转为相对误差放在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7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中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,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7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C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UBB   A,#2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NC    ADR20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相位滞后小于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2%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，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B  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DR75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电磁离合齿轮有电，转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5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3H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保存本次测量的相位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ETB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电磁离合齿轮通电，提速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2%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JMP   ADR20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DR75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：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5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取回上次测量的相位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C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UBB   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3H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减本次测量的相位误差进行比较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NC     ADR20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本次测量的相位误差小，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ETB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1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否则，胀紧电机正转，提速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#06H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设置最小提速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ALL  SUB3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延时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0.6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秒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1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停止胀紧电机正转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JMP   ADR2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----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相位超前误差调整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-------------------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DR8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：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,42H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相位超前误差送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ALL  SUB2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将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中绝对误差转为相对误差放在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7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中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,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7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C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UBB   A,#2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C     ADR20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相位超前误差小于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2%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，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NB 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0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DR85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电磁离合齿轮未通电，转取比较两次测量的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6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2H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保存本次测量的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0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电磁离合齿轮断电，减速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2%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JMP   ADR20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DR85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：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6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取回上次测量的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C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UBB   A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，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42H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减本次测量的误差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JNC    ADR20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本次测量的误差小，返回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SETB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2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否则，胀紧电机反转，减速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,#06H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设置最小减速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ACALL  SUB3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延时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0.6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秒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CLR    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.2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        </a:t>
            </a:r>
            <a:r>
              <a:rPr b="0" lang="en-US" sz="1000" spc="-1" strike="noStrike">
                <a:solidFill>
                  <a:srgbClr val="5b5249"/>
                </a:solidFill>
                <a:latin typeface="黑体"/>
                <a:ea typeface="黑体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黑体"/>
                <a:ea typeface="黑体"/>
              </a:rPr>
              <a:t>停止胀紧电机反转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黑体"/>
                <a:ea typeface="黑体"/>
              </a:rPr>
              <a:t>AJMP   ADR20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3240" y="-41925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2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特殊功能寄存器表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28800" y="990720"/>
            <a:ext cx="5959440" cy="5486400"/>
            <a:chOff x="1828800" y="990720"/>
            <a:chExt cx="5959440" cy="5486400"/>
          </a:xfrm>
        </p:grpSpPr>
        <p:grpSp>
          <p:nvGrpSpPr>
            <p:cNvPr id="661" name=""/>
            <p:cNvGrpSpPr/>
            <p:nvPr/>
          </p:nvGrpSpPr>
          <p:grpSpPr>
            <a:xfrm>
              <a:off x="1833480" y="992520"/>
              <a:ext cx="5950080" cy="5482800"/>
              <a:chOff x="1833480" y="992520"/>
              <a:chExt cx="5950080" cy="54828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1833480" y="992520"/>
                <a:ext cx="803160" cy="476640"/>
                <a:chOff x="1833480" y="992520"/>
                <a:chExt cx="803160" cy="4766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1901880" y="992520"/>
                  <a:ext cx="66672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符号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833480" y="992520"/>
                  <a:ext cx="803160" cy="47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2636640" y="992520"/>
                <a:ext cx="870120" cy="476640"/>
                <a:chOff x="2636640" y="992520"/>
                <a:chExt cx="870120" cy="47664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2705040" y="992520"/>
                  <a:ext cx="73332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单元地址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636640" y="992520"/>
                  <a:ext cx="870120" cy="47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3506760" y="992520"/>
                <a:ext cx="1670040" cy="476640"/>
                <a:chOff x="3506760" y="992520"/>
                <a:chExt cx="1670040" cy="47664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3574800" y="992520"/>
                  <a:ext cx="153360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名称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506760" y="992520"/>
                  <a:ext cx="1670040" cy="47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176800" y="992520"/>
                <a:ext cx="2606760" cy="238320"/>
                <a:chOff x="5176800" y="992520"/>
                <a:chExt cx="2606760" cy="2383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244840" y="992520"/>
                  <a:ext cx="2470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地址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176800" y="992520"/>
                  <a:ext cx="26067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5176800" y="1230840"/>
                <a:ext cx="1496880" cy="238320"/>
                <a:chOff x="5176800" y="1230840"/>
                <a:chExt cx="1496880" cy="23832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5244840" y="123084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符号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76800" y="123084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6673680" y="1230840"/>
                <a:ext cx="1109880" cy="238320"/>
                <a:chOff x="6673680" y="1230840"/>
                <a:chExt cx="1109880" cy="23832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6742080" y="123084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地址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673680" y="123084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1833480" y="1469160"/>
                <a:ext cx="803160" cy="238320"/>
                <a:chOff x="1833480" y="1469160"/>
                <a:chExt cx="803160" cy="2383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1901880" y="14691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CC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833480" y="14691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636640" y="1469160"/>
                <a:ext cx="870120" cy="238320"/>
                <a:chOff x="2636640" y="1469160"/>
                <a:chExt cx="870120" cy="2383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705040" y="14691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636640" y="14691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3506760" y="1469160"/>
                <a:ext cx="1670040" cy="238320"/>
                <a:chOff x="3506760" y="1469160"/>
                <a:chExt cx="1670040" cy="2383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3574800" y="14691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累加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506760" y="14691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176800" y="1469160"/>
                <a:ext cx="1496880" cy="238320"/>
                <a:chOff x="5176800" y="1469160"/>
                <a:chExt cx="1496880" cy="2383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244840" y="14691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CC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CC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176800" y="14691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673680" y="1469160"/>
                <a:ext cx="1109880" cy="238320"/>
                <a:chOff x="6673680" y="1469160"/>
                <a:chExt cx="1109880" cy="23832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742080" y="14691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7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673680" y="14691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1833480" y="1707480"/>
                <a:ext cx="803160" cy="238320"/>
                <a:chOff x="1833480" y="1707480"/>
                <a:chExt cx="803160" cy="23832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1901880" y="170748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833480" y="170748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2636640" y="1707480"/>
                <a:ext cx="870120" cy="238320"/>
                <a:chOff x="2636640" y="1707480"/>
                <a:chExt cx="870120" cy="23832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2705040" y="170748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636640" y="170748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3506760" y="1707480"/>
                <a:ext cx="1670040" cy="238320"/>
                <a:chOff x="3506760" y="1707480"/>
                <a:chExt cx="1670040" cy="2383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574800" y="170748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乘法寄存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506760" y="170748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176800" y="1707480"/>
                <a:ext cx="1496880" cy="238320"/>
                <a:chOff x="5176800" y="1707480"/>
                <a:chExt cx="1496880" cy="23832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244840" y="170748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176800" y="170748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6673680" y="1707480"/>
                <a:ext cx="1109880" cy="238320"/>
                <a:chOff x="6673680" y="1707480"/>
                <a:chExt cx="1109880" cy="2383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742080" y="170748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7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673680" y="170748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1833480" y="1946160"/>
                <a:ext cx="803160" cy="238320"/>
                <a:chOff x="1833480" y="1946160"/>
                <a:chExt cx="803160" cy="2383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901880" y="19461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SW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833480" y="19461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2636640" y="1946160"/>
                <a:ext cx="870120" cy="238320"/>
                <a:chOff x="2636640" y="1946160"/>
                <a:chExt cx="870120" cy="2383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2705040" y="19461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636640" y="19461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3506760" y="1946160"/>
                <a:ext cx="1670040" cy="238320"/>
                <a:chOff x="3506760" y="1946160"/>
                <a:chExt cx="1670040" cy="2383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3574800" y="19461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程序状态字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506760" y="19461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5176800" y="1946160"/>
                <a:ext cx="1496880" cy="238320"/>
                <a:chOff x="5176800" y="1946160"/>
                <a:chExt cx="1496880" cy="2383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244840" y="19461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SW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SW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176800" y="19461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6673680" y="1946160"/>
                <a:ext cx="1109880" cy="238320"/>
                <a:chOff x="6673680" y="1946160"/>
                <a:chExt cx="1109880" cy="23832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6742080" y="19461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7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73680" y="19461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1833480" y="2184480"/>
                <a:ext cx="803160" cy="238320"/>
                <a:chOff x="1833480" y="2184480"/>
                <a:chExt cx="803160" cy="2383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1901880" y="218448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833480" y="218448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2636640" y="2184480"/>
                <a:ext cx="870120" cy="238320"/>
                <a:chOff x="2636640" y="2184480"/>
                <a:chExt cx="870120" cy="23832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2705040" y="218448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1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636640" y="218448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3506760" y="2184480"/>
                <a:ext cx="1670040" cy="238320"/>
                <a:chOff x="3506760" y="2184480"/>
                <a:chExt cx="1670040" cy="23832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3574800" y="218448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堆栈指针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506760" y="218448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5176800" y="2184480"/>
                <a:ext cx="1496880" cy="238320"/>
                <a:chOff x="5176800" y="2184480"/>
                <a:chExt cx="1496880" cy="23832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5244840" y="218448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176800" y="218448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6673680" y="2184480"/>
                <a:ext cx="1109880" cy="238320"/>
                <a:chOff x="6673680" y="2184480"/>
                <a:chExt cx="1109880" cy="23832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6742080" y="218448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673680" y="218448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1833480" y="2422800"/>
                <a:ext cx="803160" cy="238320"/>
                <a:chOff x="1833480" y="2422800"/>
                <a:chExt cx="803160" cy="23832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1901880" y="242280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PL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833480" y="242280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2636640" y="2422800"/>
                <a:ext cx="870120" cy="238320"/>
                <a:chOff x="2636640" y="2422800"/>
                <a:chExt cx="870120" cy="23832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2705040" y="242280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2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636640" y="242280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3506760" y="2422800"/>
                <a:ext cx="1670040" cy="238320"/>
                <a:chOff x="3506760" y="2422800"/>
                <a:chExt cx="1670040" cy="23832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3574800" y="242280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数据存储器指针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低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506760" y="242280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5176800" y="2422800"/>
                <a:ext cx="1496880" cy="238320"/>
                <a:chOff x="5176800" y="2422800"/>
                <a:chExt cx="1496880" cy="2383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244840" y="242280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176800" y="242280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6673680" y="2422800"/>
                <a:ext cx="1109880" cy="238320"/>
                <a:chOff x="6673680" y="2422800"/>
                <a:chExt cx="1109880" cy="2383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6742080" y="242280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673680" y="242280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1833480" y="2661120"/>
                <a:ext cx="803160" cy="238320"/>
                <a:chOff x="1833480" y="2661120"/>
                <a:chExt cx="803160" cy="23832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1901880" y="266112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P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833480" y="266112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2636640" y="2661120"/>
                <a:ext cx="870120" cy="238320"/>
                <a:chOff x="2636640" y="2661120"/>
                <a:chExt cx="870120" cy="23832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2705040" y="266112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3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2636640" y="266112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3506760" y="2661120"/>
                <a:ext cx="1670040" cy="238320"/>
                <a:chOff x="3506760" y="2661120"/>
                <a:chExt cx="1670040" cy="23832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3574800" y="266112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数据存储器指针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高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)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506760" y="266112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5176800" y="2661120"/>
                <a:ext cx="1496880" cy="238320"/>
                <a:chOff x="5176800" y="2661120"/>
                <a:chExt cx="1496880" cy="23832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5244840" y="266112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176800" y="266112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6673680" y="2661120"/>
                <a:ext cx="1109880" cy="238320"/>
                <a:chOff x="6673680" y="2661120"/>
                <a:chExt cx="1109880" cy="23832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6742080" y="266112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673680" y="266112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1833480" y="2899440"/>
                <a:ext cx="803160" cy="238320"/>
                <a:chOff x="1833480" y="2899440"/>
                <a:chExt cx="803160" cy="23832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1901880" y="289944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E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833480" y="289944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2636640" y="2899440"/>
                <a:ext cx="870120" cy="238320"/>
                <a:chOff x="2636640" y="2899440"/>
                <a:chExt cx="870120" cy="23832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705040" y="289944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636640" y="289944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3506760" y="2899440"/>
                <a:ext cx="1670040" cy="238320"/>
                <a:chOff x="3506760" y="2899440"/>
                <a:chExt cx="1670040" cy="23832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3574800" y="289944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中断允许控制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506760" y="289944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5176800" y="2899440"/>
                <a:ext cx="1496880" cy="238320"/>
                <a:chOff x="5176800" y="2899440"/>
                <a:chExt cx="1496880" cy="23832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5244840" y="289944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E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E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176800" y="289944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6673680" y="2899440"/>
                <a:ext cx="1109880" cy="238320"/>
                <a:chOff x="6673680" y="2899440"/>
                <a:chExt cx="1109880" cy="23832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6742080" y="289944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F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673680" y="289944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1833480" y="3137760"/>
                <a:ext cx="803160" cy="238320"/>
                <a:chOff x="1833480" y="3137760"/>
                <a:chExt cx="803160" cy="23832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1901880" y="31377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833480" y="31377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2636640" y="3137760"/>
                <a:ext cx="870120" cy="238320"/>
                <a:chOff x="2636640" y="3137760"/>
                <a:chExt cx="870120" cy="23832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2705040" y="31377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636640" y="31377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3506760" y="3137760"/>
                <a:ext cx="1670040" cy="238320"/>
                <a:chOff x="3506760" y="3137760"/>
                <a:chExt cx="1670040" cy="23832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3574800" y="31377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中断优先控制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506760" y="31377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5176800" y="3137760"/>
                <a:ext cx="1496880" cy="238320"/>
                <a:chOff x="5176800" y="3137760"/>
                <a:chExt cx="1496880" cy="23832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5244840" y="31377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P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P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176800" y="31377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6673680" y="3137760"/>
                <a:ext cx="1109880" cy="238320"/>
                <a:chOff x="6673680" y="3137760"/>
                <a:chExt cx="1109880" cy="23832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6742080" y="31377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F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673680" y="31377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1833480" y="3376440"/>
                <a:ext cx="803160" cy="238320"/>
                <a:chOff x="1833480" y="3376440"/>
                <a:chExt cx="803160" cy="23832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1901880" y="337644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833480" y="337644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2636640" y="3376440"/>
                <a:ext cx="870120" cy="238320"/>
                <a:chOff x="2636640" y="3376440"/>
                <a:chExt cx="870120" cy="23832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2705040" y="337644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0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636640" y="337644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506760" y="3376440"/>
                <a:ext cx="1670040" cy="238320"/>
                <a:chOff x="3506760" y="3376440"/>
                <a:chExt cx="1670040" cy="2383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3574800" y="337644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道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506760" y="337644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5176800" y="3376440"/>
                <a:ext cx="1496880" cy="238320"/>
                <a:chOff x="5176800" y="3376440"/>
                <a:chExt cx="1496880" cy="23832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5244840" y="337644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176800" y="337644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6673680" y="3376440"/>
                <a:ext cx="1109880" cy="238320"/>
                <a:chOff x="6673680" y="3376440"/>
                <a:chExt cx="1109880" cy="2383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6742080" y="337644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8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673680" y="337644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1833480" y="3614760"/>
                <a:ext cx="803160" cy="238320"/>
                <a:chOff x="1833480" y="3614760"/>
                <a:chExt cx="803160" cy="2383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1901880" y="36147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833480" y="36147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2636640" y="3614760"/>
                <a:ext cx="870120" cy="238320"/>
                <a:chOff x="2636640" y="3614760"/>
                <a:chExt cx="870120" cy="23832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2705040" y="36147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0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2636640" y="36147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3506760" y="3614760"/>
                <a:ext cx="1670040" cy="238320"/>
                <a:chOff x="3506760" y="3614760"/>
                <a:chExt cx="1670040" cy="23832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3574800" y="36147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道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506760" y="36147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5176800" y="3614760"/>
                <a:ext cx="1496880" cy="238320"/>
                <a:chOff x="5176800" y="3614760"/>
                <a:chExt cx="1496880" cy="23832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5244840" y="36147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176800" y="36147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73680" y="3614760"/>
                <a:ext cx="1109880" cy="238320"/>
                <a:chOff x="6673680" y="3614760"/>
                <a:chExt cx="1109880" cy="23832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742080" y="36147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9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673680" y="36147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1833480" y="3853080"/>
                <a:ext cx="803160" cy="238320"/>
                <a:chOff x="1833480" y="3853080"/>
                <a:chExt cx="803160" cy="23832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1901880" y="385308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833480" y="385308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2636640" y="3853080"/>
                <a:ext cx="870120" cy="238320"/>
                <a:chOff x="2636640" y="3853080"/>
                <a:chExt cx="870120" cy="23832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2705040" y="385308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636640" y="385308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3506760" y="3853080"/>
                <a:ext cx="1670040" cy="238320"/>
                <a:chOff x="3506760" y="3853080"/>
                <a:chExt cx="1670040" cy="23832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3574800" y="385308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道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506760" y="385308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5176800" y="3853080"/>
                <a:ext cx="1496880" cy="238320"/>
                <a:chOff x="5176800" y="3853080"/>
                <a:chExt cx="1496880" cy="23832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5244840" y="385308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2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2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176800" y="385308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6673680" y="3853080"/>
                <a:ext cx="1109880" cy="238320"/>
                <a:chOff x="6673680" y="3853080"/>
                <a:chExt cx="1109880" cy="23832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6742080" y="385308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7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673680" y="385308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1833480" y="4091400"/>
                <a:ext cx="803160" cy="238320"/>
                <a:chOff x="1833480" y="4091400"/>
                <a:chExt cx="803160" cy="23832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901880" y="409140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833480" y="409140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2636640" y="4091400"/>
                <a:ext cx="870120" cy="238320"/>
                <a:chOff x="2636640" y="4091400"/>
                <a:chExt cx="870120" cy="23832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2705040" y="409140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636640" y="409140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3506760" y="4091400"/>
                <a:ext cx="1670040" cy="238320"/>
                <a:chOff x="3506760" y="4091400"/>
                <a:chExt cx="1670040" cy="23832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3574800" y="409140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道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506760" y="409140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5176800" y="4091400"/>
                <a:ext cx="1496880" cy="238320"/>
                <a:chOff x="5176800" y="4091400"/>
                <a:chExt cx="1496880" cy="23832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5244840" y="409140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176800" y="409140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6673680" y="4091400"/>
                <a:ext cx="1109880" cy="238320"/>
                <a:chOff x="6673680" y="4091400"/>
                <a:chExt cx="1109880" cy="23832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6742080" y="409140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7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0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673680" y="409140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1833480" y="4329720"/>
                <a:ext cx="803160" cy="238320"/>
                <a:chOff x="1833480" y="4329720"/>
                <a:chExt cx="803160" cy="23832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1901880" y="432972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CON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833480" y="432972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2636640" y="4329720"/>
                <a:ext cx="870120" cy="238320"/>
                <a:chOff x="2636640" y="4329720"/>
                <a:chExt cx="870120" cy="23832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2705040" y="432972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636640" y="432972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3506760" y="4329720"/>
                <a:ext cx="1670040" cy="238320"/>
                <a:chOff x="3506760" y="4329720"/>
                <a:chExt cx="1670040" cy="23832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3574800" y="432972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电源控制及波特率选择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506760" y="432972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5176800" y="4329720"/>
                <a:ext cx="1496880" cy="238320"/>
                <a:chOff x="5176800" y="4329720"/>
                <a:chExt cx="1496880" cy="23832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5244840" y="432972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76800" y="432972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6673680" y="4329720"/>
                <a:ext cx="1109880" cy="238320"/>
                <a:chOff x="6673680" y="4329720"/>
                <a:chExt cx="1109880" cy="23832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6742080" y="432972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673680" y="432972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1833480" y="4568040"/>
                <a:ext cx="803160" cy="238320"/>
                <a:chOff x="1833480" y="4568040"/>
                <a:chExt cx="803160" cy="23832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1901880" y="456804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CON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833480" y="456804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2636640" y="4568040"/>
                <a:ext cx="870120" cy="238320"/>
                <a:chOff x="2636640" y="4568040"/>
                <a:chExt cx="870120" cy="23832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2705040" y="456804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36640" y="456804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3506760" y="4568040"/>
                <a:ext cx="1670040" cy="238320"/>
                <a:chOff x="3506760" y="4568040"/>
                <a:chExt cx="1670040" cy="23832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3574800" y="456804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串行口控制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506760" y="456804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5176800" y="4568040"/>
                <a:ext cx="1496880" cy="238320"/>
                <a:chOff x="5176800" y="4568040"/>
                <a:chExt cx="1496880" cy="23832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5244840" y="456804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CON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CON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176800" y="456804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" name=""/>
              <p:cNvGrpSpPr/>
              <p:nvPr/>
            </p:nvGrpSpPr>
            <p:grpSpPr>
              <a:xfrm>
                <a:off x="6673680" y="4568040"/>
                <a:ext cx="1109880" cy="238320"/>
                <a:chOff x="6673680" y="4568040"/>
                <a:chExt cx="1109880" cy="23832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6742080" y="456804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9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673680" y="456804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1833480" y="4806720"/>
                <a:ext cx="803160" cy="238320"/>
                <a:chOff x="1833480" y="4806720"/>
                <a:chExt cx="803160" cy="23832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1901880" y="480672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BUF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833480" y="480672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2636640" y="4806720"/>
                <a:ext cx="870120" cy="238320"/>
                <a:chOff x="2636640" y="4806720"/>
                <a:chExt cx="870120" cy="23832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2705040" y="480672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9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636640" y="480672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3506760" y="4806720"/>
                <a:ext cx="1670040" cy="238320"/>
                <a:chOff x="3506760" y="4806720"/>
                <a:chExt cx="1670040" cy="23832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574800" y="480672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串行数据缓冲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506760" y="480672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5176800" y="4806720"/>
                <a:ext cx="1496880" cy="238320"/>
                <a:chOff x="5176800" y="4806720"/>
                <a:chExt cx="1496880" cy="23832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5244840" y="480672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176800" y="480672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6673680" y="4806720"/>
                <a:ext cx="1109880" cy="238320"/>
                <a:chOff x="6673680" y="4806720"/>
                <a:chExt cx="1109880" cy="23832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6742080" y="480672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673680" y="480672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1833480" y="5045040"/>
                <a:ext cx="803160" cy="238320"/>
                <a:chOff x="1833480" y="5045040"/>
                <a:chExt cx="803160" cy="23832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1901880" y="504504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*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CON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833480" y="504504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2636640" y="5045040"/>
                <a:ext cx="870120" cy="238320"/>
                <a:chOff x="2636640" y="5045040"/>
                <a:chExt cx="870120" cy="23832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2705040" y="504504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636640" y="504504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3506760" y="5045040"/>
                <a:ext cx="1670040" cy="238320"/>
                <a:chOff x="3506760" y="5045040"/>
                <a:chExt cx="1670040" cy="23832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3574800" y="504504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控制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506760" y="504504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5176800" y="5045040"/>
                <a:ext cx="1496880" cy="238320"/>
                <a:chOff x="5176800" y="5045040"/>
                <a:chExt cx="1496880" cy="2383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5244840" y="504504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CON.7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CON.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176800" y="504504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6673680" y="5045040"/>
                <a:ext cx="1109880" cy="238320"/>
                <a:chOff x="6673680" y="5045040"/>
                <a:chExt cx="1109880" cy="2383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6742080" y="504504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H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88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673680" y="504504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1833480" y="5283360"/>
                <a:ext cx="803160" cy="238320"/>
                <a:chOff x="1833480" y="5283360"/>
                <a:chExt cx="803160" cy="23832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1901880" y="52833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MOD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833480" y="52833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3" name=""/>
              <p:cNvGrpSpPr/>
              <p:nvPr/>
            </p:nvGrpSpPr>
            <p:grpSpPr>
              <a:xfrm>
                <a:off x="2636640" y="5283360"/>
                <a:ext cx="870120" cy="238320"/>
                <a:chOff x="2636640" y="5283360"/>
                <a:chExt cx="870120" cy="23832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2705040" y="52833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9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636640" y="52833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3506760" y="5283360"/>
                <a:ext cx="1670040" cy="238320"/>
                <a:chOff x="3506760" y="5283360"/>
                <a:chExt cx="1670040" cy="23832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574800" y="52833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方式选择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506760" y="52833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5176800" y="5283360"/>
                <a:ext cx="1496880" cy="238320"/>
                <a:chOff x="5176800" y="5283360"/>
                <a:chExt cx="1496880" cy="23832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5244840" y="52833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176800" y="52833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6673680" y="5283360"/>
                <a:ext cx="1109880" cy="238320"/>
                <a:chOff x="6673680" y="5283360"/>
                <a:chExt cx="1109880" cy="2383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6742080" y="52833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73680" y="52833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1833480" y="5521680"/>
                <a:ext cx="803160" cy="238320"/>
                <a:chOff x="1833480" y="5521680"/>
                <a:chExt cx="803160" cy="23832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1901880" y="552168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L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833480" y="552168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2636640" y="5521680"/>
                <a:ext cx="870120" cy="238320"/>
                <a:chOff x="2636640" y="5521680"/>
                <a:chExt cx="870120" cy="2383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2705040" y="552168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636640" y="552168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3506760" y="5521680"/>
                <a:ext cx="1670040" cy="238320"/>
                <a:chOff x="3506760" y="5521680"/>
                <a:chExt cx="1670040" cy="23832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3574800" y="552168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低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506760" y="552168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5176800" y="5521680"/>
                <a:ext cx="1496880" cy="238320"/>
                <a:chOff x="5176800" y="5521680"/>
                <a:chExt cx="1496880" cy="23832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5244840" y="552168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176800" y="552168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6673680" y="5521680"/>
                <a:ext cx="1109880" cy="238320"/>
                <a:chOff x="6673680" y="5521680"/>
                <a:chExt cx="1109880" cy="23832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6742080" y="552168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673680" y="552168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1833480" y="5760360"/>
                <a:ext cx="803160" cy="238320"/>
                <a:chOff x="1833480" y="5760360"/>
                <a:chExt cx="803160" cy="23832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1901880" y="576036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L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833480" y="576036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2636640" y="5760360"/>
                <a:ext cx="870120" cy="238320"/>
                <a:chOff x="2636640" y="5760360"/>
                <a:chExt cx="870120" cy="23832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2705040" y="576036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636640" y="576036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3506760" y="5760360"/>
                <a:ext cx="1670040" cy="238320"/>
                <a:chOff x="3506760" y="5760360"/>
                <a:chExt cx="1670040" cy="23832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3574800" y="576036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低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506760" y="576036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5176800" y="5760360"/>
                <a:ext cx="1496880" cy="238320"/>
                <a:chOff x="5176800" y="5760360"/>
                <a:chExt cx="1496880" cy="23832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5244840" y="576036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176800" y="576036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6673680" y="5760360"/>
                <a:ext cx="1109880" cy="238320"/>
                <a:chOff x="6673680" y="5760360"/>
                <a:chExt cx="1109880" cy="23832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6742080" y="576036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673680" y="576036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1833480" y="5998680"/>
                <a:ext cx="803160" cy="238320"/>
                <a:chOff x="1833480" y="5998680"/>
                <a:chExt cx="803160" cy="23832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1901880" y="599868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H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833480" y="599868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2636640" y="5998680"/>
                <a:ext cx="870120" cy="238320"/>
                <a:chOff x="2636640" y="5998680"/>
                <a:chExt cx="870120" cy="23832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2705040" y="599868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C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636640" y="599868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3506760" y="5998680"/>
                <a:ext cx="1670040" cy="238320"/>
                <a:chOff x="3506760" y="5998680"/>
                <a:chExt cx="1670040" cy="23832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3574800" y="599868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高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506760" y="599868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176800" y="5998680"/>
                <a:ext cx="1496880" cy="238320"/>
                <a:chOff x="5176800" y="5998680"/>
                <a:chExt cx="1496880" cy="2383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5244840" y="599868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176800" y="599868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673680" y="5998680"/>
                <a:ext cx="1109880" cy="238320"/>
                <a:chOff x="6673680" y="5998680"/>
                <a:chExt cx="1109880" cy="2383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742080" y="599868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673680" y="599868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1833480" y="6237000"/>
                <a:ext cx="803160" cy="238320"/>
                <a:chOff x="1833480" y="6237000"/>
                <a:chExt cx="803160" cy="23832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1901880" y="6237000"/>
                  <a:ext cx="6667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TH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833480" y="6237000"/>
                  <a:ext cx="80316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2636640" y="6237000"/>
                <a:ext cx="870120" cy="238320"/>
                <a:chOff x="2636640" y="6237000"/>
                <a:chExt cx="870120" cy="2383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2705040" y="6237000"/>
                  <a:ext cx="7333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D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636640" y="6237000"/>
                  <a:ext cx="87012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3506760" y="6237000"/>
                <a:ext cx="1670040" cy="238320"/>
                <a:chOff x="3506760" y="6237000"/>
                <a:chExt cx="1670040" cy="2383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3574800" y="6237000"/>
                  <a:ext cx="15336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高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506760" y="6237000"/>
                  <a:ext cx="167004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5176800" y="6237000"/>
                <a:ext cx="1496880" cy="238320"/>
                <a:chOff x="5176800" y="6237000"/>
                <a:chExt cx="1496880" cy="2383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5244840" y="6237000"/>
                  <a:ext cx="136080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176800" y="6237000"/>
                  <a:ext cx="1496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673680" y="6237000"/>
                <a:ext cx="1109880" cy="238320"/>
                <a:chOff x="6673680" y="6237000"/>
                <a:chExt cx="1109880" cy="2383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742080" y="6237000"/>
                  <a:ext cx="97308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673680" y="6237000"/>
                  <a:ext cx="1109880" cy="23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5" name=""/>
            <p:cNvSpPr/>
            <p:nvPr/>
          </p:nvSpPr>
          <p:spPr>
            <a:xfrm>
              <a:off x="1828800" y="990720"/>
              <a:ext cx="5959440" cy="5486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3240" y="10442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*: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可位寻址的特殊功能寄存器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"/>
          <p:cNvSpPr/>
          <p:nvPr/>
        </p:nvSpPr>
        <p:spPr>
          <a:xfrm>
            <a:off x="304920" y="91440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子程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533520" y="1447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）绝对误差转换为相对误差子程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1219320" y="228600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UB2:   MOV    B,#64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UL    AB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#00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90: CLR    C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UBB   A,41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误差的百分数减切纸周期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C     ADR0A0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不够减，转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够减，商加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ADR90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返回再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0A0: MOV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B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JNE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,#00H,ADR0B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ADR0C0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无位可借，除法结束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0B0:DEC    B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借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  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商加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JMP   ADR90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返回再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R0C0:R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"/>
          <p:cNvSpPr/>
          <p:nvPr/>
        </p:nvSpPr>
        <p:spPr>
          <a:xfrm>
            <a:off x="2057400" y="2362320"/>
            <a:ext cx="914400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×0.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秒延时子程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×0.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秒延时子程序，用于控制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.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.2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输出的脉冲宽度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程序如下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SUB3:  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#64H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DR0D0: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#0F9H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DR0E0:NO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NO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ADR0E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2362320" y="4952880"/>
            <a:ext cx="91440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ADR0D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SUB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"/>
          <p:cNvSpPr/>
          <p:nvPr/>
        </p:nvSpPr>
        <p:spPr>
          <a:xfrm>
            <a:off x="304920" y="106668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．中断服务程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685800" y="1447920"/>
            <a:ext cx="91440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N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N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中断服务程序的流程图如图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9-25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～图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9-2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08" name="T中断服务程序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724280" cy="2210040"/>
          </a:xfrm>
          <a:prstGeom prst="rect">
            <a:avLst/>
          </a:prstGeom>
          <a:ln w="0">
            <a:noFill/>
          </a:ln>
        </p:spPr>
      </p:pic>
      <p:sp>
        <p:nvSpPr>
          <p:cNvPr id="3609" name=""/>
          <p:cNvSpPr/>
          <p:nvPr/>
        </p:nvSpPr>
        <p:spPr>
          <a:xfrm>
            <a:off x="2583000" y="5181480"/>
            <a:ext cx="4222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9-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25  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中断服务程序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        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9-26  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中断服务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"/>
          <p:cNvSpPr/>
          <p:nvPr/>
        </p:nvSpPr>
        <p:spPr>
          <a:xfrm>
            <a:off x="2800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11" name="INT中断服务程序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24480" cy="3353040"/>
          </a:xfrm>
          <a:prstGeom prst="rect">
            <a:avLst/>
          </a:prstGeom>
          <a:ln w="0">
            <a:noFill/>
          </a:ln>
        </p:spPr>
      </p:pic>
      <p:sp>
        <p:nvSpPr>
          <p:cNvPr id="3612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0" y="525780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9-27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IN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中断服务程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     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9-28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IN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中断服务程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479520" y="339732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304920" y="38088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N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中断服务程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04920" y="974880"/>
            <a:ext cx="800100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INT1:  PUSH   PSW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41H,37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取走纸周期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37H,#00H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为下一次记数做准备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43H,36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取走纸滞后切纸的时间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00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清监视计数器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SETB   11H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置检测到走纸周期标志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SETB   RS0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选中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区工作寄存器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30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个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DR0F0:INC    @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缓冲区某位加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CJNE   @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0AH,ADR180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加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后不到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，退出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@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00H0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加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后等于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，将该位清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INC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指向显示缓冲区下一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CJNE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36H,ADR0F0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不到显示缓冲区最高位，返回将下一位加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2F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缓冲区位指针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R0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赋初值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#06H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位数送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R2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DR100:INC 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指向显示缓冲区下一位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DPTR,#ADR120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基址指针送指向显示译码表首址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A,@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某位显示内容送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C   A,@A+DPTR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内容译成显示码后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MOV    SBUF,A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码通过串口送去显示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DR110:JNB    TI,$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等待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个字节传送完毕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CLR    TI 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清传送完标志，为下一次传送做准备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JNZ   R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,ADR100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位没有全部显示完，返回继续显示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CLR    RS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POP    PSW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SETB   EX1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开外部中断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RETI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ADR120:DB     03H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9FH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25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0D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99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49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41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1F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01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DB     09H            </a:t>
            </a: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显示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"/>
          <p:cNvSpPr/>
          <p:nvPr/>
        </p:nvSpPr>
        <p:spPr>
          <a:xfrm>
            <a:off x="-228600" y="121932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9280" rIns="90000" tIns="35532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第十章           单片机的开发及开发工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0" y="20574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0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380880" y="2666880"/>
            <a:ext cx="9144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单片机的开发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380880" y="3276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开发手段的选择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622" name=""/>
          <p:cNvGrpSpPr/>
          <p:nvPr/>
        </p:nvGrpSpPr>
        <p:grpSpPr>
          <a:xfrm>
            <a:off x="1676520" y="3962520"/>
            <a:ext cx="5638680" cy="1447560"/>
            <a:chOff x="1676520" y="3962520"/>
            <a:chExt cx="5638680" cy="1447560"/>
          </a:xfrm>
        </p:grpSpPr>
        <p:sp>
          <p:nvSpPr>
            <p:cNvPr id="3623" name=""/>
            <p:cNvSpPr/>
            <p:nvPr/>
          </p:nvSpPr>
          <p:spPr>
            <a:xfrm>
              <a:off x="1676520" y="3962520"/>
              <a:ext cx="118008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仿真插头 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单片机应用系统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（用户系统）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725560" y="4565520"/>
              <a:ext cx="786600" cy="361800"/>
            </a:xfrm>
            <a:prstGeom prst="leftRightArrow">
              <a:avLst>
                <a:gd name="adj1" fmla="val 50000"/>
                <a:gd name="adj2" fmla="val 432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512160" y="4083120"/>
              <a:ext cx="1835640" cy="13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EPROM</a:t>
              </a: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写入插口 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开发模板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135120" y="4203720"/>
              <a:ext cx="118008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通用计算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系统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348160" y="4686120"/>
              <a:ext cx="78660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479200" y="4324320"/>
              <a:ext cx="655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总线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629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0" y="2629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0" y="2629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3200400" y="57913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0-1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微机开发系统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"/>
          <p:cNvSpPr/>
          <p:nvPr/>
        </p:nvSpPr>
        <p:spPr>
          <a:xfrm>
            <a:off x="198612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35" name="WAVE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610480" cy="1600200"/>
          </a:xfrm>
          <a:prstGeom prst="rect">
            <a:avLst/>
          </a:prstGeom>
          <a:ln w="0">
            <a:noFill/>
          </a:ln>
        </p:spPr>
      </p:pic>
      <p:sp>
        <p:nvSpPr>
          <p:cNvPr id="3636" name=""/>
          <p:cNvSpPr/>
          <p:nvPr/>
        </p:nvSpPr>
        <p:spPr>
          <a:xfrm>
            <a:off x="0" y="4952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0-2  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  <a:ea typeface="黑体"/>
              </a:rPr>
              <a:t>伟福仿真器菜单界面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"/>
          <p:cNvSpPr/>
          <p:nvPr/>
        </p:nvSpPr>
        <p:spPr>
          <a:xfrm>
            <a:off x="244800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38" name="开发的一般过程" descr=""/>
          <p:cNvPicPr/>
          <p:nvPr/>
        </p:nvPicPr>
        <p:blipFill>
          <a:blip r:embed="rId1"/>
          <a:stretch/>
        </p:blipFill>
        <p:spPr>
          <a:xfrm>
            <a:off x="2448000" y="838080"/>
            <a:ext cx="4248000" cy="5181840"/>
          </a:xfrm>
          <a:prstGeom prst="rect">
            <a:avLst/>
          </a:prstGeom>
          <a:ln w="0">
            <a:noFill/>
          </a:ln>
        </p:spPr>
      </p:pic>
      <p:sp>
        <p:nvSpPr>
          <p:cNvPr id="3639" name=""/>
          <p:cNvSpPr/>
          <p:nvPr/>
        </p:nvSpPr>
        <p:spPr>
          <a:xfrm>
            <a:off x="274320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10-3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应用系统的开发过程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"/>
          <p:cNvSpPr/>
          <p:nvPr/>
        </p:nvSpPr>
        <p:spPr>
          <a:xfrm>
            <a:off x="0" y="9144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0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2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单片机的开发软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457200" y="19051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805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l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宏汇编语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457200" y="23623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PL/M-5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语言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457200" y="28954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C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语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"/>
          <p:cNvSpPr/>
          <p:nvPr/>
        </p:nvSpPr>
        <p:spPr>
          <a:xfrm>
            <a:off x="304920" y="83808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532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十一章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AT89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系列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FLASH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简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261000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46" name="AT89C单片机的结构框图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410440" cy="3067200"/>
          </a:xfrm>
          <a:prstGeom prst="rect">
            <a:avLst/>
          </a:prstGeom>
          <a:ln w="0">
            <a:noFill/>
          </a:ln>
        </p:spPr>
      </p:pic>
      <p:sp>
        <p:nvSpPr>
          <p:cNvPr id="3647" name=""/>
          <p:cNvSpPr/>
          <p:nvPr/>
        </p:nvSpPr>
        <p:spPr>
          <a:xfrm>
            <a:off x="0" y="57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1-1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T89C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单片机的结构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28814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8" name="P0口位结构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715000" cy="388620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0" y="533412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5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09480" y="114300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） 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0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口位的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"/>
          <p:cNvSpPr/>
          <p:nvPr/>
        </p:nvSpPr>
        <p:spPr>
          <a:xfrm>
            <a:off x="22287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649" name="AT89S单片机的结构框图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477120" cy="3048120"/>
          </a:xfrm>
          <a:prstGeom prst="rect">
            <a:avLst/>
          </a:prstGeom>
          <a:ln w="0">
            <a:noFill/>
          </a:ln>
        </p:spPr>
      </p:pic>
      <p:sp>
        <p:nvSpPr>
          <p:cNvPr id="3650" name=""/>
          <p:cNvSpPr/>
          <p:nvPr/>
        </p:nvSpPr>
        <p:spPr>
          <a:xfrm>
            <a:off x="228600" y="5257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1-2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T89S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单片机的结构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Arial"/>
              </a:rPr>
              <a:t>11-1  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黑体"/>
              </a:rPr>
              <a:t>程序加密位及其功能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652" name=""/>
          <p:cNvGrpSpPr/>
          <p:nvPr/>
        </p:nvGrpSpPr>
        <p:grpSpPr>
          <a:xfrm>
            <a:off x="1601640" y="1144440"/>
            <a:ext cx="5940360" cy="4581720"/>
            <a:chOff x="1601640" y="1144440"/>
            <a:chExt cx="5940360" cy="4581720"/>
          </a:xfrm>
        </p:grpSpPr>
        <p:grpSp>
          <p:nvGrpSpPr>
            <p:cNvPr id="3653" name=""/>
            <p:cNvGrpSpPr/>
            <p:nvPr/>
          </p:nvGrpSpPr>
          <p:grpSpPr>
            <a:xfrm>
              <a:off x="1606320" y="1149120"/>
              <a:ext cx="5931000" cy="4572000"/>
              <a:chOff x="1606320" y="1149120"/>
              <a:chExt cx="5931000" cy="4572000"/>
            </a:xfrm>
          </p:grpSpPr>
          <p:grpSp>
            <p:nvGrpSpPr>
              <p:cNvPr id="3654" name=""/>
              <p:cNvGrpSpPr/>
              <p:nvPr/>
            </p:nvGrpSpPr>
            <p:grpSpPr>
              <a:xfrm>
                <a:off x="1606320" y="1149120"/>
                <a:ext cx="4044960" cy="609840"/>
                <a:chOff x="1606320" y="1149120"/>
                <a:chExt cx="4044960" cy="609840"/>
              </a:xfrm>
            </p:grpSpPr>
            <p:sp>
              <p:nvSpPr>
                <p:cNvPr id="3655" name=""/>
                <p:cNvSpPr/>
                <p:nvPr/>
              </p:nvSpPr>
              <p:spPr>
                <a:xfrm>
                  <a:off x="1674720" y="1149120"/>
                  <a:ext cx="39081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程序加密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"/>
                <p:cNvSpPr/>
                <p:nvPr/>
              </p:nvSpPr>
              <p:spPr>
                <a:xfrm>
                  <a:off x="1606320" y="1149120"/>
                  <a:ext cx="40449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7" name=""/>
              <p:cNvGrpSpPr/>
              <p:nvPr/>
            </p:nvGrpSpPr>
            <p:grpSpPr>
              <a:xfrm>
                <a:off x="5651280" y="1149120"/>
                <a:ext cx="1886040" cy="1219320"/>
                <a:chOff x="5651280" y="1149120"/>
                <a:chExt cx="1886040" cy="1219320"/>
              </a:xfrm>
            </p:grpSpPr>
            <p:sp>
              <p:nvSpPr>
                <p:cNvPr id="3658" name=""/>
                <p:cNvSpPr/>
                <p:nvPr/>
              </p:nvSpPr>
              <p:spPr>
                <a:xfrm>
                  <a:off x="5719680" y="1149120"/>
                  <a:ext cx="174924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功能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>
                  <a:off x="5651280" y="1149120"/>
                  <a:ext cx="18860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0" name=""/>
              <p:cNvGrpSpPr/>
              <p:nvPr/>
            </p:nvGrpSpPr>
            <p:grpSpPr>
              <a:xfrm>
                <a:off x="1606320" y="1758960"/>
                <a:ext cx="669960" cy="609480"/>
                <a:chOff x="1606320" y="1758960"/>
                <a:chExt cx="669960" cy="609480"/>
              </a:xfrm>
            </p:grpSpPr>
            <p:sp>
              <p:nvSpPr>
                <p:cNvPr id="3661" name=""/>
                <p:cNvSpPr/>
                <p:nvPr/>
              </p:nvSpPr>
              <p:spPr>
                <a:xfrm>
                  <a:off x="1674720" y="1758960"/>
                  <a:ext cx="533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>
                  <a:off x="1606320" y="1758960"/>
                  <a:ext cx="669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3" name=""/>
              <p:cNvGrpSpPr/>
              <p:nvPr/>
            </p:nvGrpSpPr>
            <p:grpSpPr>
              <a:xfrm>
                <a:off x="2276280" y="1758960"/>
                <a:ext cx="1352520" cy="609480"/>
                <a:chOff x="2276280" y="1758960"/>
                <a:chExt cx="1352520" cy="609480"/>
              </a:xfrm>
            </p:grpSpPr>
            <p:sp>
              <p:nvSpPr>
                <p:cNvPr id="3664" name=""/>
                <p:cNvSpPr/>
                <p:nvPr/>
              </p:nvSpPr>
              <p:spPr>
                <a:xfrm>
                  <a:off x="2344680" y="1758960"/>
                  <a:ext cx="1215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2276280" y="1758960"/>
                  <a:ext cx="1352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6" name=""/>
              <p:cNvGrpSpPr/>
              <p:nvPr/>
            </p:nvGrpSpPr>
            <p:grpSpPr>
              <a:xfrm>
                <a:off x="3628800" y="1758960"/>
                <a:ext cx="1089000" cy="609480"/>
                <a:chOff x="3628800" y="1758960"/>
                <a:chExt cx="1089000" cy="609480"/>
              </a:xfrm>
            </p:grpSpPr>
            <p:sp>
              <p:nvSpPr>
                <p:cNvPr id="3667" name=""/>
                <p:cNvSpPr/>
                <p:nvPr/>
              </p:nvSpPr>
              <p:spPr>
                <a:xfrm>
                  <a:off x="3697200" y="1758960"/>
                  <a:ext cx="9522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"/>
                <p:cNvSpPr/>
                <p:nvPr/>
              </p:nvSpPr>
              <p:spPr>
                <a:xfrm>
                  <a:off x="3628800" y="1758960"/>
                  <a:ext cx="1089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9" name=""/>
              <p:cNvGrpSpPr/>
              <p:nvPr/>
            </p:nvGrpSpPr>
            <p:grpSpPr>
              <a:xfrm>
                <a:off x="4717800" y="1758960"/>
                <a:ext cx="933480" cy="609480"/>
                <a:chOff x="4717800" y="1758960"/>
                <a:chExt cx="933480" cy="609480"/>
              </a:xfrm>
            </p:grpSpPr>
            <p:sp>
              <p:nvSpPr>
                <p:cNvPr id="3670" name=""/>
                <p:cNvSpPr/>
                <p:nvPr/>
              </p:nvSpPr>
              <p:spPr>
                <a:xfrm>
                  <a:off x="4786200" y="1758960"/>
                  <a:ext cx="7966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>
                  <a:off x="4717800" y="1758960"/>
                  <a:ext cx="9334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2" name=""/>
              <p:cNvGrpSpPr/>
              <p:nvPr/>
            </p:nvGrpSpPr>
            <p:grpSpPr>
              <a:xfrm>
                <a:off x="1606320" y="2368440"/>
                <a:ext cx="669960" cy="609480"/>
                <a:chOff x="1606320" y="2368440"/>
                <a:chExt cx="669960" cy="609480"/>
              </a:xfrm>
            </p:grpSpPr>
            <p:sp>
              <p:nvSpPr>
                <p:cNvPr id="3673" name=""/>
                <p:cNvSpPr/>
                <p:nvPr/>
              </p:nvSpPr>
              <p:spPr>
                <a:xfrm>
                  <a:off x="1674720" y="2368440"/>
                  <a:ext cx="5331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1606320" y="2368440"/>
                  <a:ext cx="669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5" name=""/>
              <p:cNvGrpSpPr/>
              <p:nvPr/>
            </p:nvGrpSpPr>
            <p:grpSpPr>
              <a:xfrm>
                <a:off x="2276280" y="2368440"/>
                <a:ext cx="1352520" cy="609480"/>
                <a:chOff x="2276280" y="2368440"/>
                <a:chExt cx="1352520" cy="609480"/>
              </a:xfrm>
            </p:grpSpPr>
            <p:sp>
              <p:nvSpPr>
                <p:cNvPr id="3676" name=""/>
                <p:cNvSpPr/>
                <p:nvPr/>
              </p:nvSpPr>
              <p:spPr>
                <a:xfrm>
                  <a:off x="2344680" y="2368440"/>
                  <a:ext cx="1215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>
                  <a:off x="2276280" y="2368440"/>
                  <a:ext cx="13525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8" name=""/>
              <p:cNvGrpSpPr/>
              <p:nvPr/>
            </p:nvGrpSpPr>
            <p:grpSpPr>
              <a:xfrm>
                <a:off x="3628800" y="2368440"/>
                <a:ext cx="1089000" cy="609480"/>
                <a:chOff x="3628800" y="2368440"/>
                <a:chExt cx="1089000" cy="609480"/>
              </a:xfrm>
            </p:grpSpPr>
            <p:sp>
              <p:nvSpPr>
                <p:cNvPr id="3679" name=""/>
                <p:cNvSpPr/>
                <p:nvPr/>
              </p:nvSpPr>
              <p:spPr>
                <a:xfrm>
                  <a:off x="3697200" y="2368440"/>
                  <a:ext cx="9522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>
                  <a:off x="3628800" y="2368440"/>
                  <a:ext cx="1089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1" name=""/>
              <p:cNvGrpSpPr/>
              <p:nvPr/>
            </p:nvGrpSpPr>
            <p:grpSpPr>
              <a:xfrm>
                <a:off x="4717800" y="2368440"/>
                <a:ext cx="933480" cy="609480"/>
                <a:chOff x="4717800" y="2368440"/>
                <a:chExt cx="933480" cy="609480"/>
              </a:xfrm>
            </p:grpSpPr>
            <p:sp>
              <p:nvSpPr>
                <p:cNvPr id="3682" name=""/>
                <p:cNvSpPr/>
                <p:nvPr/>
              </p:nvSpPr>
              <p:spPr>
                <a:xfrm>
                  <a:off x="4786200" y="2368440"/>
                  <a:ext cx="7966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3" name=""/>
                <p:cNvSpPr/>
                <p:nvPr/>
              </p:nvSpPr>
              <p:spPr>
                <a:xfrm>
                  <a:off x="4717800" y="2368440"/>
                  <a:ext cx="9334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4" name=""/>
              <p:cNvGrpSpPr/>
              <p:nvPr/>
            </p:nvGrpSpPr>
            <p:grpSpPr>
              <a:xfrm>
                <a:off x="5651280" y="2368440"/>
                <a:ext cx="1886040" cy="609480"/>
                <a:chOff x="5651280" y="2368440"/>
                <a:chExt cx="1886040" cy="609480"/>
              </a:xfrm>
            </p:grpSpPr>
            <p:sp>
              <p:nvSpPr>
                <p:cNvPr id="3685" name=""/>
                <p:cNvSpPr/>
                <p:nvPr/>
              </p:nvSpPr>
              <p:spPr>
                <a:xfrm>
                  <a:off x="5719680" y="2368440"/>
                  <a:ext cx="1749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不设程序加密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>
                  <a:off x="5651280" y="2368440"/>
                  <a:ext cx="188604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7" name=""/>
              <p:cNvGrpSpPr/>
              <p:nvPr/>
            </p:nvGrpSpPr>
            <p:grpSpPr>
              <a:xfrm>
                <a:off x="1606320" y="2977920"/>
                <a:ext cx="669960" cy="1219320"/>
                <a:chOff x="1606320" y="2977920"/>
                <a:chExt cx="669960" cy="1219320"/>
              </a:xfrm>
            </p:grpSpPr>
            <p:sp>
              <p:nvSpPr>
                <p:cNvPr id="3688" name=""/>
                <p:cNvSpPr/>
                <p:nvPr/>
              </p:nvSpPr>
              <p:spPr>
                <a:xfrm>
                  <a:off x="1674720" y="2977920"/>
                  <a:ext cx="5331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1606320" y="2977920"/>
                  <a:ext cx="66996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0" name=""/>
              <p:cNvGrpSpPr/>
              <p:nvPr/>
            </p:nvGrpSpPr>
            <p:grpSpPr>
              <a:xfrm>
                <a:off x="2276280" y="2977920"/>
                <a:ext cx="1352520" cy="1219320"/>
                <a:chOff x="2276280" y="2977920"/>
                <a:chExt cx="1352520" cy="1219320"/>
              </a:xfrm>
            </p:grpSpPr>
            <p:sp>
              <p:nvSpPr>
                <p:cNvPr id="3691" name=""/>
                <p:cNvSpPr/>
                <p:nvPr/>
              </p:nvSpPr>
              <p:spPr>
                <a:xfrm>
                  <a:off x="2344680" y="2977920"/>
                  <a:ext cx="12157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>
                  <a:off x="2276280" y="2977920"/>
                  <a:ext cx="135252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3" name=""/>
              <p:cNvGrpSpPr/>
              <p:nvPr/>
            </p:nvGrpSpPr>
            <p:grpSpPr>
              <a:xfrm>
                <a:off x="3628800" y="2977920"/>
                <a:ext cx="1089000" cy="1219320"/>
                <a:chOff x="3628800" y="2977920"/>
                <a:chExt cx="1089000" cy="1219320"/>
              </a:xfrm>
            </p:grpSpPr>
            <p:sp>
              <p:nvSpPr>
                <p:cNvPr id="3694" name=""/>
                <p:cNvSpPr/>
                <p:nvPr/>
              </p:nvSpPr>
              <p:spPr>
                <a:xfrm>
                  <a:off x="3697200" y="2977920"/>
                  <a:ext cx="95220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>
                  <a:off x="3628800" y="2977920"/>
                  <a:ext cx="10890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6" name=""/>
              <p:cNvGrpSpPr/>
              <p:nvPr/>
            </p:nvGrpSpPr>
            <p:grpSpPr>
              <a:xfrm>
                <a:off x="4717800" y="2977920"/>
                <a:ext cx="933480" cy="1219320"/>
                <a:chOff x="4717800" y="2977920"/>
                <a:chExt cx="933480" cy="1219320"/>
              </a:xfrm>
            </p:grpSpPr>
            <p:sp>
              <p:nvSpPr>
                <p:cNvPr id="3697" name=""/>
                <p:cNvSpPr/>
                <p:nvPr/>
              </p:nvSpPr>
              <p:spPr>
                <a:xfrm>
                  <a:off x="4786200" y="2977920"/>
                  <a:ext cx="7966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>
                  <a:off x="4717800" y="2977920"/>
                  <a:ext cx="93348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9" name=""/>
              <p:cNvGrpSpPr/>
              <p:nvPr/>
            </p:nvGrpSpPr>
            <p:grpSpPr>
              <a:xfrm>
                <a:off x="5651280" y="2977920"/>
                <a:ext cx="1886040" cy="1219320"/>
                <a:chOff x="5651280" y="2977920"/>
                <a:chExt cx="1886040" cy="1219320"/>
              </a:xfrm>
            </p:grpSpPr>
            <p:sp>
              <p:nvSpPr>
                <p:cNvPr id="3700" name=""/>
                <p:cNvSpPr/>
                <p:nvPr/>
              </p:nvSpPr>
              <p:spPr>
                <a:xfrm>
                  <a:off x="5719680" y="2977920"/>
                  <a:ext cx="174924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禁止从外部程序存储器中执行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MOVC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指令读取内部程序存储器，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(──)A(──)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被采样并在复位时锁存，禁止对闪速存储器进一步编程。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>
                  <a:off x="5651280" y="2977920"/>
                  <a:ext cx="18860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2" name=""/>
              <p:cNvGrpSpPr/>
              <p:nvPr/>
            </p:nvGrpSpPr>
            <p:grpSpPr>
              <a:xfrm>
                <a:off x="1606320" y="4197240"/>
                <a:ext cx="669960" cy="762120"/>
                <a:chOff x="1606320" y="4197240"/>
                <a:chExt cx="669960" cy="762120"/>
              </a:xfrm>
            </p:grpSpPr>
            <p:sp>
              <p:nvSpPr>
                <p:cNvPr id="3703" name=""/>
                <p:cNvSpPr/>
                <p:nvPr/>
              </p:nvSpPr>
              <p:spPr>
                <a:xfrm>
                  <a:off x="1674720" y="4197240"/>
                  <a:ext cx="53316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>
                  <a:off x="1606320" y="4197240"/>
                  <a:ext cx="6699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5" name=""/>
              <p:cNvGrpSpPr/>
              <p:nvPr/>
            </p:nvGrpSpPr>
            <p:grpSpPr>
              <a:xfrm>
                <a:off x="2276280" y="4197240"/>
                <a:ext cx="1352520" cy="762120"/>
                <a:chOff x="2276280" y="4197240"/>
                <a:chExt cx="1352520" cy="762120"/>
              </a:xfrm>
            </p:grpSpPr>
            <p:sp>
              <p:nvSpPr>
                <p:cNvPr id="3706" name=""/>
                <p:cNvSpPr/>
                <p:nvPr/>
              </p:nvSpPr>
              <p:spPr>
                <a:xfrm>
                  <a:off x="2344680" y="4197240"/>
                  <a:ext cx="12157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2276280" y="4197240"/>
                  <a:ext cx="13525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8" name=""/>
              <p:cNvGrpSpPr/>
              <p:nvPr/>
            </p:nvGrpSpPr>
            <p:grpSpPr>
              <a:xfrm>
                <a:off x="3628800" y="4197240"/>
                <a:ext cx="1089000" cy="762120"/>
                <a:chOff x="3628800" y="4197240"/>
                <a:chExt cx="1089000" cy="762120"/>
              </a:xfrm>
            </p:grpSpPr>
            <p:sp>
              <p:nvSpPr>
                <p:cNvPr id="3709" name=""/>
                <p:cNvSpPr/>
                <p:nvPr/>
              </p:nvSpPr>
              <p:spPr>
                <a:xfrm>
                  <a:off x="3697200" y="4197240"/>
                  <a:ext cx="95220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>
                  <a:off x="3628800" y="4197240"/>
                  <a:ext cx="10890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1" name=""/>
              <p:cNvGrpSpPr/>
              <p:nvPr/>
            </p:nvGrpSpPr>
            <p:grpSpPr>
              <a:xfrm>
                <a:off x="4717800" y="4197240"/>
                <a:ext cx="933480" cy="762120"/>
                <a:chOff x="4717800" y="4197240"/>
                <a:chExt cx="933480" cy="762120"/>
              </a:xfrm>
            </p:grpSpPr>
            <p:sp>
              <p:nvSpPr>
                <p:cNvPr id="3712" name=""/>
                <p:cNvSpPr/>
                <p:nvPr/>
              </p:nvSpPr>
              <p:spPr>
                <a:xfrm>
                  <a:off x="4786200" y="4197240"/>
                  <a:ext cx="7966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>
                  <a:off x="4717800" y="4197240"/>
                  <a:ext cx="933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4" name=""/>
              <p:cNvGrpSpPr/>
              <p:nvPr/>
            </p:nvGrpSpPr>
            <p:grpSpPr>
              <a:xfrm>
                <a:off x="5651280" y="4197240"/>
                <a:ext cx="1886040" cy="762120"/>
                <a:chOff x="5651280" y="4197240"/>
                <a:chExt cx="1886040" cy="762120"/>
              </a:xfrm>
            </p:grpSpPr>
            <p:sp>
              <p:nvSpPr>
                <p:cNvPr id="3715" name=""/>
                <p:cNvSpPr/>
                <p:nvPr/>
              </p:nvSpPr>
              <p:spPr>
                <a:xfrm>
                  <a:off x="5719680" y="4197240"/>
                  <a:ext cx="174924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与方式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相同，同时禁止校验内部存储器。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>
                  <a:off x="5651280" y="4197240"/>
                  <a:ext cx="18860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7" name=""/>
              <p:cNvGrpSpPr/>
              <p:nvPr/>
            </p:nvGrpSpPr>
            <p:grpSpPr>
              <a:xfrm>
                <a:off x="1606320" y="4959360"/>
                <a:ext cx="669960" cy="761760"/>
                <a:chOff x="1606320" y="4959360"/>
                <a:chExt cx="669960" cy="761760"/>
              </a:xfrm>
            </p:grpSpPr>
            <p:sp>
              <p:nvSpPr>
                <p:cNvPr id="3718" name=""/>
                <p:cNvSpPr/>
                <p:nvPr/>
              </p:nvSpPr>
              <p:spPr>
                <a:xfrm>
                  <a:off x="1674720" y="4959360"/>
                  <a:ext cx="53316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1606320" y="4959360"/>
                  <a:ext cx="6699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0" name=""/>
              <p:cNvGrpSpPr/>
              <p:nvPr/>
            </p:nvGrpSpPr>
            <p:grpSpPr>
              <a:xfrm>
                <a:off x="2276280" y="4959360"/>
                <a:ext cx="1352520" cy="761760"/>
                <a:chOff x="2276280" y="4959360"/>
                <a:chExt cx="1352520" cy="761760"/>
              </a:xfrm>
            </p:grpSpPr>
            <p:sp>
              <p:nvSpPr>
                <p:cNvPr id="3721" name=""/>
                <p:cNvSpPr/>
                <p:nvPr/>
              </p:nvSpPr>
              <p:spPr>
                <a:xfrm>
                  <a:off x="2344680" y="4959360"/>
                  <a:ext cx="121572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2276280" y="4959360"/>
                  <a:ext cx="13525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3" name=""/>
              <p:cNvGrpSpPr/>
              <p:nvPr/>
            </p:nvGrpSpPr>
            <p:grpSpPr>
              <a:xfrm>
                <a:off x="3628800" y="4959360"/>
                <a:ext cx="1089000" cy="761760"/>
                <a:chOff x="3628800" y="4959360"/>
                <a:chExt cx="1089000" cy="761760"/>
              </a:xfrm>
            </p:grpSpPr>
            <p:sp>
              <p:nvSpPr>
                <p:cNvPr id="3724" name=""/>
                <p:cNvSpPr/>
                <p:nvPr/>
              </p:nvSpPr>
              <p:spPr>
                <a:xfrm>
                  <a:off x="3697200" y="4959360"/>
                  <a:ext cx="95220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3628800" y="4959360"/>
                  <a:ext cx="108900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6" name=""/>
              <p:cNvGrpSpPr/>
              <p:nvPr/>
            </p:nvGrpSpPr>
            <p:grpSpPr>
              <a:xfrm>
                <a:off x="4717800" y="4959360"/>
                <a:ext cx="933480" cy="761760"/>
                <a:chOff x="4717800" y="4959360"/>
                <a:chExt cx="933480" cy="761760"/>
              </a:xfrm>
            </p:grpSpPr>
            <p:sp>
              <p:nvSpPr>
                <p:cNvPr id="3727" name=""/>
                <p:cNvSpPr/>
                <p:nvPr/>
              </p:nvSpPr>
              <p:spPr>
                <a:xfrm>
                  <a:off x="4786200" y="4959360"/>
                  <a:ext cx="79668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4717800" y="4959360"/>
                  <a:ext cx="933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9" name=""/>
              <p:cNvGrpSpPr/>
              <p:nvPr/>
            </p:nvGrpSpPr>
            <p:grpSpPr>
              <a:xfrm>
                <a:off x="5651280" y="4959360"/>
                <a:ext cx="1886040" cy="761760"/>
                <a:chOff x="5651280" y="4959360"/>
                <a:chExt cx="1886040" cy="761760"/>
              </a:xfrm>
            </p:grpSpPr>
            <p:sp>
              <p:nvSpPr>
                <p:cNvPr id="3730" name=""/>
                <p:cNvSpPr/>
                <p:nvPr/>
              </p:nvSpPr>
              <p:spPr>
                <a:xfrm>
                  <a:off x="5719680" y="4959360"/>
                  <a:ext cx="174924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与方式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相同，同时还禁止外部的执行。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5651280" y="4959360"/>
                  <a:ext cx="18860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2" name=""/>
            <p:cNvSpPr/>
            <p:nvPr/>
          </p:nvSpPr>
          <p:spPr>
            <a:xfrm>
              <a:off x="1601640" y="1144440"/>
              <a:ext cx="5940360" cy="4581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733" name=""/>
          <p:cNvSpPr/>
          <p:nvPr/>
        </p:nvSpPr>
        <p:spPr>
          <a:xfrm>
            <a:off x="914400" y="5867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注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=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被编程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U=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未编程  其它组合未被定义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"/>
          <p:cNvSpPr/>
          <p:nvPr/>
        </p:nvSpPr>
        <p:spPr>
          <a:xfrm>
            <a:off x="0" y="129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1-2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程序加密位配制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735" name=""/>
          <p:cNvGrpSpPr/>
          <p:nvPr/>
        </p:nvGrpSpPr>
        <p:grpSpPr>
          <a:xfrm>
            <a:off x="2658960" y="1898640"/>
            <a:ext cx="3825720" cy="3057480"/>
            <a:chOff x="2658960" y="1898640"/>
            <a:chExt cx="3825720" cy="3057480"/>
          </a:xfrm>
        </p:grpSpPr>
        <p:grpSp>
          <p:nvGrpSpPr>
            <p:cNvPr id="3736" name=""/>
            <p:cNvGrpSpPr/>
            <p:nvPr/>
          </p:nvGrpSpPr>
          <p:grpSpPr>
            <a:xfrm>
              <a:off x="2663640" y="1903320"/>
              <a:ext cx="3816360" cy="3048120"/>
              <a:chOff x="2663640" y="1903320"/>
              <a:chExt cx="3816360" cy="3048120"/>
            </a:xfrm>
          </p:grpSpPr>
          <p:grpSp>
            <p:nvGrpSpPr>
              <p:cNvPr id="3737" name=""/>
              <p:cNvGrpSpPr/>
              <p:nvPr/>
            </p:nvGrpSpPr>
            <p:grpSpPr>
              <a:xfrm>
                <a:off x="2663640" y="1903320"/>
                <a:ext cx="1908000" cy="609840"/>
                <a:chOff x="2663640" y="1903320"/>
                <a:chExt cx="1908000" cy="609840"/>
              </a:xfrm>
            </p:grpSpPr>
            <p:sp>
              <p:nvSpPr>
                <p:cNvPr id="3738" name=""/>
                <p:cNvSpPr/>
                <p:nvPr/>
              </p:nvSpPr>
              <p:spPr>
                <a:xfrm>
                  <a:off x="2732040" y="1903320"/>
                  <a:ext cx="1771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型号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2663640" y="1903320"/>
                  <a:ext cx="19080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0" name=""/>
              <p:cNvGrpSpPr/>
              <p:nvPr/>
            </p:nvGrpSpPr>
            <p:grpSpPr>
              <a:xfrm>
                <a:off x="4571640" y="1903320"/>
                <a:ext cx="1908360" cy="609840"/>
                <a:chOff x="4571640" y="1903320"/>
                <a:chExt cx="1908360" cy="609840"/>
              </a:xfrm>
            </p:grpSpPr>
            <p:sp>
              <p:nvSpPr>
                <p:cNvPr id="3741" name=""/>
                <p:cNvSpPr/>
                <p:nvPr/>
              </p:nvSpPr>
              <p:spPr>
                <a:xfrm>
                  <a:off x="4640040" y="1903320"/>
                  <a:ext cx="1771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加密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4571640" y="1903320"/>
                  <a:ext cx="19083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3" name=""/>
              <p:cNvGrpSpPr/>
              <p:nvPr/>
            </p:nvGrpSpPr>
            <p:grpSpPr>
              <a:xfrm>
                <a:off x="2663640" y="2513160"/>
                <a:ext cx="1908000" cy="609480"/>
                <a:chOff x="2663640" y="2513160"/>
                <a:chExt cx="1908000" cy="609480"/>
              </a:xfrm>
            </p:grpSpPr>
            <p:sp>
              <p:nvSpPr>
                <p:cNvPr id="3744" name=""/>
                <p:cNvSpPr/>
                <p:nvPr/>
              </p:nvSpPr>
              <p:spPr>
                <a:xfrm>
                  <a:off x="2732040" y="251316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T89C5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2663640" y="2513160"/>
                  <a:ext cx="1908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6" name=""/>
              <p:cNvGrpSpPr/>
              <p:nvPr/>
            </p:nvGrpSpPr>
            <p:grpSpPr>
              <a:xfrm>
                <a:off x="4571640" y="2513160"/>
                <a:ext cx="1908360" cy="609480"/>
                <a:chOff x="4571640" y="2513160"/>
                <a:chExt cx="1908360" cy="609480"/>
              </a:xfrm>
            </p:grpSpPr>
            <p:sp>
              <p:nvSpPr>
                <p:cNvPr id="3747" name=""/>
                <p:cNvSpPr/>
                <p:nvPr/>
              </p:nvSpPr>
              <p:spPr>
                <a:xfrm>
                  <a:off x="4640040" y="251316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1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2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4571640" y="2513160"/>
                  <a:ext cx="19083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9" name=""/>
              <p:cNvGrpSpPr/>
              <p:nvPr/>
            </p:nvGrpSpPr>
            <p:grpSpPr>
              <a:xfrm>
                <a:off x="2663640" y="3122640"/>
                <a:ext cx="1908000" cy="609480"/>
                <a:chOff x="2663640" y="3122640"/>
                <a:chExt cx="1908000" cy="609480"/>
              </a:xfrm>
            </p:grpSpPr>
            <p:sp>
              <p:nvSpPr>
                <p:cNvPr id="3750" name=""/>
                <p:cNvSpPr/>
                <p:nvPr/>
              </p:nvSpPr>
              <p:spPr>
                <a:xfrm>
                  <a:off x="2732040" y="312264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T89C5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2663640" y="3122640"/>
                  <a:ext cx="1908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2" name=""/>
              <p:cNvGrpSpPr/>
              <p:nvPr/>
            </p:nvGrpSpPr>
            <p:grpSpPr>
              <a:xfrm>
                <a:off x="4571640" y="3122640"/>
                <a:ext cx="1908360" cy="609480"/>
                <a:chOff x="4571640" y="3122640"/>
                <a:chExt cx="1908360" cy="609480"/>
              </a:xfrm>
            </p:grpSpPr>
            <p:sp>
              <p:nvSpPr>
                <p:cNvPr id="3753" name=""/>
                <p:cNvSpPr/>
                <p:nvPr/>
              </p:nvSpPr>
              <p:spPr>
                <a:xfrm>
                  <a:off x="4640040" y="312264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1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2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4571640" y="3122640"/>
                  <a:ext cx="19083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5" name=""/>
              <p:cNvGrpSpPr/>
              <p:nvPr/>
            </p:nvGrpSpPr>
            <p:grpSpPr>
              <a:xfrm>
                <a:off x="2663640" y="3732120"/>
                <a:ext cx="1908000" cy="609840"/>
                <a:chOff x="2663640" y="3732120"/>
                <a:chExt cx="1908000" cy="609840"/>
              </a:xfrm>
            </p:grpSpPr>
            <p:sp>
              <p:nvSpPr>
                <p:cNvPr id="3756" name=""/>
                <p:cNvSpPr/>
                <p:nvPr/>
              </p:nvSpPr>
              <p:spPr>
                <a:xfrm>
                  <a:off x="2732040" y="3732120"/>
                  <a:ext cx="1771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T89C105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>
                  <a:off x="2663640" y="3732120"/>
                  <a:ext cx="19080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8" name=""/>
              <p:cNvGrpSpPr/>
              <p:nvPr/>
            </p:nvGrpSpPr>
            <p:grpSpPr>
              <a:xfrm>
                <a:off x="4571640" y="3732120"/>
                <a:ext cx="1908360" cy="609840"/>
                <a:chOff x="4571640" y="3732120"/>
                <a:chExt cx="1908360" cy="609840"/>
              </a:xfrm>
            </p:grpSpPr>
            <p:sp>
              <p:nvSpPr>
                <p:cNvPr id="3759" name=""/>
                <p:cNvSpPr/>
                <p:nvPr/>
              </p:nvSpPr>
              <p:spPr>
                <a:xfrm>
                  <a:off x="4640040" y="3732120"/>
                  <a:ext cx="1771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1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>
                  <a:off x="4571640" y="3732120"/>
                  <a:ext cx="19083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1" name=""/>
              <p:cNvGrpSpPr/>
              <p:nvPr/>
            </p:nvGrpSpPr>
            <p:grpSpPr>
              <a:xfrm>
                <a:off x="2663640" y="4341960"/>
                <a:ext cx="1908000" cy="609480"/>
                <a:chOff x="2663640" y="4341960"/>
                <a:chExt cx="1908000" cy="609480"/>
              </a:xfrm>
            </p:grpSpPr>
            <p:sp>
              <p:nvSpPr>
                <p:cNvPr id="3762" name=""/>
                <p:cNvSpPr/>
                <p:nvPr/>
              </p:nvSpPr>
              <p:spPr>
                <a:xfrm>
                  <a:off x="2732040" y="434196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T89C205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>
                  <a:off x="2663640" y="4341960"/>
                  <a:ext cx="1908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4" name=""/>
              <p:cNvGrpSpPr/>
              <p:nvPr/>
            </p:nvGrpSpPr>
            <p:grpSpPr>
              <a:xfrm>
                <a:off x="4571640" y="4341960"/>
                <a:ext cx="1908360" cy="609480"/>
                <a:chOff x="4571640" y="4341960"/>
                <a:chExt cx="1908360" cy="609480"/>
              </a:xfrm>
            </p:grpSpPr>
            <p:sp>
              <p:nvSpPr>
                <p:cNvPr id="3765" name=""/>
                <p:cNvSpPr/>
                <p:nvPr/>
              </p:nvSpPr>
              <p:spPr>
                <a:xfrm>
                  <a:off x="4640040" y="4341960"/>
                  <a:ext cx="17715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1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LB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4571640" y="4341960"/>
                  <a:ext cx="19083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67" name=""/>
            <p:cNvSpPr/>
            <p:nvPr/>
          </p:nvSpPr>
          <p:spPr>
            <a:xfrm>
              <a:off x="2658960" y="1898640"/>
              <a:ext cx="3825720" cy="3057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0" y="4956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"/>
          <p:cNvSpPr/>
          <p:nvPr/>
        </p:nvSpPr>
        <p:spPr>
          <a:xfrm>
            <a:off x="-22860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1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2 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AT89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系列主要单片机型号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19717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71" name="89C51的引脚图" descr=""/>
          <p:cNvPicPr/>
          <p:nvPr/>
        </p:nvPicPr>
        <p:blipFill>
          <a:blip r:embed="rId1"/>
          <a:stretch/>
        </p:blipFill>
        <p:spPr>
          <a:xfrm>
            <a:off x="1447920" y="2381400"/>
            <a:ext cx="6019560" cy="2495520"/>
          </a:xfrm>
          <a:prstGeom prst="rect">
            <a:avLst/>
          </a:prstGeom>
          <a:ln w="0">
            <a:noFill/>
          </a:ln>
        </p:spPr>
      </p:pic>
      <p:sp>
        <p:nvSpPr>
          <p:cNvPr id="3772" name=""/>
          <p:cNvSpPr/>
          <p:nvPr/>
        </p:nvSpPr>
        <p:spPr>
          <a:xfrm>
            <a:off x="0" y="541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1-3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T89C5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引脚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"/>
          <p:cNvSpPr/>
          <p:nvPr/>
        </p:nvSpPr>
        <p:spPr>
          <a:xfrm>
            <a:off x="18716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74" name="定时器2捕获方式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3200400"/>
          </a:xfrm>
          <a:prstGeom prst="rect">
            <a:avLst/>
          </a:prstGeom>
          <a:ln w="0">
            <a:noFill/>
          </a:ln>
        </p:spPr>
      </p:pic>
      <p:sp>
        <p:nvSpPr>
          <p:cNvPr id="3775" name=""/>
          <p:cNvSpPr/>
          <p:nvPr/>
        </p:nvSpPr>
        <p:spPr>
          <a:xfrm>
            <a:off x="0" y="533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1-4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定时器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捕获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"/>
          <p:cNvSpPr/>
          <p:nvPr/>
        </p:nvSpPr>
        <p:spPr>
          <a:xfrm>
            <a:off x="18763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77" name="自动重装入方式0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819760" cy="2728800"/>
          </a:xfrm>
          <a:prstGeom prst="rect">
            <a:avLst/>
          </a:prstGeom>
          <a:ln w="0">
            <a:noFill/>
          </a:ln>
        </p:spPr>
      </p:pic>
      <p:sp>
        <p:nvSpPr>
          <p:cNvPr id="3778" name=""/>
          <p:cNvSpPr/>
          <p:nvPr/>
        </p:nvSpPr>
        <p:spPr>
          <a:xfrm>
            <a:off x="2438280" y="5410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1-5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自动重装入方式（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CEN=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"/>
          <p:cNvSpPr/>
          <p:nvPr/>
        </p:nvSpPr>
        <p:spPr>
          <a:xfrm>
            <a:off x="187164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80" name="自动重装入方式1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553080" cy="2952720"/>
          </a:xfrm>
          <a:prstGeom prst="rect">
            <a:avLst/>
          </a:prstGeom>
          <a:ln w="0">
            <a:noFill/>
          </a:ln>
        </p:spPr>
      </p:pic>
      <p:sp>
        <p:nvSpPr>
          <p:cNvPr id="3781" name=""/>
          <p:cNvSpPr/>
          <p:nvPr/>
        </p:nvSpPr>
        <p:spPr>
          <a:xfrm>
            <a:off x="533520" y="533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1-6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自动重装入方式（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DCEN=1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黑体"/>
              </a:rPr>
              <a:t>）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"/>
          <p:cNvSpPr/>
          <p:nvPr/>
        </p:nvSpPr>
        <p:spPr>
          <a:xfrm>
            <a:off x="187632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83" name="波特率发生器方式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52920" cy="3505320"/>
          </a:xfrm>
          <a:prstGeom prst="rect">
            <a:avLst/>
          </a:prstGeom>
          <a:ln w="0">
            <a:noFill/>
          </a:ln>
        </p:spPr>
      </p:pic>
      <p:sp>
        <p:nvSpPr>
          <p:cNvPr id="3784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1-7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波特率发生器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"/>
          <p:cNvSpPr/>
          <p:nvPr/>
        </p:nvSpPr>
        <p:spPr>
          <a:xfrm>
            <a:off x="187632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86" name="时钟输出方式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933960" cy="3276720"/>
          </a:xfrm>
          <a:prstGeom prst="rect">
            <a:avLst/>
          </a:prstGeom>
          <a:ln w="0">
            <a:noFill/>
          </a:ln>
        </p:spPr>
      </p:pic>
      <p:sp>
        <p:nvSpPr>
          <p:cNvPr id="3787" name=""/>
          <p:cNvSpPr/>
          <p:nvPr/>
        </p:nvSpPr>
        <p:spPr>
          <a:xfrm>
            <a:off x="0" y="57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1-4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定时器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的捕获方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"/>
          <p:cNvSpPr/>
          <p:nvPr/>
        </p:nvSpPr>
        <p:spPr>
          <a:xfrm>
            <a:off x="187632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89" name="自动重装入方式0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3124080"/>
          </a:xfrm>
          <a:prstGeom prst="rect">
            <a:avLst/>
          </a:prstGeom>
          <a:ln w="0">
            <a:noFill/>
          </a:ln>
        </p:spPr>
      </p:pic>
      <p:sp>
        <p:nvSpPr>
          <p:cNvPr id="3790" name=""/>
          <p:cNvSpPr/>
          <p:nvPr/>
        </p:nvSpPr>
        <p:spPr>
          <a:xfrm>
            <a:off x="2209680" y="5334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1-5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自动重装入方式（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CEN=0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533520" y="114300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） 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口位的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29076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3" name="P1口位结构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486400" cy="289584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0" y="3124080"/>
            <a:ext cx="914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6  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3124080"/>
            <a:ext cx="914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6  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124080"/>
            <a:ext cx="914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6  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3124080"/>
            <a:ext cx="91440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6  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525780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6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口的位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"/>
          <p:cNvSpPr/>
          <p:nvPr/>
        </p:nvSpPr>
        <p:spPr>
          <a:xfrm>
            <a:off x="187164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92" name="自动重装入方式1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3657600"/>
          </a:xfrm>
          <a:prstGeom prst="rect">
            <a:avLst/>
          </a:prstGeom>
          <a:ln w="0">
            <a:noFill/>
          </a:ln>
        </p:spPr>
      </p:pic>
      <p:sp>
        <p:nvSpPr>
          <p:cNvPr id="3793" name=""/>
          <p:cNvSpPr/>
          <p:nvPr/>
        </p:nvSpPr>
        <p:spPr>
          <a:xfrm>
            <a:off x="2438280" y="5867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1-6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自动重装入方式（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CEN=1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）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"/>
          <p:cNvSpPr/>
          <p:nvPr/>
        </p:nvSpPr>
        <p:spPr>
          <a:xfrm>
            <a:off x="187632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95" name="波特率发生器方式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3533760"/>
          </a:xfrm>
          <a:prstGeom prst="rect">
            <a:avLst/>
          </a:prstGeom>
          <a:ln w="0">
            <a:noFill/>
          </a:ln>
        </p:spPr>
      </p:pic>
      <p:sp>
        <p:nvSpPr>
          <p:cNvPr id="3796" name=""/>
          <p:cNvSpPr/>
          <p:nvPr/>
        </p:nvSpPr>
        <p:spPr>
          <a:xfrm>
            <a:off x="0" y="5562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1-7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波特率发生器方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"/>
          <p:cNvSpPr/>
          <p:nvPr/>
        </p:nvSpPr>
        <p:spPr>
          <a:xfrm>
            <a:off x="187632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798" name="时钟输出方式" descr=""/>
          <p:cNvPicPr/>
          <p:nvPr/>
        </p:nvPicPr>
        <p:blipFill>
          <a:blip r:embed="rId1"/>
          <a:stretch/>
        </p:blipFill>
        <p:spPr>
          <a:xfrm>
            <a:off x="1876320" y="1862280"/>
            <a:ext cx="5391360" cy="3133440"/>
          </a:xfrm>
          <a:prstGeom prst="rect">
            <a:avLst/>
          </a:prstGeom>
          <a:ln w="0">
            <a:noFill/>
          </a:ln>
        </p:spPr>
      </p:pic>
      <p:sp>
        <p:nvSpPr>
          <p:cNvPr id="3799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1-8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时钟输出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"/>
          <p:cNvSpPr/>
          <p:nvPr/>
        </p:nvSpPr>
        <p:spPr>
          <a:xfrm>
            <a:off x="28954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01" name="89C1051&amp;2051引脚图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15000" cy="2514600"/>
          </a:xfrm>
          <a:prstGeom prst="rect">
            <a:avLst/>
          </a:prstGeom>
          <a:ln w="0">
            <a:noFill/>
          </a:ln>
        </p:spPr>
      </p:pic>
      <p:sp>
        <p:nvSpPr>
          <p:cNvPr id="3802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1-9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T89C1051/205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的引脚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"/>
          <p:cNvSpPr/>
          <p:nvPr/>
        </p:nvSpPr>
        <p:spPr>
          <a:xfrm>
            <a:off x="0" y="99072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532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十二章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MCS-96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系列单片机简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0" y="19051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2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 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MCS-96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228132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06" name="98引脚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581720" cy="3276720"/>
          </a:xfrm>
          <a:prstGeom prst="rect">
            <a:avLst/>
          </a:prstGeom>
          <a:ln w="0">
            <a:noFill/>
          </a:ln>
        </p:spPr>
      </p:pic>
      <p:sp>
        <p:nvSpPr>
          <p:cNvPr id="3807" name=""/>
          <p:cNvSpPr/>
          <p:nvPr/>
        </p:nvSpPr>
        <p:spPr>
          <a:xfrm>
            <a:off x="304920" y="6019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2-1  8098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引脚名称及排列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"/>
          <p:cNvSpPr/>
          <p:nvPr/>
        </p:nvSpPr>
        <p:spPr>
          <a:xfrm>
            <a:off x="180972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09" name="98内部结构图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553080" cy="4191120"/>
          </a:xfrm>
          <a:prstGeom prst="rect">
            <a:avLst/>
          </a:prstGeom>
          <a:ln w="0">
            <a:noFill/>
          </a:ln>
        </p:spPr>
      </p:pic>
      <p:sp>
        <p:nvSpPr>
          <p:cNvPr id="3810" name=""/>
          <p:cNvSpPr/>
          <p:nvPr/>
        </p:nvSpPr>
        <p:spPr>
          <a:xfrm>
            <a:off x="2666880" y="579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2-2  809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片机内部结构框图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"/>
          <p:cNvSpPr/>
          <p:nvPr/>
        </p:nvSpPr>
        <p:spPr>
          <a:xfrm>
            <a:off x="233352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12" name="98RALU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48520" cy="4038840"/>
          </a:xfrm>
          <a:prstGeom prst="rect">
            <a:avLst/>
          </a:prstGeom>
          <a:ln w="0">
            <a:noFill/>
          </a:ln>
        </p:spPr>
      </p:pic>
      <p:sp>
        <p:nvSpPr>
          <p:cNvPr id="3813" name=""/>
          <p:cNvSpPr/>
          <p:nvPr/>
        </p:nvSpPr>
        <p:spPr>
          <a:xfrm>
            <a:off x="228600" y="54864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2-3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RALU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"/>
          <p:cNvSpPr/>
          <p:nvPr/>
        </p:nvSpPr>
        <p:spPr>
          <a:xfrm>
            <a:off x="288612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15" name="98时钟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638680" cy="2333520"/>
          </a:xfrm>
          <a:prstGeom prst="rect">
            <a:avLst/>
          </a:prstGeom>
          <a:ln w="0">
            <a:noFill/>
          </a:ln>
        </p:spPr>
      </p:pic>
      <p:sp>
        <p:nvSpPr>
          <p:cNvPr id="3816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1063800" y="3394080"/>
            <a:ext cx="0" cy="1590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0" y="4952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2-4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内部时钟信号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"/>
          <p:cNvSpPr/>
          <p:nvPr/>
        </p:nvSpPr>
        <p:spPr>
          <a:xfrm>
            <a:off x="-228600" y="11430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2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3  8098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存储空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3424320" y="13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21" name="98存储空间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2295720" cy="4172040"/>
          </a:xfrm>
          <a:prstGeom prst="rect">
            <a:avLst/>
          </a:prstGeom>
          <a:ln w="0">
            <a:noFill/>
          </a:ln>
        </p:spPr>
      </p:pic>
      <p:sp>
        <p:nvSpPr>
          <p:cNvPr id="3822" name=""/>
          <p:cNvSpPr/>
          <p:nvPr/>
        </p:nvSpPr>
        <p:spPr>
          <a:xfrm>
            <a:off x="-30492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2-5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存储器空间分配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"/>
          <p:cNvSpPr/>
          <p:nvPr/>
        </p:nvSpPr>
        <p:spPr>
          <a:xfrm>
            <a:off x="-22860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2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4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中断系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32338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25" name="98HIS结构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3826" name=""/>
          <p:cNvSpPr/>
          <p:nvPr/>
        </p:nvSpPr>
        <p:spPr>
          <a:xfrm>
            <a:off x="-380880" y="533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2-6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HSI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533520" y="99072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） 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口的位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84796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1" name="P2口位结构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67640" cy="358128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0" y="548640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7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口的结构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"/>
          <p:cNvSpPr/>
          <p:nvPr/>
        </p:nvSpPr>
        <p:spPr>
          <a:xfrm>
            <a:off x="266220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28" name="98HSO结构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3809880"/>
          </a:xfrm>
          <a:prstGeom prst="rect">
            <a:avLst/>
          </a:prstGeom>
          <a:ln w="0">
            <a:noFill/>
          </a:ln>
        </p:spPr>
      </p:pic>
      <p:sp>
        <p:nvSpPr>
          <p:cNvPr id="3829" name=""/>
          <p:cNvSpPr/>
          <p:nvPr/>
        </p:nvSpPr>
        <p:spPr>
          <a:xfrm>
            <a:off x="2895480" y="5486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2-7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SO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结构框图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"/>
          <p:cNvSpPr/>
          <p:nvPr/>
        </p:nvSpPr>
        <p:spPr>
          <a:xfrm>
            <a:off x="0" y="11430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2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7  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A/D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转换及脉宽调制</a:t>
            </a: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D/A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2886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32" name="98AD转换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486400" cy="2433600"/>
          </a:xfrm>
          <a:prstGeom prst="rect">
            <a:avLst/>
          </a:prstGeom>
          <a:ln w="0">
            <a:noFill/>
          </a:ln>
        </p:spPr>
      </p:pic>
      <p:sp>
        <p:nvSpPr>
          <p:cNvPr id="3833" name="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2-8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A/D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转换器硬件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"/>
          <p:cNvSpPr/>
          <p:nvPr/>
        </p:nvSpPr>
        <p:spPr>
          <a:xfrm>
            <a:off x="30672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835" name="98PWM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686280" cy="2471760"/>
          </a:xfrm>
          <a:prstGeom prst="rect">
            <a:avLst/>
          </a:prstGeom>
          <a:ln w="0">
            <a:noFill/>
          </a:ln>
        </p:spPr>
      </p:pic>
      <p:sp>
        <p:nvSpPr>
          <p:cNvPr id="3836" name=""/>
          <p:cNvSpPr/>
          <p:nvPr/>
        </p:nvSpPr>
        <p:spPr>
          <a:xfrm>
            <a:off x="0" y="5334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2-9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WM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结构框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533520" y="114300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） 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口的位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8242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5" name="P3口位结构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410080" cy="342900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0" y="541008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8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口的结构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533520" y="1219320"/>
            <a:ext cx="91440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（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） </a:t>
            </a:r>
            <a:r>
              <a:rPr b="0" lang="en-US" sz="2000" spc="-1" strike="noStrike">
                <a:solidFill>
                  <a:srgbClr val="5b5249"/>
                </a:solidFill>
                <a:latin typeface="黑体"/>
                <a:ea typeface="黑体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口的位结构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242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9" name="P3口位结构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6324480" cy="312444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0" y="5715000"/>
            <a:ext cx="9144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8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口的结构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第一章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  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单片微型计算机概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本章主要介绍单片机的发展，基本的结构和特点，单片机的应用模式和领域，单片机的供应状态等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单片微型计算机就是将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PU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定时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计数器和多种接口都集成到一块集成电路芯片上的微型计算机。因此，一块芯片就构成了一台计算机。它已成为工业控制领域、智能仪器仪表、尖端武器、日常生活中最广泛使用的计算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0" y="106668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2‑3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口的第二功能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676520" y="1600200"/>
            <a:ext cx="5790600" cy="4800600"/>
            <a:chOff x="1676520" y="1600200"/>
            <a:chExt cx="5790600" cy="4800600"/>
          </a:xfrm>
        </p:grpSpPr>
        <p:grpSp>
          <p:nvGrpSpPr>
            <p:cNvPr id="1023" name=""/>
            <p:cNvGrpSpPr/>
            <p:nvPr/>
          </p:nvGrpSpPr>
          <p:grpSpPr>
            <a:xfrm>
              <a:off x="1681920" y="1604160"/>
              <a:ext cx="5779080" cy="4791240"/>
              <a:chOff x="1681920" y="1604160"/>
              <a:chExt cx="5779080" cy="479124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1681920" y="1604160"/>
                <a:ext cx="1269360" cy="532440"/>
                <a:chOff x="1681920" y="1604160"/>
                <a:chExt cx="1269360" cy="53244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1760760" y="1604160"/>
                  <a:ext cx="111132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I/O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口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681920" y="1604160"/>
                  <a:ext cx="126936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2951640" y="1604160"/>
                <a:ext cx="1368000" cy="532440"/>
                <a:chOff x="2951640" y="1604160"/>
                <a:chExt cx="1368000" cy="53244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030120" y="1604160"/>
                  <a:ext cx="121104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第二功能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951640" y="1604160"/>
                  <a:ext cx="136800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4320000" y="1604160"/>
                <a:ext cx="3141000" cy="532440"/>
                <a:chOff x="4320000" y="1604160"/>
                <a:chExt cx="3141000" cy="53244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4398840" y="1604160"/>
                  <a:ext cx="29829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注  释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320000" y="1604160"/>
                  <a:ext cx="314100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1681920" y="2136600"/>
                <a:ext cx="1269360" cy="532080"/>
                <a:chOff x="1681920" y="2136600"/>
                <a:chExt cx="1269360" cy="53208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1760760" y="213660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681920" y="213660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2951640" y="2136600"/>
                <a:ext cx="1368000" cy="532080"/>
                <a:chOff x="2951640" y="2136600"/>
                <a:chExt cx="1368000" cy="53208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3030120" y="213660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RXD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951640" y="213660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4320000" y="2136600"/>
                <a:ext cx="3141000" cy="532080"/>
                <a:chOff x="4320000" y="2136600"/>
                <a:chExt cx="3141000" cy="53208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4398840" y="213660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串行口数据接收端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320000" y="213660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1681920" y="2669040"/>
                <a:ext cx="1269360" cy="532080"/>
                <a:chOff x="1681920" y="2669040"/>
                <a:chExt cx="1269360" cy="53208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1760760" y="266904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1681920" y="266904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2951640" y="2669040"/>
                <a:ext cx="1368000" cy="532080"/>
                <a:chOff x="2951640" y="2669040"/>
                <a:chExt cx="1368000" cy="53208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3030120" y="266904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TXD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2951640" y="266904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4320000" y="2669040"/>
                <a:ext cx="3141000" cy="532080"/>
                <a:chOff x="4320000" y="2669040"/>
                <a:chExt cx="3141000" cy="53208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4398840" y="266904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串行口数据发送端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320000" y="266904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1681920" y="3201480"/>
                <a:ext cx="1269360" cy="532080"/>
                <a:chOff x="1681920" y="3201480"/>
                <a:chExt cx="1269360" cy="5320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1760760" y="320148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2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681920" y="320148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2951640" y="3201480"/>
                <a:ext cx="1368000" cy="532080"/>
                <a:chOff x="2951640" y="3201480"/>
                <a:chExt cx="1368000" cy="53208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3030120" y="320148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INT(————)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2951640" y="320148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4320000" y="3201480"/>
                <a:ext cx="3141000" cy="532080"/>
                <a:chOff x="4320000" y="3201480"/>
                <a:chExt cx="3141000" cy="5320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4398840" y="320148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外部中断请求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320000" y="320148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1681920" y="3733560"/>
                <a:ext cx="1269360" cy="532440"/>
                <a:chOff x="1681920" y="3733560"/>
                <a:chExt cx="1269360" cy="53244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1760760" y="3733560"/>
                  <a:ext cx="111132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3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681920" y="3733560"/>
                  <a:ext cx="126936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2951640" y="3733560"/>
                <a:ext cx="1368000" cy="532440"/>
                <a:chOff x="2951640" y="3733560"/>
                <a:chExt cx="1368000" cy="53244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3030120" y="3733560"/>
                  <a:ext cx="121104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INT(————)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951640" y="3733560"/>
                  <a:ext cx="136800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4320000" y="3733560"/>
                <a:ext cx="3141000" cy="532440"/>
                <a:chOff x="4320000" y="3733560"/>
                <a:chExt cx="3141000" cy="53244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4398840" y="3733560"/>
                  <a:ext cx="29829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外部中断请求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320000" y="3733560"/>
                  <a:ext cx="3141000" cy="532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1681920" y="4266360"/>
                <a:ext cx="1269360" cy="532080"/>
                <a:chOff x="1681920" y="4266360"/>
                <a:chExt cx="1269360" cy="5320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1760760" y="426636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4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681920" y="426636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2951640" y="4266360"/>
                <a:ext cx="1368000" cy="532080"/>
                <a:chOff x="2951640" y="4266360"/>
                <a:chExt cx="1368000" cy="53208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3030120" y="426636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T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2951640" y="426636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4320000" y="4266360"/>
                <a:ext cx="3141000" cy="532080"/>
                <a:chOff x="4320000" y="4266360"/>
                <a:chExt cx="3141000" cy="53208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4398840" y="426636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定时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/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计数器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320000" y="426636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8" name=""/>
              <p:cNvGrpSpPr/>
              <p:nvPr/>
            </p:nvGrpSpPr>
            <p:grpSpPr>
              <a:xfrm>
                <a:off x="1681920" y="4798800"/>
                <a:ext cx="1269360" cy="532080"/>
                <a:chOff x="1681920" y="4798800"/>
                <a:chExt cx="1269360" cy="53208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1760760" y="479880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5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681920" y="479880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2951640" y="4798800"/>
                <a:ext cx="1368000" cy="532080"/>
                <a:chOff x="2951640" y="4798800"/>
                <a:chExt cx="1368000" cy="53208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3030120" y="479880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T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2951640" y="479880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4320000" y="4798800"/>
                <a:ext cx="3141000" cy="532080"/>
                <a:chOff x="4320000" y="4798800"/>
                <a:chExt cx="3141000" cy="53208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4398840" y="479880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定时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/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计数器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20000" y="479880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1681920" y="5330880"/>
                <a:ext cx="1269360" cy="532080"/>
                <a:chOff x="1681920" y="5330880"/>
                <a:chExt cx="1269360" cy="53208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1760760" y="533088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6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681920" y="533088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2951640" y="5330880"/>
                <a:ext cx="1368000" cy="532080"/>
                <a:chOff x="2951640" y="5330880"/>
                <a:chExt cx="1368000" cy="5320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3030120" y="533088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WR(———)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2951640" y="533088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4320000" y="5330880"/>
                <a:ext cx="3141000" cy="532080"/>
                <a:chOff x="4320000" y="5330880"/>
                <a:chExt cx="3141000" cy="5320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4398840" y="533088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外部</a:t>
                  </a: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RAM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写信号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320000" y="533088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1681920" y="5863320"/>
                <a:ext cx="1269360" cy="532080"/>
                <a:chOff x="1681920" y="5863320"/>
                <a:chExt cx="1269360" cy="53208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1760760" y="5863320"/>
                  <a:ext cx="111132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12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.7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681920" y="5863320"/>
                  <a:ext cx="126936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9" name=""/>
              <p:cNvGrpSpPr/>
              <p:nvPr/>
            </p:nvGrpSpPr>
            <p:grpSpPr>
              <a:xfrm>
                <a:off x="2951640" y="5863320"/>
                <a:ext cx="1368000" cy="532080"/>
                <a:chOff x="2951640" y="5863320"/>
                <a:chExt cx="1368000" cy="53208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3030120" y="5863320"/>
                  <a:ext cx="121104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RD(———)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951640" y="5863320"/>
                  <a:ext cx="1368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4320000" y="5863320"/>
                <a:ext cx="3141000" cy="532080"/>
                <a:chOff x="4320000" y="5863320"/>
                <a:chExt cx="3141000" cy="532080"/>
              </a:xfrm>
            </p:grpSpPr>
            <p:sp>
              <p:nvSpPr>
                <p:cNvPr id="1103" name=""/>
                <p:cNvSpPr/>
                <p:nvPr/>
              </p:nvSpPr>
              <p:spPr>
                <a:xfrm>
                  <a:off x="4398840" y="5863320"/>
                  <a:ext cx="2982960" cy="53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外部</a:t>
                  </a:r>
                  <a:r>
                    <a:rPr b="0" lang="en-US" sz="1200" spc="-1" strike="noStrike">
                      <a:solidFill>
                        <a:srgbClr val="5b5249"/>
                      </a:solidFill>
                      <a:latin typeface="Times New Roman"/>
                    </a:rPr>
                    <a:t>RAM</a:t>
                  </a:r>
                  <a:r>
                    <a:rPr b="0" lang="zh-CN" sz="1200" spc="-1" strike="noStrike">
                      <a:solidFill>
                        <a:srgbClr val="5b5249"/>
                      </a:solidFill>
                      <a:latin typeface="Times New Roman"/>
                    </a:rPr>
                    <a:t>读信号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320000" y="5863320"/>
                  <a:ext cx="3141000" cy="532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5" name=""/>
            <p:cNvSpPr/>
            <p:nvPr/>
          </p:nvSpPr>
          <p:spPr>
            <a:xfrm>
              <a:off x="1676520" y="1600200"/>
              <a:ext cx="5790600" cy="4800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3240" y="61038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533520" y="1981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一、 时钟周期、机器周期和指令周期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5740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9" name="基本时序关系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4495680" cy="2438280"/>
          </a:xfrm>
          <a:prstGeom prst="rect">
            <a:avLst/>
          </a:prstGeom>
          <a:ln w="0">
            <a:noFill/>
          </a:ln>
        </p:spPr>
      </p:pic>
      <p:sp>
        <p:nvSpPr>
          <p:cNvPr id="1110" name=""/>
          <p:cNvSpPr/>
          <p:nvPr/>
        </p:nvSpPr>
        <p:spPr>
          <a:xfrm>
            <a:off x="0" y="5638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-9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基本定时时序关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-304920" y="914400"/>
            <a:ext cx="914400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2  </a:t>
            </a:r>
            <a:r>
              <a:rPr b="1" lang="en-US" sz="3200" spc="-1" strike="noStrike">
                <a:solidFill>
                  <a:srgbClr val="5b5249"/>
                </a:solidFill>
                <a:latin typeface="Arial"/>
                <a:ea typeface="Arial"/>
              </a:rPr>
              <a:t>MCS-51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单片机的时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762120" y="914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．时钟周期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  <a:ea typeface="黑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4" name="51的取指&amp;执行时序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867280" cy="320040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2819520" y="5867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‑10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取指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执行时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2120" y="1523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．机器周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533520" y="114300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指令周期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0880" y="15238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指令的取指和执行的时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057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三、 访问外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时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622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2" name="读ROM时序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638680" cy="236196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-380880" y="57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1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访问外部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ROM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的时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68580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访问外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时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1828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访问外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时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002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7" name="读RAM时序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486400" cy="266688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304812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‑12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访问外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时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219320" y="144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3  </a:t>
            </a:r>
            <a:r>
              <a:rPr b="0" lang="en-US" sz="32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单片机的时钟和复位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838080" y="2209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一、 时钟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87164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2" name="51时钟接法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629320" cy="236232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312408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‑13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时钟接法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533520" y="1219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内部振荡器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3352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外部时钟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520" y="2286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复位电路及复位状态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2743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内部复位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36240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9" name="复位电路结构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038480" cy="213372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2895480" y="5791320"/>
            <a:ext cx="9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‑14  80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复位电路结构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60948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外部复位电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7640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3" name="三种复位电路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172200" cy="266688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0" y="5410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2‑15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复位电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914400" y="129528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复位状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240" y="-25938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2‑4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各专用寄存器的复位值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676520" y="1905120"/>
            <a:ext cx="5562000" cy="4114800"/>
            <a:chOff x="1676520" y="1905120"/>
            <a:chExt cx="5562000" cy="4114800"/>
          </a:xfrm>
        </p:grpSpPr>
        <p:grpSp>
          <p:nvGrpSpPr>
            <p:cNvPr id="1148" name=""/>
            <p:cNvGrpSpPr/>
            <p:nvPr/>
          </p:nvGrpSpPr>
          <p:grpSpPr>
            <a:xfrm>
              <a:off x="1681920" y="1906920"/>
              <a:ext cx="5550480" cy="4111200"/>
              <a:chOff x="1681920" y="1906920"/>
              <a:chExt cx="5550480" cy="4111200"/>
            </a:xfrm>
          </p:grpSpPr>
          <p:grpSp>
            <p:nvGrpSpPr>
              <p:cNvPr id="1149" name=""/>
              <p:cNvGrpSpPr/>
              <p:nvPr/>
            </p:nvGrpSpPr>
            <p:grpSpPr>
              <a:xfrm>
                <a:off x="1681920" y="1906920"/>
                <a:ext cx="2774880" cy="216360"/>
                <a:chOff x="1681920" y="1906920"/>
                <a:chExt cx="2774880" cy="2163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1760760" y="19069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专用寄存器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1681920" y="190692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457160" y="1906920"/>
                <a:ext cx="2775240" cy="216360"/>
                <a:chOff x="4457160" y="1906920"/>
                <a:chExt cx="2775240" cy="21636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4536000" y="19069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复位值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r" pos="26676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457160" y="190692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1681920" y="2123280"/>
                <a:ext cx="2774880" cy="216360"/>
                <a:chOff x="1681920" y="2123280"/>
                <a:chExt cx="2774880" cy="21636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1760760" y="21232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PC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1681920" y="212328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4457160" y="2123280"/>
                <a:ext cx="2775240" cy="216360"/>
                <a:chOff x="4457160" y="2123280"/>
                <a:chExt cx="2775240" cy="21636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4536000" y="21232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457160" y="212328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1681920" y="2339640"/>
                <a:ext cx="2774880" cy="216360"/>
                <a:chOff x="1681920" y="2339640"/>
                <a:chExt cx="2774880" cy="21636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1760760" y="23396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ACC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1681920" y="233964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4457160" y="2339640"/>
                <a:ext cx="2775240" cy="216360"/>
                <a:chOff x="4457160" y="2339640"/>
                <a:chExt cx="2775240" cy="21636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4536000" y="23396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57160" y="233964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1681920" y="2556000"/>
                <a:ext cx="2774880" cy="216360"/>
                <a:chOff x="1681920" y="2556000"/>
                <a:chExt cx="2774880" cy="2163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1760760" y="25560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B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1681920" y="255600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4457160" y="2556000"/>
                <a:ext cx="2775240" cy="216360"/>
                <a:chOff x="4457160" y="2556000"/>
                <a:chExt cx="2775240" cy="21636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4536000" y="25560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57160" y="255600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1681920" y="2772360"/>
                <a:ext cx="2774880" cy="216360"/>
                <a:chOff x="1681920" y="2772360"/>
                <a:chExt cx="2774880" cy="21636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1760760" y="27723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PSW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1681920" y="277236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4457160" y="2772360"/>
                <a:ext cx="2775240" cy="216360"/>
                <a:chOff x="4457160" y="2772360"/>
                <a:chExt cx="2775240" cy="21636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4536000" y="27723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457160" y="277236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1681920" y="2988720"/>
                <a:ext cx="2774880" cy="216360"/>
                <a:chOff x="1681920" y="2988720"/>
                <a:chExt cx="2774880" cy="21636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1760760" y="29887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SP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1681920" y="298872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4457160" y="2988720"/>
                <a:ext cx="2775240" cy="216360"/>
                <a:chOff x="4457160" y="2988720"/>
                <a:chExt cx="2775240" cy="21636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4536000" y="29887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7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457160" y="298872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1681920" y="3205080"/>
                <a:ext cx="2774880" cy="216360"/>
                <a:chOff x="1681920" y="3205080"/>
                <a:chExt cx="2774880" cy="21636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1760760" y="32050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DPTR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681920" y="320508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4457160" y="3205080"/>
                <a:ext cx="2775240" cy="216360"/>
                <a:chOff x="4457160" y="3205080"/>
                <a:chExt cx="2775240" cy="21636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4536000" y="32050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457160" y="320508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1681920" y="3421440"/>
                <a:ext cx="2774880" cy="216360"/>
                <a:chOff x="1681920" y="3421440"/>
                <a:chExt cx="2774880" cy="21636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1760760" y="34214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8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0" lang="en-US" sz="8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681920" y="342144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4457160" y="3421440"/>
                <a:ext cx="2775240" cy="216360"/>
                <a:chOff x="4457160" y="3421440"/>
                <a:chExt cx="2775240" cy="21636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4536000" y="34214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FF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457160" y="342144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1681920" y="3637800"/>
                <a:ext cx="2774880" cy="216360"/>
                <a:chOff x="1681920" y="3637800"/>
                <a:chExt cx="2774880" cy="2163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760760" y="36378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IP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681920" y="363780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4457160" y="3637800"/>
                <a:ext cx="2775240" cy="216360"/>
                <a:chOff x="4457160" y="3637800"/>
                <a:chExt cx="2775240" cy="21636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4536000" y="36378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XXX00000B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457160" y="363780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1681920" y="3854160"/>
                <a:ext cx="2774880" cy="216360"/>
                <a:chOff x="1681920" y="3854160"/>
                <a:chExt cx="2774880" cy="216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1760760" y="38541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IE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681920" y="385416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4457160" y="3854160"/>
                <a:ext cx="2775240" cy="216360"/>
                <a:chOff x="4457160" y="3854160"/>
                <a:chExt cx="2775240" cy="21636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4536000" y="38541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XX00000B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457160" y="385416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1681920" y="4070520"/>
                <a:ext cx="2774880" cy="216360"/>
                <a:chOff x="1681920" y="4070520"/>
                <a:chExt cx="2774880" cy="21636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1760760" y="40705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MOD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1681920" y="407052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4457160" y="4070520"/>
                <a:ext cx="2775240" cy="216360"/>
                <a:chOff x="4457160" y="4070520"/>
                <a:chExt cx="2775240" cy="21636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4536000" y="40705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457160" y="407052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1681920" y="4286880"/>
                <a:ext cx="2774880" cy="216360"/>
                <a:chOff x="1681920" y="4286880"/>
                <a:chExt cx="2774880" cy="216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1760760" y="42868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CON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1681920" y="428688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4457160" y="4286880"/>
                <a:ext cx="2775240" cy="216360"/>
                <a:chOff x="4457160" y="4286880"/>
                <a:chExt cx="2775240" cy="2163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4536000" y="42868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457160" y="428688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1681920" y="4503600"/>
                <a:ext cx="2774880" cy="216360"/>
                <a:chOff x="1681920" y="4503600"/>
                <a:chExt cx="2774880" cy="21636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1760760" y="45036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H0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1681920" y="450360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4457160" y="4503600"/>
                <a:ext cx="2775240" cy="216360"/>
                <a:chOff x="4457160" y="4503600"/>
                <a:chExt cx="2775240" cy="21636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4536000" y="45036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457160" y="450360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1681920" y="4719960"/>
                <a:ext cx="2774880" cy="216360"/>
                <a:chOff x="1681920" y="4719960"/>
                <a:chExt cx="2774880" cy="21636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1760760" y="47199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L0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681920" y="471996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4457160" y="4719960"/>
                <a:ext cx="2775240" cy="216360"/>
                <a:chOff x="4457160" y="4719960"/>
                <a:chExt cx="2775240" cy="2163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4536000" y="47199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4457160" y="471996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1681920" y="4936320"/>
                <a:ext cx="2774880" cy="216360"/>
                <a:chOff x="1681920" y="4936320"/>
                <a:chExt cx="2774880" cy="21636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1760760" y="49363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H1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681920" y="493632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4457160" y="4936320"/>
                <a:ext cx="2775240" cy="216360"/>
                <a:chOff x="4457160" y="4936320"/>
                <a:chExt cx="2775240" cy="21636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4536000" y="493632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457160" y="493632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1681920" y="5152680"/>
                <a:ext cx="2774880" cy="216360"/>
                <a:chOff x="1681920" y="5152680"/>
                <a:chExt cx="2774880" cy="21636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1760760" y="51526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TL1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1681920" y="515268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4457160" y="5152680"/>
                <a:ext cx="2775240" cy="216360"/>
                <a:chOff x="4457160" y="5152680"/>
                <a:chExt cx="2775240" cy="21636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4536000" y="515268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457160" y="515268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1681920" y="5369040"/>
                <a:ext cx="2774880" cy="216360"/>
                <a:chOff x="1681920" y="5369040"/>
                <a:chExt cx="2774880" cy="21636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1760760" y="53690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SCON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1681920" y="536904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4457160" y="5369040"/>
                <a:ext cx="2775240" cy="216360"/>
                <a:chOff x="4457160" y="5369040"/>
                <a:chExt cx="2775240" cy="21636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4536000" y="536904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457160" y="536904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1681920" y="5585400"/>
                <a:ext cx="2774880" cy="216360"/>
                <a:chOff x="1681920" y="5585400"/>
                <a:chExt cx="2774880" cy="21636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1760760" y="55854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SBUF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681920" y="558540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4457160" y="5585400"/>
                <a:ext cx="2775240" cy="216360"/>
                <a:chOff x="4457160" y="5585400"/>
                <a:chExt cx="2775240" cy="21636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4536000" y="558540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不定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457160" y="558540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1681920" y="5801760"/>
                <a:ext cx="2774880" cy="216360"/>
                <a:chOff x="1681920" y="5801760"/>
                <a:chExt cx="2774880" cy="21636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1760760" y="58017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PCON(CHMOS)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681920" y="5801760"/>
                  <a:ext cx="277488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4457160" y="5801760"/>
                <a:ext cx="2775240" cy="216360"/>
                <a:chOff x="4457160" y="5801760"/>
                <a:chExt cx="2775240" cy="21636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4536000" y="5801760"/>
                  <a:ext cx="2617560" cy="21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en-US" sz="800" spc="-1" strike="noStrike">
                      <a:solidFill>
                        <a:srgbClr val="5b5249"/>
                      </a:solidFill>
                      <a:latin typeface="Times New Roman"/>
                    </a:rPr>
                    <a:t>XXX0000B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457160" y="5801760"/>
                  <a:ext cx="2775240" cy="21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3" name=""/>
            <p:cNvSpPr/>
            <p:nvPr/>
          </p:nvSpPr>
          <p:spPr>
            <a:xfrm>
              <a:off x="1676520" y="1905120"/>
              <a:ext cx="556200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295280" y="14479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4  </a:t>
            </a:r>
            <a:r>
              <a:rPr b="0" lang="en-US" sz="32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单片机的低功耗工作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2120" y="2133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一、 电源控制寄存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CON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37339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1371600" y="3048120"/>
            <a:ext cx="6095880" cy="1219320"/>
            <a:chOff x="1371600" y="3048120"/>
            <a:chExt cx="6095880" cy="1219320"/>
          </a:xfrm>
        </p:grpSpPr>
        <p:sp>
          <p:nvSpPr>
            <p:cNvPr id="1268" name=""/>
            <p:cNvSpPr/>
            <p:nvPr/>
          </p:nvSpPr>
          <p:spPr>
            <a:xfrm>
              <a:off x="1371600" y="3048120"/>
              <a:ext cx="7239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440000" y="3657240"/>
              <a:ext cx="587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PCON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71600" y="4267080"/>
              <a:ext cx="723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095560" y="4267080"/>
              <a:ext cx="768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63800" y="4267080"/>
              <a:ext cx="57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38360" y="4267080"/>
              <a:ext cx="698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137120" y="4267080"/>
              <a:ext cx="74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83040" y="4267080"/>
              <a:ext cx="59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477040" y="4267080"/>
              <a:ext cx="641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18200" y="4267080"/>
              <a:ext cx="72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45400" y="4267080"/>
              <a:ext cx="622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2095560" y="3048120"/>
              <a:ext cx="768240" cy="609120"/>
              <a:chOff x="2095560" y="3048120"/>
              <a:chExt cx="768240" cy="609120"/>
            </a:xfrm>
          </p:grpSpPr>
          <p:sp>
            <p:nvSpPr>
              <p:cNvPr id="1280" name=""/>
              <p:cNvSpPr/>
              <p:nvPr/>
            </p:nvSpPr>
            <p:spPr>
              <a:xfrm>
                <a:off x="2163600" y="3048120"/>
                <a:ext cx="63216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095560" y="3048120"/>
                <a:ext cx="76824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2863800" y="3048120"/>
              <a:ext cx="574560" cy="609120"/>
              <a:chOff x="2863800" y="3048120"/>
              <a:chExt cx="574560" cy="609120"/>
            </a:xfrm>
          </p:grpSpPr>
          <p:sp>
            <p:nvSpPr>
              <p:cNvPr id="1283" name=""/>
              <p:cNvSpPr/>
              <p:nvPr/>
            </p:nvSpPr>
            <p:spPr>
              <a:xfrm>
                <a:off x="2932200" y="3048120"/>
                <a:ext cx="43812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863800" y="3048120"/>
                <a:ext cx="57456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3438360" y="3048120"/>
              <a:ext cx="698760" cy="609120"/>
              <a:chOff x="3438360" y="3048120"/>
              <a:chExt cx="698760" cy="609120"/>
            </a:xfrm>
          </p:grpSpPr>
          <p:sp>
            <p:nvSpPr>
              <p:cNvPr id="1286" name=""/>
              <p:cNvSpPr/>
              <p:nvPr/>
            </p:nvSpPr>
            <p:spPr>
              <a:xfrm>
                <a:off x="3506760" y="3048120"/>
                <a:ext cx="56196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438360" y="3048120"/>
                <a:ext cx="69876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4137120" y="3048120"/>
              <a:ext cx="745920" cy="609120"/>
              <a:chOff x="4137120" y="3048120"/>
              <a:chExt cx="745920" cy="609120"/>
            </a:xfrm>
          </p:grpSpPr>
          <p:sp>
            <p:nvSpPr>
              <p:cNvPr id="1289" name=""/>
              <p:cNvSpPr/>
              <p:nvPr/>
            </p:nvSpPr>
            <p:spPr>
              <a:xfrm>
                <a:off x="4205160" y="3048120"/>
                <a:ext cx="6098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137120" y="3048120"/>
                <a:ext cx="74592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4883040" y="3048120"/>
              <a:ext cx="594000" cy="609120"/>
              <a:chOff x="4883040" y="3048120"/>
              <a:chExt cx="594000" cy="609120"/>
            </a:xfrm>
          </p:grpSpPr>
          <p:sp>
            <p:nvSpPr>
              <p:cNvPr id="1292" name=""/>
              <p:cNvSpPr/>
              <p:nvPr/>
            </p:nvSpPr>
            <p:spPr>
              <a:xfrm>
                <a:off x="4951440" y="3048120"/>
                <a:ext cx="45720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883040" y="3048120"/>
                <a:ext cx="59400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5477040" y="3048120"/>
              <a:ext cx="641160" cy="609120"/>
              <a:chOff x="5477040" y="3048120"/>
              <a:chExt cx="641160" cy="609120"/>
            </a:xfrm>
          </p:grpSpPr>
          <p:sp>
            <p:nvSpPr>
              <p:cNvPr id="1295" name=""/>
              <p:cNvSpPr/>
              <p:nvPr/>
            </p:nvSpPr>
            <p:spPr>
              <a:xfrm>
                <a:off x="5545080" y="3048120"/>
                <a:ext cx="50472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477040" y="3048120"/>
                <a:ext cx="64116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6118200" y="3048120"/>
              <a:ext cx="727200" cy="609120"/>
              <a:chOff x="6118200" y="3048120"/>
              <a:chExt cx="727200" cy="609120"/>
            </a:xfrm>
          </p:grpSpPr>
          <p:sp>
            <p:nvSpPr>
              <p:cNvPr id="1298" name=""/>
              <p:cNvSpPr/>
              <p:nvPr/>
            </p:nvSpPr>
            <p:spPr>
              <a:xfrm>
                <a:off x="6186600" y="3048120"/>
                <a:ext cx="59040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118200" y="3048120"/>
                <a:ext cx="72720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6845400" y="3048120"/>
              <a:ext cx="622080" cy="609120"/>
              <a:chOff x="6845400" y="3048120"/>
              <a:chExt cx="622080" cy="609120"/>
            </a:xfrm>
          </p:grpSpPr>
          <p:sp>
            <p:nvSpPr>
              <p:cNvPr id="1301" name=""/>
              <p:cNvSpPr/>
              <p:nvPr/>
            </p:nvSpPr>
            <p:spPr>
              <a:xfrm>
                <a:off x="6913440" y="3048120"/>
                <a:ext cx="48600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845400" y="3048120"/>
                <a:ext cx="622080" cy="609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1959120" y="3657240"/>
              <a:ext cx="768240" cy="609480"/>
              <a:chOff x="1959120" y="3657240"/>
              <a:chExt cx="768240" cy="609480"/>
            </a:xfrm>
          </p:grpSpPr>
          <p:sp>
            <p:nvSpPr>
              <p:cNvPr id="1304" name=""/>
              <p:cNvSpPr/>
              <p:nvPr/>
            </p:nvSpPr>
            <p:spPr>
              <a:xfrm>
                <a:off x="2027160" y="3657240"/>
                <a:ext cx="6318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SMOD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959120" y="3657240"/>
                <a:ext cx="7682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2727360" y="3657240"/>
              <a:ext cx="574560" cy="609480"/>
              <a:chOff x="2727360" y="3657240"/>
              <a:chExt cx="574560" cy="609480"/>
            </a:xfrm>
          </p:grpSpPr>
          <p:sp>
            <p:nvSpPr>
              <p:cNvPr id="1307" name=""/>
              <p:cNvSpPr/>
              <p:nvPr/>
            </p:nvSpPr>
            <p:spPr>
              <a:xfrm>
                <a:off x="2795760" y="3657240"/>
                <a:ext cx="43812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—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727360" y="3657240"/>
                <a:ext cx="57456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3301920" y="3657240"/>
              <a:ext cx="698760" cy="609480"/>
              <a:chOff x="3301920" y="3657240"/>
              <a:chExt cx="698760" cy="609480"/>
            </a:xfrm>
          </p:grpSpPr>
          <p:sp>
            <p:nvSpPr>
              <p:cNvPr id="1310" name=""/>
              <p:cNvSpPr/>
              <p:nvPr/>
            </p:nvSpPr>
            <p:spPr>
              <a:xfrm>
                <a:off x="3370320" y="3657240"/>
                <a:ext cx="5619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—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301920" y="3657240"/>
                <a:ext cx="69876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4000680" y="3657240"/>
              <a:ext cx="745920" cy="609480"/>
              <a:chOff x="4000680" y="3657240"/>
              <a:chExt cx="745920" cy="609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4068720" y="3657240"/>
                <a:ext cx="609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—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000680" y="3657240"/>
                <a:ext cx="74592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4746600" y="3657240"/>
              <a:ext cx="593640" cy="609480"/>
              <a:chOff x="4746600" y="3657240"/>
              <a:chExt cx="593640" cy="609480"/>
            </a:xfrm>
          </p:grpSpPr>
          <p:sp>
            <p:nvSpPr>
              <p:cNvPr id="1316" name=""/>
              <p:cNvSpPr/>
              <p:nvPr/>
            </p:nvSpPr>
            <p:spPr>
              <a:xfrm>
                <a:off x="4815000" y="3657240"/>
                <a:ext cx="4572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GF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746600" y="3657240"/>
                <a:ext cx="5936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5340240" y="3657240"/>
              <a:ext cx="641520" cy="609480"/>
              <a:chOff x="5340240" y="3657240"/>
              <a:chExt cx="641520" cy="609480"/>
            </a:xfrm>
          </p:grpSpPr>
          <p:sp>
            <p:nvSpPr>
              <p:cNvPr id="1319" name=""/>
              <p:cNvSpPr/>
              <p:nvPr/>
            </p:nvSpPr>
            <p:spPr>
              <a:xfrm>
                <a:off x="5408640" y="3657240"/>
                <a:ext cx="50472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GF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340240" y="3657240"/>
                <a:ext cx="64152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5981760" y="3657240"/>
              <a:ext cx="726840" cy="609480"/>
              <a:chOff x="5981760" y="3657240"/>
              <a:chExt cx="726840" cy="609480"/>
            </a:xfrm>
          </p:grpSpPr>
          <p:sp>
            <p:nvSpPr>
              <p:cNvPr id="1322" name=""/>
              <p:cNvSpPr/>
              <p:nvPr/>
            </p:nvSpPr>
            <p:spPr>
              <a:xfrm>
                <a:off x="6049800" y="3657240"/>
                <a:ext cx="5907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D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981760" y="3657240"/>
                <a:ext cx="7268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6708600" y="3657240"/>
              <a:ext cx="622440" cy="609480"/>
              <a:chOff x="6708600" y="3657240"/>
              <a:chExt cx="622440" cy="609480"/>
            </a:xfrm>
          </p:grpSpPr>
          <p:sp>
            <p:nvSpPr>
              <p:cNvPr id="1325" name=""/>
              <p:cNvSpPr/>
              <p:nvPr/>
            </p:nvSpPr>
            <p:spPr>
              <a:xfrm>
                <a:off x="6777000" y="3657240"/>
                <a:ext cx="48564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IDL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708600" y="3657240"/>
                <a:ext cx="6224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7" name=""/>
          <p:cNvSpPr/>
          <p:nvPr/>
        </p:nvSpPr>
        <p:spPr>
          <a:xfrm>
            <a:off x="1143000" y="541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三、 掉电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143000" y="4876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等待工作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 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1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1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单片机的发展概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综上所述，我们可以把单片机的发展历史划分为四阶段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第一阶段（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976~197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年）：低性能单片机的探索阶段。以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ntel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公司的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CS-4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为代表，采用了单片结构，即在一块芯片内含有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PU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定时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计数器、并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/O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口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等。主要用于工业领域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第二阶段（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978~1982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年）：高性能单片机阶段，这一类单片机带有串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/O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口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数据线、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6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地址线可以寻址的范围达到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6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K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字节、控制总线、较丰富的指令系统等。这类单片机的应用范围较广，并在不断的改进和发展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第三阶段（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982~199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年）：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6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单片机阶段。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6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单片机除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PU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6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外，片内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容量进一步增大，实时处理能力更强，体现了微控制器的特征。例如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Intel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公司的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CS-96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主振频率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片内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232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字节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K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字节，中断处理能力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级，片内带有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/D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换器和高速输入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输出部件等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第四阶段（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99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年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~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）：微控制器的全面发展阶段，各公司的产品在尽量兼容的同时，向高速、强运算能力、寻址范围大以及小型廉价方面发展。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76212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三章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MSC-51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的指令系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-457200" y="19051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Arial"/>
              </a:rPr>
              <a:t>1  </a:t>
            </a: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指令系统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143000" y="26668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机器码指令与汇编语言指令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371600" y="3276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机器码指令：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71600" y="38862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汇编语言指令：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447920" y="4572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指令格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85800" y="5181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汇编语言格式为：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[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标号：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]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操作码助记符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[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目的操作数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]  [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源操作数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]  [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；注释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]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0" y="533412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8580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楷体_GB2312"/>
              </a:rPr>
              <a:t>单字节指令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0" lang="zh-CN" sz="2400" spc="-1" strike="noStrike">
                <a:solidFill>
                  <a:srgbClr val="5b5249"/>
                </a:solidFill>
                <a:latin typeface="楷体_GB2312"/>
              </a:rPr>
              <a:t>双字节指令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5b5249"/>
                </a:solidFill>
                <a:latin typeface="楷体_GB2312"/>
              </a:rPr>
              <a:t>三字节指令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3657600" y="3048120"/>
            <a:ext cx="1079280" cy="1228680"/>
            <a:chOff x="3657600" y="3048120"/>
            <a:chExt cx="1079280" cy="1228680"/>
          </a:xfrm>
        </p:grpSpPr>
        <p:grpSp>
          <p:nvGrpSpPr>
            <p:cNvPr id="1339" name=""/>
            <p:cNvGrpSpPr/>
            <p:nvPr/>
          </p:nvGrpSpPr>
          <p:grpSpPr>
            <a:xfrm>
              <a:off x="3662280" y="3052800"/>
              <a:ext cx="1069920" cy="1219320"/>
              <a:chOff x="3662280" y="3052800"/>
              <a:chExt cx="1069920" cy="1219320"/>
            </a:xfrm>
          </p:grpSpPr>
          <p:grpSp>
            <p:nvGrpSpPr>
              <p:cNvPr id="1340" name=""/>
              <p:cNvGrpSpPr/>
              <p:nvPr/>
            </p:nvGrpSpPr>
            <p:grpSpPr>
              <a:xfrm>
                <a:off x="3662280" y="3052800"/>
                <a:ext cx="1069920" cy="609840"/>
                <a:chOff x="3662280" y="3052800"/>
                <a:chExt cx="1069920" cy="60984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3730680" y="3052800"/>
                  <a:ext cx="9334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操作码 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4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3662280" y="3052800"/>
                  <a:ext cx="10699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3662280" y="3662640"/>
                <a:ext cx="1069920" cy="609480"/>
                <a:chOff x="3662280" y="3662640"/>
                <a:chExt cx="1069920" cy="6094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730680" y="3662640"/>
                  <a:ext cx="9334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操作数 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2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662280" y="3662640"/>
                  <a:ext cx="10699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6" name=""/>
            <p:cNvSpPr/>
            <p:nvPr/>
          </p:nvSpPr>
          <p:spPr>
            <a:xfrm>
              <a:off x="3657600" y="3048120"/>
              <a:ext cx="1079280" cy="1228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990720" y="167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C A                     ADD  A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#22H          MOV  5EH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4F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914400" y="3124080"/>
            <a:ext cx="1079280" cy="619200"/>
            <a:chOff x="914400" y="3124080"/>
            <a:chExt cx="1079280" cy="619200"/>
          </a:xfrm>
        </p:grpSpPr>
        <p:grpSp>
          <p:nvGrpSpPr>
            <p:cNvPr id="1349" name=""/>
            <p:cNvGrpSpPr/>
            <p:nvPr/>
          </p:nvGrpSpPr>
          <p:grpSpPr>
            <a:xfrm>
              <a:off x="919080" y="3129120"/>
              <a:ext cx="1069920" cy="609480"/>
              <a:chOff x="919080" y="3129120"/>
              <a:chExt cx="1069920" cy="609480"/>
            </a:xfrm>
          </p:grpSpPr>
          <p:sp>
            <p:nvSpPr>
              <p:cNvPr id="1350" name=""/>
              <p:cNvSpPr/>
              <p:nvPr/>
            </p:nvSpPr>
            <p:spPr>
              <a:xfrm>
                <a:off x="987480" y="3129120"/>
                <a:ext cx="93348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操作码 </a:t>
                </a: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04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919080" y="3129120"/>
                <a:ext cx="106992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914400" y="3124080"/>
              <a:ext cx="1079280" cy="619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715000" y="2666880"/>
            <a:ext cx="1346040" cy="1838160"/>
            <a:chOff x="5715000" y="2666880"/>
            <a:chExt cx="1346040" cy="1838160"/>
          </a:xfrm>
        </p:grpSpPr>
        <p:grpSp>
          <p:nvGrpSpPr>
            <p:cNvPr id="1354" name=""/>
            <p:cNvGrpSpPr/>
            <p:nvPr/>
          </p:nvGrpSpPr>
          <p:grpSpPr>
            <a:xfrm>
              <a:off x="5719680" y="2671560"/>
              <a:ext cx="1336680" cy="1828800"/>
              <a:chOff x="5719680" y="2671560"/>
              <a:chExt cx="1336680" cy="1828800"/>
            </a:xfrm>
          </p:grpSpPr>
          <p:grpSp>
            <p:nvGrpSpPr>
              <p:cNvPr id="1355" name=""/>
              <p:cNvGrpSpPr/>
              <p:nvPr/>
            </p:nvGrpSpPr>
            <p:grpSpPr>
              <a:xfrm>
                <a:off x="5719680" y="2671560"/>
                <a:ext cx="1336680" cy="609480"/>
                <a:chOff x="5719680" y="2671560"/>
                <a:chExt cx="1336680" cy="6094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5788080" y="2671560"/>
                  <a:ext cx="1199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操作码      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5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719680" y="2671560"/>
                  <a:ext cx="13366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5719680" y="3281040"/>
                <a:ext cx="1336680" cy="609840"/>
                <a:chOff x="5719680" y="3281040"/>
                <a:chExt cx="1336680" cy="6098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5788080" y="3281040"/>
                  <a:ext cx="1199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源操作数    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4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F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5719680" y="3281040"/>
                  <a:ext cx="13366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5719680" y="3890880"/>
                <a:ext cx="1336680" cy="609480"/>
                <a:chOff x="5719680" y="3890880"/>
                <a:chExt cx="1336680" cy="6094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5788080" y="3890880"/>
                  <a:ext cx="1199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目的操作数  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5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H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719680" y="3890880"/>
                  <a:ext cx="13366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4" name=""/>
            <p:cNvSpPr/>
            <p:nvPr/>
          </p:nvSpPr>
          <p:spPr>
            <a:xfrm>
              <a:off x="5715000" y="2666880"/>
              <a:ext cx="1346040" cy="1838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0" y="487692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3-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机器码指令格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91440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寻址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9810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寄存器寻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514600"/>
            <a:ext cx="944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直接寻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85800" y="3048120"/>
            <a:ext cx="8839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立即寻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5800" y="37339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四、 寄存器间接寻址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914400" y="4495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五、 变址寻址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9072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六、 相对寻址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914400" y="5867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七、 位寻址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533520" y="1523880"/>
            <a:ext cx="9144000" cy="40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Arial"/>
              </a:rPr>
              <a:t>3  </a:t>
            </a:r>
            <a:r>
              <a:rPr b="1" lang="en-US" sz="3200" spc="-1" strike="noStrike">
                <a:solidFill>
                  <a:srgbClr val="5b5249"/>
                </a:solidFill>
                <a:latin typeface="Arial"/>
                <a:ea typeface="Arial"/>
              </a:rPr>
              <a:t>MSC-51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单片机的指令系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按照指令的功能，可以把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MSC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1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条指令分成五类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 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数据传送类指令（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29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条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算术运算类指令（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24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条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逻辑操作类指令（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24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条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控制转移类指令（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17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条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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位操作类指令    （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17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条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271476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6" name="相对寻址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10080" cy="2971800"/>
          </a:xfrm>
          <a:prstGeom prst="rect">
            <a:avLst/>
          </a:prstGeom>
          <a:ln w="0">
            <a:noFill/>
          </a:ln>
        </p:spPr>
      </p:pic>
      <p:sp>
        <p:nvSpPr>
          <p:cNvPr id="1377" name=""/>
          <p:cNvSpPr/>
          <p:nvPr/>
        </p:nvSpPr>
        <p:spPr>
          <a:xfrm>
            <a:off x="3124080" y="5334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3-2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相对寻址过程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68580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第四章   </a:t>
            </a:r>
            <a:r>
              <a:rPr b="0" lang="en-US" sz="32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单片机的应用程序设计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0383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0" name="基本程序结构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5067360" cy="215280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/>
          <p:nvPr/>
        </p:nvSpPr>
        <p:spPr>
          <a:xfrm>
            <a:off x="3352680" y="5486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4-1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基本程序结构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-457200" y="9144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1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运算程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33520" y="16002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多字节数加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09480" y="220968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多字节无符号数加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066680" y="2819520"/>
            <a:ext cx="91440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LR  C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40H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加数最低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5OH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另一加数最低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4H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字节数作计数初值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被加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DD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两数相加，带进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修改地址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l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未加完转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NC  LOOP2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无进位转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1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EC 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0948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多字节有符号数加法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62120" y="1905120"/>
            <a:ext cx="91440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复制保存地址指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C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D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相加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地址指针加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B OV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ERR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若溢出，转溢出处理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EC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NB E7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2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ETB 07H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和值为负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置位标志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LOOP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恢复地址指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┇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ER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┇           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溢出处理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8" name="多字节加法程序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2057400" cy="466740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>
            <a:off x="685800" y="1676520"/>
            <a:ext cx="929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DADD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07H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标志位清零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-1676520" y="6248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2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200" spc="-1" strike="noStrike">
                <a:solidFill>
                  <a:srgbClr val="5b5249"/>
                </a:solidFill>
                <a:latin typeface="Arial"/>
                <a:ea typeface="Arial"/>
              </a:rPr>
              <a:t>4-3  </a:t>
            </a:r>
            <a:r>
              <a:rPr b="0" lang="zh-CN" sz="1200" spc="-1" strike="noStrike">
                <a:solidFill>
                  <a:srgbClr val="5b5249"/>
                </a:solidFill>
                <a:latin typeface="Arial"/>
                <a:ea typeface="黑体"/>
              </a:rPr>
              <a:t>多字节有符号数加法程序流程图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60948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多字节数减法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66680" y="2057400"/>
            <a:ext cx="9144000" cy="50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#40H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指向被减数最低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#5OH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指向减数最低位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#04H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字节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LR 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OOP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UBB A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完成一个字节的减法运算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OV @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24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OOP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60948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三、 多字节十进制数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CD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码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加法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160800" y="2633760"/>
            <a:ext cx="2479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895480" y="2666880"/>
            <a:ext cx="24796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47880" cy="449568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2362320" y="5867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Arial"/>
              </a:rPr>
              <a:t>4-4  </a:t>
            </a:r>
            <a:r>
              <a:rPr b="0" lang="en-US" sz="1400" spc="-1" strike="noStrike">
                <a:solidFill>
                  <a:srgbClr val="5b5249"/>
                </a:solidFill>
                <a:latin typeface="Arial"/>
                <a:ea typeface="Arial"/>
              </a:rPr>
              <a:t>BCD</a:t>
            </a:r>
            <a:r>
              <a:rPr b="0" lang="zh-CN" sz="1400" spc="-1" strike="noStrike">
                <a:solidFill>
                  <a:srgbClr val="5b5249"/>
                </a:solidFill>
                <a:latin typeface="Arial"/>
                <a:ea typeface="黑体"/>
              </a:rPr>
              <a:t>码多字节加法程序流程图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048120" y="2743200"/>
            <a:ext cx="2479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90720" y="312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160800" y="2633760"/>
            <a:ext cx="2479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62120" y="4876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160800" y="2535120"/>
            <a:ext cx="24796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71800" y="2514600"/>
            <a:ext cx="2479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3520" y="1828800"/>
            <a:ext cx="9144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BCDADD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20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23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LR C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被加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DD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两数相加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A A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十进制调整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@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针加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0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作完加法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 R2. #23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NC  RETURN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有无进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33520" y="4800600"/>
            <a:ext cx="9144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@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1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ETURN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20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Times New Roman"/>
              </a:rPr>
              <a:t>1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Times New Roman"/>
              </a:rPr>
              <a:t>2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单片机的结构特点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片内的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采用寄存器结构形式，这样可以提高存取的速度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在存储器结构上，严格的将程序存储器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OM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和数据存储器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在空间上分开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它的引出管脚一般都设计成多功能的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增加了一个全双工的串行接口，以扩充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/O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口和外接同步输入和输出设备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有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个特殊功能寄存器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(6)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有丰富的指令系统，内部设置了可以位寻址的位地址空间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609480" y="990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四、 多字节数乘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62120" y="1905120"/>
            <a:ext cx="914400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ZHENFA:  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B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UL AB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*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积的低位送到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积的高位送到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B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UL AB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*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*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高位加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*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低位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结果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进位在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Y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中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DDC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#OO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*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高位加低位来的进位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结果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609480" y="11430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五、 多字节数除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-2209680" y="25146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60760" y="2711520"/>
            <a:ext cx="1812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38080" y="1905120"/>
            <a:ext cx="9144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V:  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,#08H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设计数初值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Vl: CLR C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LC 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6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LC A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左移一位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07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移出的一位送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0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保存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CLR C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477120" y="5867280"/>
            <a:ext cx="1812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4-5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除法程序流程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914400" y="441972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SUBB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余数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高位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减除数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JB O7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GOU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若标志位为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，说明够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6400800" y="1371600"/>
            <a:ext cx="1886040" cy="426708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/>
          <p:nvPr/>
        </p:nvSpPr>
        <p:spPr>
          <a:xfrm>
            <a:off x="1066680" y="4952880"/>
            <a:ext cx="914400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NC GOU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无借位也说明够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否则，恢复余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JMP DV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GOU:INC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商上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V2: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保存余数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高位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V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914400" y="129528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数据的拼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-304920" y="7621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2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数据的拼拆和转换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90720" y="2133720"/>
            <a:ext cx="91440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-7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设在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元中各有一个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数据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3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)=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3lH)=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现在要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元中取出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，并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元中取出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完成拼装，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拼装结果送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元保存，并且规定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4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)=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解：利用逻辑指令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NL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ORL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来完成数据的拼拆，程序清单如下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4O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3OH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传送到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单元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NL 4O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#000111llB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高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屏蔽掉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31H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传送到累加器中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SWAP A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内容左移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次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L A 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～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移到高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NL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#111000OOB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将低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位屏蔽掉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ORL 4O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完成拼装任务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0948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数据的转换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600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码与二进制数的互相转换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57200" y="2057400"/>
            <a:ext cx="91440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10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编程实现十六进制数表示的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1I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代码转换成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二进制数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十六进制数）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解：对于这种转换，只要注意到下述关系便不难编写出转换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字符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”~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字符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9”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码值为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”~“39H”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它们与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之差恰好为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”~“09H”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结果均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字符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”~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字符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F”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码值为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”~“46H”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它们各自减去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7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后恰好为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H”~“0FH”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结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&gt;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根据这个关系可以编出转换程序如下，程序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作为入口和出口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HIN:MOV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操作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LR C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清进位标志位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UBB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30H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码减去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实现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-9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转换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暂存结果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UBB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AH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结果是否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&gt;9?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C LOOP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若≤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9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则转换正确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CH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UBB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7H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若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&gt;9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则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7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:  R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60948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BCD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码与二进制数的转换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2050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5" name="BCD转二进制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962520" cy="342900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4-6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BCD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码（十进制）转换成二进制数程序流程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838080" y="1106640"/>
            <a:ext cx="9144000" cy="62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程序清单如下：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IN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给子程序入口参数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ALL BCDBIN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调用子程序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B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#64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UL AB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XCH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ALL BCDBIN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调用子程序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C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#00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５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子程序如下：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CDBIN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L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#0F0H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取高位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CD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码，屏蔽低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WAP 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B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#0A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UL AB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L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#0FH    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加低位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CD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码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0948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3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查表程序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14400" y="167652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使用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A+DPTR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令来查表，程序清单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BS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子程序入口地址表首址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L A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键码值乘以２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143000" y="2362320"/>
            <a:ext cx="914400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暂存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A+DPTR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得入口地址低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USH A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进栈暂存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A+DPTR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得入口地址高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DP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OP DP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LR 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MP @A+DPTR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转向键处理子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BS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处理子程序入口地址表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RK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┇  ┇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-457200" y="9144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4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散转程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212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一、 采用转移指令表的散转程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2209680"/>
            <a:ext cx="914400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4-17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编出要求根据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的内容转向各个操作程序的程序。即当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=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向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OPR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=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向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OPRl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=n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向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OPR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解：程序清单如下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RL A     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分支序号值乘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MOV DPTR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#BRTABL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移指令表首址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JMP @A+DPTR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向形成的散转地址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BRTABL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JMP OPR0        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转移指令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JMP OPR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AJMP OPR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8088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采用地址偏移量表的散转程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62120" y="1600200"/>
            <a:ext cx="914400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19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编出能按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内容转向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个操作程序的程序。其对应关系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PRD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操作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PRD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操作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PRD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操作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PRD3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操作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PRD4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操作程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解：程序清单如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DPTR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TAB3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地址偏移量表首址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A+DPTR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散转点入口地址在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中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MP @A+DPTR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转向相应的操作程序入口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AB3: DB OPRDO-TAB3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地址偏移量表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OPRDl-TAB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990720" y="48006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OPRD2-TAB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OPRD3-TAB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OPRD4-TAB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380880" y="990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采用转向地址表的散转程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62120" y="1523880"/>
            <a:ext cx="914400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-20 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编程：要求根据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的内容转向相应的操作程序中去。设备操作程序的转向地址分别为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…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n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解：程序清单如下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DPT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BRTABL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转向地址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(A)←(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)*2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NC NAND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DPH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(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)*2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的进位加到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NAND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暂存变址值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+DPTR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转向地址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CH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+DPTR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转向地址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DP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地址在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PTR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DP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３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066680" y="4800600"/>
            <a:ext cx="914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LR 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MP @A+DPTR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相应的操作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BRTAB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O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地址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 ┆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1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3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单片机的主要品种及系列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位单片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8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位单片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四、 采用“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T”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指令的散转程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066680" y="1828800"/>
            <a:ext cx="97538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-21 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编出能根据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的内容转向各个操作程序的程序。设该操作程序的转向地址分别为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0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…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PRDn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解：程序清单如下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DPTR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TAB3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转移地址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６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JNC NAND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DP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NAND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７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+DPTR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转向地址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XCH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７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+DPTR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转向地址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A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地址入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400" spc="-1" strike="noStrike" baseline="-30000">
                <a:solidFill>
                  <a:srgbClr val="5b5249"/>
                </a:solidFill>
                <a:latin typeface="Times New Roman"/>
              </a:rPr>
              <a:t>７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  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操作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TAB3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0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转向地址表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l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    ┇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W OPRD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60948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5 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/O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端口控制程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1523880"/>
            <a:ext cx="9144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22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试编出能模拟图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9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中电路的程序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7478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5" name="模拟电路图" descr=""/>
          <p:cNvPicPr/>
          <p:nvPr/>
        </p:nvPicPr>
        <p:blipFill>
          <a:blip r:embed="rId1"/>
          <a:stretch/>
        </p:blipFill>
        <p:spPr>
          <a:xfrm>
            <a:off x="5257800" y="3962520"/>
            <a:ext cx="3648240" cy="2666880"/>
          </a:xfrm>
          <a:prstGeom prst="rect">
            <a:avLst/>
          </a:prstGeom>
          <a:ln w="0">
            <a:noFill/>
          </a:ln>
        </p:spPr>
      </p:pic>
      <p:sp>
        <p:nvSpPr>
          <p:cNvPr id="1446" name=""/>
          <p:cNvSpPr/>
          <p:nvPr/>
        </p:nvSpPr>
        <p:spPr>
          <a:xfrm>
            <a:off x="0" y="1676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80880" y="1828800"/>
            <a:ext cx="9144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RG 0200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 BIT 00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E BIT 01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G BIT 02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RL 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8H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准备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输入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3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检测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K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状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C LOOP2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若未准备好（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K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断），则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RL 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3H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若准备好，则准备输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状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输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K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状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D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0880" y="4343400"/>
            <a:ext cx="9144000" cy="28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输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K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状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E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NL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∧E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G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RL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∨E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送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NL 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/G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（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∨E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）∧（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∧E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.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输出结果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JMP LOOP1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准备下次模拟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0" y="7621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6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子程序调用时的参数传递方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04920" y="15238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通过寄存器或片内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RAM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传递参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1981080"/>
            <a:ext cx="914400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23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利用通过寄存器或片内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传递参数这种方法编出调用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UBRT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子程序的主程序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解：应该是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AIN    :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30H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传送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数据区的起始地址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AH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传送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AM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数据区的长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CALL SUBRT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调用清零子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JMP $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结束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UBRT:MOV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00H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清零子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＠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JNZ 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O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457200" y="914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二、 通过堆栈传递参数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04920" y="129528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-25 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在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HEX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单元存有两个十六进制数，试编程分别把它们转换成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存入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+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单元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解：本题子程序采用查表方法完成一个十六进制数的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转换，主程序完成入口参数的传递和子程序的两次调用，以满足题目要求。程序清单为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ORG 1200H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HEX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入口参数压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CALL HASC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求低位十六进制数的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OP ASC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出口参数存入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HEX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十六进制数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WAP A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高位十六进制数送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ACC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入口参数压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CALL HASC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求高位十六进制数的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OP ASC+1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出口参数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+1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JMP $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原地踏步，结束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HASC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EC SP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EC SP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入口参数地址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P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OP ACC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入口参数送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NL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FH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取出入口参数低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DD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#07H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地址调整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A+PC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查相应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II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码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USH ACC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出口参数压栈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SP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INC SP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P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指向断点地址高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RET            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返回主程序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SCTABL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B ‘0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1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2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3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4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5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6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7’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B ‘8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9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A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B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D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E’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‘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F’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304920" y="838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三、 利用指针寄存器传递参数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33520" y="144792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4-26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编出能实现打印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HIS IS AN EXAMPLE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程序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解：将要打印的字符及代码不是放在调用指令之前，而是紧跟在调用指令之后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主程序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AIN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   </a:t>
            </a:r>
            <a:r>
              <a:rPr b="0" lang="en-US" sz="1600" spc="-1" strike="noStrike">
                <a:solidFill>
                  <a:srgbClr val="5b5249"/>
                </a:solidFill>
                <a:latin typeface="宋体"/>
              </a:rPr>
              <a:t>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ACALL PRINT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调用打印子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‘THIS IS AN EXAMPLE'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要打印的字符及代码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DB OA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D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OO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NEXT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   </a:t>
            </a:r>
            <a:r>
              <a:rPr b="0" lang="en-US" sz="1600" spc="-1" strike="noStrike">
                <a:solidFill>
                  <a:srgbClr val="5b5249"/>
                </a:solidFill>
                <a:latin typeface="宋体"/>
              </a:rPr>
              <a:t>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子程序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RINT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OP DPH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把调用指令下面字节的地址弹出，作为数据指针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OP DP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PPl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#OO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OVC A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@A+DPTR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出欲打印的字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C DPT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Z PPPEND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判断是否为结束字符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PP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                         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打印程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JMP PPPl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未完，继续打印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PPEND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JMP @A+DPTR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指向主程序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NEXT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处，取代返回指令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1828800" y="129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第五章    定时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计数器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914400" y="19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                      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1  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定时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计数的结构及工作原理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143000" y="25146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定时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/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计数器的结构和原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295280" y="2743200"/>
            <a:ext cx="9144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．定时</a:t>
            </a: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计数器的结构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55276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61" name="TMOD&amp;TCON&amp;T结构框图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5181840" cy="25146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5943600"/>
            <a:ext cx="91440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5‑1  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MOD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黑体"/>
              </a:rPr>
              <a:t>、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CON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与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黑体"/>
              </a:rPr>
              <a:t>、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的结构框图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533520" y="1295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．定时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计数器的原理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2766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65" name="定时器结构框图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91320" cy="220968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>
            <a:off x="2895480" y="4952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‑2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定时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计数器的结构框图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762120" y="8380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定时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/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计数器方式寄存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TMO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075200" y="1868400"/>
            <a:ext cx="99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0" y="2819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5‑1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方式选择位意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81080" y="3276720"/>
            <a:ext cx="5181480" cy="3209760"/>
            <a:chOff x="1981080" y="3276720"/>
            <a:chExt cx="5181480" cy="3209760"/>
          </a:xfrm>
        </p:grpSpPr>
        <p:grpSp>
          <p:nvGrpSpPr>
            <p:cNvPr id="1471" name=""/>
            <p:cNvGrpSpPr/>
            <p:nvPr/>
          </p:nvGrpSpPr>
          <p:grpSpPr>
            <a:xfrm>
              <a:off x="1986120" y="3281400"/>
              <a:ext cx="5170320" cy="3200400"/>
              <a:chOff x="1986120" y="3281400"/>
              <a:chExt cx="5170320" cy="3200400"/>
            </a:xfrm>
          </p:grpSpPr>
          <p:grpSp>
            <p:nvGrpSpPr>
              <p:cNvPr id="1472" name=""/>
              <p:cNvGrpSpPr/>
              <p:nvPr/>
            </p:nvGrpSpPr>
            <p:grpSpPr>
              <a:xfrm>
                <a:off x="1986120" y="3281400"/>
                <a:ext cx="927000" cy="609480"/>
                <a:chOff x="1986120" y="3281400"/>
                <a:chExt cx="927000" cy="60948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2062080" y="3281400"/>
                  <a:ext cx="774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M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  M</a:t>
                  </a:r>
                  <a:r>
                    <a:rPr b="0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1986120" y="3281400"/>
                  <a:ext cx="927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2913480" y="3281400"/>
                <a:ext cx="1043280" cy="609480"/>
                <a:chOff x="2913480" y="3281400"/>
                <a:chExt cx="1043280" cy="60948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2989080" y="3281400"/>
                  <a:ext cx="891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工作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2913480" y="3281400"/>
                  <a:ext cx="104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3957120" y="3281400"/>
                <a:ext cx="3199320" cy="609480"/>
                <a:chOff x="3957120" y="3281400"/>
                <a:chExt cx="3199320" cy="60948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4033080" y="3281400"/>
                  <a:ext cx="30474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功  能  说  明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957120" y="3281400"/>
                  <a:ext cx="3199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1986120" y="3890880"/>
                <a:ext cx="927000" cy="609840"/>
                <a:chOff x="1986120" y="3890880"/>
                <a:chExt cx="927000" cy="60984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2062080" y="3890880"/>
                  <a:ext cx="7747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   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1986120" y="3890880"/>
                  <a:ext cx="9270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913480" y="3890880"/>
                <a:ext cx="1043280" cy="609840"/>
                <a:chOff x="2913480" y="3890880"/>
                <a:chExt cx="1043280" cy="60984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989080" y="3890880"/>
                  <a:ext cx="8917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2913480" y="3890880"/>
                  <a:ext cx="10432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3957120" y="3890880"/>
                <a:ext cx="3199320" cy="609840"/>
                <a:chOff x="3957120" y="3890880"/>
                <a:chExt cx="3199320" cy="60984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4033080" y="3890880"/>
                  <a:ext cx="30474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3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计数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3957120" y="3890880"/>
                  <a:ext cx="31993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1986120" y="4500720"/>
                <a:ext cx="927000" cy="609480"/>
                <a:chOff x="1986120" y="4500720"/>
                <a:chExt cx="927000" cy="60948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2062080" y="4500720"/>
                  <a:ext cx="774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   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1986120" y="4500720"/>
                  <a:ext cx="927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2913480" y="4500720"/>
                <a:ext cx="1043280" cy="609480"/>
                <a:chOff x="2913480" y="4500720"/>
                <a:chExt cx="1043280" cy="60948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2989080" y="4500720"/>
                  <a:ext cx="891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2913480" y="4500720"/>
                  <a:ext cx="104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3957120" y="4500720"/>
                <a:ext cx="3199320" cy="609480"/>
                <a:chOff x="3957120" y="4500720"/>
                <a:chExt cx="3199320" cy="60948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4033080" y="4500720"/>
                  <a:ext cx="30474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6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计数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3957120" y="4500720"/>
                  <a:ext cx="3199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1986120" y="5110200"/>
                <a:ext cx="927000" cy="609480"/>
                <a:chOff x="1986120" y="5110200"/>
                <a:chExt cx="927000" cy="60948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2062080" y="5110200"/>
                  <a:ext cx="774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   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1986120" y="5110200"/>
                  <a:ext cx="9270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2913480" y="5110200"/>
                <a:ext cx="1043280" cy="609480"/>
                <a:chOff x="2913480" y="5110200"/>
                <a:chExt cx="1043280" cy="60948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2989080" y="5110200"/>
                  <a:ext cx="8917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2913480" y="5110200"/>
                  <a:ext cx="10432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3957120" y="5110200"/>
                <a:ext cx="3199320" cy="609480"/>
                <a:chOff x="3957120" y="5110200"/>
                <a:chExt cx="3199320" cy="60948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4033080" y="5110200"/>
                  <a:ext cx="30474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自动再装入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计数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3957120" y="5110200"/>
                  <a:ext cx="3199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1986120" y="5719680"/>
                <a:ext cx="927000" cy="762120"/>
                <a:chOff x="1986120" y="5719680"/>
                <a:chExt cx="927000" cy="7621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2062080" y="5719680"/>
                  <a:ext cx="7747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   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1986120" y="5719680"/>
                  <a:ext cx="9270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2913480" y="5719680"/>
                <a:ext cx="1043280" cy="762120"/>
                <a:chOff x="2913480" y="5719680"/>
                <a:chExt cx="1043280" cy="7621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2989080" y="5719680"/>
                  <a:ext cx="89172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2913480" y="5719680"/>
                  <a:ext cx="10432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3957120" y="5719680"/>
                <a:ext cx="3199320" cy="762120"/>
                <a:chOff x="3957120" y="5719680"/>
                <a:chExt cx="3199320" cy="7621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4033080" y="5719680"/>
                  <a:ext cx="304740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分成两个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计数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定时器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停止计数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3957120" y="5719680"/>
                  <a:ext cx="31993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7" name=""/>
            <p:cNvSpPr/>
            <p:nvPr/>
          </p:nvSpPr>
          <p:spPr>
            <a:xfrm>
              <a:off x="1981080" y="3276720"/>
              <a:ext cx="5181480" cy="3209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838080" y="1295280"/>
            <a:ext cx="9144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MOD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格式如下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75200" y="3668760"/>
            <a:ext cx="99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定时器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076640" y="36687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定时器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914400" y="1600200"/>
            <a:ext cx="6628680" cy="1828440"/>
            <a:chOff x="914400" y="1600200"/>
            <a:chExt cx="6628680" cy="1828440"/>
          </a:xfrm>
        </p:grpSpPr>
        <p:sp>
          <p:nvSpPr>
            <p:cNvPr id="1522" name=""/>
            <p:cNvSpPr/>
            <p:nvPr/>
          </p:nvSpPr>
          <p:spPr>
            <a:xfrm>
              <a:off x="989640" y="1600200"/>
              <a:ext cx="26244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252080" y="1600200"/>
              <a:ext cx="61992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14400" y="2162880"/>
              <a:ext cx="4132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402920" y="2162880"/>
              <a:ext cx="619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TMOD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14400" y="2865960"/>
              <a:ext cx="118368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173680" y="2865960"/>
              <a:ext cx="54792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721960" y="2865960"/>
              <a:ext cx="124488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966840" y="2865960"/>
              <a:ext cx="54792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15120" y="2865960"/>
              <a:ext cx="54828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063400" y="2865960"/>
              <a:ext cx="124488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308640" y="2865960"/>
              <a:ext cx="55656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1797120" y="1600200"/>
              <a:ext cx="698040" cy="562680"/>
              <a:chOff x="1797120" y="1600200"/>
              <a:chExt cx="698040" cy="562680"/>
            </a:xfrm>
          </p:grpSpPr>
          <p:sp>
            <p:nvSpPr>
              <p:cNvPr id="1534" name=""/>
              <p:cNvSpPr/>
              <p:nvPr/>
            </p:nvSpPr>
            <p:spPr>
              <a:xfrm>
                <a:off x="1872000" y="1600200"/>
                <a:ext cx="547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97120" y="1600200"/>
                <a:ext cx="69804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2495880" y="1600200"/>
              <a:ext cx="698040" cy="562680"/>
              <a:chOff x="2495880" y="1600200"/>
              <a:chExt cx="698040" cy="562680"/>
            </a:xfrm>
          </p:grpSpPr>
          <p:sp>
            <p:nvSpPr>
              <p:cNvPr id="1537" name=""/>
              <p:cNvSpPr/>
              <p:nvPr/>
            </p:nvSpPr>
            <p:spPr>
              <a:xfrm>
                <a:off x="2571120" y="1600200"/>
                <a:ext cx="547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495880" y="1600200"/>
                <a:ext cx="69804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3194280" y="1600200"/>
              <a:ext cx="696960" cy="562680"/>
              <a:chOff x="3194280" y="1600200"/>
              <a:chExt cx="696960" cy="562680"/>
            </a:xfrm>
          </p:grpSpPr>
          <p:sp>
            <p:nvSpPr>
              <p:cNvPr id="1540" name=""/>
              <p:cNvSpPr/>
              <p:nvPr/>
            </p:nvSpPr>
            <p:spPr>
              <a:xfrm>
                <a:off x="3269520" y="1600200"/>
                <a:ext cx="54612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194280" y="1600200"/>
                <a:ext cx="69696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3891960" y="1600200"/>
              <a:ext cx="698040" cy="562680"/>
              <a:chOff x="3891960" y="1600200"/>
              <a:chExt cx="698040" cy="562680"/>
            </a:xfrm>
          </p:grpSpPr>
          <p:sp>
            <p:nvSpPr>
              <p:cNvPr id="1543" name=""/>
              <p:cNvSpPr/>
              <p:nvPr/>
            </p:nvSpPr>
            <p:spPr>
              <a:xfrm>
                <a:off x="3966840" y="1600200"/>
                <a:ext cx="547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891960" y="1600200"/>
                <a:ext cx="69804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4590360" y="1600200"/>
              <a:ext cx="698040" cy="562680"/>
              <a:chOff x="4590360" y="1600200"/>
              <a:chExt cx="698040" cy="562680"/>
            </a:xfrm>
          </p:grpSpPr>
          <p:sp>
            <p:nvSpPr>
              <p:cNvPr id="1546" name=""/>
              <p:cNvSpPr/>
              <p:nvPr/>
            </p:nvSpPr>
            <p:spPr>
              <a:xfrm>
                <a:off x="4665600" y="1600200"/>
                <a:ext cx="547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590360" y="1600200"/>
                <a:ext cx="69804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5289120" y="1600200"/>
              <a:ext cx="696960" cy="562680"/>
              <a:chOff x="5289120" y="1600200"/>
              <a:chExt cx="696960" cy="562680"/>
            </a:xfrm>
          </p:grpSpPr>
          <p:sp>
            <p:nvSpPr>
              <p:cNvPr id="1549" name=""/>
              <p:cNvSpPr/>
              <p:nvPr/>
            </p:nvSpPr>
            <p:spPr>
              <a:xfrm>
                <a:off x="5364360" y="1600200"/>
                <a:ext cx="54612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289120" y="1600200"/>
                <a:ext cx="69696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5986800" y="1600200"/>
              <a:ext cx="698040" cy="562680"/>
              <a:chOff x="5986800" y="1600200"/>
              <a:chExt cx="698040" cy="562680"/>
            </a:xfrm>
          </p:grpSpPr>
          <p:sp>
            <p:nvSpPr>
              <p:cNvPr id="1552" name=""/>
              <p:cNvSpPr/>
              <p:nvPr/>
            </p:nvSpPr>
            <p:spPr>
              <a:xfrm>
                <a:off x="6061680" y="1600200"/>
                <a:ext cx="547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986800" y="1600200"/>
                <a:ext cx="69804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6685200" y="1600200"/>
              <a:ext cx="707400" cy="562680"/>
              <a:chOff x="6685200" y="1600200"/>
              <a:chExt cx="707400" cy="562680"/>
            </a:xfrm>
          </p:grpSpPr>
          <p:sp>
            <p:nvSpPr>
              <p:cNvPr id="1555" name=""/>
              <p:cNvSpPr/>
              <p:nvPr/>
            </p:nvSpPr>
            <p:spPr>
              <a:xfrm>
                <a:off x="6760440" y="1600200"/>
                <a:ext cx="556560" cy="56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685200" y="1600200"/>
                <a:ext cx="707400" cy="562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947600" y="2162880"/>
              <a:ext cx="698040" cy="703080"/>
              <a:chOff x="1947600" y="2162880"/>
              <a:chExt cx="698040" cy="703080"/>
            </a:xfrm>
          </p:grpSpPr>
          <p:sp>
            <p:nvSpPr>
              <p:cNvPr id="1558" name=""/>
              <p:cNvSpPr/>
              <p:nvPr/>
            </p:nvSpPr>
            <p:spPr>
              <a:xfrm>
                <a:off x="2022480" y="2162880"/>
                <a:ext cx="5482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GATE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947600" y="2162880"/>
                <a:ext cx="69804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646360" y="2162880"/>
              <a:ext cx="698400" cy="703080"/>
              <a:chOff x="2646360" y="2162880"/>
              <a:chExt cx="698400" cy="703080"/>
            </a:xfrm>
          </p:grpSpPr>
          <p:sp>
            <p:nvSpPr>
              <p:cNvPr id="1561" name=""/>
              <p:cNvSpPr/>
              <p:nvPr/>
            </p:nvSpPr>
            <p:spPr>
              <a:xfrm>
                <a:off x="2721600" y="2162880"/>
                <a:ext cx="5475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/</a:t>
                </a:r>
                <a:r>
                  <a:rPr b="0" lang="en-US" sz="900" spc="-1" strike="noStrike">
                    <a:solidFill>
                      <a:srgbClr val="5b5249"/>
                    </a:solidFill>
                    <a:latin typeface="Times New Roman"/>
                  </a:rPr>
                  <a:t>T(—)</a:t>
                </a: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646360" y="2162880"/>
                <a:ext cx="69840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3345480" y="2162880"/>
              <a:ext cx="696600" cy="703080"/>
              <a:chOff x="3345480" y="2162880"/>
              <a:chExt cx="696600" cy="703080"/>
            </a:xfrm>
          </p:grpSpPr>
          <p:sp>
            <p:nvSpPr>
              <p:cNvPr id="1564" name=""/>
              <p:cNvSpPr/>
              <p:nvPr/>
            </p:nvSpPr>
            <p:spPr>
              <a:xfrm>
                <a:off x="3420360" y="2162880"/>
                <a:ext cx="5461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345480" y="2162880"/>
                <a:ext cx="69660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4042440" y="2162880"/>
              <a:ext cx="698040" cy="703080"/>
              <a:chOff x="4042440" y="2162880"/>
              <a:chExt cx="698040" cy="703080"/>
            </a:xfrm>
          </p:grpSpPr>
          <p:sp>
            <p:nvSpPr>
              <p:cNvPr id="1567" name=""/>
              <p:cNvSpPr/>
              <p:nvPr/>
            </p:nvSpPr>
            <p:spPr>
              <a:xfrm>
                <a:off x="4117320" y="2162880"/>
                <a:ext cx="5482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042440" y="2162880"/>
                <a:ext cx="69804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4741200" y="2162880"/>
              <a:ext cx="698400" cy="703080"/>
              <a:chOff x="4741200" y="2162880"/>
              <a:chExt cx="698400" cy="703080"/>
            </a:xfrm>
          </p:grpSpPr>
          <p:sp>
            <p:nvSpPr>
              <p:cNvPr id="1570" name=""/>
              <p:cNvSpPr/>
              <p:nvPr/>
            </p:nvSpPr>
            <p:spPr>
              <a:xfrm>
                <a:off x="4816440" y="2162880"/>
                <a:ext cx="5475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GATE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741200" y="2162880"/>
                <a:ext cx="69840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5439960" y="2162880"/>
              <a:ext cx="696600" cy="703080"/>
              <a:chOff x="5439960" y="2162880"/>
              <a:chExt cx="696600" cy="703080"/>
            </a:xfrm>
          </p:grpSpPr>
          <p:sp>
            <p:nvSpPr>
              <p:cNvPr id="1573" name=""/>
              <p:cNvSpPr/>
              <p:nvPr/>
            </p:nvSpPr>
            <p:spPr>
              <a:xfrm>
                <a:off x="5514840" y="2162880"/>
                <a:ext cx="5461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/</a:t>
                </a:r>
                <a:r>
                  <a:rPr b="0" lang="en-US" sz="900" spc="-1" strike="noStrike">
                    <a:solidFill>
                      <a:srgbClr val="5b5249"/>
                    </a:solidFill>
                    <a:latin typeface="Times New Roman"/>
                  </a:rPr>
                  <a:t>T(—)</a:t>
                </a: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439960" y="2162880"/>
                <a:ext cx="69660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6137280" y="2162880"/>
              <a:ext cx="698040" cy="703080"/>
              <a:chOff x="6137280" y="2162880"/>
              <a:chExt cx="698040" cy="703080"/>
            </a:xfrm>
          </p:grpSpPr>
          <p:sp>
            <p:nvSpPr>
              <p:cNvPr id="1576" name=""/>
              <p:cNvSpPr/>
              <p:nvPr/>
            </p:nvSpPr>
            <p:spPr>
              <a:xfrm>
                <a:off x="6212160" y="2162880"/>
                <a:ext cx="5482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137280" y="2162880"/>
                <a:ext cx="69804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6835680" y="2162880"/>
              <a:ext cx="707400" cy="703080"/>
              <a:chOff x="6835680" y="2162880"/>
              <a:chExt cx="707400" cy="703080"/>
            </a:xfrm>
          </p:grpSpPr>
          <p:sp>
            <p:nvSpPr>
              <p:cNvPr id="1579" name=""/>
              <p:cNvSpPr/>
              <p:nvPr/>
            </p:nvSpPr>
            <p:spPr>
              <a:xfrm>
                <a:off x="6910920" y="2162880"/>
                <a:ext cx="5565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835680" y="2162880"/>
                <a:ext cx="707400" cy="703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685800" y="1523880"/>
            <a:ext cx="9144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定时控制寄存器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TC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定时器控制字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CON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格式如下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1523880" y="2743200"/>
            <a:ext cx="5942880" cy="1630080"/>
            <a:chOff x="1523880" y="2743200"/>
            <a:chExt cx="5942880" cy="1630080"/>
          </a:xfrm>
        </p:grpSpPr>
        <p:sp>
          <p:nvSpPr>
            <p:cNvPr id="1583" name=""/>
            <p:cNvSpPr/>
            <p:nvPr/>
          </p:nvSpPr>
          <p:spPr>
            <a:xfrm>
              <a:off x="1523880" y="2743200"/>
              <a:ext cx="65484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523880" y="3558600"/>
              <a:ext cx="65484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TCON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85" name=""/>
            <p:cNvGrpSpPr/>
            <p:nvPr/>
          </p:nvGrpSpPr>
          <p:grpSpPr>
            <a:xfrm>
              <a:off x="2103840" y="2743200"/>
              <a:ext cx="753840" cy="815040"/>
              <a:chOff x="2103840" y="2743200"/>
              <a:chExt cx="753840" cy="815040"/>
            </a:xfrm>
          </p:grpSpPr>
          <p:sp>
            <p:nvSpPr>
              <p:cNvPr id="1586" name=""/>
              <p:cNvSpPr/>
              <p:nvPr/>
            </p:nvSpPr>
            <p:spPr>
              <a:xfrm>
                <a:off x="2178720" y="2743200"/>
                <a:ext cx="60408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F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103840" y="2743200"/>
                <a:ext cx="75384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2858040" y="2743200"/>
              <a:ext cx="656640" cy="815040"/>
              <a:chOff x="2858040" y="2743200"/>
              <a:chExt cx="656640" cy="815040"/>
            </a:xfrm>
          </p:grpSpPr>
          <p:sp>
            <p:nvSpPr>
              <p:cNvPr id="1589" name=""/>
              <p:cNvSpPr/>
              <p:nvPr/>
            </p:nvSpPr>
            <p:spPr>
              <a:xfrm>
                <a:off x="2932920" y="2743200"/>
                <a:ext cx="5065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E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58040" y="2743200"/>
                <a:ext cx="65664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3515400" y="2743200"/>
              <a:ext cx="659880" cy="815040"/>
              <a:chOff x="3515400" y="2743200"/>
              <a:chExt cx="659880" cy="815040"/>
            </a:xfrm>
          </p:grpSpPr>
          <p:sp>
            <p:nvSpPr>
              <p:cNvPr id="1592" name=""/>
              <p:cNvSpPr/>
              <p:nvPr/>
            </p:nvSpPr>
            <p:spPr>
              <a:xfrm>
                <a:off x="3590280" y="2743200"/>
                <a:ext cx="5101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D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515400" y="2743200"/>
                <a:ext cx="65988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175640" y="2743200"/>
              <a:ext cx="660240" cy="815040"/>
              <a:chOff x="4175640" y="2743200"/>
              <a:chExt cx="660240" cy="815040"/>
            </a:xfrm>
          </p:grpSpPr>
          <p:sp>
            <p:nvSpPr>
              <p:cNvPr id="1595" name=""/>
              <p:cNvSpPr/>
              <p:nvPr/>
            </p:nvSpPr>
            <p:spPr>
              <a:xfrm>
                <a:off x="4250520" y="2743200"/>
                <a:ext cx="5101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C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175640" y="2743200"/>
                <a:ext cx="66024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4836240" y="2743200"/>
              <a:ext cx="659880" cy="815040"/>
              <a:chOff x="4836240" y="2743200"/>
              <a:chExt cx="659880" cy="815040"/>
            </a:xfrm>
          </p:grpSpPr>
          <p:sp>
            <p:nvSpPr>
              <p:cNvPr id="1598" name=""/>
              <p:cNvSpPr/>
              <p:nvPr/>
            </p:nvSpPr>
            <p:spPr>
              <a:xfrm>
                <a:off x="4910760" y="2743200"/>
                <a:ext cx="5101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B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836240" y="2743200"/>
                <a:ext cx="65988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5496480" y="2743200"/>
              <a:ext cx="659880" cy="815040"/>
              <a:chOff x="5496480" y="2743200"/>
              <a:chExt cx="659880" cy="815040"/>
            </a:xfrm>
          </p:grpSpPr>
          <p:sp>
            <p:nvSpPr>
              <p:cNvPr id="1601" name=""/>
              <p:cNvSpPr/>
              <p:nvPr/>
            </p:nvSpPr>
            <p:spPr>
              <a:xfrm>
                <a:off x="5571000" y="2743200"/>
                <a:ext cx="5101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A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496480" y="2743200"/>
                <a:ext cx="65988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6157080" y="2743200"/>
              <a:ext cx="656640" cy="815040"/>
              <a:chOff x="6157080" y="2743200"/>
              <a:chExt cx="656640" cy="815040"/>
            </a:xfrm>
          </p:grpSpPr>
          <p:sp>
            <p:nvSpPr>
              <p:cNvPr id="1604" name=""/>
              <p:cNvSpPr/>
              <p:nvPr/>
            </p:nvSpPr>
            <p:spPr>
              <a:xfrm>
                <a:off x="6231960" y="2743200"/>
                <a:ext cx="50652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9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157080" y="2743200"/>
                <a:ext cx="65664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6814080" y="2743200"/>
              <a:ext cx="652680" cy="815040"/>
              <a:chOff x="6814080" y="2743200"/>
              <a:chExt cx="652680" cy="815040"/>
            </a:xfrm>
          </p:grpSpPr>
          <p:sp>
            <p:nvSpPr>
              <p:cNvPr id="1607" name=""/>
              <p:cNvSpPr/>
              <p:nvPr/>
            </p:nvSpPr>
            <p:spPr>
              <a:xfrm>
                <a:off x="6888600" y="2743200"/>
                <a:ext cx="503640" cy="81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5b5249"/>
                    </a:solidFill>
                    <a:latin typeface="Times New Roman"/>
                  </a:rPr>
                  <a:t>88</a:t>
                </a: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H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814080" y="2743200"/>
                <a:ext cx="652680" cy="815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2103840" y="3558600"/>
              <a:ext cx="753840" cy="814320"/>
              <a:chOff x="2103840" y="3558600"/>
              <a:chExt cx="753840" cy="814320"/>
            </a:xfrm>
          </p:grpSpPr>
          <p:sp>
            <p:nvSpPr>
              <p:cNvPr id="1610" name=""/>
              <p:cNvSpPr/>
              <p:nvPr/>
            </p:nvSpPr>
            <p:spPr>
              <a:xfrm>
                <a:off x="2178720" y="3558600"/>
                <a:ext cx="60408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TF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103840" y="3558600"/>
                <a:ext cx="75384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2858040" y="3558600"/>
              <a:ext cx="656640" cy="814320"/>
              <a:chOff x="2858040" y="3558600"/>
              <a:chExt cx="656640" cy="814320"/>
            </a:xfrm>
          </p:grpSpPr>
          <p:sp>
            <p:nvSpPr>
              <p:cNvPr id="1613" name=""/>
              <p:cNvSpPr/>
              <p:nvPr/>
            </p:nvSpPr>
            <p:spPr>
              <a:xfrm>
                <a:off x="2932920" y="3558600"/>
                <a:ext cx="5065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TR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858040" y="3558600"/>
                <a:ext cx="65664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3515400" y="3558600"/>
              <a:ext cx="659880" cy="814320"/>
              <a:chOff x="3515400" y="3558600"/>
              <a:chExt cx="659880" cy="814320"/>
            </a:xfrm>
          </p:grpSpPr>
          <p:sp>
            <p:nvSpPr>
              <p:cNvPr id="1616" name=""/>
              <p:cNvSpPr/>
              <p:nvPr/>
            </p:nvSpPr>
            <p:spPr>
              <a:xfrm>
                <a:off x="3590280" y="3558600"/>
                <a:ext cx="5101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TF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515400" y="3558600"/>
                <a:ext cx="65988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4175640" y="3558600"/>
              <a:ext cx="660240" cy="814320"/>
              <a:chOff x="4175640" y="3558600"/>
              <a:chExt cx="660240" cy="814320"/>
            </a:xfrm>
          </p:grpSpPr>
          <p:sp>
            <p:nvSpPr>
              <p:cNvPr id="1619" name=""/>
              <p:cNvSpPr/>
              <p:nvPr/>
            </p:nvSpPr>
            <p:spPr>
              <a:xfrm>
                <a:off x="4250520" y="3558600"/>
                <a:ext cx="5101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TR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75640" y="3558600"/>
                <a:ext cx="66024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4836240" y="3558600"/>
              <a:ext cx="659880" cy="814320"/>
              <a:chOff x="4836240" y="3558600"/>
              <a:chExt cx="659880" cy="814320"/>
            </a:xfrm>
          </p:grpSpPr>
          <p:sp>
            <p:nvSpPr>
              <p:cNvPr id="1622" name=""/>
              <p:cNvSpPr/>
              <p:nvPr/>
            </p:nvSpPr>
            <p:spPr>
              <a:xfrm>
                <a:off x="4910760" y="3558600"/>
                <a:ext cx="5101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IE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836240" y="3558600"/>
                <a:ext cx="65988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5496480" y="3558600"/>
              <a:ext cx="659880" cy="814320"/>
              <a:chOff x="5496480" y="3558600"/>
              <a:chExt cx="659880" cy="814320"/>
            </a:xfrm>
          </p:grpSpPr>
          <p:sp>
            <p:nvSpPr>
              <p:cNvPr id="1625" name=""/>
              <p:cNvSpPr/>
              <p:nvPr/>
            </p:nvSpPr>
            <p:spPr>
              <a:xfrm>
                <a:off x="5571000" y="3558600"/>
                <a:ext cx="5101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IT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496480" y="3558600"/>
                <a:ext cx="65988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6157080" y="3558600"/>
              <a:ext cx="656640" cy="814320"/>
              <a:chOff x="6157080" y="3558600"/>
              <a:chExt cx="656640" cy="814320"/>
            </a:xfrm>
          </p:grpSpPr>
          <p:sp>
            <p:nvSpPr>
              <p:cNvPr id="1628" name=""/>
              <p:cNvSpPr/>
              <p:nvPr/>
            </p:nvSpPr>
            <p:spPr>
              <a:xfrm>
                <a:off x="6231960" y="3558600"/>
                <a:ext cx="50652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IE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157080" y="3558600"/>
                <a:ext cx="65664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6814080" y="3558600"/>
              <a:ext cx="652680" cy="814320"/>
              <a:chOff x="6814080" y="3558600"/>
              <a:chExt cx="652680" cy="814320"/>
            </a:xfrm>
          </p:grpSpPr>
          <p:sp>
            <p:nvSpPr>
              <p:cNvPr id="1631" name=""/>
              <p:cNvSpPr/>
              <p:nvPr/>
            </p:nvSpPr>
            <p:spPr>
              <a:xfrm>
                <a:off x="6888600" y="3558600"/>
                <a:ext cx="503640" cy="81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b5249"/>
                    </a:solidFill>
                    <a:latin typeface="Times New Roman"/>
                  </a:rPr>
                  <a:t>IT</a:t>
                </a:r>
                <a:r>
                  <a:rPr b="0" lang="en-US" sz="1000" spc="-1" strike="noStrike" baseline="-30000">
                    <a:solidFill>
                      <a:srgbClr val="5b5249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814080" y="3558600"/>
                <a:ext cx="652680" cy="81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3" name=""/>
          <p:cNvSpPr/>
          <p:nvPr/>
        </p:nvSpPr>
        <p:spPr>
          <a:xfrm>
            <a:off x="0" y="4145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-380880" y="9144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2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定时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计数器的工作方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62120" y="1523880"/>
            <a:ext cx="914400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0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当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两位为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时，定时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计数器被选为工作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其逻辑结构如图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‑3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171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37" name="定时器方式0结构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715000" cy="224820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0" y="525780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5‑3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(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或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066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表格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1‑1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黑体"/>
              </a:rPr>
              <a:t>MCS-5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系列型号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47920" y="1676520"/>
            <a:ext cx="6019200" cy="4724280"/>
            <a:chOff x="1447920" y="1676520"/>
            <a:chExt cx="6019200" cy="4724280"/>
          </a:xfrm>
        </p:grpSpPr>
        <p:grpSp>
          <p:nvGrpSpPr>
            <p:cNvPr id="102" name=""/>
            <p:cNvGrpSpPr/>
            <p:nvPr/>
          </p:nvGrpSpPr>
          <p:grpSpPr>
            <a:xfrm>
              <a:off x="1452960" y="1680840"/>
              <a:ext cx="6008400" cy="4714560"/>
              <a:chOff x="1452960" y="1680840"/>
              <a:chExt cx="6008400" cy="471456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1452960" y="1680840"/>
                <a:ext cx="1351080" cy="589320"/>
                <a:chOff x="1452960" y="1680840"/>
                <a:chExt cx="1351080" cy="5893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527120" y="1680840"/>
                  <a:ext cx="120276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型  号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452960" y="1680840"/>
                  <a:ext cx="135108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804400" y="1680840"/>
                <a:ext cx="1382400" cy="589320"/>
                <a:chOff x="2804400" y="1680840"/>
                <a:chExt cx="1382400" cy="5893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878560" y="1680840"/>
                  <a:ext cx="12340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制造技术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804400" y="1680840"/>
                  <a:ext cx="13824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187520" y="1680840"/>
                <a:ext cx="1818000" cy="589320"/>
                <a:chOff x="4187520" y="1680840"/>
                <a:chExt cx="1818000" cy="5893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261680" y="1680840"/>
                  <a:ext cx="16696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片内程序存储器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187520" y="1680840"/>
                  <a:ext cx="18180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006240" y="1680840"/>
                <a:ext cx="1455120" cy="589320"/>
                <a:chOff x="6006240" y="1680840"/>
                <a:chExt cx="1455120" cy="5893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080400" y="1680840"/>
                  <a:ext cx="130680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片内数据存储器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006240" y="1680840"/>
                  <a:ext cx="145512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452960" y="2270160"/>
                <a:ext cx="1351080" cy="588960"/>
                <a:chOff x="1452960" y="2270160"/>
                <a:chExt cx="1351080" cy="5889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527120" y="2270160"/>
                  <a:ext cx="12027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51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AH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452960" y="2270160"/>
                  <a:ext cx="135108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804400" y="2270160"/>
                <a:ext cx="1382400" cy="588960"/>
                <a:chOff x="2804400" y="2270160"/>
                <a:chExt cx="1382400" cy="5889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878560" y="2270160"/>
                  <a:ext cx="12340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H 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804400" y="2270160"/>
                  <a:ext cx="13824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187520" y="2270160"/>
                <a:ext cx="1818000" cy="588960"/>
                <a:chOff x="4187520" y="2270160"/>
                <a:chExt cx="1818000" cy="5889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261680" y="2270160"/>
                  <a:ext cx="16696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ROM (4k)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187520" y="2270160"/>
                  <a:ext cx="18180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006240" y="2270160"/>
                <a:ext cx="1455120" cy="588960"/>
                <a:chOff x="6006240" y="2270160"/>
                <a:chExt cx="1455120" cy="5889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080400" y="2270160"/>
                  <a:ext cx="13068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128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006240" y="2270160"/>
                  <a:ext cx="145512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452960" y="2859480"/>
                <a:ext cx="1351080" cy="588960"/>
                <a:chOff x="1452960" y="2859480"/>
                <a:chExt cx="1351080" cy="5889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527120" y="2859480"/>
                  <a:ext cx="12027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31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AH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452960" y="2859480"/>
                  <a:ext cx="135108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804400" y="2859480"/>
                <a:ext cx="1382400" cy="588960"/>
                <a:chOff x="2804400" y="2859480"/>
                <a:chExt cx="1382400" cy="588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878560" y="2859480"/>
                  <a:ext cx="12340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AH 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804400" y="2859480"/>
                  <a:ext cx="13824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187520" y="2859480"/>
                <a:ext cx="1818000" cy="588960"/>
                <a:chOff x="4187520" y="2859480"/>
                <a:chExt cx="1818000" cy="5889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261680" y="2859480"/>
                  <a:ext cx="16696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无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87520" y="2859480"/>
                  <a:ext cx="18180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006240" y="2859480"/>
                <a:ext cx="1455120" cy="588960"/>
                <a:chOff x="6006240" y="2859480"/>
                <a:chExt cx="1455120" cy="5889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080400" y="2859480"/>
                  <a:ext cx="13068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128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006240" y="2859480"/>
                  <a:ext cx="145512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452960" y="3448800"/>
                <a:ext cx="1351080" cy="589320"/>
                <a:chOff x="1452960" y="3448800"/>
                <a:chExt cx="1351080" cy="5893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527120" y="3448800"/>
                  <a:ext cx="120276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751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452960" y="3448800"/>
                  <a:ext cx="135108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804400" y="3448800"/>
                <a:ext cx="1382400" cy="589320"/>
                <a:chOff x="2804400" y="3448800"/>
                <a:chExt cx="1382400" cy="5893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878560" y="3448800"/>
                  <a:ext cx="12340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H 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804400" y="3448800"/>
                  <a:ext cx="13824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187520" y="3448800"/>
                <a:ext cx="1818000" cy="589320"/>
                <a:chOff x="4187520" y="3448800"/>
                <a:chExt cx="1818000" cy="5893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261680" y="3448800"/>
                  <a:ext cx="16696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EPROM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（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4K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）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187520" y="3448800"/>
                  <a:ext cx="18180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006240" y="3448800"/>
                <a:ext cx="1455120" cy="589320"/>
                <a:chOff x="6006240" y="3448800"/>
                <a:chExt cx="1455120" cy="5893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080400" y="3448800"/>
                  <a:ext cx="130680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128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06240" y="3448800"/>
                  <a:ext cx="145512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452960" y="4038480"/>
                <a:ext cx="1351080" cy="588960"/>
                <a:chOff x="1452960" y="4038480"/>
                <a:chExt cx="1351080" cy="5889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527120" y="4038480"/>
                  <a:ext cx="12027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C51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452960" y="4038480"/>
                  <a:ext cx="135108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804400" y="4038480"/>
                <a:ext cx="1382400" cy="588960"/>
                <a:chOff x="2804400" y="4038480"/>
                <a:chExt cx="1382400" cy="5889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878560" y="4038480"/>
                  <a:ext cx="12340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CH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04400" y="4038480"/>
                  <a:ext cx="13824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187520" y="4038480"/>
                <a:ext cx="1818000" cy="588960"/>
                <a:chOff x="4187520" y="4038480"/>
                <a:chExt cx="1818000" cy="5889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261680" y="4038480"/>
                  <a:ext cx="16696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ROM 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（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4K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）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87520" y="4038480"/>
                  <a:ext cx="18180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006240" y="4038480"/>
                <a:ext cx="1455120" cy="588960"/>
                <a:chOff x="6006240" y="4038480"/>
                <a:chExt cx="1455120" cy="5889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080400" y="4038480"/>
                  <a:ext cx="13068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128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06240" y="4038480"/>
                  <a:ext cx="145512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452960" y="4627440"/>
                <a:ext cx="1351080" cy="588960"/>
                <a:chOff x="1452960" y="4627440"/>
                <a:chExt cx="1351080" cy="5889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527120" y="4627440"/>
                  <a:ext cx="12027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C31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452960" y="4627440"/>
                  <a:ext cx="135108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804400" y="4627440"/>
                <a:ext cx="1382400" cy="588960"/>
                <a:chOff x="2804400" y="4627440"/>
                <a:chExt cx="1382400" cy="5889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878560" y="4627440"/>
                  <a:ext cx="12340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CH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804400" y="4627440"/>
                  <a:ext cx="13824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87520" y="4627440"/>
                <a:ext cx="1818000" cy="588960"/>
                <a:chOff x="4187520" y="4627440"/>
                <a:chExt cx="1818000" cy="5889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261680" y="4627440"/>
                  <a:ext cx="16696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无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87520" y="4627440"/>
                  <a:ext cx="18180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006240" y="4627440"/>
                <a:ext cx="1455120" cy="588960"/>
                <a:chOff x="6006240" y="4627440"/>
                <a:chExt cx="1455120" cy="5889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080400" y="4627440"/>
                  <a:ext cx="13068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128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06240" y="4627440"/>
                  <a:ext cx="145512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452960" y="5216760"/>
                <a:ext cx="1351080" cy="589320"/>
                <a:chOff x="1452960" y="5216760"/>
                <a:chExt cx="1351080" cy="589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527120" y="5216760"/>
                  <a:ext cx="120276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51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452960" y="5216760"/>
                  <a:ext cx="135108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804400" y="5216760"/>
                <a:ext cx="1382400" cy="589320"/>
                <a:chOff x="2804400" y="5216760"/>
                <a:chExt cx="1382400" cy="5893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878560" y="5216760"/>
                  <a:ext cx="12340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H 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804400" y="5216760"/>
                  <a:ext cx="13824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187520" y="5216760"/>
                <a:ext cx="1818000" cy="589320"/>
                <a:chOff x="4187520" y="5216760"/>
                <a:chExt cx="1818000" cy="5893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261680" y="5216760"/>
                  <a:ext cx="166968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ROM 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（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8K</a:t>
                  </a: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）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87520" y="5216760"/>
                  <a:ext cx="181800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6006240" y="5216760"/>
                <a:ext cx="1455120" cy="589320"/>
                <a:chOff x="6006240" y="5216760"/>
                <a:chExt cx="1455120" cy="5893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080400" y="5216760"/>
                  <a:ext cx="1306800" cy="58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256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006240" y="5216760"/>
                  <a:ext cx="1455120" cy="58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452960" y="5806440"/>
                <a:ext cx="1351080" cy="588960"/>
                <a:chOff x="1452960" y="5806440"/>
                <a:chExt cx="1351080" cy="5889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527120" y="5806440"/>
                  <a:ext cx="12027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8031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452960" y="5806440"/>
                  <a:ext cx="135108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804400" y="5806440"/>
                <a:ext cx="1382400" cy="588960"/>
                <a:chOff x="2804400" y="5806440"/>
                <a:chExt cx="1382400" cy="5889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878560" y="5806440"/>
                  <a:ext cx="12340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b5249"/>
                      </a:solidFill>
                      <a:latin typeface="Times New Roman"/>
                    </a:rPr>
                    <a:t>H MOS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804400" y="5806440"/>
                  <a:ext cx="13824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187520" y="5806440"/>
                <a:ext cx="1818000" cy="588960"/>
                <a:chOff x="4187520" y="5806440"/>
                <a:chExt cx="1818000" cy="5889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261680" y="5806440"/>
                  <a:ext cx="166968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无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7520" y="5806440"/>
                  <a:ext cx="181800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006240" y="5806440"/>
                <a:ext cx="1455120" cy="588960"/>
                <a:chOff x="6006240" y="5806440"/>
                <a:chExt cx="1455120" cy="5889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80400" y="5806440"/>
                  <a:ext cx="13068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256</a:t>
                  </a:r>
                  <a:r>
                    <a:rPr b="0" lang="zh-CN" sz="1400" spc="-1" strike="noStrike">
                      <a:solidFill>
                        <a:srgbClr val="5b5249"/>
                      </a:solidFill>
                      <a:latin typeface="Times New Roman"/>
                    </a:rPr>
                    <a:t>字节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006240" y="5806440"/>
                  <a:ext cx="1455120" cy="58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1447920" y="1676520"/>
              <a:ext cx="6019200" cy="4724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609480" y="13716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1337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1" name="定时器方式1结构" descr=""/>
          <p:cNvPicPr/>
          <p:nvPr/>
        </p:nvPicPr>
        <p:blipFill>
          <a:blip r:embed="rId1"/>
          <a:stretch/>
        </p:blipFill>
        <p:spPr>
          <a:xfrm>
            <a:off x="1676520" y="2476440"/>
            <a:ext cx="5867280" cy="2171880"/>
          </a:xfrm>
          <a:prstGeom prst="rect">
            <a:avLst/>
          </a:prstGeom>
          <a:ln w="0">
            <a:noFill/>
          </a:ln>
        </p:spPr>
      </p:pic>
      <p:sp>
        <p:nvSpPr>
          <p:cNvPr id="1642" name=""/>
          <p:cNvSpPr/>
          <p:nvPr/>
        </p:nvSpPr>
        <p:spPr>
          <a:xfrm>
            <a:off x="0" y="510552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5‑4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(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或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53352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3241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5" name="定时器方式2结构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943600" cy="281952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0" y="495288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5‑5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(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或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53352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3241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9" name="定时器方式2结构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19920" cy="28191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3505320" y="5181480"/>
            <a:ext cx="9144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5‑6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或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结构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457200" y="12952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四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3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28600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53" name="定时器方式3结构" descr=""/>
          <p:cNvPicPr/>
          <p:nvPr/>
        </p:nvPicPr>
        <p:blipFill>
          <a:blip r:embed="rId1"/>
          <a:stretch/>
        </p:blipFill>
        <p:spPr>
          <a:xfrm>
            <a:off x="1676520" y="2214720"/>
            <a:ext cx="5943600" cy="281448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0" y="5257800"/>
            <a:ext cx="9144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5‑7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下和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 baseline="-30000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结构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/>
          <p:nvPr/>
        </p:nvSpPr>
        <p:spPr>
          <a:xfrm>
            <a:off x="609480" y="838080"/>
            <a:ext cx="9144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、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的应用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-1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选择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用于定时，在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输出周期为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s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方波，晶振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f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os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6MHZ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根据题意，只要使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每隔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00µ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反一次即可得到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s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方波，因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定时时间为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1600200"/>
            <a:ext cx="9144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00µ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将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设为定时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GATE=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/T(—)=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0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不用可为任意，只要不使其进入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一般取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即可。故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MOD=00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系统复位后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MOD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所以不必对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MOD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置初值。下面计算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00µ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定时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初值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机器周期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=12/f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osc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12/6×10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2µ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设初值为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则：   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 baseline="30000">
                <a:solidFill>
                  <a:srgbClr val="5b5249"/>
                </a:solidFill>
                <a:latin typeface="Times New Roman"/>
              </a:rPr>
              <a:t>1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×2×10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s =500×10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=7942D=1111100000110B=1F06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因为在作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计数器用时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L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高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未用，应写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低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装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L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低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，所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L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06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高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位应装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所以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F8H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源程序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1143000" y="4191120"/>
            <a:ext cx="4222800" cy="2209680"/>
            <a:chOff x="1143000" y="4191120"/>
            <a:chExt cx="4222800" cy="2209680"/>
          </a:xfrm>
        </p:grpSpPr>
        <p:sp>
          <p:nvSpPr>
            <p:cNvPr id="1658" name=""/>
            <p:cNvSpPr/>
            <p:nvPr/>
          </p:nvSpPr>
          <p:spPr>
            <a:xfrm>
              <a:off x="1143000" y="4191120"/>
              <a:ext cx="167796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889360" y="4191120"/>
              <a:ext cx="4158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305160" y="4191120"/>
              <a:ext cx="10558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292640" y="4191120"/>
              <a:ext cx="107316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211400" y="4385880"/>
              <a:ext cx="7650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76400" y="4385880"/>
              <a:ext cx="638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14680" y="4385880"/>
              <a:ext cx="982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06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597120" y="4385880"/>
              <a:ext cx="15638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给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置初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211400" y="4619520"/>
              <a:ext cx="765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76400" y="4619520"/>
              <a:ext cx="6382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614680" y="4619520"/>
              <a:ext cx="9824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F8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597120" y="4619520"/>
              <a:ext cx="1563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给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置初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211400" y="4853160"/>
              <a:ext cx="7650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976400" y="4853160"/>
              <a:ext cx="638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SET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614680" y="4853160"/>
              <a:ext cx="982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597120" y="4853160"/>
              <a:ext cx="15638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启动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11400" y="5086440"/>
              <a:ext cx="76500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P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76400" y="5086440"/>
              <a:ext cx="6382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JBC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614680" y="5086440"/>
              <a:ext cx="98244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F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P2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97120" y="5086440"/>
              <a:ext cx="156384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查询计数溢出否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11400" y="5276520"/>
              <a:ext cx="7650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976400" y="5276520"/>
              <a:ext cx="638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JM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614680" y="5276520"/>
              <a:ext cx="982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P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597120" y="5276520"/>
              <a:ext cx="15638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211400" y="5510160"/>
              <a:ext cx="765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P2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976400" y="5510160"/>
              <a:ext cx="6382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14680" y="5510160"/>
              <a:ext cx="9824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06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97120" y="5510160"/>
              <a:ext cx="1563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重装初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211400" y="5743800"/>
              <a:ext cx="7650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6400" y="5743800"/>
              <a:ext cx="638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614680" y="5743800"/>
              <a:ext cx="982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F8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597120" y="5743800"/>
              <a:ext cx="15638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11400" y="5977440"/>
              <a:ext cx="76500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976400" y="5977440"/>
              <a:ext cx="6382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CP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614680" y="5977440"/>
              <a:ext cx="98244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。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597120" y="5977440"/>
              <a:ext cx="156384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输出取反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211400" y="6167160"/>
              <a:ext cx="765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76400" y="6167160"/>
              <a:ext cx="6382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JM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614680" y="6167160"/>
              <a:ext cx="9824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P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597120" y="6167160"/>
              <a:ext cx="1563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重复循环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609480" y="838080"/>
            <a:ext cx="914400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的应用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-2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用定时器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计数，要求每计满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0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次，将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取反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根据题意，外部计数信号由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3.5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引脚输入，每跳变一次计数器加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由程序查询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F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有自动重装初值的功能，初始化后不必再置初值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初值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X=2</a:t>
            </a:r>
            <a:r>
              <a:rPr b="0" lang="en-US" sz="1600" spc="-1" strike="noStrike" baseline="30000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100=156D=9C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TL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=9C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MOD=60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源程序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2209680" y="2819520"/>
            <a:ext cx="4647600" cy="3352320"/>
            <a:chOff x="2209680" y="2819520"/>
            <a:chExt cx="4647600" cy="3352320"/>
          </a:xfrm>
        </p:grpSpPr>
        <p:sp>
          <p:nvSpPr>
            <p:cNvPr id="1700" name=""/>
            <p:cNvSpPr/>
            <p:nvPr/>
          </p:nvSpPr>
          <p:spPr>
            <a:xfrm>
              <a:off x="2209680" y="2819520"/>
              <a:ext cx="5914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801160" y="2819520"/>
              <a:ext cx="4809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282480" y="2819520"/>
              <a:ext cx="14450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MOD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6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727520" y="2819520"/>
              <a:ext cx="2129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设置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为方式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209680" y="3238200"/>
              <a:ext cx="5914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801160" y="3238200"/>
              <a:ext cx="480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282480" y="3238200"/>
              <a:ext cx="1445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9C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727520" y="3238200"/>
              <a:ext cx="2129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置初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209680" y="3657600"/>
              <a:ext cx="5914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801160" y="3657600"/>
              <a:ext cx="4809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282480" y="3657600"/>
              <a:ext cx="14450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9C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7520" y="3657600"/>
              <a:ext cx="2129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209680" y="4076640"/>
              <a:ext cx="5914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801160" y="4076640"/>
              <a:ext cx="480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SET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282480" y="4076640"/>
              <a:ext cx="1445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727520" y="4076640"/>
              <a:ext cx="2129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启动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209680" y="4495680"/>
              <a:ext cx="5914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EL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01160" y="4495680"/>
              <a:ext cx="4809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JBC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282480" y="4495680"/>
              <a:ext cx="14450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F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E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727520" y="4495680"/>
              <a:ext cx="2129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查询计数溢出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09680" y="4914720"/>
              <a:ext cx="5914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801160" y="4914720"/>
              <a:ext cx="480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JM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282480" y="4914720"/>
              <a:ext cx="1445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E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727520" y="4914720"/>
              <a:ext cx="2129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09680" y="5334120"/>
              <a:ext cx="5914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EP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801160" y="5334120"/>
              <a:ext cx="4809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CP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82480" y="5334120"/>
              <a:ext cx="14450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。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727520" y="5334120"/>
              <a:ext cx="2129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输出取反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209680" y="5752800"/>
              <a:ext cx="5914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801160" y="5752800"/>
              <a:ext cx="480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JM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282480" y="5752800"/>
              <a:ext cx="1445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E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727520" y="5752800"/>
              <a:ext cx="21297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60948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门控位的应用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600200" y="3048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054760" y="377676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57200" y="5029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5‑8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外部正脉冲宽度测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33520" y="152388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5-3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利用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门控位测试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引脚上出现的正脉冲的宽度，并以机器周期数的形式显示在显示器上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85800" y="1752480"/>
            <a:ext cx="84582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根据要求可这样设计程序：将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设定为方式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GATE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设为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，置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R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。一旦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IN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）             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引脚上出现高电平即开始计数，直至出现低电平，停止计数，然后读取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16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的计数值并显示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测试过程如下：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38" name="脉冲宽度测量" descr=""/>
          <p:cNvPicPr/>
          <p:nvPr/>
        </p:nvPicPr>
        <p:blipFill>
          <a:blip r:embed="rId1"/>
          <a:stretch/>
        </p:blipFill>
        <p:spPr>
          <a:xfrm>
            <a:off x="1295280" y="2986200"/>
            <a:ext cx="7086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0" y="-4735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源程序如下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2057400" y="990720"/>
            <a:ext cx="4601880" cy="5410080"/>
            <a:chOff x="2057400" y="990720"/>
            <a:chExt cx="4601880" cy="5410080"/>
          </a:xfrm>
        </p:grpSpPr>
        <p:sp>
          <p:nvSpPr>
            <p:cNvPr id="1741" name=""/>
            <p:cNvSpPr/>
            <p:nvPr/>
          </p:nvSpPr>
          <p:spPr>
            <a:xfrm>
              <a:off x="2057400" y="99072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BEGIN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735280" y="99072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178080" y="99072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MOD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 O9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457520" y="99072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工作于方式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GATE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置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057400" y="125208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735280" y="125208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178080" y="125208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0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457520" y="125208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057400" y="151344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735280" y="151344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178080" y="151344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；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0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57520" y="151344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057400" y="177516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1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35280" y="177516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J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178080" y="177516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3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。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57520" y="177516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等待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IN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变低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057400" y="198756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735280" y="198756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SET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178080" y="198756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57520" y="198756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启动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057400" y="224892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2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735280" y="224892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JN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178080" y="224892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3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。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2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457520" y="224892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等待正脉冲到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57400" y="246168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3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735280" y="246168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JB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178080" y="246168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3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。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WAIT3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457520" y="246168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等待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IN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变低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057400" y="267444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735280" y="267444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178080" y="267444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457520" y="267444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停止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计数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57400" y="288684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735280" y="288684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178080" y="288684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#DISBUF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457520" y="288684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显示缓冲区首地址送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57400" y="314820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735280" y="314820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178080" y="314820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L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57520" y="314820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机器周期的存放格式为低位占低地址，高位占高地址，连续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4</a:t>
              </a: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个显示缓冲单元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57400" y="340992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735280" y="340992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XCHD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178080" y="340992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@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57520" y="340992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57400" y="367128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735280" y="367128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INC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178080" y="367128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57520" y="367128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057400" y="388404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735280" y="388404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SWA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178080" y="388404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57520" y="388404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057400" y="414540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735280" y="414540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XCHD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178080" y="414540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@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457520" y="414540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057400" y="440676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735280" y="440676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INC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78080" y="440676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457520" y="440676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57400" y="461952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735280" y="461952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178080" y="461952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TH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457520" y="461952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057400" y="488088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735280" y="488088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XCHD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178080" y="488088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@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457520" y="488088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57400" y="5142240"/>
              <a:ext cx="677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735280" y="5142240"/>
              <a:ext cx="4428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INC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78080" y="5142240"/>
              <a:ext cx="12794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457520" y="5142240"/>
              <a:ext cx="2201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057400" y="535500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735280" y="535500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SWA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178080" y="535500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457520" y="535500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057400" y="561636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735280" y="561636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XCHD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78080" y="561636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@R</a:t>
              </a:r>
              <a:r>
                <a:rPr b="0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457520" y="561636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057400" y="587772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IS</a:t>
              </a: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735280" y="587772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LCAL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178080" y="587772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ISU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457520" y="587772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长调用显示子程序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057400" y="6139440"/>
              <a:ext cx="677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735280" y="6139440"/>
              <a:ext cx="44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AJMP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178080" y="6139440"/>
              <a:ext cx="1279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b5249"/>
                  </a:solidFill>
                  <a:latin typeface="Times New Roman"/>
                </a:rPr>
                <a:t>DIS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57520" y="6139440"/>
              <a:ext cx="220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b5249"/>
                  </a:solidFill>
                  <a:latin typeface="Times New Roman"/>
                </a:rPr>
                <a:t>；重复显示机器周期数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0" y="10983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由于定时方式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的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16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位计数长度有限，被测脉冲高电平宽度只能小于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65536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个机器周期。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33520" y="8380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源程序如下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：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/>
          <p:nvPr/>
        </p:nvSpPr>
        <p:spPr>
          <a:xfrm>
            <a:off x="0" y="99072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9280" rIns="90000" tIns="35532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六章          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的系统扩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0" y="1828800"/>
            <a:ext cx="914400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6</a:t>
            </a:r>
            <a:r>
              <a:rPr b="1" lang="zh-CN" sz="2000" spc="-1" strike="noStrike">
                <a:solidFill>
                  <a:srgbClr val="5b5249"/>
                </a:solidFill>
                <a:latin typeface="Arial"/>
              </a:rPr>
              <a:t>．</a:t>
            </a:r>
            <a:r>
              <a:rPr b="1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1  </a:t>
            </a:r>
            <a:r>
              <a:rPr b="1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MCS-51</a:t>
            </a:r>
            <a:r>
              <a:rPr b="1" lang="zh-CN" sz="2000" spc="-1" strike="noStrike">
                <a:solidFill>
                  <a:srgbClr val="5b5249"/>
                </a:solidFill>
                <a:latin typeface="Arial"/>
              </a:rPr>
              <a:t>单片机的引脚定义及最小应用系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09480" y="2286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黑体"/>
              </a:rPr>
              <a:t>805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  <a:ea typeface="黑体"/>
              </a:rPr>
              <a:t>的引脚定义及功能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34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2590560" cy="2819160"/>
          </a:xfrm>
          <a:prstGeom prst="rect">
            <a:avLst/>
          </a:prstGeom>
          <a:ln w="0">
            <a:noFill/>
          </a:ln>
        </p:spPr>
      </p:pic>
      <p:pic>
        <p:nvPicPr>
          <p:cNvPr id="1835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276720" cy="304812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0" y="6172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Arial"/>
              </a:rPr>
              <a:t>6‑1  </a:t>
            </a:r>
            <a:r>
              <a:rPr b="0" lang="en-US" sz="2000" spc="-1" strike="noStrike">
                <a:solidFill>
                  <a:srgbClr val="5b5249"/>
                </a:solidFill>
                <a:latin typeface="Arial"/>
                <a:ea typeface="Arial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黑体"/>
              </a:rPr>
              <a:t>的引脚图及功能分类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609480" y="1219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二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单片机最小应用系统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1860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39" name="8051最小系统" descr=""/>
          <p:cNvPicPr/>
          <p:nvPr/>
        </p:nvPicPr>
        <p:blipFill>
          <a:blip r:embed="rId1"/>
          <a:stretch/>
        </p:blipFill>
        <p:spPr>
          <a:xfrm>
            <a:off x="3186000" y="1905120"/>
            <a:ext cx="3595680" cy="3200400"/>
          </a:xfrm>
          <a:prstGeom prst="rect">
            <a:avLst/>
          </a:prstGeom>
          <a:ln w="0">
            <a:noFill/>
          </a:ln>
        </p:spPr>
      </p:pic>
      <p:sp>
        <p:nvSpPr>
          <p:cNvPr id="1840" name=""/>
          <p:cNvSpPr/>
          <p:nvPr/>
        </p:nvSpPr>
        <p:spPr>
          <a:xfrm>
            <a:off x="45720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‑2  8051/8751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最小应用系统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     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1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Arial"/>
              </a:rPr>
              <a:t>4  </a:t>
            </a:r>
            <a:r>
              <a:rPr b="1" lang="zh-CN" sz="4400" spc="-1" strike="noStrike">
                <a:solidFill>
                  <a:srgbClr val="2a3d7a"/>
                </a:solidFill>
                <a:latin typeface="Arial"/>
              </a:rPr>
              <a:t>单片机的应用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单片机在仪器仪表中的应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单片机在机电一体化中的应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单片机在智能接口和多机系统中的应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四、 单片机在生活中的应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286000"/>
            <a:ext cx="8610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828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"/>
          <p:cNvSpPr/>
          <p:nvPr/>
        </p:nvSpPr>
        <p:spPr>
          <a:xfrm>
            <a:off x="0" y="9907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2  </a:t>
            </a:r>
            <a:r>
              <a:rPr b="1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单片机外部存储器的扩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33520" y="17524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外部程序存储器的扩展及取指过程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924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4" name="外部程序存储器的连接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1845" name=""/>
          <p:cNvSpPr/>
          <p:nvPr/>
        </p:nvSpPr>
        <p:spPr>
          <a:xfrm>
            <a:off x="2743200" y="6095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6‑3  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外部程序存储器一般连接方法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/>
          <p:nvPr/>
        </p:nvSpPr>
        <p:spPr>
          <a:xfrm>
            <a:off x="609480" y="121932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程序存储器的一般连接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716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8" name="8031-276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3657600"/>
          </a:xfrm>
          <a:prstGeom prst="rect">
            <a:avLst/>
          </a:prstGeom>
          <a:ln w="0">
            <a:noFill/>
          </a:ln>
        </p:spPr>
      </p:pic>
      <p:sp>
        <p:nvSpPr>
          <p:cNvPr id="1849" name=""/>
          <p:cNvSpPr/>
          <p:nvPr/>
        </p:nvSpPr>
        <p:spPr>
          <a:xfrm>
            <a:off x="0" y="571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-4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扩展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8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K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字节程序存储器的连线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609480" y="10666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典型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EPROM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扩展电路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09480" y="160020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程序存储器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E</a:t>
            </a:r>
            <a:r>
              <a:rPr b="0" lang="en-US" sz="1800" spc="-1" strike="noStrike" baseline="30000">
                <a:solidFill>
                  <a:srgbClr val="5b5249"/>
                </a:solidFill>
                <a:latin typeface="宋体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PROM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的扩展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34792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53" name="8031-2864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486400" cy="3733920"/>
          </a:xfrm>
          <a:prstGeom prst="rect">
            <a:avLst/>
          </a:prstGeom>
          <a:ln w="0">
            <a:noFill/>
          </a:ln>
        </p:spPr>
      </p:pic>
      <p:sp>
        <p:nvSpPr>
          <p:cNvPr id="1854" name=""/>
          <p:cNvSpPr/>
          <p:nvPr/>
        </p:nvSpPr>
        <p:spPr>
          <a:xfrm>
            <a:off x="0" y="612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-5  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 baseline="30000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PROM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作为程序存储器的扩展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"/>
          <p:cNvSpPr/>
          <p:nvPr/>
        </p:nvSpPr>
        <p:spPr>
          <a:xfrm>
            <a:off x="457200" y="11430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数据存储器的扩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05272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57" name="8031-6116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867640" cy="3429000"/>
          </a:xfrm>
          <a:prstGeom prst="rect">
            <a:avLst/>
          </a:prstGeom>
          <a:ln w="0">
            <a:noFill/>
          </a:ln>
        </p:spPr>
      </p:pic>
      <p:sp>
        <p:nvSpPr>
          <p:cNvPr id="1858" name=""/>
          <p:cNvSpPr/>
          <p:nvPr/>
        </p:nvSpPr>
        <p:spPr>
          <a:xfrm>
            <a:off x="0" y="563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-6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扩展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KB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数据存储器的线路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457200" y="1219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</a:rPr>
              <a:t>．数据存储器一般的扩展方法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0" y="17524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     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常用数据存储器的扩展电路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0" y="21337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综合扩展实例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22876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3" name="2764&amp;6264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248520" cy="312444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152280" y="61261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-7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扩展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6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KB RAM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和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16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KB EPR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-1447920" y="83808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Arial"/>
                <a:ea typeface="Arial"/>
              </a:rPr>
              <a:t>              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3  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并行</a:t>
            </a:r>
            <a:r>
              <a:rPr b="1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I/O</a:t>
            </a:r>
            <a:r>
              <a:rPr b="1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口的扩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09480" y="17524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简单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I/O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口的扩展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41452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8" name="244273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867640" cy="3352680"/>
          </a:xfrm>
          <a:prstGeom prst="rect">
            <a:avLst/>
          </a:prstGeom>
          <a:ln w="0">
            <a:noFill/>
          </a:ln>
        </p:spPr>
      </p:pic>
      <p:sp>
        <p:nvSpPr>
          <p:cNvPr id="1869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-8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简单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Arial"/>
              </a:rPr>
              <a:t>I/O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接口扩展电路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/>
          <p:nvPr/>
        </p:nvSpPr>
        <p:spPr>
          <a:xfrm>
            <a:off x="533520" y="12952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可编程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I/O</a:t>
            </a: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口的扩展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85256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72" name="8155结构和引脚" descr=""/>
          <p:cNvPicPr/>
          <p:nvPr/>
        </p:nvPicPr>
        <p:blipFill>
          <a:blip r:embed="rId1"/>
          <a:stretch/>
        </p:blipFill>
        <p:spPr>
          <a:xfrm>
            <a:off x="1295280" y="2100240"/>
            <a:ext cx="6553440" cy="3614760"/>
          </a:xfrm>
          <a:prstGeom prst="rect">
            <a:avLst/>
          </a:prstGeom>
          <a:ln w="0">
            <a:noFill/>
          </a:ln>
        </p:spPr>
      </p:pic>
      <p:sp>
        <p:nvSpPr>
          <p:cNvPr id="1873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‑9  8155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结构和引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/>
          <p:nvPr/>
        </p:nvSpPr>
        <p:spPr>
          <a:xfrm>
            <a:off x="0" y="11430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6‑1  8155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口地址分布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5" name=""/>
          <p:cNvGrpSpPr/>
          <p:nvPr/>
        </p:nvGrpSpPr>
        <p:grpSpPr>
          <a:xfrm>
            <a:off x="1905120" y="1676520"/>
            <a:ext cx="5866920" cy="4667040"/>
            <a:chOff x="1905120" y="1676520"/>
            <a:chExt cx="5866920" cy="4667040"/>
          </a:xfrm>
        </p:grpSpPr>
        <p:grpSp>
          <p:nvGrpSpPr>
            <p:cNvPr id="1876" name=""/>
            <p:cNvGrpSpPr/>
            <p:nvPr/>
          </p:nvGrpSpPr>
          <p:grpSpPr>
            <a:xfrm>
              <a:off x="1909800" y="1680840"/>
              <a:ext cx="5856480" cy="4657320"/>
              <a:chOff x="1909800" y="1680840"/>
              <a:chExt cx="5856480" cy="4657320"/>
            </a:xfrm>
          </p:grpSpPr>
          <p:grpSp>
            <p:nvGrpSpPr>
              <p:cNvPr id="1877" name=""/>
              <p:cNvGrpSpPr/>
              <p:nvPr/>
            </p:nvGrpSpPr>
            <p:grpSpPr>
              <a:xfrm>
                <a:off x="1909800" y="1680840"/>
                <a:ext cx="3418920" cy="565920"/>
                <a:chOff x="1909800" y="1680840"/>
                <a:chExt cx="3418920" cy="56592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1983240" y="1680840"/>
                  <a:ext cx="327204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D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~AD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7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1909800" y="1680840"/>
                  <a:ext cx="341892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5329080" y="1680840"/>
                <a:ext cx="2437200" cy="1261800"/>
                <a:chOff x="5329080" y="1680840"/>
                <a:chExt cx="2437200" cy="126180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5402520" y="1680840"/>
                  <a:ext cx="2290320" cy="12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选  中  寄  存  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5329080" y="1680840"/>
                  <a:ext cx="2437200" cy="12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1909800" y="2246760"/>
                <a:ext cx="1690200" cy="695880"/>
                <a:chOff x="1909800" y="2246760"/>
                <a:chExt cx="1690200" cy="69588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1982880" y="2246760"/>
                  <a:ext cx="154404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7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  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6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  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5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  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4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  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909800" y="2246760"/>
                  <a:ext cx="1690200" cy="69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3600360" y="2246760"/>
                <a:ext cx="576000" cy="695880"/>
                <a:chOff x="3600360" y="2246760"/>
                <a:chExt cx="576000" cy="695880"/>
              </a:xfrm>
            </p:grpSpPr>
            <p:sp>
              <p:nvSpPr>
                <p:cNvPr id="1887" name=""/>
                <p:cNvSpPr/>
                <p:nvPr/>
              </p:nvSpPr>
              <p:spPr>
                <a:xfrm>
                  <a:off x="3673800" y="2246760"/>
                  <a:ext cx="42912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3600360" y="2246760"/>
                  <a:ext cx="576000" cy="69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4176720" y="2246760"/>
                <a:ext cx="575280" cy="695880"/>
                <a:chOff x="4176720" y="2246760"/>
                <a:chExt cx="575280" cy="695880"/>
              </a:xfrm>
            </p:grpSpPr>
            <p:sp>
              <p:nvSpPr>
                <p:cNvPr id="1890" name=""/>
                <p:cNvSpPr/>
                <p:nvPr/>
              </p:nvSpPr>
              <p:spPr>
                <a:xfrm>
                  <a:off x="4249800" y="2246760"/>
                  <a:ext cx="42912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4176720" y="2246760"/>
                  <a:ext cx="575280" cy="69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2" name=""/>
              <p:cNvGrpSpPr/>
              <p:nvPr/>
            </p:nvGrpSpPr>
            <p:grpSpPr>
              <a:xfrm>
                <a:off x="4752720" y="2246760"/>
                <a:ext cx="576000" cy="695880"/>
                <a:chOff x="4752720" y="2246760"/>
                <a:chExt cx="576000" cy="69588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4826160" y="2246760"/>
                  <a:ext cx="429120" cy="69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en-US" sz="12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4752720" y="2246760"/>
                  <a:ext cx="576000" cy="69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909800" y="2942640"/>
                <a:ext cx="1690200" cy="565560"/>
                <a:chOff x="1909800" y="2942640"/>
                <a:chExt cx="1690200" cy="56556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982880" y="2942640"/>
                  <a:ext cx="154404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909800" y="2942640"/>
                  <a:ext cx="1690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8" name=""/>
              <p:cNvGrpSpPr/>
              <p:nvPr/>
            </p:nvGrpSpPr>
            <p:grpSpPr>
              <a:xfrm>
                <a:off x="3600360" y="2942640"/>
                <a:ext cx="576000" cy="565560"/>
                <a:chOff x="3600360" y="2942640"/>
                <a:chExt cx="576000" cy="56556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3673800" y="29426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3600360" y="294264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1" name=""/>
              <p:cNvGrpSpPr/>
              <p:nvPr/>
            </p:nvGrpSpPr>
            <p:grpSpPr>
              <a:xfrm>
                <a:off x="4176720" y="2942640"/>
                <a:ext cx="575280" cy="565560"/>
                <a:chOff x="4176720" y="2942640"/>
                <a:chExt cx="575280" cy="56556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4249800" y="29426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4176720" y="2942640"/>
                  <a:ext cx="5752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4" name=""/>
              <p:cNvGrpSpPr/>
              <p:nvPr/>
            </p:nvGrpSpPr>
            <p:grpSpPr>
              <a:xfrm>
                <a:off x="4752720" y="2942640"/>
                <a:ext cx="576000" cy="565560"/>
                <a:chOff x="4752720" y="2942640"/>
                <a:chExt cx="576000" cy="56556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826160" y="29426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4752720" y="294264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7" name=""/>
              <p:cNvGrpSpPr/>
              <p:nvPr/>
            </p:nvGrpSpPr>
            <p:grpSpPr>
              <a:xfrm>
                <a:off x="5329080" y="2942640"/>
                <a:ext cx="2437200" cy="565560"/>
                <a:chOff x="5329080" y="2942640"/>
                <a:chExt cx="2437200" cy="565560"/>
              </a:xfrm>
            </p:grpSpPr>
            <p:sp>
              <p:nvSpPr>
                <p:cNvPr id="1908" name=""/>
                <p:cNvSpPr/>
                <p:nvPr/>
              </p:nvSpPr>
              <p:spPr>
                <a:xfrm>
                  <a:off x="5402520" y="2942640"/>
                  <a:ext cx="22903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内部命令寄存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329080" y="2942640"/>
                  <a:ext cx="2437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0" name=""/>
              <p:cNvGrpSpPr/>
              <p:nvPr/>
            </p:nvGrpSpPr>
            <p:grpSpPr>
              <a:xfrm>
                <a:off x="1909800" y="3508560"/>
                <a:ext cx="1690200" cy="565920"/>
                <a:chOff x="1909800" y="3508560"/>
                <a:chExt cx="1690200" cy="56592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1982880" y="3508560"/>
                  <a:ext cx="154404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909800" y="3508560"/>
                  <a:ext cx="169020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3" name=""/>
              <p:cNvGrpSpPr/>
              <p:nvPr/>
            </p:nvGrpSpPr>
            <p:grpSpPr>
              <a:xfrm>
                <a:off x="3600360" y="3508560"/>
                <a:ext cx="576000" cy="565920"/>
                <a:chOff x="3600360" y="3508560"/>
                <a:chExt cx="576000" cy="565920"/>
              </a:xfrm>
            </p:grpSpPr>
            <p:sp>
              <p:nvSpPr>
                <p:cNvPr id="1914" name=""/>
                <p:cNvSpPr/>
                <p:nvPr/>
              </p:nvSpPr>
              <p:spPr>
                <a:xfrm>
                  <a:off x="3673800" y="3508560"/>
                  <a:ext cx="42912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3600360" y="3508560"/>
                  <a:ext cx="57600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6" name=""/>
              <p:cNvGrpSpPr/>
              <p:nvPr/>
            </p:nvGrpSpPr>
            <p:grpSpPr>
              <a:xfrm>
                <a:off x="4176720" y="3508560"/>
                <a:ext cx="575280" cy="565920"/>
                <a:chOff x="4176720" y="3508560"/>
                <a:chExt cx="575280" cy="565920"/>
              </a:xfrm>
            </p:grpSpPr>
            <p:sp>
              <p:nvSpPr>
                <p:cNvPr id="1917" name=""/>
                <p:cNvSpPr/>
                <p:nvPr/>
              </p:nvSpPr>
              <p:spPr>
                <a:xfrm>
                  <a:off x="4249800" y="3508560"/>
                  <a:ext cx="42912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176720" y="3508560"/>
                  <a:ext cx="57528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9" name=""/>
              <p:cNvGrpSpPr/>
              <p:nvPr/>
            </p:nvGrpSpPr>
            <p:grpSpPr>
              <a:xfrm>
                <a:off x="4752720" y="3508560"/>
                <a:ext cx="576000" cy="565920"/>
                <a:chOff x="4752720" y="3508560"/>
                <a:chExt cx="576000" cy="56592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4826160" y="3508560"/>
                  <a:ext cx="42912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752720" y="3508560"/>
                  <a:ext cx="57600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5329080" y="3508560"/>
                <a:ext cx="2437200" cy="565920"/>
                <a:chOff x="5329080" y="3508560"/>
                <a:chExt cx="2437200" cy="56592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5402520" y="3508560"/>
                  <a:ext cx="2290320" cy="56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通用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寄存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5329080" y="3508560"/>
                  <a:ext cx="2437200" cy="56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1909800" y="4074840"/>
                <a:ext cx="1690200" cy="565560"/>
                <a:chOff x="1909800" y="4074840"/>
                <a:chExt cx="1690200" cy="5655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1982880" y="4074840"/>
                  <a:ext cx="154404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909800" y="4074840"/>
                  <a:ext cx="1690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3600360" y="4074840"/>
                <a:ext cx="576000" cy="565560"/>
                <a:chOff x="3600360" y="4074840"/>
                <a:chExt cx="576000" cy="56556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3673800" y="40748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3600360" y="407484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4176720" y="4074840"/>
                <a:ext cx="575280" cy="565560"/>
                <a:chOff x="4176720" y="4074840"/>
                <a:chExt cx="575280" cy="5655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4249800" y="40748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176720" y="4074840"/>
                  <a:ext cx="5752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4752720" y="4074840"/>
                <a:ext cx="576000" cy="565560"/>
                <a:chOff x="4752720" y="4074840"/>
                <a:chExt cx="576000" cy="56556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4826160" y="407484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52720" y="407484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5329080" y="4074840"/>
                <a:ext cx="2437200" cy="565560"/>
                <a:chOff x="5329080" y="4074840"/>
                <a:chExt cx="2437200" cy="5655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5402520" y="4074840"/>
                  <a:ext cx="22903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通用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寄存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5329080" y="4074840"/>
                  <a:ext cx="2437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1909800" y="4640760"/>
                <a:ext cx="1690200" cy="565560"/>
                <a:chOff x="1909800" y="4640760"/>
                <a:chExt cx="1690200" cy="56556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1982880" y="4640760"/>
                  <a:ext cx="154404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909800" y="4640760"/>
                  <a:ext cx="1690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3" name=""/>
              <p:cNvGrpSpPr/>
              <p:nvPr/>
            </p:nvGrpSpPr>
            <p:grpSpPr>
              <a:xfrm>
                <a:off x="3600360" y="4640760"/>
                <a:ext cx="576000" cy="565560"/>
                <a:chOff x="3600360" y="4640760"/>
                <a:chExt cx="576000" cy="565560"/>
              </a:xfrm>
            </p:grpSpPr>
            <p:sp>
              <p:nvSpPr>
                <p:cNvPr id="1944" name=""/>
                <p:cNvSpPr/>
                <p:nvPr/>
              </p:nvSpPr>
              <p:spPr>
                <a:xfrm>
                  <a:off x="3673800" y="464076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3600360" y="464076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6" name=""/>
              <p:cNvGrpSpPr/>
              <p:nvPr/>
            </p:nvGrpSpPr>
            <p:grpSpPr>
              <a:xfrm>
                <a:off x="4176720" y="4640760"/>
                <a:ext cx="575280" cy="565560"/>
                <a:chOff x="4176720" y="4640760"/>
                <a:chExt cx="575280" cy="565560"/>
              </a:xfrm>
            </p:grpSpPr>
            <p:sp>
              <p:nvSpPr>
                <p:cNvPr id="1947" name=""/>
                <p:cNvSpPr/>
                <p:nvPr/>
              </p:nvSpPr>
              <p:spPr>
                <a:xfrm>
                  <a:off x="4249800" y="464076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176720" y="4640760"/>
                  <a:ext cx="5752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9" name=""/>
              <p:cNvGrpSpPr/>
              <p:nvPr/>
            </p:nvGrpSpPr>
            <p:grpSpPr>
              <a:xfrm>
                <a:off x="4752720" y="4640760"/>
                <a:ext cx="576000" cy="565560"/>
                <a:chOff x="4752720" y="4640760"/>
                <a:chExt cx="576000" cy="565560"/>
              </a:xfrm>
            </p:grpSpPr>
            <p:sp>
              <p:nvSpPr>
                <p:cNvPr id="1950" name=""/>
                <p:cNvSpPr/>
                <p:nvPr/>
              </p:nvSpPr>
              <p:spPr>
                <a:xfrm>
                  <a:off x="4826160" y="464076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52720" y="464076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2" name=""/>
              <p:cNvGrpSpPr/>
              <p:nvPr/>
            </p:nvGrpSpPr>
            <p:grpSpPr>
              <a:xfrm>
                <a:off x="5329080" y="4640760"/>
                <a:ext cx="2437200" cy="565560"/>
                <a:chOff x="5329080" y="4640760"/>
                <a:chExt cx="2437200" cy="56556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5402520" y="4640760"/>
                  <a:ext cx="22903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C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：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通用</a:t>
                  </a:r>
                  <a:r>
                    <a:rPr b="1" lang="en-US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或控制口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5329080" y="4640760"/>
                  <a:ext cx="2437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1909800" y="5206680"/>
                <a:ext cx="1690200" cy="565560"/>
                <a:chOff x="1909800" y="5206680"/>
                <a:chExt cx="1690200" cy="56556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1982880" y="5206680"/>
                  <a:ext cx="154404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909800" y="5206680"/>
                  <a:ext cx="1690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600360" y="5206680"/>
                <a:ext cx="576000" cy="565560"/>
                <a:chOff x="3600360" y="5206680"/>
                <a:chExt cx="576000" cy="56556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673800" y="520668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3600360" y="520668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4176720" y="5206680"/>
                <a:ext cx="575280" cy="565560"/>
                <a:chOff x="4176720" y="5206680"/>
                <a:chExt cx="575280" cy="56556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4249800" y="520668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176720" y="5206680"/>
                  <a:ext cx="5752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4" name=""/>
              <p:cNvGrpSpPr/>
              <p:nvPr/>
            </p:nvGrpSpPr>
            <p:grpSpPr>
              <a:xfrm>
                <a:off x="4752720" y="5206680"/>
                <a:ext cx="576000" cy="565560"/>
                <a:chOff x="4752720" y="5206680"/>
                <a:chExt cx="576000" cy="565560"/>
              </a:xfrm>
            </p:grpSpPr>
            <p:sp>
              <p:nvSpPr>
                <p:cNvPr id="1965" name=""/>
                <p:cNvSpPr/>
                <p:nvPr/>
              </p:nvSpPr>
              <p:spPr>
                <a:xfrm>
                  <a:off x="4826160" y="520668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752720" y="520668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7" name=""/>
              <p:cNvGrpSpPr/>
              <p:nvPr/>
            </p:nvGrpSpPr>
            <p:grpSpPr>
              <a:xfrm>
                <a:off x="5329080" y="5206680"/>
                <a:ext cx="2437200" cy="565560"/>
                <a:chOff x="5329080" y="5206680"/>
                <a:chExt cx="2437200" cy="56556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5402520" y="5206680"/>
                  <a:ext cx="22903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定时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/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计数器的低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8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寄存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5329080" y="5206680"/>
                  <a:ext cx="2437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0" name=""/>
              <p:cNvGrpSpPr/>
              <p:nvPr/>
            </p:nvGrpSpPr>
            <p:grpSpPr>
              <a:xfrm>
                <a:off x="1909800" y="5772600"/>
                <a:ext cx="1690200" cy="565560"/>
                <a:chOff x="1909800" y="5772600"/>
                <a:chExt cx="1690200" cy="565560"/>
              </a:xfrm>
            </p:grpSpPr>
            <p:sp>
              <p:nvSpPr>
                <p:cNvPr id="1971" name=""/>
                <p:cNvSpPr/>
                <p:nvPr/>
              </p:nvSpPr>
              <p:spPr>
                <a:xfrm>
                  <a:off x="1982880" y="5772600"/>
                  <a:ext cx="154404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×  ×  ×  ×  ×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1909800" y="5772600"/>
                  <a:ext cx="1690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3" name=""/>
              <p:cNvGrpSpPr/>
              <p:nvPr/>
            </p:nvGrpSpPr>
            <p:grpSpPr>
              <a:xfrm>
                <a:off x="3600360" y="5772600"/>
                <a:ext cx="576000" cy="565560"/>
                <a:chOff x="3600360" y="5772600"/>
                <a:chExt cx="576000" cy="565560"/>
              </a:xfrm>
            </p:grpSpPr>
            <p:sp>
              <p:nvSpPr>
                <p:cNvPr id="1974" name=""/>
                <p:cNvSpPr/>
                <p:nvPr/>
              </p:nvSpPr>
              <p:spPr>
                <a:xfrm>
                  <a:off x="3673800" y="577260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3600360" y="577260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4176720" y="5772600"/>
                <a:ext cx="575280" cy="565560"/>
                <a:chOff x="4176720" y="5772600"/>
                <a:chExt cx="575280" cy="5655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4249800" y="577260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176720" y="5772600"/>
                  <a:ext cx="57528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9" name=""/>
              <p:cNvGrpSpPr/>
              <p:nvPr/>
            </p:nvGrpSpPr>
            <p:grpSpPr>
              <a:xfrm>
                <a:off x="4752720" y="5772600"/>
                <a:ext cx="576000" cy="565560"/>
                <a:chOff x="4752720" y="5772600"/>
                <a:chExt cx="576000" cy="56556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4826160" y="5772600"/>
                  <a:ext cx="4291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752720" y="5772600"/>
                  <a:ext cx="5760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2" name=""/>
              <p:cNvGrpSpPr/>
              <p:nvPr/>
            </p:nvGrpSpPr>
            <p:grpSpPr>
              <a:xfrm>
                <a:off x="5329080" y="5772600"/>
                <a:ext cx="2437200" cy="565560"/>
                <a:chOff x="5329080" y="5772600"/>
                <a:chExt cx="2437200" cy="565560"/>
              </a:xfrm>
            </p:grpSpPr>
            <p:sp>
              <p:nvSpPr>
                <p:cNvPr id="1983" name=""/>
                <p:cNvSpPr/>
                <p:nvPr/>
              </p:nvSpPr>
              <p:spPr>
                <a:xfrm>
                  <a:off x="5402520" y="5772600"/>
                  <a:ext cx="2290320" cy="5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定时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/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计数器的高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8</a:t>
                  </a:r>
                  <a:r>
                    <a:rPr b="1" lang="zh-CN" sz="12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寄存器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5329080" y="5772600"/>
                  <a:ext cx="2437200" cy="56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905120" y="1676520"/>
              <a:ext cx="5866920" cy="4667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>
            <a:off x="457200" y="114300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8155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与单片机的连接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06216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88" name="扩展8155方案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019680" cy="3352680"/>
          </a:xfrm>
          <a:prstGeom prst="rect">
            <a:avLst/>
          </a:prstGeom>
          <a:ln w="0">
            <a:noFill/>
          </a:ln>
        </p:spPr>
      </p:pic>
      <p:sp>
        <p:nvSpPr>
          <p:cNvPr id="1989" name=""/>
          <p:cNvSpPr/>
          <p:nvPr/>
        </p:nvSpPr>
        <p:spPr>
          <a:xfrm>
            <a:off x="1828800" y="1371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6‑2  8155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的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RAM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和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I/O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口地址分配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90" name=""/>
          <p:cNvGrpSpPr/>
          <p:nvPr/>
        </p:nvGrpSpPr>
        <p:grpSpPr>
          <a:xfrm>
            <a:off x="4343400" y="1752480"/>
            <a:ext cx="4346640" cy="3962520"/>
            <a:chOff x="4343400" y="1752480"/>
            <a:chExt cx="4346640" cy="3962520"/>
          </a:xfrm>
        </p:grpSpPr>
        <p:grpSp>
          <p:nvGrpSpPr>
            <p:cNvPr id="1991" name=""/>
            <p:cNvGrpSpPr/>
            <p:nvPr/>
          </p:nvGrpSpPr>
          <p:grpSpPr>
            <a:xfrm>
              <a:off x="4347360" y="1756080"/>
              <a:ext cx="4338000" cy="3954240"/>
              <a:chOff x="4347360" y="1756080"/>
              <a:chExt cx="4338000" cy="3954240"/>
            </a:xfrm>
          </p:grpSpPr>
          <p:grpSp>
            <p:nvGrpSpPr>
              <p:cNvPr id="1992" name=""/>
              <p:cNvGrpSpPr/>
              <p:nvPr/>
            </p:nvGrpSpPr>
            <p:grpSpPr>
              <a:xfrm>
                <a:off x="4347360" y="1756080"/>
                <a:ext cx="762840" cy="504000"/>
                <a:chOff x="4347360" y="1756080"/>
                <a:chExt cx="762840" cy="50400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407120" y="1756080"/>
                  <a:ext cx="642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2.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4347360" y="1756080"/>
                  <a:ext cx="76284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5" name=""/>
              <p:cNvGrpSpPr/>
              <p:nvPr/>
            </p:nvGrpSpPr>
            <p:grpSpPr>
              <a:xfrm>
                <a:off x="5110200" y="1756080"/>
                <a:ext cx="762480" cy="504000"/>
                <a:chOff x="5110200" y="1756080"/>
                <a:chExt cx="762480" cy="50400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5169600" y="1756080"/>
                  <a:ext cx="642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P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2.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5110200" y="1756080"/>
                  <a:ext cx="76248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8" name=""/>
              <p:cNvGrpSpPr/>
              <p:nvPr/>
            </p:nvGrpSpPr>
            <p:grpSpPr>
              <a:xfrm>
                <a:off x="5873040" y="1756080"/>
                <a:ext cx="879840" cy="504000"/>
                <a:chOff x="5873040" y="1756080"/>
                <a:chExt cx="879840" cy="50400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5932800" y="1756080"/>
                  <a:ext cx="759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选择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873040" y="1756080"/>
                  <a:ext cx="87984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1" name=""/>
              <p:cNvGrpSpPr/>
              <p:nvPr/>
            </p:nvGrpSpPr>
            <p:grpSpPr>
              <a:xfrm>
                <a:off x="6752880" y="1756080"/>
                <a:ext cx="1932480" cy="504000"/>
                <a:chOff x="6752880" y="1756080"/>
                <a:chExt cx="1932480" cy="504000"/>
              </a:xfrm>
            </p:grpSpPr>
            <p:sp>
              <p:nvSpPr>
                <p:cNvPr id="2002" name=""/>
                <p:cNvSpPr/>
                <p:nvPr/>
              </p:nvSpPr>
              <p:spPr>
                <a:xfrm>
                  <a:off x="6812640" y="1756080"/>
                  <a:ext cx="181224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地   址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6752880" y="1756080"/>
                  <a:ext cx="193248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4" name=""/>
              <p:cNvGrpSpPr/>
              <p:nvPr/>
            </p:nvGrpSpPr>
            <p:grpSpPr>
              <a:xfrm>
                <a:off x="4347360" y="2260080"/>
                <a:ext cx="762840" cy="504000"/>
                <a:chOff x="4347360" y="2260080"/>
                <a:chExt cx="762840" cy="504000"/>
              </a:xfrm>
            </p:grpSpPr>
            <p:sp>
              <p:nvSpPr>
                <p:cNvPr id="2005" name=""/>
                <p:cNvSpPr/>
                <p:nvPr/>
              </p:nvSpPr>
              <p:spPr>
                <a:xfrm>
                  <a:off x="4407120" y="2260080"/>
                  <a:ext cx="642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347360" y="2260080"/>
                  <a:ext cx="76284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5110200" y="2260080"/>
                <a:ext cx="762480" cy="504000"/>
                <a:chOff x="5110200" y="2260080"/>
                <a:chExt cx="762480" cy="50400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5169600" y="2260080"/>
                  <a:ext cx="642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110200" y="2260080"/>
                  <a:ext cx="76248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0" name=""/>
              <p:cNvGrpSpPr/>
              <p:nvPr/>
            </p:nvGrpSpPr>
            <p:grpSpPr>
              <a:xfrm>
                <a:off x="5873040" y="2260080"/>
                <a:ext cx="879840" cy="504000"/>
                <a:chOff x="5873040" y="2260080"/>
                <a:chExt cx="879840" cy="504000"/>
              </a:xfrm>
            </p:grpSpPr>
            <p:sp>
              <p:nvSpPr>
                <p:cNvPr id="2011" name=""/>
                <p:cNvSpPr/>
                <p:nvPr/>
              </p:nvSpPr>
              <p:spPr>
                <a:xfrm>
                  <a:off x="5932800" y="2260080"/>
                  <a:ext cx="75960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RAM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873040" y="2260080"/>
                  <a:ext cx="87984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3" name=""/>
              <p:cNvGrpSpPr/>
              <p:nvPr/>
            </p:nvGrpSpPr>
            <p:grpSpPr>
              <a:xfrm>
                <a:off x="6752880" y="2260080"/>
                <a:ext cx="1932480" cy="504000"/>
                <a:chOff x="6752880" y="2260080"/>
                <a:chExt cx="1932480" cy="50400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6812640" y="2260080"/>
                  <a:ext cx="1812240" cy="50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700H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～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7FFH (256B)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752880" y="2260080"/>
                  <a:ext cx="1932480" cy="50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6" name=""/>
              <p:cNvGrpSpPr/>
              <p:nvPr/>
            </p:nvGrpSpPr>
            <p:grpSpPr>
              <a:xfrm>
                <a:off x="4347360" y="2764440"/>
                <a:ext cx="762840" cy="2945880"/>
                <a:chOff x="4347360" y="2764440"/>
                <a:chExt cx="762840" cy="294588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4407120" y="2764440"/>
                  <a:ext cx="642600" cy="294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347360" y="2764440"/>
                  <a:ext cx="762840" cy="294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9" name=""/>
              <p:cNvGrpSpPr/>
              <p:nvPr/>
            </p:nvGrpSpPr>
            <p:grpSpPr>
              <a:xfrm>
                <a:off x="5110200" y="2764440"/>
                <a:ext cx="762480" cy="2945880"/>
                <a:chOff x="5110200" y="2764440"/>
                <a:chExt cx="762480" cy="2945880"/>
              </a:xfrm>
            </p:grpSpPr>
            <p:sp>
              <p:nvSpPr>
                <p:cNvPr id="2020" name=""/>
                <p:cNvSpPr/>
                <p:nvPr/>
              </p:nvSpPr>
              <p:spPr>
                <a:xfrm>
                  <a:off x="5169600" y="2764440"/>
                  <a:ext cx="642600" cy="294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110200" y="2764440"/>
                  <a:ext cx="762480" cy="294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2" name=""/>
              <p:cNvGrpSpPr/>
              <p:nvPr/>
            </p:nvGrpSpPr>
            <p:grpSpPr>
              <a:xfrm>
                <a:off x="5873040" y="2764440"/>
                <a:ext cx="879840" cy="2945880"/>
                <a:chOff x="5873040" y="2764440"/>
                <a:chExt cx="879840" cy="2945880"/>
              </a:xfrm>
            </p:grpSpPr>
            <p:sp>
              <p:nvSpPr>
                <p:cNvPr id="2023" name=""/>
                <p:cNvSpPr/>
                <p:nvPr/>
              </p:nvSpPr>
              <p:spPr>
                <a:xfrm>
                  <a:off x="5932800" y="2764440"/>
                  <a:ext cx="759600" cy="294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口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873040" y="2764440"/>
                  <a:ext cx="879840" cy="294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6752880" y="2764440"/>
                <a:ext cx="1932480" cy="490680"/>
                <a:chOff x="6752880" y="2764440"/>
                <a:chExt cx="1932480" cy="49068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6812640" y="2764440"/>
                  <a:ext cx="18122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0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命令口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/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状态口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752880" y="2764440"/>
                  <a:ext cx="19324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8" name=""/>
              <p:cNvGrpSpPr/>
              <p:nvPr/>
            </p:nvGrpSpPr>
            <p:grpSpPr>
              <a:xfrm>
                <a:off x="6752880" y="3255120"/>
                <a:ext cx="1932480" cy="490680"/>
                <a:chOff x="6752880" y="3255120"/>
                <a:chExt cx="1932480" cy="49068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6812640" y="3255120"/>
                  <a:ext cx="18122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1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用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口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A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752880" y="3255120"/>
                  <a:ext cx="19324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1" name=""/>
              <p:cNvGrpSpPr/>
              <p:nvPr/>
            </p:nvGrpSpPr>
            <p:grpSpPr>
              <a:xfrm>
                <a:off x="6752880" y="3746160"/>
                <a:ext cx="1932480" cy="491040"/>
                <a:chOff x="6752880" y="3746160"/>
                <a:chExt cx="1932480" cy="491040"/>
              </a:xfrm>
            </p:grpSpPr>
            <p:sp>
              <p:nvSpPr>
                <p:cNvPr id="2032" name=""/>
                <p:cNvSpPr/>
                <p:nvPr/>
              </p:nvSpPr>
              <p:spPr>
                <a:xfrm>
                  <a:off x="6812640" y="3746160"/>
                  <a:ext cx="1812240" cy="49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2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通用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口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B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752880" y="3746160"/>
                  <a:ext cx="1932480" cy="49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4" name=""/>
              <p:cNvGrpSpPr/>
              <p:nvPr/>
            </p:nvGrpSpPr>
            <p:grpSpPr>
              <a:xfrm>
                <a:off x="6752880" y="4237560"/>
                <a:ext cx="1932480" cy="490680"/>
                <a:chOff x="6752880" y="4237560"/>
                <a:chExt cx="1932480" cy="490680"/>
              </a:xfrm>
            </p:grpSpPr>
            <p:sp>
              <p:nvSpPr>
                <p:cNvPr id="2035" name=""/>
                <p:cNvSpPr/>
                <p:nvPr/>
              </p:nvSpPr>
              <p:spPr>
                <a:xfrm>
                  <a:off x="6812640" y="4237560"/>
                  <a:ext cx="18122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3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口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C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752880" y="4237560"/>
                  <a:ext cx="19324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7" name=""/>
              <p:cNvGrpSpPr/>
              <p:nvPr/>
            </p:nvGrpSpPr>
            <p:grpSpPr>
              <a:xfrm>
                <a:off x="6752880" y="4728240"/>
                <a:ext cx="1932480" cy="490680"/>
                <a:chOff x="6752880" y="4728240"/>
                <a:chExt cx="1932480" cy="49068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6812640" y="4728240"/>
                  <a:ext cx="18122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4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计数值低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752880" y="4728240"/>
                  <a:ext cx="19324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6752880" y="5219280"/>
                <a:ext cx="1932480" cy="490680"/>
                <a:chOff x="6752880" y="5219280"/>
                <a:chExt cx="1932480" cy="49068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6812640" y="5219280"/>
                  <a:ext cx="18122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EF05H 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计数值高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和计数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6752880" y="5219280"/>
                  <a:ext cx="1932480" cy="49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3" name=""/>
            <p:cNvSpPr/>
            <p:nvPr/>
          </p:nvSpPr>
          <p:spPr>
            <a:xfrm>
              <a:off x="4343400" y="1752480"/>
              <a:ext cx="4346640" cy="3962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44" name=""/>
          <p:cNvSpPr/>
          <p:nvPr/>
        </p:nvSpPr>
        <p:spPr>
          <a:xfrm>
            <a:off x="-2286000" y="54100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6‑10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扩展一片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8155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的基本方案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/>
          <p:nvPr/>
        </p:nvSpPr>
        <p:spPr>
          <a:xfrm>
            <a:off x="457200" y="91440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4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8155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片内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RAM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的使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243080" y="-1225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OK</a:t>
            </a:r>
            <a:r>
              <a:rPr b="0" lang="en-US" sz="900" spc="-1" strike="noStrike">
                <a:solidFill>
                  <a:srgbClr val="5b5249"/>
                </a:solidFill>
                <a:latin typeface="Times New Roman"/>
              </a:rPr>
              <a:t>：     …                     ；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和为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，读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zh-CN" sz="900" spc="-1" strike="noStrike">
                <a:solidFill>
                  <a:srgbClr val="5b5249"/>
                </a:solidFill>
                <a:latin typeface="Times New Roman"/>
              </a:rPr>
              <a:t>写正确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62120" y="1371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）命令寄存器的用法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15238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6‑3  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C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口工作方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1447920" y="1828800"/>
            <a:ext cx="6216120" cy="4724280"/>
            <a:chOff x="1447920" y="1828800"/>
            <a:chExt cx="6216120" cy="4724280"/>
          </a:xfrm>
        </p:grpSpPr>
        <p:grpSp>
          <p:nvGrpSpPr>
            <p:cNvPr id="2050" name=""/>
            <p:cNvGrpSpPr/>
            <p:nvPr/>
          </p:nvGrpSpPr>
          <p:grpSpPr>
            <a:xfrm>
              <a:off x="1453320" y="1832400"/>
              <a:ext cx="6204240" cy="4716720"/>
              <a:chOff x="1453320" y="1832400"/>
              <a:chExt cx="6204240" cy="4716720"/>
            </a:xfrm>
          </p:grpSpPr>
          <p:grpSp>
            <p:nvGrpSpPr>
              <p:cNvPr id="2051" name=""/>
              <p:cNvGrpSpPr/>
              <p:nvPr/>
            </p:nvGrpSpPr>
            <p:grpSpPr>
              <a:xfrm>
                <a:off x="1453320" y="1832400"/>
                <a:ext cx="828720" cy="668520"/>
                <a:chOff x="1453320" y="1832400"/>
                <a:chExt cx="828720" cy="668520"/>
              </a:xfrm>
            </p:grpSpPr>
            <p:sp>
              <p:nvSpPr>
                <p:cNvPr id="2052" name=""/>
                <p:cNvSpPr/>
                <p:nvPr/>
              </p:nvSpPr>
              <p:spPr>
                <a:xfrm>
                  <a:off x="1532160" y="1832400"/>
                  <a:ext cx="67104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1453320" y="1832400"/>
                  <a:ext cx="8287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4" name=""/>
              <p:cNvGrpSpPr/>
              <p:nvPr/>
            </p:nvGrpSpPr>
            <p:grpSpPr>
              <a:xfrm>
                <a:off x="2282400" y="1832400"/>
                <a:ext cx="949680" cy="668520"/>
                <a:chOff x="2282400" y="1832400"/>
                <a:chExt cx="949680" cy="668520"/>
              </a:xfrm>
            </p:grpSpPr>
            <p:sp>
              <p:nvSpPr>
                <p:cNvPr id="2055" name=""/>
                <p:cNvSpPr/>
                <p:nvPr/>
              </p:nvSpPr>
              <p:spPr>
                <a:xfrm>
                  <a:off x="2361240" y="1832400"/>
                  <a:ext cx="79200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LTI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282400" y="1832400"/>
                  <a:ext cx="94968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7" name=""/>
              <p:cNvGrpSpPr/>
              <p:nvPr/>
            </p:nvGrpSpPr>
            <p:grpSpPr>
              <a:xfrm>
                <a:off x="3232800" y="1832400"/>
                <a:ext cx="950040" cy="668520"/>
                <a:chOff x="3232800" y="1832400"/>
                <a:chExt cx="950040" cy="668520"/>
              </a:xfrm>
            </p:grpSpPr>
            <p:sp>
              <p:nvSpPr>
                <p:cNvPr id="2058" name=""/>
                <p:cNvSpPr/>
                <p:nvPr/>
              </p:nvSpPr>
              <p:spPr>
                <a:xfrm>
                  <a:off x="3311640" y="1832400"/>
                  <a:ext cx="79200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LT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3232800" y="1832400"/>
                  <a:ext cx="95004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0" name=""/>
              <p:cNvGrpSpPr/>
              <p:nvPr/>
            </p:nvGrpSpPr>
            <p:grpSpPr>
              <a:xfrm>
                <a:off x="4183560" y="1832400"/>
                <a:ext cx="1609920" cy="668520"/>
                <a:chOff x="4183560" y="1832400"/>
                <a:chExt cx="1609920" cy="668520"/>
              </a:xfrm>
            </p:grpSpPr>
            <p:sp>
              <p:nvSpPr>
                <p:cNvPr id="2061" name=""/>
                <p:cNvSpPr/>
                <p:nvPr/>
              </p:nvSpPr>
              <p:spPr>
                <a:xfrm>
                  <a:off x="4262040" y="1832400"/>
                  <a:ext cx="145296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LT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183560" y="1832400"/>
                  <a:ext cx="16099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3" name=""/>
              <p:cNvGrpSpPr/>
              <p:nvPr/>
            </p:nvGrpSpPr>
            <p:grpSpPr>
              <a:xfrm>
                <a:off x="5793840" y="1832400"/>
                <a:ext cx="1863720" cy="668520"/>
                <a:chOff x="5793840" y="1832400"/>
                <a:chExt cx="1863720" cy="66852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5872680" y="1832400"/>
                  <a:ext cx="170568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LT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5793840" y="1832400"/>
                  <a:ext cx="18637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6" name=""/>
              <p:cNvGrpSpPr/>
              <p:nvPr/>
            </p:nvGrpSpPr>
            <p:grpSpPr>
              <a:xfrm>
                <a:off x="1453320" y="2500920"/>
                <a:ext cx="828720" cy="563400"/>
                <a:chOff x="1453320" y="2500920"/>
                <a:chExt cx="828720" cy="563400"/>
              </a:xfrm>
            </p:grpSpPr>
            <p:sp>
              <p:nvSpPr>
                <p:cNvPr id="2067" name=""/>
                <p:cNvSpPr/>
                <p:nvPr/>
              </p:nvSpPr>
              <p:spPr>
                <a:xfrm>
                  <a:off x="1532160" y="2500920"/>
                  <a:ext cx="67104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1453320" y="2500920"/>
                  <a:ext cx="828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9" name=""/>
              <p:cNvGrpSpPr/>
              <p:nvPr/>
            </p:nvGrpSpPr>
            <p:grpSpPr>
              <a:xfrm>
                <a:off x="2282400" y="2500920"/>
                <a:ext cx="949680" cy="3379680"/>
                <a:chOff x="2282400" y="2500920"/>
                <a:chExt cx="949680" cy="3379680"/>
              </a:xfrm>
            </p:grpSpPr>
            <p:sp>
              <p:nvSpPr>
                <p:cNvPr id="2070" name=""/>
                <p:cNvSpPr/>
                <p:nvPr/>
              </p:nvSpPr>
              <p:spPr>
                <a:xfrm>
                  <a:off x="2361240" y="2500920"/>
                  <a:ext cx="792000" cy="337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输入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2282400" y="2500920"/>
                  <a:ext cx="949680" cy="337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2" name=""/>
              <p:cNvGrpSpPr/>
              <p:nvPr/>
            </p:nvGrpSpPr>
            <p:grpSpPr>
              <a:xfrm>
                <a:off x="3232800" y="2500920"/>
                <a:ext cx="950040" cy="3379680"/>
                <a:chOff x="3232800" y="2500920"/>
                <a:chExt cx="950040" cy="3379680"/>
              </a:xfrm>
            </p:grpSpPr>
            <p:sp>
              <p:nvSpPr>
                <p:cNvPr id="2073" name=""/>
                <p:cNvSpPr/>
                <p:nvPr/>
              </p:nvSpPr>
              <p:spPr>
                <a:xfrm>
                  <a:off x="3311640" y="2500920"/>
                  <a:ext cx="792000" cy="337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输出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3232800" y="2500920"/>
                  <a:ext cx="950040" cy="337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5" name=""/>
              <p:cNvGrpSpPr/>
              <p:nvPr/>
            </p:nvGrpSpPr>
            <p:grpSpPr>
              <a:xfrm>
                <a:off x="4183560" y="2500920"/>
                <a:ext cx="1609920" cy="563400"/>
                <a:chOff x="4183560" y="2500920"/>
                <a:chExt cx="1609920" cy="56340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4262040" y="2500920"/>
                  <a:ext cx="145296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INTR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中断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183560" y="2500920"/>
                  <a:ext cx="16099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8" name=""/>
              <p:cNvGrpSpPr/>
              <p:nvPr/>
            </p:nvGrpSpPr>
            <p:grpSpPr>
              <a:xfrm>
                <a:off x="5793840" y="2500920"/>
                <a:ext cx="1863720" cy="563400"/>
                <a:chOff x="5793840" y="2500920"/>
                <a:chExt cx="1863720" cy="563400"/>
              </a:xfrm>
            </p:grpSpPr>
            <p:sp>
              <p:nvSpPr>
                <p:cNvPr id="2079" name=""/>
                <p:cNvSpPr/>
                <p:nvPr/>
              </p:nvSpPr>
              <p:spPr>
                <a:xfrm>
                  <a:off x="5872680" y="2500920"/>
                  <a:ext cx="170568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INTR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中断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5793840" y="2500920"/>
                  <a:ext cx="1863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1" name=""/>
              <p:cNvGrpSpPr/>
              <p:nvPr/>
            </p:nvGrpSpPr>
            <p:grpSpPr>
              <a:xfrm>
                <a:off x="1453320" y="3064320"/>
                <a:ext cx="828720" cy="563040"/>
                <a:chOff x="1453320" y="3064320"/>
                <a:chExt cx="828720" cy="563040"/>
              </a:xfrm>
            </p:grpSpPr>
            <p:sp>
              <p:nvSpPr>
                <p:cNvPr id="2082" name=""/>
                <p:cNvSpPr/>
                <p:nvPr/>
              </p:nvSpPr>
              <p:spPr>
                <a:xfrm>
                  <a:off x="1532160" y="3064320"/>
                  <a:ext cx="67104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1453320" y="3064320"/>
                  <a:ext cx="828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4" name=""/>
              <p:cNvGrpSpPr/>
              <p:nvPr/>
            </p:nvGrpSpPr>
            <p:grpSpPr>
              <a:xfrm>
                <a:off x="4183560" y="3064320"/>
                <a:ext cx="1609920" cy="563040"/>
                <a:chOff x="4183560" y="3064320"/>
                <a:chExt cx="1609920" cy="563040"/>
              </a:xfrm>
            </p:grpSpPr>
            <p:sp>
              <p:nvSpPr>
                <p:cNvPr id="2085" name=""/>
                <p:cNvSpPr/>
                <p:nvPr/>
              </p:nvSpPr>
              <p:spPr>
                <a:xfrm>
                  <a:off x="4262040" y="3064320"/>
                  <a:ext cx="145296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BF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缓冲器满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183560" y="3064320"/>
                  <a:ext cx="16099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7" name=""/>
              <p:cNvGrpSpPr/>
              <p:nvPr/>
            </p:nvGrpSpPr>
            <p:grpSpPr>
              <a:xfrm>
                <a:off x="5793840" y="3064320"/>
                <a:ext cx="1863720" cy="563040"/>
                <a:chOff x="5793840" y="3064320"/>
                <a:chExt cx="1863720" cy="563040"/>
              </a:xfrm>
            </p:grpSpPr>
            <p:sp>
              <p:nvSpPr>
                <p:cNvPr id="2088" name=""/>
                <p:cNvSpPr/>
                <p:nvPr/>
              </p:nvSpPr>
              <p:spPr>
                <a:xfrm>
                  <a:off x="5872680" y="3064320"/>
                  <a:ext cx="170568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BF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缓冲器满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793840" y="3064320"/>
                  <a:ext cx="1863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0" name=""/>
              <p:cNvGrpSpPr/>
              <p:nvPr/>
            </p:nvGrpSpPr>
            <p:grpSpPr>
              <a:xfrm>
                <a:off x="1453320" y="3627360"/>
                <a:ext cx="828720" cy="563040"/>
                <a:chOff x="1453320" y="3627360"/>
                <a:chExt cx="828720" cy="563040"/>
              </a:xfrm>
            </p:grpSpPr>
            <p:sp>
              <p:nvSpPr>
                <p:cNvPr id="2091" name=""/>
                <p:cNvSpPr/>
                <p:nvPr/>
              </p:nvSpPr>
              <p:spPr>
                <a:xfrm>
                  <a:off x="1532160" y="3627360"/>
                  <a:ext cx="67104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1453320" y="3627360"/>
                  <a:ext cx="828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3" name=""/>
              <p:cNvGrpSpPr/>
              <p:nvPr/>
            </p:nvGrpSpPr>
            <p:grpSpPr>
              <a:xfrm>
                <a:off x="4183560" y="3627360"/>
                <a:ext cx="1609920" cy="563040"/>
                <a:chOff x="4183560" y="3627360"/>
                <a:chExt cx="1609920" cy="563040"/>
              </a:xfrm>
            </p:grpSpPr>
            <p:sp>
              <p:nvSpPr>
                <p:cNvPr id="2094" name=""/>
                <p:cNvSpPr/>
                <p:nvPr/>
              </p:nvSpPr>
              <p:spPr>
                <a:xfrm>
                  <a:off x="4262040" y="3627360"/>
                  <a:ext cx="145296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STB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选通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4183560" y="3627360"/>
                  <a:ext cx="16099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6" name=""/>
              <p:cNvGrpSpPr/>
              <p:nvPr/>
            </p:nvGrpSpPr>
            <p:grpSpPr>
              <a:xfrm>
                <a:off x="5793840" y="3627360"/>
                <a:ext cx="1863720" cy="563040"/>
                <a:chOff x="5793840" y="3627360"/>
                <a:chExt cx="1863720" cy="563040"/>
              </a:xfrm>
            </p:grpSpPr>
            <p:sp>
              <p:nvSpPr>
                <p:cNvPr id="2097" name=""/>
                <p:cNvSpPr/>
                <p:nvPr/>
              </p:nvSpPr>
              <p:spPr>
                <a:xfrm>
                  <a:off x="5872680" y="3627360"/>
                  <a:ext cx="170568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STB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选通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793840" y="3627360"/>
                  <a:ext cx="1863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9" name=""/>
              <p:cNvGrpSpPr/>
              <p:nvPr/>
            </p:nvGrpSpPr>
            <p:grpSpPr>
              <a:xfrm>
                <a:off x="1453320" y="4190760"/>
                <a:ext cx="828720" cy="563400"/>
                <a:chOff x="1453320" y="4190760"/>
                <a:chExt cx="828720" cy="563400"/>
              </a:xfrm>
            </p:grpSpPr>
            <p:sp>
              <p:nvSpPr>
                <p:cNvPr id="2100" name=""/>
                <p:cNvSpPr/>
                <p:nvPr/>
              </p:nvSpPr>
              <p:spPr>
                <a:xfrm>
                  <a:off x="1532160" y="4190760"/>
                  <a:ext cx="67104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453320" y="4190760"/>
                  <a:ext cx="828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2" name=""/>
              <p:cNvGrpSpPr/>
              <p:nvPr/>
            </p:nvGrpSpPr>
            <p:grpSpPr>
              <a:xfrm>
                <a:off x="4183560" y="4190760"/>
                <a:ext cx="1609920" cy="1689840"/>
                <a:chOff x="4183560" y="4190760"/>
                <a:chExt cx="1609920" cy="1689840"/>
              </a:xfrm>
            </p:grpSpPr>
            <p:sp>
              <p:nvSpPr>
                <p:cNvPr id="2103" name=""/>
                <p:cNvSpPr/>
                <p:nvPr/>
              </p:nvSpPr>
              <p:spPr>
                <a:xfrm>
                  <a:off x="4262040" y="4190760"/>
                  <a:ext cx="1452960" cy="168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输出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4183560" y="4190760"/>
                  <a:ext cx="1609920" cy="168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5793840" y="4190760"/>
                <a:ext cx="1863720" cy="563400"/>
                <a:chOff x="5793840" y="4190760"/>
                <a:chExt cx="1863720" cy="56340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5872680" y="4190760"/>
                  <a:ext cx="170568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INTR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中断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793840" y="4190760"/>
                  <a:ext cx="1863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8" name=""/>
              <p:cNvGrpSpPr/>
              <p:nvPr/>
            </p:nvGrpSpPr>
            <p:grpSpPr>
              <a:xfrm>
                <a:off x="1453320" y="4754160"/>
                <a:ext cx="828720" cy="563040"/>
                <a:chOff x="1453320" y="4754160"/>
                <a:chExt cx="828720" cy="56304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1532160" y="4754160"/>
                  <a:ext cx="67104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453320" y="4754160"/>
                  <a:ext cx="828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1" name=""/>
              <p:cNvGrpSpPr/>
              <p:nvPr/>
            </p:nvGrpSpPr>
            <p:grpSpPr>
              <a:xfrm>
                <a:off x="5793840" y="4754160"/>
                <a:ext cx="1863720" cy="563040"/>
                <a:chOff x="5793840" y="4754160"/>
                <a:chExt cx="1863720" cy="56304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5872680" y="4754160"/>
                  <a:ext cx="1705680" cy="56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BF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缓冲器满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793840" y="4754160"/>
                  <a:ext cx="1863720" cy="56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4" name=""/>
              <p:cNvGrpSpPr/>
              <p:nvPr/>
            </p:nvGrpSpPr>
            <p:grpSpPr>
              <a:xfrm>
                <a:off x="1453320" y="5317200"/>
                <a:ext cx="828720" cy="563400"/>
                <a:chOff x="1453320" y="5317200"/>
                <a:chExt cx="828720" cy="56340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1532160" y="5317200"/>
                  <a:ext cx="67104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C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5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453320" y="5317200"/>
                  <a:ext cx="828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5793840" y="5317200"/>
                <a:ext cx="1863720" cy="563400"/>
                <a:chOff x="5793840" y="5317200"/>
                <a:chExt cx="1863720" cy="56340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5872680" y="5317200"/>
                  <a:ext cx="170568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STB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（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选通）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793840" y="5317200"/>
                  <a:ext cx="186372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0" name=""/>
              <p:cNvGrpSpPr/>
              <p:nvPr/>
            </p:nvGrpSpPr>
            <p:grpSpPr>
              <a:xfrm>
                <a:off x="1453320" y="5880600"/>
                <a:ext cx="828720" cy="668520"/>
                <a:chOff x="1453320" y="5880600"/>
                <a:chExt cx="828720" cy="668520"/>
              </a:xfrm>
            </p:grpSpPr>
            <p:sp>
              <p:nvSpPr>
                <p:cNvPr id="2121" name=""/>
                <p:cNvSpPr/>
                <p:nvPr/>
              </p:nvSpPr>
              <p:spPr>
                <a:xfrm>
                  <a:off x="1532160" y="5880600"/>
                  <a:ext cx="67104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备注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1453320" y="5880600"/>
                  <a:ext cx="8287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3" name=""/>
              <p:cNvGrpSpPr/>
              <p:nvPr/>
            </p:nvGrpSpPr>
            <p:grpSpPr>
              <a:xfrm>
                <a:off x="2282400" y="5880600"/>
                <a:ext cx="949680" cy="668520"/>
                <a:chOff x="2282400" y="5880600"/>
                <a:chExt cx="949680" cy="668520"/>
              </a:xfrm>
            </p:grpSpPr>
            <p:sp>
              <p:nvSpPr>
                <p:cNvPr id="2124" name=""/>
                <p:cNvSpPr/>
                <p:nvPr/>
              </p:nvSpPr>
              <p:spPr>
                <a:xfrm>
                  <a:off x="2361240" y="5880600"/>
                  <a:ext cx="79200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为基本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282400" y="5880600"/>
                  <a:ext cx="94968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6" name=""/>
              <p:cNvGrpSpPr/>
              <p:nvPr/>
            </p:nvGrpSpPr>
            <p:grpSpPr>
              <a:xfrm>
                <a:off x="3232800" y="5880600"/>
                <a:ext cx="950040" cy="668520"/>
                <a:chOff x="3232800" y="5880600"/>
                <a:chExt cx="950040" cy="668520"/>
              </a:xfrm>
            </p:grpSpPr>
            <p:sp>
              <p:nvSpPr>
                <p:cNvPr id="2127" name=""/>
                <p:cNvSpPr/>
                <p:nvPr/>
              </p:nvSpPr>
              <p:spPr>
                <a:xfrm>
                  <a:off x="3311640" y="5880600"/>
                  <a:ext cx="79200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为基本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3232800" y="5880600"/>
                  <a:ext cx="95004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9" name=""/>
              <p:cNvGrpSpPr/>
              <p:nvPr/>
            </p:nvGrpSpPr>
            <p:grpSpPr>
              <a:xfrm>
                <a:off x="4183560" y="5880600"/>
                <a:ext cx="1609920" cy="668520"/>
                <a:chOff x="4183560" y="5880600"/>
                <a:chExt cx="1609920" cy="668520"/>
              </a:xfrm>
            </p:grpSpPr>
            <p:sp>
              <p:nvSpPr>
                <p:cNvPr id="2130" name=""/>
                <p:cNvSpPr/>
                <p:nvPr/>
              </p:nvSpPr>
              <p:spPr>
                <a:xfrm>
                  <a:off x="4262040" y="5880600"/>
                  <a:ext cx="145296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为选通输入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为基本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I/O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4183560" y="5880600"/>
                  <a:ext cx="16099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2" name=""/>
              <p:cNvGrpSpPr/>
              <p:nvPr/>
            </p:nvGrpSpPr>
            <p:grpSpPr>
              <a:xfrm>
                <a:off x="5793840" y="5880600"/>
                <a:ext cx="1863720" cy="668520"/>
                <a:chOff x="5793840" y="5880600"/>
                <a:chExt cx="1863720" cy="668520"/>
              </a:xfrm>
            </p:grpSpPr>
            <p:sp>
              <p:nvSpPr>
                <p:cNvPr id="2133" name=""/>
                <p:cNvSpPr/>
                <p:nvPr/>
              </p:nvSpPr>
              <p:spPr>
                <a:xfrm>
                  <a:off x="5872680" y="5880600"/>
                  <a:ext cx="1705680" cy="66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A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、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B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口为选通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输入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/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输出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793840" y="5880600"/>
                  <a:ext cx="1863720" cy="66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35" name=""/>
            <p:cNvSpPr/>
            <p:nvPr/>
          </p:nvSpPr>
          <p:spPr>
            <a:xfrm>
              <a:off x="1447920" y="1828800"/>
              <a:ext cx="6216120" cy="4724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第 二  章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     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MCS-5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黑体"/>
              </a:rPr>
              <a:t>单片机的结构和原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3124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本章主要介绍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系列的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80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基本结构、工作原理、存储器结构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3200" spc="-1" strike="noStrike" baseline="-3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3200" spc="-1" strike="noStrike" baseline="-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3200" spc="-1" strike="noStrike" baseline="-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3200" spc="-1" strike="noStrike" baseline="-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四个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/O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口的基本工作原理和操作特点。单片机的各种工作方式、单片机的时序等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/>
          <p:nvPr/>
        </p:nvSpPr>
        <p:spPr>
          <a:xfrm>
            <a:off x="309564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37" name="8155方式4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2138" name=""/>
          <p:cNvSpPr/>
          <p:nvPr/>
        </p:nvSpPr>
        <p:spPr>
          <a:xfrm>
            <a:off x="0" y="52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6‑12  8155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4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逻辑结构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"/>
          <p:cNvSpPr/>
          <p:nvPr/>
        </p:nvSpPr>
        <p:spPr>
          <a:xfrm>
            <a:off x="3240" y="510228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33520" y="99072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6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作定时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计数器用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240" y="16383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608280" y="259236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08280" y="2583000"/>
            <a:ext cx="193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608280" y="2583000"/>
            <a:ext cx="193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608280" y="257328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608280" y="257328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608280" y="262080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608280" y="262080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0" y="1752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6-4  8155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定时器输出方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608280" y="259236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608280" y="2583000"/>
            <a:ext cx="193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608280" y="2583000"/>
            <a:ext cx="193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608280" y="257328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608280" y="257328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608280" y="262080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3608280" y="2620800"/>
            <a:ext cx="1933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57" name=""/>
          <p:cNvGrpSpPr/>
          <p:nvPr/>
        </p:nvGrpSpPr>
        <p:grpSpPr>
          <a:xfrm>
            <a:off x="2057400" y="2133720"/>
            <a:ext cx="5105160" cy="2977920"/>
            <a:chOff x="2057400" y="2133720"/>
            <a:chExt cx="5105160" cy="2977920"/>
          </a:xfrm>
        </p:grpSpPr>
        <p:grpSp>
          <p:nvGrpSpPr>
            <p:cNvPr id="2158" name=""/>
            <p:cNvGrpSpPr/>
            <p:nvPr/>
          </p:nvGrpSpPr>
          <p:grpSpPr>
            <a:xfrm>
              <a:off x="2062080" y="2138040"/>
              <a:ext cx="5095800" cy="2968200"/>
              <a:chOff x="2062080" y="2138040"/>
              <a:chExt cx="5095800" cy="2968200"/>
            </a:xfrm>
          </p:grpSpPr>
          <p:grpSp>
            <p:nvGrpSpPr>
              <p:cNvPr id="2159" name=""/>
              <p:cNvGrpSpPr/>
              <p:nvPr/>
            </p:nvGrpSpPr>
            <p:grpSpPr>
              <a:xfrm>
                <a:off x="2062080" y="2138040"/>
                <a:ext cx="946080" cy="593640"/>
                <a:chOff x="2062080" y="2138040"/>
                <a:chExt cx="946080" cy="593640"/>
              </a:xfrm>
            </p:grpSpPr>
            <p:sp>
              <p:nvSpPr>
                <p:cNvPr id="2160" name=""/>
                <p:cNvSpPr/>
                <p:nvPr/>
              </p:nvSpPr>
              <p:spPr>
                <a:xfrm>
                  <a:off x="2130480" y="2138040"/>
                  <a:ext cx="8096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M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2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  M</a:t>
                  </a:r>
                  <a:r>
                    <a:rPr b="1" lang="en-US" sz="1000" spc="-1" strike="noStrike" baseline="-30000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2062080" y="2138040"/>
                  <a:ext cx="94608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2" name=""/>
              <p:cNvGrpSpPr/>
              <p:nvPr/>
            </p:nvGrpSpPr>
            <p:grpSpPr>
              <a:xfrm>
                <a:off x="3008160" y="2138040"/>
                <a:ext cx="2079720" cy="593640"/>
                <a:chOff x="3008160" y="2138040"/>
                <a:chExt cx="2079720" cy="593640"/>
              </a:xfrm>
            </p:grpSpPr>
            <p:sp>
              <p:nvSpPr>
                <p:cNvPr id="2163" name=""/>
                <p:cNvSpPr/>
                <p:nvPr/>
              </p:nvSpPr>
              <p:spPr>
                <a:xfrm>
                  <a:off x="3076560" y="2138040"/>
                  <a:ext cx="19429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方      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008160" y="2138040"/>
                  <a:ext cx="20797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5" name=""/>
              <p:cNvGrpSpPr/>
              <p:nvPr/>
            </p:nvGrpSpPr>
            <p:grpSpPr>
              <a:xfrm>
                <a:off x="5087880" y="2138040"/>
                <a:ext cx="2070000" cy="593640"/>
                <a:chOff x="5087880" y="2138040"/>
                <a:chExt cx="2070000" cy="593640"/>
              </a:xfrm>
            </p:grpSpPr>
            <p:sp>
              <p:nvSpPr>
                <p:cNvPr id="2166" name=""/>
                <p:cNvSpPr/>
                <p:nvPr/>
              </p:nvSpPr>
              <p:spPr>
                <a:xfrm>
                  <a:off x="5156280" y="2138040"/>
                  <a:ext cx="1933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定时器输出方波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5087880" y="2138040"/>
                  <a:ext cx="2070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8" name=""/>
              <p:cNvGrpSpPr/>
              <p:nvPr/>
            </p:nvGrpSpPr>
            <p:grpSpPr>
              <a:xfrm>
                <a:off x="2062080" y="2731680"/>
                <a:ext cx="946080" cy="593280"/>
                <a:chOff x="2062080" y="2731680"/>
                <a:chExt cx="946080" cy="593280"/>
              </a:xfrm>
            </p:grpSpPr>
            <p:sp>
              <p:nvSpPr>
                <p:cNvPr id="2169" name=""/>
                <p:cNvSpPr/>
                <p:nvPr/>
              </p:nvSpPr>
              <p:spPr>
                <a:xfrm>
                  <a:off x="2130480" y="2731680"/>
                  <a:ext cx="80964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   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2062080" y="2731680"/>
                  <a:ext cx="94608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1" name=""/>
              <p:cNvGrpSpPr/>
              <p:nvPr/>
            </p:nvGrpSpPr>
            <p:grpSpPr>
              <a:xfrm>
                <a:off x="3008160" y="2731680"/>
                <a:ext cx="2079720" cy="593280"/>
                <a:chOff x="3008160" y="2731680"/>
                <a:chExt cx="2079720" cy="593280"/>
              </a:xfrm>
            </p:grpSpPr>
            <p:sp>
              <p:nvSpPr>
                <p:cNvPr id="2172" name=""/>
                <p:cNvSpPr/>
                <p:nvPr/>
              </p:nvSpPr>
              <p:spPr>
                <a:xfrm>
                  <a:off x="3076560" y="2731680"/>
                  <a:ext cx="194292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单个方波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3008160" y="2731680"/>
                  <a:ext cx="207972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4" name=""/>
              <p:cNvGrpSpPr/>
              <p:nvPr/>
            </p:nvGrpSpPr>
            <p:grpSpPr>
              <a:xfrm>
                <a:off x="5087880" y="2731680"/>
                <a:ext cx="2070000" cy="593280"/>
                <a:chOff x="5087880" y="2731680"/>
                <a:chExt cx="2070000" cy="5932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5156280" y="2731680"/>
                  <a:ext cx="193356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5087880" y="2731680"/>
                  <a:ext cx="207000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7" name=""/>
              <p:cNvGrpSpPr/>
              <p:nvPr/>
            </p:nvGrpSpPr>
            <p:grpSpPr>
              <a:xfrm>
                <a:off x="2062080" y="3325320"/>
                <a:ext cx="946080" cy="593280"/>
                <a:chOff x="2062080" y="3325320"/>
                <a:chExt cx="946080" cy="593280"/>
              </a:xfrm>
            </p:grpSpPr>
            <p:sp>
              <p:nvSpPr>
                <p:cNvPr id="2178" name=""/>
                <p:cNvSpPr/>
                <p:nvPr/>
              </p:nvSpPr>
              <p:spPr>
                <a:xfrm>
                  <a:off x="2130480" y="3325320"/>
                  <a:ext cx="80964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   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2062080" y="3325320"/>
                  <a:ext cx="94608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0" name=""/>
              <p:cNvGrpSpPr/>
              <p:nvPr/>
            </p:nvGrpSpPr>
            <p:grpSpPr>
              <a:xfrm>
                <a:off x="3008160" y="3325320"/>
                <a:ext cx="2079720" cy="593280"/>
                <a:chOff x="3008160" y="3325320"/>
                <a:chExt cx="2079720" cy="59328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3076560" y="3325320"/>
                  <a:ext cx="194292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连续方波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3008160" y="3325320"/>
                  <a:ext cx="207972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5087880" y="3325320"/>
                <a:ext cx="2070000" cy="593280"/>
                <a:chOff x="5087880" y="3325320"/>
                <a:chExt cx="2070000" cy="59328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5156280" y="3325320"/>
                  <a:ext cx="193356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087880" y="3325320"/>
                  <a:ext cx="207000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6" name=""/>
              <p:cNvGrpSpPr/>
              <p:nvPr/>
            </p:nvGrpSpPr>
            <p:grpSpPr>
              <a:xfrm>
                <a:off x="2062080" y="3918960"/>
                <a:ext cx="946080" cy="593280"/>
                <a:chOff x="2062080" y="3918960"/>
                <a:chExt cx="946080" cy="593280"/>
              </a:xfrm>
            </p:grpSpPr>
            <p:sp>
              <p:nvSpPr>
                <p:cNvPr id="2187" name=""/>
                <p:cNvSpPr/>
                <p:nvPr/>
              </p:nvSpPr>
              <p:spPr>
                <a:xfrm>
                  <a:off x="2130480" y="3918960"/>
                  <a:ext cx="80964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   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2062080" y="3918960"/>
                  <a:ext cx="94608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9" name=""/>
              <p:cNvGrpSpPr/>
              <p:nvPr/>
            </p:nvGrpSpPr>
            <p:grpSpPr>
              <a:xfrm>
                <a:off x="3008160" y="3918960"/>
                <a:ext cx="2079720" cy="593280"/>
                <a:chOff x="3008160" y="3918960"/>
                <a:chExt cx="2079720" cy="593280"/>
              </a:xfrm>
            </p:grpSpPr>
            <p:sp>
              <p:nvSpPr>
                <p:cNvPr id="2190" name=""/>
                <p:cNvSpPr/>
                <p:nvPr/>
              </p:nvSpPr>
              <p:spPr>
                <a:xfrm>
                  <a:off x="3076560" y="3918960"/>
                  <a:ext cx="194292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在终止计数时输出单个脉冲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3008160" y="3918960"/>
                  <a:ext cx="207972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2" name=""/>
              <p:cNvGrpSpPr/>
              <p:nvPr/>
            </p:nvGrpSpPr>
            <p:grpSpPr>
              <a:xfrm>
                <a:off x="5087880" y="3918960"/>
                <a:ext cx="2070000" cy="593280"/>
                <a:chOff x="5087880" y="3918960"/>
                <a:chExt cx="2070000" cy="593280"/>
              </a:xfrm>
            </p:grpSpPr>
            <p:sp>
              <p:nvSpPr>
                <p:cNvPr id="2193" name=""/>
                <p:cNvSpPr/>
                <p:nvPr/>
              </p:nvSpPr>
              <p:spPr>
                <a:xfrm>
                  <a:off x="5156280" y="3918960"/>
                  <a:ext cx="1933560" cy="59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5087880" y="3918960"/>
                  <a:ext cx="2070000" cy="59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5" name=""/>
              <p:cNvGrpSpPr/>
              <p:nvPr/>
            </p:nvGrpSpPr>
            <p:grpSpPr>
              <a:xfrm>
                <a:off x="2062080" y="4512600"/>
                <a:ext cx="946080" cy="593640"/>
                <a:chOff x="2062080" y="4512600"/>
                <a:chExt cx="946080" cy="593640"/>
              </a:xfrm>
            </p:grpSpPr>
            <p:sp>
              <p:nvSpPr>
                <p:cNvPr id="2196" name=""/>
                <p:cNvSpPr/>
                <p:nvPr/>
              </p:nvSpPr>
              <p:spPr>
                <a:xfrm>
                  <a:off x="2130480" y="4512600"/>
                  <a:ext cx="80964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   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2062080" y="4512600"/>
                  <a:ext cx="94608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8" name=""/>
              <p:cNvGrpSpPr/>
              <p:nvPr/>
            </p:nvGrpSpPr>
            <p:grpSpPr>
              <a:xfrm>
                <a:off x="3008160" y="4512600"/>
                <a:ext cx="2079720" cy="593640"/>
                <a:chOff x="3008160" y="4512600"/>
                <a:chExt cx="2079720" cy="593640"/>
              </a:xfrm>
            </p:grpSpPr>
            <p:sp>
              <p:nvSpPr>
                <p:cNvPr id="2199" name=""/>
                <p:cNvSpPr/>
                <p:nvPr/>
              </p:nvSpPr>
              <p:spPr>
                <a:xfrm>
                  <a:off x="3076560" y="4512600"/>
                  <a:ext cx="19429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连续脉冲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3008160" y="4512600"/>
                  <a:ext cx="20797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1" name=""/>
              <p:cNvGrpSpPr/>
              <p:nvPr/>
            </p:nvGrpSpPr>
            <p:grpSpPr>
              <a:xfrm>
                <a:off x="5087880" y="4512600"/>
                <a:ext cx="2070000" cy="593640"/>
                <a:chOff x="5087880" y="4512600"/>
                <a:chExt cx="2070000" cy="593640"/>
              </a:xfrm>
            </p:grpSpPr>
            <p:sp>
              <p:nvSpPr>
                <p:cNvPr id="2202" name=""/>
                <p:cNvSpPr/>
                <p:nvPr/>
              </p:nvSpPr>
              <p:spPr>
                <a:xfrm>
                  <a:off x="5156280" y="4512600"/>
                  <a:ext cx="1933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087880" y="4512600"/>
                  <a:ext cx="2070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4" name=""/>
            <p:cNvSpPr/>
            <p:nvPr/>
          </p:nvSpPr>
          <p:spPr>
            <a:xfrm>
              <a:off x="2057400" y="2133720"/>
              <a:ext cx="5105160" cy="2977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"/>
          <p:cNvSpPr/>
          <p:nvPr/>
        </p:nvSpPr>
        <p:spPr>
          <a:xfrm>
            <a:off x="0" y="914400"/>
            <a:ext cx="91440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9280" rIns="90000" tIns="35532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第七章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         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系统的串行接口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182880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1  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串行通讯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762120" y="2514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串行通讯的两种基本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762120" y="28954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异步传送方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04920" y="2209680"/>
            <a:ext cx="9144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10" name=""/>
          <p:cNvGrpSpPr/>
          <p:nvPr/>
        </p:nvGrpSpPr>
        <p:grpSpPr>
          <a:xfrm>
            <a:off x="990720" y="3276720"/>
            <a:ext cx="7543800" cy="837720"/>
            <a:chOff x="990720" y="3276720"/>
            <a:chExt cx="7543800" cy="837720"/>
          </a:xfrm>
        </p:grpSpPr>
        <p:sp>
          <p:nvSpPr>
            <p:cNvPr id="2211" name=""/>
            <p:cNvSpPr/>
            <p:nvPr/>
          </p:nvSpPr>
          <p:spPr>
            <a:xfrm>
              <a:off x="2146680" y="327672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353000" y="327672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146680" y="3695760"/>
              <a:ext cx="520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521160" y="3350520"/>
              <a:ext cx="2324160" cy="66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    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   </a:t>
              </a: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第</a:t>
              </a:r>
              <a:r>
                <a:rPr b="0" lang="en-US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n</a:t>
              </a: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个字符</a:t>
              </a: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(</a:t>
              </a: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一串行帧</a:t>
              </a:r>
              <a:r>
                <a:rPr b="0" lang="zh-CN" sz="1200" spc="-1" strike="noStrike">
                  <a:solidFill>
                    <a:srgbClr val="5b5249"/>
                  </a:solidFill>
                  <a:latin typeface="黑体"/>
                  <a:ea typeface="黑体"/>
                </a:rPr>
                <a:t>)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635840" y="3695760"/>
              <a:ext cx="4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7368120" y="3695760"/>
              <a:ext cx="4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848360" y="3350520"/>
              <a:ext cx="686160" cy="66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n+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990720" y="3350520"/>
              <a:ext cx="567000" cy="66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b5249"/>
                  </a:solidFill>
                  <a:latin typeface="Times New Roman"/>
                </a:rPr>
                <a:t>n-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19" name=""/>
          <p:cNvSpPr/>
          <p:nvPr/>
        </p:nvSpPr>
        <p:spPr>
          <a:xfrm>
            <a:off x="3240" y="22543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762120" y="4038480"/>
            <a:ext cx="8076600" cy="1828440"/>
            <a:chOff x="762120" y="4038480"/>
            <a:chExt cx="8076600" cy="1828440"/>
          </a:xfrm>
        </p:grpSpPr>
        <p:grpSp>
          <p:nvGrpSpPr>
            <p:cNvPr id="2221" name=""/>
            <p:cNvGrpSpPr/>
            <p:nvPr/>
          </p:nvGrpSpPr>
          <p:grpSpPr>
            <a:xfrm>
              <a:off x="767160" y="4043880"/>
              <a:ext cx="8065440" cy="1816200"/>
              <a:chOff x="767160" y="4043880"/>
              <a:chExt cx="8065440" cy="1816200"/>
            </a:xfrm>
          </p:grpSpPr>
          <p:grpSp>
            <p:nvGrpSpPr>
              <p:cNvPr id="2222" name=""/>
              <p:cNvGrpSpPr/>
              <p:nvPr/>
            </p:nvGrpSpPr>
            <p:grpSpPr>
              <a:xfrm>
                <a:off x="767160" y="4043880"/>
                <a:ext cx="505440" cy="907920"/>
                <a:chOff x="767160" y="4043880"/>
                <a:chExt cx="505440" cy="907920"/>
              </a:xfrm>
            </p:grpSpPr>
            <p:sp>
              <p:nvSpPr>
                <p:cNvPr id="2223" name=""/>
                <p:cNvSpPr/>
                <p:nvPr/>
              </p:nvSpPr>
              <p:spPr>
                <a:xfrm>
                  <a:off x="844920" y="4043880"/>
                  <a:ext cx="349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…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76716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5" name=""/>
              <p:cNvGrpSpPr/>
              <p:nvPr/>
            </p:nvGrpSpPr>
            <p:grpSpPr>
              <a:xfrm>
                <a:off x="1272960" y="4043880"/>
                <a:ext cx="505080" cy="907920"/>
                <a:chOff x="1272960" y="4043880"/>
                <a:chExt cx="505080" cy="907920"/>
              </a:xfrm>
            </p:grpSpPr>
            <p:sp>
              <p:nvSpPr>
                <p:cNvPr id="2226" name=""/>
                <p:cNvSpPr/>
                <p:nvPr/>
              </p:nvSpPr>
              <p:spPr>
                <a:xfrm>
                  <a:off x="1350360" y="4043880"/>
                  <a:ext cx="3502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1272960" y="4043880"/>
                  <a:ext cx="5050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8" name=""/>
              <p:cNvGrpSpPr/>
              <p:nvPr/>
            </p:nvGrpSpPr>
            <p:grpSpPr>
              <a:xfrm>
                <a:off x="1778760" y="4043880"/>
                <a:ext cx="350280" cy="907920"/>
                <a:chOff x="1778760" y="4043880"/>
                <a:chExt cx="350280" cy="907920"/>
              </a:xfrm>
            </p:grpSpPr>
            <p:sp>
              <p:nvSpPr>
                <p:cNvPr id="2229" name=""/>
                <p:cNvSpPr/>
                <p:nvPr/>
              </p:nvSpPr>
              <p:spPr>
                <a:xfrm>
                  <a:off x="1856520" y="4043880"/>
                  <a:ext cx="19476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1778760" y="4043880"/>
                  <a:ext cx="3502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1" name=""/>
              <p:cNvGrpSpPr/>
              <p:nvPr/>
            </p:nvGrpSpPr>
            <p:grpSpPr>
              <a:xfrm>
                <a:off x="2129760" y="4043880"/>
                <a:ext cx="505440" cy="907920"/>
                <a:chOff x="2129760" y="4043880"/>
                <a:chExt cx="505440" cy="907920"/>
              </a:xfrm>
            </p:grpSpPr>
            <p:sp>
              <p:nvSpPr>
                <p:cNvPr id="2232" name=""/>
                <p:cNvSpPr/>
                <p:nvPr/>
              </p:nvSpPr>
              <p:spPr>
                <a:xfrm>
                  <a:off x="2207520" y="4043880"/>
                  <a:ext cx="349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212976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4" name=""/>
              <p:cNvGrpSpPr/>
              <p:nvPr/>
            </p:nvGrpSpPr>
            <p:grpSpPr>
              <a:xfrm>
                <a:off x="2635920" y="4043880"/>
                <a:ext cx="349920" cy="907920"/>
                <a:chOff x="2635920" y="4043880"/>
                <a:chExt cx="349920" cy="907920"/>
              </a:xfrm>
            </p:grpSpPr>
            <p:sp>
              <p:nvSpPr>
                <p:cNvPr id="2235" name=""/>
                <p:cNvSpPr/>
                <p:nvPr/>
              </p:nvSpPr>
              <p:spPr>
                <a:xfrm>
                  <a:off x="2713320" y="4043880"/>
                  <a:ext cx="1951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2635920" y="4043880"/>
                  <a:ext cx="34992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7" name=""/>
              <p:cNvGrpSpPr/>
              <p:nvPr/>
            </p:nvGrpSpPr>
            <p:grpSpPr>
              <a:xfrm>
                <a:off x="2986200" y="4043880"/>
                <a:ext cx="505440" cy="907920"/>
                <a:chOff x="2986200" y="4043880"/>
                <a:chExt cx="505440" cy="907920"/>
              </a:xfrm>
            </p:grpSpPr>
            <p:sp>
              <p:nvSpPr>
                <p:cNvPr id="2238" name=""/>
                <p:cNvSpPr/>
                <p:nvPr/>
              </p:nvSpPr>
              <p:spPr>
                <a:xfrm>
                  <a:off x="3063960" y="4043880"/>
                  <a:ext cx="349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298620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0" name=""/>
              <p:cNvGrpSpPr/>
              <p:nvPr/>
            </p:nvGrpSpPr>
            <p:grpSpPr>
              <a:xfrm>
                <a:off x="3492360" y="4043880"/>
                <a:ext cx="505440" cy="907920"/>
                <a:chOff x="3492360" y="4043880"/>
                <a:chExt cx="505440" cy="907920"/>
              </a:xfrm>
            </p:grpSpPr>
            <p:sp>
              <p:nvSpPr>
                <p:cNvPr id="2241" name=""/>
                <p:cNvSpPr/>
                <p:nvPr/>
              </p:nvSpPr>
              <p:spPr>
                <a:xfrm>
                  <a:off x="3569400" y="4043880"/>
                  <a:ext cx="3502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349236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3" name=""/>
              <p:cNvGrpSpPr/>
              <p:nvPr/>
            </p:nvGrpSpPr>
            <p:grpSpPr>
              <a:xfrm>
                <a:off x="3998520" y="4043880"/>
                <a:ext cx="505080" cy="907920"/>
                <a:chOff x="3998520" y="4043880"/>
                <a:chExt cx="505080" cy="907920"/>
              </a:xfrm>
            </p:grpSpPr>
            <p:sp>
              <p:nvSpPr>
                <p:cNvPr id="2244" name=""/>
                <p:cNvSpPr/>
                <p:nvPr/>
              </p:nvSpPr>
              <p:spPr>
                <a:xfrm>
                  <a:off x="4075920" y="4043880"/>
                  <a:ext cx="3502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3998520" y="4043880"/>
                  <a:ext cx="5050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6" name=""/>
              <p:cNvGrpSpPr/>
              <p:nvPr/>
            </p:nvGrpSpPr>
            <p:grpSpPr>
              <a:xfrm>
                <a:off x="4504320" y="4043880"/>
                <a:ext cx="505440" cy="907920"/>
                <a:chOff x="4504320" y="4043880"/>
                <a:chExt cx="505440" cy="907920"/>
              </a:xfrm>
            </p:grpSpPr>
            <p:sp>
              <p:nvSpPr>
                <p:cNvPr id="2247" name=""/>
                <p:cNvSpPr/>
                <p:nvPr/>
              </p:nvSpPr>
              <p:spPr>
                <a:xfrm>
                  <a:off x="4582080" y="4043880"/>
                  <a:ext cx="349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450432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9" name=""/>
              <p:cNvGrpSpPr/>
              <p:nvPr/>
            </p:nvGrpSpPr>
            <p:grpSpPr>
              <a:xfrm>
                <a:off x="5010480" y="4043880"/>
                <a:ext cx="505440" cy="907920"/>
                <a:chOff x="5010480" y="4043880"/>
                <a:chExt cx="505440" cy="907920"/>
              </a:xfrm>
            </p:grpSpPr>
            <p:sp>
              <p:nvSpPr>
                <p:cNvPr id="2250" name=""/>
                <p:cNvSpPr/>
                <p:nvPr/>
              </p:nvSpPr>
              <p:spPr>
                <a:xfrm>
                  <a:off x="5088240" y="4043880"/>
                  <a:ext cx="349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5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010480" y="4043880"/>
                  <a:ext cx="5054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2" name=""/>
              <p:cNvGrpSpPr/>
              <p:nvPr/>
            </p:nvGrpSpPr>
            <p:grpSpPr>
              <a:xfrm>
                <a:off x="5516640" y="4043880"/>
                <a:ext cx="505080" cy="907920"/>
                <a:chOff x="5516640" y="4043880"/>
                <a:chExt cx="505080" cy="907920"/>
              </a:xfrm>
            </p:grpSpPr>
            <p:sp>
              <p:nvSpPr>
                <p:cNvPr id="2253" name=""/>
                <p:cNvSpPr/>
                <p:nvPr/>
              </p:nvSpPr>
              <p:spPr>
                <a:xfrm>
                  <a:off x="5594040" y="4043880"/>
                  <a:ext cx="3502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6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516640" y="4043880"/>
                  <a:ext cx="5050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5" name=""/>
              <p:cNvGrpSpPr/>
              <p:nvPr/>
            </p:nvGrpSpPr>
            <p:grpSpPr>
              <a:xfrm>
                <a:off x="6022440" y="4043880"/>
                <a:ext cx="350280" cy="907920"/>
                <a:chOff x="6022440" y="4043880"/>
                <a:chExt cx="350280" cy="90792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6100200" y="4043880"/>
                  <a:ext cx="19476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7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6022440" y="4043880"/>
                  <a:ext cx="3502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8" name=""/>
              <p:cNvGrpSpPr/>
              <p:nvPr/>
            </p:nvGrpSpPr>
            <p:grpSpPr>
              <a:xfrm>
                <a:off x="6373080" y="4043880"/>
                <a:ext cx="507240" cy="907920"/>
                <a:chOff x="6373080" y="4043880"/>
                <a:chExt cx="507240" cy="907920"/>
              </a:xfrm>
            </p:grpSpPr>
            <p:sp>
              <p:nvSpPr>
                <p:cNvPr id="2259" name=""/>
                <p:cNvSpPr/>
                <p:nvPr/>
              </p:nvSpPr>
              <p:spPr>
                <a:xfrm>
                  <a:off x="6450840" y="4043880"/>
                  <a:ext cx="3517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P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6373080" y="4043880"/>
                  <a:ext cx="507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1" name=""/>
              <p:cNvGrpSpPr/>
              <p:nvPr/>
            </p:nvGrpSpPr>
            <p:grpSpPr>
              <a:xfrm>
                <a:off x="6881040" y="4043880"/>
                <a:ext cx="507240" cy="907920"/>
                <a:chOff x="6881040" y="4043880"/>
                <a:chExt cx="507240" cy="907920"/>
              </a:xfrm>
            </p:grpSpPr>
            <p:sp>
              <p:nvSpPr>
                <p:cNvPr id="2262" name=""/>
                <p:cNvSpPr/>
                <p:nvPr/>
              </p:nvSpPr>
              <p:spPr>
                <a:xfrm>
                  <a:off x="6958800" y="4043880"/>
                  <a:ext cx="3520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6881040" y="4043880"/>
                  <a:ext cx="507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4" name=""/>
              <p:cNvGrpSpPr/>
              <p:nvPr/>
            </p:nvGrpSpPr>
            <p:grpSpPr>
              <a:xfrm>
                <a:off x="7388640" y="4043880"/>
                <a:ext cx="507240" cy="907920"/>
                <a:chOff x="7388640" y="4043880"/>
                <a:chExt cx="507240" cy="907920"/>
              </a:xfrm>
            </p:grpSpPr>
            <p:sp>
              <p:nvSpPr>
                <p:cNvPr id="2265" name=""/>
                <p:cNvSpPr/>
                <p:nvPr/>
              </p:nvSpPr>
              <p:spPr>
                <a:xfrm>
                  <a:off x="7466400" y="4043880"/>
                  <a:ext cx="3520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7388640" y="4043880"/>
                  <a:ext cx="507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7" name=""/>
              <p:cNvGrpSpPr/>
              <p:nvPr/>
            </p:nvGrpSpPr>
            <p:grpSpPr>
              <a:xfrm>
                <a:off x="7896600" y="4043880"/>
                <a:ext cx="507240" cy="907920"/>
                <a:chOff x="7896600" y="4043880"/>
                <a:chExt cx="507240" cy="907920"/>
              </a:xfrm>
            </p:grpSpPr>
            <p:sp>
              <p:nvSpPr>
                <p:cNvPr id="2268" name=""/>
                <p:cNvSpPr/>
                <p:nvPr/>
              </p:nvSpPr>
              <p:spPr>
                <a:xfrm>
                  <a:off x="7974360" y="4043880"/>
                  <a:ext cx="3520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D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7896600" y="4043880"/>
                  <a:ext cx="507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0" name=""/>
              <p:cNvGrpSpPr/>
              <p:nvPr/>
            </p:nvGrpSpPr>
            <p:grpSpPr>
              <a:xfrm>
                <a:off x="8404560" y="4043880"/>
                <a:ext cx="428040" cy="907920"/>
                <a:chOff x="8404560" y="4043880"/>
                <a:chExt cx="428040" cy="907920"/>
              </a:xfrm>
            </p:grpSpPr>
            <p:sp>
              <p:nvSpPr>
                <p:cNvPr id="2271" name=""/>
                <p:cNvSpPr/>
                <p:nvPr/>
              </p:nvSpPr>
              <p:spPr>
                <a:xfrm>
                  <a:off x="8482320" y="4043880"/>
                  <a:ext cx="2725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…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8404560" y="4043880"/>
                  <a:ext cx="4280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3" name=""/>
              <p:cNvGrpSpPr/>
              <p:nvPr/>
            </p:nvGrpSpPr>
            <p:grpSpPr>
              <a:xfrm>
                <a:off x="767160" y="4952160"/>
                <a:ext cx="1186920" cy="907920"/>
                <a:chOff x="767160" y="4952160"/>
                <a:chExt cx="1186920" cy="907920"/>
              </a:xfrm>
            </p:grpSpPr>
            <p:sp>
              <p:nvSpPr>
                <p:cNvPr id="2274" name=""/>
                <p:cNvSpPr/>
                <p:nvPr/>
              </p:nvSpPr>
              <p:spPr>
                <a:xfrm>
                  <a:off x="844920" y="4952160"/>
                  <a:ext cx="103176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767160" y="4952160"/>
                  <a:ext cx="118692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6" name=""/>
              <p:cNvGrpSpPr/>
              <p:nvPr/>
            </p:nvGrpSpPr>
            <p:grpSpPr>
              <a:xfrm>
                <a:off x="1954440" y="4952160"/>
                <a:ext cx="856080" cy="907920"/>
                <a:chOff x="1954440" y="4952160"/>
                <a:chExt cx="856080" cy="907920"/>
              </a:xfrm>
            </p:grpSpPr>
            <p:sp>
              <p:nvSpPr>
                <p:cNvPr id="2277" name=""/>
                <p:cNvSpPr/>
                <p:nvPr/>
              </p:nvSpPr>
              <p:spPr>
                <a:xfrm>
                  <a:off x="2032200" y="4952160"/>
                  <a:ext cx="700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起始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1954440" y="4952160"/>
                  <a:ext cx="85608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9" name=""/>
              <p:cNvGrpSpPr/>
              <p:nvPr/>
            </p:nvGrpSpPr>
            <p:grpSpPr>
              <a:xfrm>
                <a:off x="2810880" y="4952160"/>
                <a:ext cx="3386520" cy="907920"/>
                <a:chOff x="2810880" y="4952160"/>
                <a:chExt cx="3386520" cy="907920"/>
              </a:xfrm>
            </p:grpSpPr>
            <p:sp>
              <p:nvSpPr>
                <p:cNvPr id="2280" name=""/>
                <p:cNvSpPr/>
                <p:nvPr/>
              </p:nvSpPr>
              <p:spPr>
                <a:xfrm>
                  <a:off x="2888640" y="4952160"/>
                  <a:ext cx="323136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数    据    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2810880" y="4952160"/>
                  <a:ext cx="338652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2" name=""/>
              <p:cNvGrpSpPr/>
              <p:nvPr/>
            </p:nvGrpSpPr>
            <p:grpSpPr>
              <a:xfrm>
                <a:off x="6197760" y="4952160"/>
                <a:ext cx="2208240" cy="907920"/>
                <a:chOff x="6197760" y="4952160"/>
                <a:chExt cx="2208240" cy="907920"/>
              </a:xfrm>
            </p:grpSpPr>
            <p:sp>
              <p:nvSpPr>
                <p:cNvPr id="2283" name=""/>
                <p:cNvSpPr/>
                <p:nvPr/>
              </p:nvSpPr>
              <p:spPr>
                <a:xfrm>
                  <a:off x="6275520" y="4952160"/>
                  <a:ext cx="20527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校验位 停止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6197760" y="4952160"/>
                  <a:ext cx="2208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5" name=""/>
              <p:cNvGrpSpPr/>
              <p:nvPr/>
            </p:nvGrpSpPr>
            <p:grpSpPr>
              <a:xfrm>
                <a:off x="8406360" y="4952160"/>
                <a:ext cx="426240" cy="907920"/>
                <a:chOff x="8406360" y="4952160"/>
                <a:chExt cx="426240" cy="907920"/>
              </a:xfrm>
            </p:grpSpPr>
            <p:sp>
              <p:nvSpPr>
                <p:cNvPr id="2286" name=""/>
                <p:cNvSpPr/>
                <p:nvPr/>
              </p:nvSpPr>
              <p:spPr>
                <a:xfrm>
                  <a:off x="8484120" y="4952160"/>
                  <a:ext cx="2707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8406360" y="4952160"/>
                  <a:ext cx="4262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8" name=""/>
            <p:cNvSpPr/>
            <p:nvPr/>
          </p:nvSpPr>
          <p:spPr>
            <a:xfrm>
              <a:off x="762120" y="4038480"/>
              <a:ext cx="8076600" cy="1828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89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2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异步通讯的帧格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0" name=""/>
          <p:cNvGrpSpPr/>
          <p:nvPr/>
        </p:nvGrpSpPr>
        <p:grpSpPr>
          <a:xfrm>
            <a:off x="1600200" y="1143000"/>
            <a:ext cx="5932440" cy="1219320"/>
            <a:chOff x="1600200" y="1143000"/>
            <a:chExt cx="5932440" cy="1219320"/>
          </a:xfrm>
        </p:grpSpPr>
        <p:grpSp>
          <p:nvGrpSpPr>
            <p:cNvPr id="2291" name=""/>
            <p:cNvGrpSpPr/>
            <p:nvPr/>
          </p:nvGrpSpPr>
          <p:grpSpPr>
            <a:xfrm>
              <a:off x="1600200" y="1143000"/>
              <a:ext cx="1185840" cy="609480"/>
              <a:chOff x="1600200" y="1143000"/>
              <a:chExt cx="1185840" cy="609480"/>
            </a:xfrm>
          </p:grpSpPr>
          <p:sp>
            <p:nvSpPr>
              <p:cNvPr id="2292" name=""/>
              <p:cNvSpPr/>
              <p:nvPr/>
            </p:nvSpPr>
            <p:spPr>
              <a:xfrm>
                <a:off x="1668600" y="1143000"/>
                <a:ext cx="104904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开始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600200" y="1143000"/>
                <a:ext cx="11858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2786040" y="1143000"/>
              <a:ext cx="1185840" cy="609480"/>
              <a:chOff x="2786040" y="1143000"/>
              <a:chExt cx="1185840" cy="609480"/>
            </a:xfrm>
          </p:grpSpPr>
          <p:sp>
            <p:nvSpPr>
              <p:cNvPr id="2295" name=""/>
              <p:cNvSpPr/>
              <p:nvPr/>
            </p:nvSpPr>
            <p:spPr>
              <a:xfrm>
                <a:off x="2854440" y="1143000"/>
                <a:ext cx="10494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 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786040" y="1143000"/>
                <a:ext cx="11858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297" name=""/>
            <p:cNvGrpSpPr/>
            <p:nvPr/>
          </p:nvGrpSpPr>
          <p:grpSpPr>
            <a:xfrm>
              <a:off x="3971880" y="1143000"/>
              <a:ext cx="1185840" cy="609480"/>
              <a:chOff x="3971880" y="1143000"/>
              <a:chExt cx="1185840" cy="609480"/>
            </a:xfrm>
          </p:grpSpPr>
          <p:sp>
            <p:nvSpPr>
              <p:cNvPr id="2298" name=""/>
              <p:cNvSpPr/>
              <p:nvPr/>
            </p:nvSpPr>
            <p:spPr>
              <a:xfrm>
                <a:off x="4040280" y="1143000"/>
                <a:ext cx="10494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 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971880" y="1143000"/>
                <a:ext cx="11858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5157720" y="1143000"/>
              <a:ext cx="1187640" cy="609480"/>
              <a:chOff x="5157720" y="1143000"/>
              <a:chExt cx="1187640" cy="609480"/>
            </a:xfrm>
          </p:grpSpPr>
          <p:sp>
            <p:nvSpPr>
              <p:cNvPr id="2301" name=""/>
              <p:cNvSpPr/>
              <p:nvPr/>
            </p:nvSpPr>
            <p:spPr>
              <a:xfrm>
                <a:off x="5226120" y="1143000"/>
                <a:ext cx="105084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 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157720" y="1143000"/>
                <a:ext cx="118764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03" name=""/>
            <p:cNvGrpSpPr/>
            <p:nvPr/>
          </p:nvGrpSpPr>
          <p:grpSpPr>
            <a:xfrm>
              <a:off x="6345360" y="1143000"/>
              <a:ext cx="1187280" cy="609480"/>
              <a:chOff x="6345360" y="1143000"/>
              <a:chExt cx="1187280" cy="609480"/>
            </a:xfrm>
          </p:grpSpPr>
          <p:sp>
            <p:nvSpPr>
              <p:cNvPr id="2304" name=""/>
              <p:cNvSpPr/>
              <p:nvPr/>
            </p:nvSpPr>
            <p:spPr>
              <a:xfrm>
                <a:off x="6413400" y="1143000"/>
                <a:ext cx="10512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结束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345360" y="1143000"/>
                <a:ext cx="1187280" cy="609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06" name=""/>
            <p:cNvGrpSpPr/>
            <p:nvPr/>
          </p:nvGrpSpPr>
          <p:grpSpPr>
            <a:xfrm>
              <a:off x="1600200" y="1752480"/>
              <a:ext cx="1185840" cy="609840"/>
              <a:chOff x="1600200" y="1752480"/>
              <a:chExt cx="1185840" cy="609840"/>
            </a:xfrm>
          </p:grpSpPr>
          <p:sp>
            <p:nvSpPr>
              <p:cNvPr id="2307" name=""/>
              <p:cNvSpPr/>
              <p:nvPr/>
            </p:nvSpPr>
            <p:spPr>
              <a:xfrm>
                <a:off x="1668600" y="1752480"/>
                <a:ext cx="10490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同步字符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600200" y="1752480"/>
                <a:ext cx="1185840" cy="60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09" name=""/>
            <p:cNvGrpSpPr/>
            <p:nvPr/>
          </p:nvGrpSpPr>
          <p:grpSpPr>
            <a:xfrm>
              <a:off x="2786040" y="1752480"/>
              <a:ext cx="1185840" cy="609840"/>
              <a:chOff x="2786040" y="1752480"/>
              <a:chExt cx="1185840" cy="609840"/>
            </a:xfrm>
          </p:grpSpPr>
          <p:sp>
            <p:nvSpPr>
              <p:cNvPr id="2310" name=""/>
              <p:cNvSpPr/>
              <p:nvPr/>
            </p:nvSpPr>
            <p:spPr>
              <a:xfrm>
                <a:off x="2854440" y="1752480"/>
                <a:ext cx="10494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同步字符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786040" y="1752480"/>
                <a:ext cx="1185840" cy="60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"/>
            <p:cNvGrpSpPr/>
            <p:nvPr/>
          </p:nvGrpSpPr>
          <p:grpSpPr>
            <a:xfrm>
              <a:off x="3971880" y="1752480"/>
              <a:ext cx="1185840" cy="609840"/>
              <a:chOff x="3971880" y="1752480"/>
              <a:chExt cx="1185840" cy="609840"/>
            </a:xfrm>
          </p:grpSpPr>
          <p:sp>
            <p:nvSpPr>
              <p:cNvPr id="2313" name=""/>
              <p:cNvSpPr/>
              <p:nvPr/>
            </p:nvSpPr>
            <p:spPr>
              <a:xfrm>
                <a:off x="4040280" y="1752480"/>
                <a:ext cx="10494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数据段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971880" y="1752480"/>
                <a:ext cx="1185840" cy="60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15" name=""/>
            <p:cNvGrpSpPr/>
            <p:nvPr/>
          </p:nvGrpSpPr>
          <p:grpSpPr>
            <a:xfrm>
              <a:off x="5157720" y="1752480"/>
              <a:ext cx="1187640" cy="609840"/>
              <a:chOff x="5157720" y="1752480"/>
              <a:chExt cx="1187640" cy="609840"/>
            </a:xfrm>
          </p:grpSpPr>
          <p:sp>
            <p:nvSpPr>
              <p:cNvPr id="2316" name=""/>
              <p:cNvSpPr/>
              <p:nvPr/>
            </p:nvSpPr>
            <p:spPr>
              <a:xfrm>
                <a:off x="5226120" y="1752480"/>
                <a:ext cx="10508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CRC</a:t>
                </a: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字符</a:t>
                </a:r>
                <a:r>
                  <a:rPr b="1" lang="zh-CN" sz="1000" spc="-1" strike="noStrike" baseline="30000">
                    <a:solidFill>
                      <a:srgbClr val="5b5249"/>
                    </a:solidFill>
                    <a:latin typeface="Times New Roman"/>
                    <a:ea typeface="黑体"/>
                  </a:rPr>
                  <a:t>#</a:t>
                </a: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1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157720" y="1752480"/>
                <a:ext cx="1187640" cy="60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6345360" y="1752480"/>
              <a:ext cx="1187280" cy="609840"/>
              <a:chOff x="6345360" y="1752480"/>
              <a:chExt cx="1187280" cy="609840"/>
            </a:xfrm>
          </p:grpSpPr>
          <p:sp>
            <p:nvSpPr>
              <p:cNvPr id="2319" name=""/>
              <p:cNvSpPr/>
              <p:nvPr/>
            </p:nvSpPr>
            <p:spPr>
              <a:xfrm>
                <a:off x="6413400" y="1752480"/>
                <a:ext cx="1051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CRC</a:t>
                </a: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字符</a:t>
                </a:r>
                <a:r>
                  <a:rPr b="1" lang="zh-CN" sz="1000" spc="-1" strike="noStrike" baseline="30000">
                    <a:solidFill>
                      <a:srgbClr val="5b5249"/>
                    </a:solidFill>
                    <a:latin typeface="Times New Roman"/>
                    <a:ea typeface="黑体"/>
                  </a:rPr>
                  <a:t>#</a:t>
                </a:r>
                <a:r>
                  <a:rPr b="1" lang="zh-CN" sz="1000" spc="-1" strike="noStrike">
                    <a:solidFill>
                      <a:srgbClr val="5b5249"/>
                    </a:solidFill>
                    <a:latin typeface="Times New Roman"/>
                    <a:ea typeface="黑体"/>
                  </a:rPr>
                  <a:t>2</a:t>
                </a: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345360" y="1752480"/>
                <a:ext cx="1187280" cy="60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1" name=""/>
          <p:cNvSpPr/>
          <p:nvPr/>
        </p:nvSpPr>
        <p:spPr>
          <a:xfrm>
            <a:off x="0" y="2514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3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同步传送方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85800" y="289548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黑体"/>
                <a:ea typeface="黑体"/>
              </a:rPr>
              <a:t>二、 波特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766960" y="12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24" name="通讯的制式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3610080" cy="3124440"/>
          </a:xfrm>
          <a:prstGeom prst="rect">
            <a:avLst/>
          </a:prstGeom>
          <a:ln w="0">
            <a:noFill/>
          </a:ln>
        </p:spPr>
      </p:pic>
      <p:sp>
        <p:nvSpPr>
          <p:cNvPr id="2325" name=""/>
          <p:cNvSpPr/>
          <p:nvPr/>
        </p:nvSpPr>
        <p:spPr>
          <a:xfrm>
            <a:off x="3581280" y="6324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图 </a:t>
            </a: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7-4  </a:t>
            </a: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串行通讯的制式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/>
          <p:nvPr/>
        </p:nvSpPr>
        <p:spPr>
          <a:xfrm>
            <a:off x="60948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数据传送的方向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533520" y="152388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单工制式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(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Simplex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33520" y="198108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半双工制式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(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Half Duplex)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533520" y="243828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全双工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(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Full-duplex)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制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0" y="2819520"/>
            <a:ext cx="914400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2  </a:t>
            </a:r>
            <a:r>
              <a:rPr b="0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2800" spc="-1" strike="noStrike">
                <a:solidFill>
                  <a:srgbClr val="5b5249"/>
                </a:solidFill>
                <a:latin typeface="黑体"/>
                <a:ea typeface="黑体"/>
              </a:rPr>
              <a:t>单片机的串行接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838080" y="35053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串行口结构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69064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33" name="串行口结构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4495680" cy="2009880"/>
          </a:xfrm>
          <a:prstGeom prst="rect">
            <a:avLst/>
          </a:prstGeom>
          <a:ln w="0">
            <a:noFill/>
          </a:ln>
        </p:spPr>
      </p:pic>
      <p:sp>
        <p:nvSpPr>
          <p:cNvPr id="2334" name=""/>
          <p:cNvSpPr/>
          <p:nvPr/>
        </p:nvSpPr>
        <p:spPr>
          <a:xfrm>
            <a:off x="22860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黑体"/>
                <a:ea typeface="黑体"/>
              </a:rPr>
              <a:t>图 </a:t>
            </a:r>
            <a:r>
              <a:rPr b="0" lang="zh-CN" sz="1800" spc="-1" strike="noStrike">
                <a:solidFill>
                  <a:srgbClr val="5b5249"/>
                </a:solidFill>
                <a:latin typeface="黑体"/>
                <a:ea typeface="黑体"/>
              </a:rPr>
              <a:t>7-5  </a:t>
            </a:r>
            <a:r>
              <a:rPr b="0" lang="en-US" sz="18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1800" spc="-1" strike="noStrike">
                <a:solidFill>
                  <a:srgbClr val="5b5249"/>
                </a:solidFill>
                <a:latin typeface="黑体"/>
                <a:ea typeface="黑体"/>
              </a:rPr>
              <a:t>串行口组成示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45720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．串行口数据缓冲器</a:t>
            </a:r>
            <a:r>
              <a:rPr b="0" lang="en-US" sz="2000" spc="-1" strike="noStrike">
                <a:solidFill>
                  <a:srgbClr val="5b5249"/>
                </a:solidFill>
                <a:latin typeface="宋体"/>
              </a:rPr>
              <a:t>SBUF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28600" y="167652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   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串行口控制寄存器</a:t>
            </a:r>
            <a:r>
              <a:rPr b="0" lang="en-US" sz="2000" spc="-1" strike="noStrike">
                <a:solidFill>
                  <a:srgbClr val="5b5249"/>
                </a:solidFill>
                <a:latin typeface="宋体"/>
              </a:rPr>
              <a:t>SC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7" name=""/>
          <p:cNvGrpSpPr/>
          <p:nvPr/>
        </p:nvGrpSpPr>
        <p:grpSpPr>
          <a:xfrm>
            <a:off x="2819520" y="3276720"/>
            <a:ext cx="3047760" cy="2971440"/>
            <a:chOff x="2819520" y="3276720"/>
            <a:chExt cx="3047760" cy="2971440"/>
          </a:xfrm>
        </p:grpSpPr>
        <p:grpSp>
          <p:nvGrpSpPr>
            <p:cNvPr id="2338" name=""/>
            <p:cNvGrpSpPr/>
            <p:nvPr/>
          </p:nvGrpSpPr>
          <p:grpSpPr>
            <a:xfrm>
              <a:off x="3701520" y="3276720"/>
              <a:ext cx="2165760" cy="2971440"/>
              <a:chOff x="3701520" y="3276720"/>
              <a:chExt cx="2165760" cy="2971440"/>
            </a:xfrm>
          </p:grpSpPr>
          <p:sp>
            <p:nvSpPr>
              <p:cNvPr id="2339" name=""/>
              <p:cNvSpPr/>
              <p:nvPr/>
            </p:nvSpPr>
            <p:spPr>
              <a:xfrm>
                <a:off x="5155920" y="3286800"/>
                <a:ext cx="0" cy="94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V="1">
                <a:off x="5155920" y="4232160"/>
                <a:ext cx="7038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811040" y="3284280"/>
                <a:ext cx="0" cy="133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4811040" y="4614480"/>
                <a:ext cx="10562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540760" y="3286800"/>
                <a:ext cx="0" cy="6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545800" y="3895560"/>
                <a:ext cx="3200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441680" y="3277800"/>
                <a:ext cx="0" cy="172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4446000" y="4992480"/>
                <a:ext cx="1414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076280" y="3276720"/>
                <a:ext cx="0" cy="226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071240" y="5541120"/>
                <a:ext cx="17960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701520" y="3290400"/>
                <a:ext cx="0" cy="29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703680" y="6237000"/>
                <a:ext cx="215712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351" name=""/>
            <p:cNvSpPr/>
            <p:nvPr/>
          </p:nvSpPr>
          <p:spPr>
            <a:xfrm rot="5400000">
              <a:off x="3008160" y="3301920"/>
              <a:ext cx="340200" cy="574920"/>
            </a:xfrm>
            <a:custGeom>
              <a:avLst/>
              <a:gdLst>
                <a:gd name="textAreaLeft" fmla="*/ 0 w 340200"/>
                <a:gd name="textAreaRight" fmla="*/ 122760 w 3402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91"/>
                  </a:lnTo>
                  <a:cubicBezTo>
                    <a:pt x="10800" y="10391"/>
                    <a:pt x="16200" y="11291"/>
                    <a:pt x="21600" y="11291"/>
                  </a:cubicBezTo>
                  <a:cubicBezTo>
                    <a:pt x="16200" y="11291"/>
                    <a:pt x="10800" y="12191"/>
                    <a:pt x="10800" y="1309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819520" y="3767040"/>
              <a:ext cx="78048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见表格</a:t>
              </a: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7-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53" name=""/>
          <p:cNvSpPr/>
          <p:nvPr/>
        </p:nvSpPr>
        <p:spPr>
          <a:xfrm>
            <a:off x="4394160" y="-611280"/>
            <a:ext cx="37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5249"/>
                </a:solidFill>
                <a:latin typeface="Times New Roman"/>
              </a:rPr>
              <a:t>SM0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2133720" y="2057400"/>
            <a:ext cx="3752640" cy="1219320"/>
            <a:chOff x="2133720" y="2057400"/>
            <a:chExt cx="3752640" cy="1219320"/>
          </a:xfrm>
        </p:grpSpPr>
        <p:grpSp>
          <p:nvGrpSpPr>
            <p:cNvPr id="2355" name=""/>
            <p:cNvGrpSpPr/>
            <p:nvPr/>
          </p:nvGrpSpPr>
          <p:grpSpPr>
            <a:xfrm>
              <a:off x="2138400" y="2061000"/>
              <a:ext cx="3743280" cy="1211400"/>
              <a:chOff x="2138400" y="2061000"/>
              <a:chExt cx="3743280" cy="1211400"/>
            </a:xfrm>
          </p:grpSpPr>
          <p:grpSp>
            <p:nvGrpSpPr>
              <p:cNvPr id="2356" name=""/>
              <p:cNvGrpSpPr/>
              <p:nvPr/>
            </p:nvGrpSpPr>
            <p:grpSpPr>
              <a:xfrm>
                <a:off x="2138400" y="2061000"/>
                <a:ext cx="492120" cy="605880"/>
                <a:chOff x="2138400" y="2061000"/>
                <a:chExt cx="492120" cy="605880"/>
              </a:xfrm>
            </p:grpSpPr>
            <p:sp>
              <p:nvSpPr>
                <p:cNvPr id="2357" name=""/>
                <p:cNvSpPr/>
                <p:nvPr/>
              </p:nvSpPr>
              <p:spPr>
                <a:xfrm>
                  <a:off x="2156040" y="2061000"/>
                  <a:ext cx="4572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地址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138400" y="2061000"/>
                  <a:ext cx="4921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9" name=""/>
              <p:cNvGrpSpPr/>
              <p:nvPr/>
            </p:nvGrpSpPr>
            <p:grpSpPr>
              <a:xfrm>
                <a:off x="2630520" y="2061000"/>
                <a:ext cx="406440" cy="605880"/>
                <a:chOff x="2630520" y="2061000"/>
                <a:chExt cx="406440" cy="605880"/>
              </a:xfrm>
            </p:grpSpPr>
            <p:sp>
              <p:nvSpPr>
                <p:cNvPr id="2360" name=""/>
                <p:cNvSpPr/>
                <p:nvPr/>
              </p:nvSpPr>
              <p:spPr>
                <a:xfrm>
                  <a:off x="2648160" y="2061000"/>
                  <a:ext cx="37116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263052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2" name=""/>
              <p:cNvGrpSpPr/>
              <p:nvPr/>
            </p:nvGrpSpPr>
            <p:grpSpPr>
              <a:xfrm>
                <a:off x="3036960" y="2061000"/>
                <a:ext cx="406440" cy="605880"/>
                <a:chOff x="3036960" y="2061000"/>
                <a:chExt cx="406440" cy="60588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305424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E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03696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5" name=""/>
              <p:cNvGrpSpPr/>
              <p:nvPr/>
            </p:nvGrpSpPr>
            <p:grpSpPr>
              <a:xfrm>
                <a:off x="3443400" y="2061000"/>
                <a:ext cx="406440" cy="605880"/>
                <a:chOff x="3443400" y="2061000"/>
                <a:chExt cx="406440" cy="60588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346068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344340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8" name=""/>
              <p:cNvGrpSpPr/>
              <p:nvPr/>
            </p:nvGrpSpPr>
            <p:grpSpPr>
              <a:xfrm>
                <a:off x="3849840" y="2061000"/>
                <a:ext cx="406440" cy="605880"/>
                <a:chOff x="3849840" y="2061000"/>
                <a:chExt cx="406440" cy="60588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386712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C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84984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4256280" y="2061000"/>
                <a:ext cx="406080" cy="605880"/>
                <a:chOff x="4256280" y="2061000"/>
                <a:chExt cx="406080" cy="605880"/>
              </a:xfrm>
            </p:grpSpPr>
            <p:sp>
              <p:nvSpPr>
                <p:cNvPr id="2372" name=""/>
                <p:cNvSpPr/>
                <p:nvPr/>
              </p:nvSpPr>
              <p:spPr>
                <a:xfrm>
                  <a:off x="427356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B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4256280" y="2061000"/>
                  <a:ext cx="4060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4" name=""/>
              <p:cNvGrpSpPr/>
              <p:nvPr/>
            </p:nvGrpSpPr>
            <p:grpSpPr>
              <a:xfrm>
                <a:off x="4662360" y="2061000"/>
                <a:ext cx="406440" cy="605880"/>
                <a:chOff x="4662360" y="2061000"/>
                <a:chExt cx="406440" cy="605880"/>
              </a:xfrm>
            </p:grpSpPr>
            <p:sp>
              <p:nvSpPr>
                <p:cNvPr id="2375" name=""/>
                <p:cNvSpPr/>
                <p:nvPr/>
              </p:nvSpPr>
              <p:spPr>
                <a:xfrm>
                  <a:off x="468000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A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466236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7" name=""/>
              <p:cNvGrpSpPr/>
              <p:nvPr/>
            </p:nvGrpSpPr>
            <p:grpSpPr>
              <a:xfrm>
                <a:off x="5068800" y="2061000"/>
                <a:ext cx="406440" cy="605880"/>
                <a:chOff x="5068800" y="2061000"/>
                <a:chExt cx="406440" cy="605880"/>
              </a:xfrm>
            </p:grpSpPr>
            <p:sp>
              <p:nvSpPr>
                <p:cNvPr id="2378" name=""/>
                <p:cNvSpPr/>
                <p:nvPr/>
              </p:nvSpPr>
              <p:spPr>
                <a:xfrm>
                  <a:off x="508644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9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06880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0" name=""/>
              <p:cNvGrpSpPr/>
              <p:nvPr/>
            </p:nvGrpSpPr>
            <p:grpSpPr>
              <a:xfrm>
                <a:off x="5475240" y="2061000"/>
                <a:ext cx="406440" cy="605880"/>
                <a:chOff x="5475240" y="2061000"/>
                <a:chExt cx="406440" cy="605880"/>
              </a:xfrm>
            </p:grpSpPr>
            <p:sp>
              <p:nvSpPr>
                <p:cNvPr id="2381" name=""/>
                <p:cNvSpPr/>
                <p:nvPr/>
              </p:nvSpPr>
              <p:spPr>
                <a:xfrm>
                  <a:off x="5492880" y="2061000"/>
                  <a:ext cx="3715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8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475240" y="2061000"/>
                  <a:ext cx="4064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3" name=""/>
              <p:cNvGrpSpPr/>
              <p:nvPr/>
            </p:nvGrpSpPr>
            <p:grpSpPr>
              <a:xfrm>
                <a:off x="2138400" y="2666880"/>
                <a:ext cx="492120" cy="605520"/>
                <a:chOff x="2138400" y="2666880"/>
                <a:chExt cx="492120" cy="605520"/>
              </a:xfrm>
            </p:grpSpPr>
            <p:sp>
              <p:nvSpPr>
                <p:cNvPr id="2384" name=""/>
                <p:cNvSpPr/>
                <p:nvPr/>
              </p:nvSpPr>
              <p:spPr>
                <a:xfrm>
                  <a:off x="2156040" y="2666880"/>
                  <a:ext cx="45720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CON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2138400" y="2666880"/>
                  <a:ext cx="49212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2630520" y="2666880"/>
                <a:ext cx="406440" cy="605520"/>
                <a:chOff x="2630520" y="2666880"/>
                <a:chExt cx="406440" cy="605520"/>
              </a:xfrm>
            </p:grpSpPr>
            <p:sp>
              <p:nvSpPr>
                <p:cNvPr id="2387" name=""/>
                <p:cNvSpPr/>
                <p:nvPr/>
              </p:nvSpPr>
              <p:spPr>
                <a:xfrm>
                  <a:off x="2648160" y="2666880"/>
                  <a:ext cx="37116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263052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9" name=""/>
              <p:cNvGrpSpPr/>
              <p:nvPr/>
            </p:nvGrpSpPr>
            <p:grpSpPr>
              <a:xfrm>
                <a:off x="3036960" y="2666880"/>
                <a:ext cx="406440" cy="605520"/>
                <a:chOff x="3036960" y="2666880"/>
                <a:chExt cx="406440" cy="605520"/>
              </a:xfrm>
            </p:grpSpPr>
            <p:sp>
              <p:nvSpPr>
                <p:cNvPr id="2390" name=""/>
                <p:cNvSpPr/>
                <p:nvPr/>
              </p:nvSpPr>
              <p:spPr>
                <a:xfrm>
                  <a:off x="305424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303696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2" name=""/>
              <p:cNvGrpSpPr/>
              <p:nvPr/>
            </p:nvGrpSpPr>
            <p:grpSpPr>
              <a:xfrm>
                <a:off x="3443400" y="2666880"/>
                <a:ext cx="406440" cy="605520"/>
                <a:chOff x="3443400" y="2666880"/>
                <a:chExt cx="406440" cy="605520"/>
              </a:xfrm>
            </p:grpSpPr>
            <p:sp>
              <p:nvSpPr>
                <p:cNvPr id="2393" name=""/>
                <p:cNvSpPr/>
                <p:nvPr/>
              </p:nvSpPr>
              <p:spPr>
                <a:xfrm>
                  <a:off x="346068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344340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5" name=""/>
              <p:cNvGrpSpPr/>
              <p:nvPr/>
            </p:nvGrpSpPr>
            <p:grpSpPr>
              <a:xfrm>
                <a:off x="3849840" y="2666880"/>
                <a:ext cx="406440" cy="605520"/>
                <a:chOff x="3849840" y="2666880"/>
                <a:chExt cx="406440" cy="605520"/>
              </a:xfrm>
            </p:grpSpPr>
            <p:sp>
              <p:nvSpPr>
                <p:cNvPr id="2396" name=""/>
                <p:cNvSpPr/>
                <p:nvPr/>
              </p:nvSpPr>
              <p:spPr>
                <a:xfrm>
                  <a:off x="386712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EN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384984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8" name=""/>
              <p:cNvGrpSpPr/>
              <p:nvPr/>
            </p:nvGrpSpPr>
            <p:grpSpPr>
              <a:xfrm>
                <a:off x="4256280" y="2666880"/>
                <a:ext cx="406080" cy="605520"/>
                <a:chOff x="4256280" y="2666880"/>
                <a:chExt cx="406080" cy="605520"/>
              </a:xfrm>
            </p:grpSpPr>
            <p:sp>
              <p:nvSpPr>
                <p:cNvPr id="2399" name=""/>
                <p:cNvSpPr/>
                <p:nvPr/>
              </p:nvSpPr>
              <p:spPr>
                <a:xfrm>
                  <a:off x="427356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B8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4256280" y="2666880"/>
                  <a:ext cx="40608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1" name=""/>
              <p:cNvGrpSpPr/>
              <p:nvPr/>
            </p:nvGrpSpPr>
            <p:grpSpPr>
              <a:xfrm>
                <a:off x="4662360" y="2666880"/>
                <a:ext cx="406440" cy="605520"/>
                <a:chOff x="4662360" y="2666880"/>
                <a:chExt cx="406440" cy="605520"/>
              </a:xfrm>
            </p:grpSpPr>
            <p:sp>
              <p:nvSpPr>
                <p:cNvPr id="2402" name=""/>
                <p:cNvSpPr/>
                <p:nvPr/>
              </p:nvSpPr>
              <p:spPr>
                <a:xfrm>
                  <a:off x="468000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B8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466236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4" name=""/>
              <p:cNvGrpSpPr/>
              <p:nvPr/>
            </p:nvGrpSpPr>
            <p:grpSpPr>
              <a:xfrm>
                <a:off x="5068800" y="2666880"/>
                <a:ext cx="406440" cy="605520"/>
                <a:chOff x="5068800" y="2666880"/>
                <a:chExt cx="406440" cy="605520"/>
              </a:xfrm>
            </p:grpSpPr>
            <p:sp>
              <p:nvSpPr>
                <p:cNvPr id="2405" name=""/>
                <p:cNvSpPr/>
                <p:nvPr/>
              </p:nvSpPr>
              <p:spPr>
                <a:xfrm>
                  <a:off x="508644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I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06880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7" name=""/>
              <p:cNvGrpSpPr/>
              <p:nvPr/>
            </p:nvGrpSpPr>
            <p:grpSpPr>
              <a:xfrm>
                <a:off x="5475240" y="2666880"/>
                <a:ext cx="406440" cy="605520"/>
                <a:chOff x="5475240" y="2666880"/>
                <a:chExt cx="406440" cy="60552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5492880" y="2666880"/>
                  <a:ext cx="371520" cy="60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RI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475240" y="2666880"/>
                  <a:ext cx="406440" cy="60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0" name=""/>
            <p:cNvSpPr/>
            <p:nvPr/>
          </p:nvSpPr>
          <p:spPr>
            <a:xfrm>
              <a:off x="2133720" y="2057400"/>
              <a:ext cx="3752640" cy="1219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411" name=""/>
          <p:cNvSpPr/>
          <p:nvPr/>
        </p:nvSpPr>
        <p:spPr>
          <a:xfrm>
            <a:off x="7920" y="917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12" name=""/>
          <p:cNvGrpSpPr/>
          <p:nvPr/>
        </p:nvGrpSpPr>
        <p:grpSpPr>
          <a:xfrm>
            <a:off x="5867280" y="3505320"/>
            <a:ext cx="1903320" cy="2895480"/>
            <a:chOff x="5867280" y="3505320"/>
            <a:chExt cx="1903320" cy="2895480"/>
          </a:xfrm>
        </p:grpSpPr>
        <p:grpSp>
          <p:nvGrpSpPr>
            <p:cNvPr id="2413" name=""/>
            <p:cNvGrpSpPr/>
            <p:nvPr/>
          </p:nvGrpSpPr>
          <p:grpSpPr>
            <a:xfrm>
              <a:off x="5871960" y="3508560"/>
              <a:ext cx="1893960" cy="2888640"/>
              <a:chOff x="5871960" y="3508560"/>
              <a:chExt cx="1893960" cy="2888640"/>
            </a:xfrm>
          </p:grpSpPr>
          <p:grpSp>
            <p:nvGrpSpPr>
              <p:cNvPr id="2414" name=""/>
              <p:cNvGrpSpPr/>
              <p:nvPr/>
            </p:nvGrpSpPr>
            <p:grpSpPr>
              <a:xfrm>
                <a:off x="5871960" y="3508560"/>
                <a:ext cx="1893960" cy="427680"/>
                <a:chOff x="5871960" y="3508560"/>
                <a:chExt cx="1893960" cy="427680"/>
              </a:xfrm>
            </p:grpSpPr>
            <p:sp>
              <p:nvSpPr>
                <p:cNvPr id="2415" name=""/>
                <p:cNvSpPr/>
                <p:nvPr/>
              </p:nvSpPr>
              <p:spPr>
                <a:xfrm>
                  <a:off x="5889600" y="3508560"/>
                  <a:ext cx="18586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接收中断标志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871960" y="3508560"/>
                  <a:ext cx="1893960" cy="42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7" name=""/>
              <p:cNvGrpSpPr/>
              <p:nvPr/>
            </p:nvGrpSpPr>
            <p:grpSpPr>
              <a:xfrm>
                <a:off x="5871960" y="3936240"/>
                <a:ext cx="1893960" cy="428040"/>
                <a:chOff x="5871960" y="3936240"/>
                <a:chExt cx="1893960" cy="428040"/>
              </a:xfrm>
            </p:grpSpPr>
            <p:sp>
              <p:nvSpPr>
                <p:cNvPr id="2418" name=""/>
                <p:cNvSpPr/>
                <p:nvPr/>
              </p:nvSpPr>
              <p:spPr>
                <a:xfrm>
                  <a:off x="5889600" y="3936240"/>
                  <a:ext cx="185868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发送中断标志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871960" y="3936240"/>
                  <a:ext cx="189396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0" name=""/>
              <p:cNvGrpSpPr/>
              <p:nvPr/>
            </p:nvGrpSpPr>
            <p:grpSpPr>
              <a:xfrm>
                <a:off x="5871960" y="4364640"/>
                <a:ext cx="1893960" cy="427680"/>
                <a:chOff x="5871960" y="4364640"/>
                <a:chExt cx="1893960" cy="427680"/>
              </a:xfrm>
            </p:grpSpPr>
            <p:sp>
              <p:nvSpPr>
                <p:cNvPr id="2421" name=""/>
                <p:cNvSpPr/>
                <p:nvPr/>
              </p:nvSpPr>
              <p:spPr>
                <a:xfrm>
                  <a:off x="5889600" y="4364640"/>
                  <a:ext cx="18586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接收数据第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9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871960" y="4364640"/>
                  <a:ext cx="1893960" cy="42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3" name=""/>
              <p:cNvGrpSpPr/>
              <p:nvPr/>
            </p:nvGrpSpPr>
            <p:grpSpPr>
              <a:xfrm>
                <a:off x="5871960" y="4792320"/>
                <a:ext cx="1893960" cy="427680"/>
                <a:chOff x="5871960" y="4792320"/>
                <a:chExt cx="1893960" cy="427680"/>
              </a:xfrm>
            </p:grpSpPr>
            <p:sp>
              <p:nvSpPr>
                <p:cNvPr id="2424" name=""/>
                <p:cNvSpPr/>
                <p:nvPr/>
              </p:nvSpPr>
              <p:spPr>
                <a:xfrm>
                  <a:off x="5889600" y="4792320"/>
                  <a:ext cx="18586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发送数据第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9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871960" y="4792320"/>
                  <a:ext cx="1893960" cy="42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6" name=""/>
              <p:cNvGrpSpPr/>
              <p:nvPr/>
            </p:nvGrpSpPr>
            <p:grpSpPr>
              <a:xfrm>
                <a:off x="5871960" y="5220360"/>
                <a:ext cx="917640" cy="534960"/>
                <a:chOff x="5871960" y="5220360"/>
                <a:chExt cx="917640" cy="534960"/>
              </a:xfrm>
            </p:grpSpPr>
            <p:sp>
              <p:nvSpPr>
                <p:cNvPr id="2427" name=""/>
                <p:cNvSpPr/>
                <p:nvPr/>
              </p:nvSpPr>
              <p:spPr>
                <a:xfrm>
                  <a:off x="5889600" y="5220360"/>
                  <a:ext cx="882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接收控制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871960" y="5220360"/>
                  <a:ext cx="917640" cy="5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9" name=""/>
              <p:cNvGrpSpPr/>
              <p:nvPr/>
            </p:nvGrpSpPr>
            <p:grpSpPr>
              <a:xfrm>
                <a:off x="6789600" y="5220360"/>
                <a:ext cx="976320" cy="534960"/>
                <a:chOff x="6789600" y="5220360"/>
                <a:chExt cx="976320" cy="534960"/>
              </a:xfrm>
            </p:grpSpPr>
            <p:sp>
              <p:nvSpPr>
                <p:cNvPr id="2430" name=""/>
                <p:cNvSpPr/>
                <p:nvPr/>
              </p:nvSpPr>
              <p:spPr>
                <a:xfrm>
                  <a:off x="6806880" y="5220360"/>
                  <a:ext cx="94140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：禁止接收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：允许接收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6789600" y="5220360"/>
                  <a:ext cx="976320" cy="53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2" name=""/>
              <p:cNvGrpSpPr/>
              <p:nvPr/>
            </p:nvGrpSpPr>
            <p:grpSpPr>
              <a:xfrm>
                <a:off x="5871960" y="5755320"/>
                <a:ext cx="917640" cy="641880"/>
                <a:chOff x="5871960" y="5755320"/>
                <a:chExt cx="917640" cy="641880"/>
              </a:xfrm>
            </p:grpSpPr>
            <p:sp>
              <p:nvSpPr>
                <p:cNvPr id="2433" name=""/>
                <p:cNvSpPr/>
                <p:nvPr/>
              </p:nvSpPr>
              <p:spPr>
                <a:xfrm>
                  <a:off x="5889600" y="5755320"/>
                  <a:ext cx="8823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多机通信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871960" y="5755320"/>
                  <a:ext cx="91764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5" name=""/>
              <p:cNvGrpSpPr/>
              <p:nvPr/>
            </p:nvGrpSpPr>
            <p:grpSpPr>
              <a:xfrm>
                <a:off x="6789600" y="5755320"/>
                <a:ext cx="976320" cy="641880"/>
                <a:chOff x="6789600" y="5755320"/>
                <a:chExt cx="976320" cy="641880"/>
              </a:xfrm>
            </p:grpSpPr>
            <p:sp>
              <p:nvSpPr>
                <p:cNvPr id="2436" name=""/>
                <p:cNvSpPr/>
                <p:nvPr/>
              </p:nvSpPr>
              <p:spPr>
                <a:xfrm>
                  <a:off x="6806880" y="5755320"/>
                  <a:ext cx="94140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0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：单机对单机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1</a:t>
                  </a:r>
                  <a:r>
                    <a:rPr b="0" lang="zh-CN" sz="8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：多机通信</a:t>
                  </a: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789600" y="5755320"/>
                  <a:ext cx="976320" cy="64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8" name=""/>
            <p:cNvSpPr/>
            <p:nvPr/>
          </p:nvSpPr>
          <p:spPr>
            <a:xfrm>
              <a:off x="5867280" y="3505320"/>
              <a:ext cx="1903320" cy="2895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439" name=""/>
          <p:cNvSpPr/>
          <p:nvPr/>
        </p:nvSpPr>
        <p:spPr>
          <a:xfrm>
            <a:off x="7920" y="5646600"/>
            <a:ext cx="91440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7-6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串行口控制寄存器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SCON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-457200" y="62485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6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串行口控制寄存器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SC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"/>
          <p:cNvSpPr/>
          <p:nvPr/>
        </p:nvSpPr>
        <p:spPr>
          <a:xfrm>
            <a:off x="457200" y="990720"/>
            <a:ext cx="86868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特殊功能寄存器</a:t>
            </a:r>
            <a:r>
              <a:rPr b="0" lang="en-US" sz="1800" spc="-1" strike="noStrike">
                <a:solidFill>
                  <a:srgbClr val="5b5249"/>
                </a:solidFill>
                <a:latin typeface="宋体"/>
              </a:rPr>
              <a:t>PC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PCON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主要是为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CHMOS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型单片机的电源控制设置的专用寄存器，单元地址为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87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不能位寻址。其格式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7-7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42" name=""/>
          <p:cNvGrpSpPr/>
          <p:nvPr/>
        </p:nvGrpSpPr>
        <p:grpSpPr>
          <a:xfrm>
            <a:off x="2819520" y="2133720"/>
            <a:ext cx="3270240" cy="695160"/>
            <a:chOff x="2819520" y="2133720"/>
            <a:chExt cx="3270240" cy="695160"/>
          </a:xfrm>
        </p:grpSpPr>
        <p:grpSp>
          <p:nvGrpSpPr>
            <p:cNvPr id="2443" name=""/>
            <p:cNvGrpSpPr/>
            <p:nvPr/>
          </p:nvGrpSpPr>
          <p:grpSpPr>
            <a:xfrm>
              <a:off x="2823840" y="2137680"/>
              <a:ext cx="3260520" cy="686520"/>
              <a:chOff x="2823840" y="2137680"/>
              <a:chExt cx="3260520" cy="686520"/>
            </a:xfrm>
          </p:grpSpPr>
          <p:grpSp>
            <p:nvGrpSpPr>
              <p:cNvPr id="2444" name=""/>
              <p:cNvGrpSpPr/>
              <p:nvPr/>
            </p:nvGrpSpPr>
            <p:grpSpPr>
              <a:xfrm>
                <a:off x="2823840" y="2137680"/>
                <a:ext cx="480600" cy="686520"/>
                <a:chOff x="2823840" y="2137680"/>
                <a:chExt cx="480600" cy="686520"/>
              </a:xfrm>
            </p:grpSpPr>
            <p:sp>
              <p:nvSpPr>
                <p:cNvPr id="2445" name=""/>
                <p:cNvSpPr/>
                <p:nvPr/>
              </p:nvSpPr>
              <p:spPr>
                <a:xfrm>
                  <a:off x="2840760" y="2137680"/>
                  <a:ext cx="44640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O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2823840" y="2137680"/>
                  <a:ext cx="48060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7" name=""/>
              <p:cNvGrpSpPr/>
              <p:nvPr/>
            </p:nvGrpSpPr>
            <p:grpSpPr>
              <a:xfrm>
                <a:off x="3304440" y="2137680"/>
                <a:ext cx="397080" cy="686520"/>
                <a:chOff x="3304440" y="2137680"/>
                <a:chExt cx="397080" cy="686520"/>
              </a:xfrm>
            </p:grpSpPr>
            <p:sp>
              <p:nvSpPr>
                <p:cNvPr id="2448" name=""/>
                <p:cNvSpPr/>
                <p:nvPr/>
              </p:nvSpPr>
              <p:spPr>
                <a:xfrm>
                  <a:off x="3321360" y="2137680"/>
                  <a:ext cx="36252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—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330444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0" name=""/>
              <p:cNvGrpSpPr/>
              <p:nvPr/>
            </p:nvGrpSpPr>
            <p:grpSpPr>
              <a:xfrm>
                <a:off x="3701880" y="2137680"/>
                <a:ext cx="397080" cy="686520"/>
                <a:chOff x="3701880" y="2137680"/>
                <a:chExt cx="397080" cy="686520"/>
              </a:xfrm>
            </p:grpSpPr>
            <p:sp>
              <p:nvSpPr>
                <p:cNvPr id="2451" name=""/>
                <p:cNvSpPr/>
                <p:nvPr/>
              </p:nvSpPr>
              <p:spPr>
                <a:xfrm>
                  <a:off x="371844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—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370188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3" name=""/>
              <p:cNvGrpSpPr/>
              <p:nvPr/>
            </p:nvGrpSpPr>
            <p:grpSpPr>
              <a:xfrm>
                <a:off x="4098960" y="2137680"/>
                <a:ext cx="397080" cy="686520"/>
                <a:chOff x="4098960" y="2137680"/>
                <a:chExt cx="397080" cy="686520"/>
              </a:xfrm>
            </p:grpSpPr>
            <p:sp>
              <p:nvSpPr>
                <p:cNvPr id="2454" name=""/>
                <p:cNvSpPr/>
                <p:nvPr/>
              </p:nvSpPr>
              <p:spPr>
                <a:xfrm>
                  <a:off x="411552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—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409896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4496040" y="2137680"/>
                <a:ext cx="397080" cy="686520"/>
                <a:chOff x="4496040" y="2137680"/>
                <a:chExt cx="397080" cy="686520"/>
              </a:xfrm>
            </p:grpSpPr>
            <p:sp>
              <p:nvSpPr>
                <p:cNvPr id="2457" name=""/>
                <p:cNvSpPr/>
                <p:nvPr/>
              </p:nvSpPr>
              <p:spPr>
                <a:xfrm>
                  <a:off x="451260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GF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449604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9" name=""/>
              <p:cNvGrpSpPr/>
              <p:nvPr/>
            </p:nvGrpSpPr>
            <p:grpSpPr>
              <a:xfrm>
                <a:off x="4893480" y="2137680"/>
                <a:ext cx="396720" cy="686520"/>
                <a:chOff x="4893480" y="2137680"/>
                <a:chExt cx="396720" cy="686520"/>
              </a:xfrm>
            </p:grpSpPr>
            <p:sp>
              <p:nvSpPr>
                <p:cNvPr id="2460" name=""/>
                <p:cNvSpPr/>
                <p:nvPr/>
              </p:nvSpPr>
              <p:spPr>
                <a:xfrm>
                  <a:off x="491004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GF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4893480" y="2137680"/>
                  <a:ext cx="39672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5290200" y="2137680"/>
                <a:ext cx="397080" cy="686520"/>
                <a:chOff x="5290200" y="2137680"/>
                <a:chExt cx="397080" cy="68652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530712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P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529020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5" name=""/>
              <p:cNvGrpSpPr/>
              <p:nvPr/>
            </p:nvGrpSpPr>
            <p:grpSpPr>
              <a:xfrm>
                <a:off x="5687280" y="2137680"/>
                <a:ext cx="397080" cy="686520"/>
                <a:chOff x="5687280" y="2137680"/>
                <a:chExt cx="397080" cy="686520"/>
              </a:xfrm>
            </p:grpSpPr>
            <p:sp>
              <p:nvSpPr>
                <p:cNvPr id="2466" name=""/>
                <p:cNvSpPr/>
                <p:nvPr/>
              </p:nvSpPr>
              <p:spPr>
                <a:xfrm>
                  <a:off x="5704200" y="2137680"/>
                  <a:ext cx="362880" cy="6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IDL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687280" y="2137680"/>
                  <a:ext cx="397080" cy="68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68" name=""/>
            <p:cNvSpPr/>
            <p:nvPr/>
          </p:nvSpPr>
          <p:spPr>
            <a:xfrm>
              <a:off x="2819520" y="2133720"/>
              <a:ext cx="3270240" cy="6951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469" name=""/>
          <p:cNvSpPr/>
          <p:nvPr/>
        </p:nvSpPr>
        <p:spPr>
          <a:xfrm>
            <a:off x="3240" y="301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70" name=""/>
          <p:cNvGrpSpPr/>
          <p:nvPr/>
        </p:nvGrpSpPr>
        <p:grpSpPr>
          <a:xfrm>
            <a:off x="3124080" y="2819520"/>
            <a:ext cx="3144960" cy="2057040"/>
            <a:chOff x="3124080" y="2819520"/>
            <a:chExt cx="3144960" cy="2057040"/>
          </a:xfrm>
        </p:grpSpPr>
        <p:sp>
          <p:nvSpPr>
            <p:cNvPr id="2471" name=""/>
            <p:cNvSpPr/>
            <p:nvPr/>
          </p:nvSpPr>
          <p:spPr>
            <a:xfrm>
              <a:off x="5786280" y="2821320"/>
              <a:ext cx="0" cy="9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5791320" y="3709800"/>
              <a:ext cx="469800" cy="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432040" y="2819520"/>
              <a:ext cx="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441040" y="4228920"/>
              <a:ext cx="828000" cy="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124080" y="2824920"/>
              <a:ext cx="0" cy="20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3127680" y="4865400"/>
              <a:ext cx="31298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rot="5400000">
              <a:off x="4744440" y="2696040"/>
              <a:ext cx="253440" cy="590400"/>
            </a:xfrm>
            <a:custGeom>
              <a:avLst/>
              <a:gdLst>
                <a:gd name="textAreaLeft" fmla="*/ 0 w 253440"/>
                <a:gd name="textAreaRight" fmla="*/ 91440 w 25344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91"/>
                  </a:lnTo>
                  <a:cubicBezTo>
                    <a:pt x="10800" y="10391"/>
                    <a:pt x="16200" y="11291"/>
                    <a:pt x="21600" y="11291"/>
                  </a:cubicBezTo>
                  <a:cubicBezTo>
                    <a:pt x="16200" y="11291"/>
                    <a:pt x="10800" y="12191"/>
                    <a:pt x="10800" y="1309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453920" y="3165840"/>
              <a:ext cx="8852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5b5249"/>
                  </a:solidFill>
                  <a:latin typeface="Times New Roman"/>
                </a:rPr>
                <a:t>通用标志位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479" name=""/>
          <p:cNvGrpSpPr/>
          <p:nvPr/>
        </p:nvGrpSpPr>
        <p:grpSpPr>
          <a:xfrm>
            <a:off x="6248520" y="3200400"/>
            <a:ext cx="2178000" cy="2219400"/>
            <a:chOff x="6248520" y="3200400"/>
            <a:chExt cx="2178000" cy="2219400"/>
          </a:xfrm>
        </p:grpSpPr>
        <p:grpSp>
          <p:nvGrpSpPr>
            <p:cNvPr id="2480" name=""/>
            <p:cNvGrpSpPr/>
            <p:nvPr/>
          </p:nvGrpSpPr>
          <p:grpSpPr>
            <a:xfrm>
              <a:off x="6253200" y="3204360"/>
              <a:ext cx="2168640" cy="2210040"/>
              <a:chOff x="6253200" y="3204360"/>
              <a:chExt cx="2168640" cy="2210040"/>
            </a:xfrm>
          </p:grpSpPr>
          <p:grpSp>
            <p:nvGrpSpPr>
              <p:cNvPr id="2481" name=""/>
              <p:cNvGrpSpPr/>
              <p:nvPr/>
            </p:nvGrpSpPr>
            <p:grpSpPr>
              <a:xfrm>
                <a:off x="6253200" y="3204360"/>
                <a:ext cx="1017720" cy="690840"/>
                <a:chOff x="6253200" y="3204360"/>
                <a:chExt cx="1017720" cy="690840"/>
              </a:xfrm>
            </p:grpSpPr>
            <p:sp>
              <p:nvSpPr>
                <p:cNvPr id="2482" name=""/>
                <p:cNvSpPr/>
                <p:nvPr/>
              </p:nvSpPr>
              <p:spPr>
                <a:xfrm>
                  <a:off x="6270840" y="3204360"/>
                  <a:ext cx="982440" cy="6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空闲控制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253200" y="3204360"/>
                  <a:ext cx="101772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4" name=""/>
              <p:cNvGrpSpPr/>
              <p:nvPr/>
            </p:nvGrpSpPr>
            <p:grpSpPr>
              <a:xfrm>
                <a:off x="7270920" y="3204360"/>
                <a:ext cx="1150920" cy="690840"/>
                <a:chOff x="7270920" y="3204360"/>
                <a:chExt cx="1150920" cy="69084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7288200" y="3204360"/>
                  <a:ext cx="1116000" cy="6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正常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空闲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7270920" y="3204360"/>
                  <a:ext cx="1150920" cy="690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6253200" y="3895200"/>
                <a:ext cx="1017720" cy="690480"/>
                <a:chOff x="6253200" y="3895200"/>
                <a:chExt cx="1017720" cy="69048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6270840" y="3895200"/>
                  <a:ext cx="982440" cy="69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掉电控制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253200" y="3895200"/>
                  <a:ext cx="10177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7270920" y="3895200"/>
                <a:ext cx="1150920" cy="690480"/>
                <a:chOff x="7270920" y="3895200"/>
                <a:chExt cx="1150920" cy="69048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7288200" y="3895200"/>
                  <a:ext cx="1116000" cy="69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正常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：掉电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7270920" y="3895200"/>
                  <a:ext cx="1150920" cy="69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6253200" y="4585680"/>
                <a:ext cx="1017720" cy="828720"/>
                <a:chOff x="6253200" y="4585680"/>
                <a:chExt cx="1017720" cy="82872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6270840" y="4585680"/>
                  <a:ext cx="98244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波特率选择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253200" y="4585680"/>
                  <a:ext cx="1017720" cy="82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7270920" y="4585680"/>
                <a:ext cx="1150920" cy="828720"/>
                <a:chOff x="7270920" y="4585680"/>
                <a:chExt cx="1150920" cy="82872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7288200" y="4585680"/>
                  <a:ext cx="111600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MOD=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时，方式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和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r>
                    <a:rPr b="0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的波特率加倍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7270920" y="4585680"/>
                  <a:ext cx="1150920" cy="82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99" name=""/>
            <p:cNvSpPr/>
            <p:nvPr/>
          </p:nvSpPr>
          <p:spPr>
            <a:xfrm>
              <a:off x="6248520" y="3200400"/>
              <a:ext cx="2178000" cy="2219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500" name=""/>
          <p:cNvSpPr/>
          <p:nvPr/>
        </p:nvSpPr>
        <p:spPr>
          <a:xfrm>
            <a:off x="3240" y="3968640"/>
            <a:ext cx="9144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0" y="5486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7  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PCON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各位定义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"/>
          <p:cNvSpPr/>
          <p:nvPr/>
        </p:nvSpPr>
        <p:spPr>
          <a:xfrm>
            <a:off x="609480" y="1066680"/>
            <a:ext cx="9144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串行的工作方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的串行口有四种工作方式，它是由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CON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中的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M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SM0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来决定的，如表格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7-1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0" y="2209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1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串行口的工作方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04" name=""/>
          <p:cNvGrpSpPr/>
          <p:nvPr/>
        </p:nvGrpSpPr>
        <p:grpSpPr>
          <a:xfrm>
            <a:off x="1981080" y="2590920"/>
            <a:ext cx="5121360" cy="3276000"/>
            <a:chOff x="1981080" y="2590920"/>
            <a:chExt cx="5121360" cy="3276000"/>
          </a:xfrm>
        </p:grpSpPr>
        <p:grpSp>
          <p:nvGrpSpPr>
            <p:cNvPr id="2505" name=""/>
            <p:cNvGrpSpPr/>
            <p:nvPr/>
          </p:nvGrpSpPr>
          <p:grpSpPr>
            <a:xfrm>
              <a:off x="1985760" y="2595600"/>
              <a:ext cx="5111640" cy="3265560"/>
              <a:chOff x="1985760" y="2595600"/>
              <a:chExt cx="5111640" cy="3265560"/>
            </a:xfrm>
          </p:grpSpPr>
          <p:grpSp>
            <p:nvGrpSpPr>
              <p:cNvPr id="2506" name=""/>
              <p:cNvGrpSpPr/>
              <p:nvPr/>
            </p:nvGrpSpPr>
            <p:grpSpPr>
              <a:xfrm>
                <a:off x="1985760" y="2595600"/>
                <a:ext cx="433440" cy="777240"/>
                <a:chOff x="1985760" y="2595600"/>
                <a:chExt cx="433440" cy="777240"/>
              </a:xfrm>
            </p:grpSpPr>
            <p:sp>
              <p:nvSpPr>
                <p:cNvPr id="2507" name=""/>
                <p:cNvSpPr/>
                <p:nvPr/>
              </p:nvSpPr>
              <p:spPr>
                <a:xfrm>
                  <a:off x="2003400" y="2595600"/>
                  <a:ext cx="398160" cy="77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M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1985760" y="2595600"/>
                  <a:ext cx="433440" cy="77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9" name=""/>
              <p:cNvGrpSpPr/>
              <p:nvPr/>
            </p:nvGrpSpPr>
            <p:grpSpPr>
              <a:xfrm>
                <a:off x="2419200" y="2595600"/>
                <a:ext cx="534960" cy="777240"/>
                <a:chOff x="2419200" y="2595600"/>
                <a:chExt cx="534960" cy="777240"/>
              </a:xfrm>
            </p:grpSpPr>
            <p:sp>
              <p:nvSpPr>
                <p:cNvPr id="2510" name=""/>
                <p:cNvSpPr/>
                <p:nvPr/>
              </p:nvSpPr>
              <p:spPr>
                <a:xfrm>
                  <a:off x="2436480" y="2595600"/>
                  <a:ext cx="500040" cy="77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SMl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2419200" y="2595600"/>
                  <a:ext cx="534960" cy="77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2" name=""/>
              <p:cNvGrpSpPr/>
              <p:nvPr/>
            </p:nvGrpSpPr>
            <p:grpSpPr>
              <a:xfrm>
                <a:off x="2954160" y="2595600"/>
                <a:ext cx="797040" cy="777240"/>
                <a:chOff x="2954160" y="2595600"/>
                <a:chExt cx="797040" cy="777240"/>
              </a:xfrm>
            </p:grpSpPr>
            <p:sp>
              <p:nvSpPr>
                <p:cNvPr id="2513" name=""/>
                <p:cNvSpPr/>
                <p:nvPr/>
              </p:nvSpPr>
              <p:spPr>
                <a:xfrm>
                  <a:off x="2971440" y="2595600"/>
                  <a:ext cx="762120" cy="77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工作方式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2954160" y="2595600"/>
                  <a:ext cx="797040" cy="77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5" name=""/>
              <p:cNvGrpSpPr/>
              <p:nvPr/>
            </p:nvGrpSpPr>
            <p:grpSpPr>
              <a:xfrm>
                <a:off x="3751200" y="2595600"/>
                <a:ext cx="1406520" cy="777240"/>
                <a:chOff x="3751200" y="2595600"/>
                <a:chExt cx="1406520" cy="777240"/>
              </a:xfrm>
            </p:grpSpPr>
            <p:sp>
              <p:nvSpPr>
                <p:cNvPr id="2516" name=""/>
                <p:cNvSpPr/>
                <p:nvPr/>
              </p:nvSpPr>
              <p:spPr>
                <a:xfrm>
                  <a:off x="3768480" y="2595600"/>
                  <a:ext cx="1371600" cy="77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方式简单描述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3751200" y="2595600"/>
                  <a:ext cx="1406520" cy="77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8" name=""/>
              <p:cNvGrpSpPr/>
              <p:nvPr/>
            </p:nvGrpSpPr>
            <p:grpSpPr>
              <a:xfrm>
                <a:off x="5157720" y="2595600"/>
                <a:ext cx="1939680" cy="777240"/>
                <a:chOff x="5157720" y="2595600"/>
                <a:chExt cx="1939680" cy="777240"/>
              </a:xfrm>
            </p:grpSpPr>
            <p:sp>
              <p:nvSpPr>
                <p:cNvPr id="2519" name=""/>
                <p:cNvSpPr/>
                <p:nvPr/>
              </p:nvSpPr>
              <p:spPr>
                <a:xfrm>
                  <a:off x="5175000" y="2595600"/>
                  <a:ext cx="1905120" cy="77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波特率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5157720" y="2595600"/>
                  <a:ext cx="1939680" cy="77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1" name=""/>
              <p:cNvGrpSpPr/>
              <p:nvPr/>
            </p:nvGrpSpPr>
            <p:grpSpPr>
              <a:xfrm>
                <a:off x="1985760" y="3373200"/>
                <a:ext cx="433440" cy="621360"/>
                <a:chOff x="1985760" y="3373200"/>
                <a:chExt cx="433440" cy="621360"/>
              </a:xfrm>
            </p:grpSpPr>
            <p:sp>
              <p:nvSpPr>
                <p:cNvPr id="2522" name=""/>
                <p:cNvSpPr/>
                <p:nvPr/>
              </p:nvSpPr>
              <p:spPr>
                <a:xfrm>
                  <a:off x="2003400" y="3373200"/>
                  <a:ext cx="39816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1985760" y="3373200"/>
                  <a:ext cx="4334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4" name=""/>
              <p:cNvGrpSpPr/>
              <p:nvPr/>
            </p:nvGrpSpPr>
            <p:grpSpPr>
              <a:xfrm>
                <a:off x="2419200" y="3373200"/>
                <a:ext cx="534960" cy="621360"/>
                <a:chOff x="2419200" y="3373200"/>
                <a:chExt cx="534960" cy="621360"/>
              </a:xfrm>
            </p:grpSpPr>
            <p:sp>
              <p:nvSpPr>
                <p:cNvPr id="2525" name=""/>
                <p:cNvSpPr/>
                <p:nvPr/>
              </p:nvSpPr>
              <p:spPr>
                <a:xfrm>
                  <a:off x="2436480" y="3373200"/>
                  <a:ext cx="5000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2419200" y="3373200"/>
                  <a:ext cx="53496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7" name=""/>
              <p:cNvGrpSpPr/>
              <p:nvPr/>
            </p:nvGrpSpPr>
            <p:grpSpPr>
              <a:xfrm>
                <a:off x="2954160" y="3373200"/>
                <a:ext cx="797040" cy="621360"/>
                <a:chOff x="2954160" y="3373200"/>
                <a:chExt cx="797040" cy="621360"/>
              </a:xfrm>
            </p:grpSpPr>
            <p:sp>
              <p:nvSpPr>
                <p:cNvPr id="2528" name=""/>
                <p:cNvSpPr/>
                <p:nvPr/>
              </p:nvSpPr>
              <p:spPr>
                <a:xfrm>
                  <a:off x="2971440" y="3373200"/>
                  <a:ext cx="762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2954160" y="3373200"/>
                  <a:ext cx="797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0" name=""/>
              <p:cNvGrpSpPr/>
              <p:nvPr/>
            </p:nvGrpSpPr>
            <p:grpSpPr>
              <a:xfrm>
                <a:off x="3751200" y="3373200"/>
                <a:ext cx="1406520" cy="621360"/>
                <a:chOff x="3751200" y="3373200"/>
                <a:chExt cx="1406520" cy="621360"/>
              </a:xfrm>
            </p:grpSpPr>
            <p:sp>
              <p:nvSpPr>
                <p:cNvPr id="2531" name=""/>
                <p:cNvSpPr/>
                <p:nvPr/>
              </p:nvSpPr>
              <p:spPr>
                <a:xfrm>
                  <a:off x="3768480" y="3373200"/>
                  <a:ext cx="137160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移位寄存器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I/O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3751200" y="3373200"/>
                  <a:ext cx="140652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3" name=""/>
              <p:cNvGrpSpPr/>
              <p:nvPr/>
            </p:nvGrpSpPr>
            <p:grpSpPr>
              <a:xfrm>
                <a:off x="5157720" y="3373200"/>
                <a:ext cx="1939680" cy="621360"/>
                <a:chOff x="5157720" y="3373200"/>
                <a:chExt cx="1939680" cy="621360"/>
              </a:xfrm>
            </p:grpSpPr>
            <p:sp>
              <p:nvSpPr>
                <p:cNvPr id="2534" name=""/>
                <p:cNvSpPr/>
                <p:nvPr/>
              </p:nvSpPr>
              <p:spPr>
                <a:xfrm>
                  <a:off x="5175000" y="3373200"/>
                  <a:ext cx="1905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主振频率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/1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5157720" y="3373200"/>
                  <a:ext cx="193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6" name=""/>
              <p:cNvGrpSpPr/>
              <p:nvPr/>
            </p:nvGrpSpPr>
            <p:grpSpPr>
              <a:xfrm>
                <a:off x="1985760" y="3995280"/>
                <a:ext cx="433440" cy="621720"/>
                <a:chOff x="1985760" y="3995280"/>
                <a:chExt cx="433440" cy="621720"/>
              </a:xfrm>
            </p:grpSpPr>
            <p:sp>
              <p:nvSpPr>
                <p:cNvPr id="2537" name=""/>
                <p:cNvSpPr/>
                <p:nvPr/>
              </p:nvSpPr>
              <p:spPr>
                <a:xfrm>
                  <a:off x="2003400" y="3995280"/>
                  <a:ext cx="39816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1985760" y="3995280"/>
                  <a:ext cx="4334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9" name=""/>
              <p:cNvGrpSpPr/>
              <p:nvPr/>
            </p:nvGrpSpPr>
            <p:grpSpPr>
              <a:xfrm>
                <a:off x="2419200" y="3995280"/>
                <a:ext cx="534960" cy="621720"/>
                <a:chOff x="2419200" y="3995280"/>
                <a:chExt cx="534960" cy="621720"/>
              </a:xfrm>
            </p:grpSpPr>
            <p:sp>
              <p:nvSpPr>
                <p:cNvPr id="2540" name=""/>
                <p:cNvSpPr/>
                <p:nvPr/>
              </p:nvSpPr>
              <p:spPr>
                <a:xfrm>
                  <a:off x="2436480" y="3995280"/>
                  <a:ext cx="50004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2419200" y="3995280"/>
                  <a:ext cx="53496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2" name=""/>
              <p:cNvGrpSpPr/>
              <p:nvPr/>
            </p:nvGrpSpPr>
            <p:grpSpPr>
              <a:xfrm>
                <a:off x="2954160" y="3995280"/>
                <a:ext cx="797040" cy="621720"/>
                <a:chOff x="2954160" y="3995280"/>
                <a:chExt cx="797040" cy="621720"/>
              </a:xfrm>
            </p:grpSpPr>
            <p:sp>
              <p:nvSpPr>
                <p:cNvPr id="2543" name=""/>
                <p:cNvSpPr/>
                <p:nvPr/>
              </p:nvSpPr>
              <p:spPr>
                <a:xfrm>
                  <a:off x="2971440" y="3995280"/>
                  <a:ext cx="76212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2954160" y="3995280"/>
                  <a:ext cx="7970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5" name=""/>
              <p:cNvGrpSpPr/>
              <p:nvPr/>
            </p:nvGrpSpPr>
            <p:grpSpPr>
              <a:xfrm>
                <a:off x="3751200" y="3995280"/>
                <a:ext cx="1406520" cy="621720"/>
                <a:chOff x="3751200" y="3995280"/>
                <a:chExt cx="1406520" cy="621720"/>
              </a:xfrm>
            </p:grpSpPr>
            <p:sp>
              <p:nvSpPr>
                <p:cNvPr id="2546" name=""/>
                <p:cNvSpPr/>
                <p:nvPr/>
              </p:nvSpPr>
              <p:spPr>
                <a:xfrm>
                  <a:off x="3768480" y="3995280"/>
                  <a:ext cx="137160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8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黑体"/>
                    </a:rPr>
                    <a:t>位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ART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3751200" y="3995280"/>
                  <a:ext cx="140652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8" name=""/>
              <p:cNvGrpSpPr/>
              <p:nvPr/>
            </p:nvGrpSpPr>
            <p:grpSpPr>
              <a:xfrm>
                <a:off x="5157720" y="3995280"/>
                <a:ext cx="1939680" cy="621720"/>
                <a:chOff x="5157720" y="3995280"/>
                <a:chExt cx="1939680" cy="621720"/>
              </a:xfrm>
            </p:grpSpPr>
            <p:sp>
              <p:nvSpPr>
                <p:cNvPr id="2549" name=""/>
                <p:cNvSpPr/>
                <p:nvPr/>
              </p:nvSpPr>
              <p:spPr>
                <a:xfrm>
                  <a:off x="5175000" y="3995280"/>
                  <a:ext cx="190512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可变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5157720" y="3995280"/>
                  <a:ext cx="193968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1" name=""/>
              <p:cNvGrpSpPr/>
              <p:nvPr/>
            </p:nvGrpSpPr>
            <p:grpSpPr>
              <a:xfrm>
                <a:off x="1985760" y="4617720"/>
                <a:ext cx="433440" cy="621360"/>
                <a:chOff x="1985760" y="4617720"/>
                <a:chExt cx="433440" cy="621360"/>
              </a:xfrm>
            </p:grpSpPr>
            <p:sp>
              <p:nvSpPr>
                <p:cNvPr id="2552" name=""/>
                <p:cNvSpPr/>
                <p:nvPr/>
              </p:nvSpPr>
              <p:spPr>
                <a:xfrm>
                  <a:off x="2003400" y="4617720"/>
                  <a:ext cx="39816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1985760" y="4617720"/>
                  <a:ext cx="4334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4" name=""/>
              <p:cNvGrpSpPr/>
              <p:nvPr/>
            </p:nvGrpSpPr>
            <p:grpSpPr>
              <a:xfrm>
                <a:off x="2419200" y="4617720"/>
                <a:ext cx="534960" cy="621360"/>
                <a:chOff x="2419200" y="4617720"/>
                <a:chExt cx="534960" cy="621360"/>
              </a:xfrm>
            </p:grpSpPr>
            <p:sp>
              <p:nvSpPr>
                <p:cNvPr id="2555" name=""/>
                <p:cNvSpPr/>
                <p:nvPr/>
              </p:nvSpPr>
              <p:spPr>
                <a:xfrm>
                  <a:off x="2436480" y="4617720"/>
                  <a:ext cx="5000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2419200" y="4617720"/>
                  <a:ext cx="53496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7" name=""/>
              <p:cNvGrpSpPr/>
              <p:nvPr/>
            </p:nvGrpSpPr>
            <p:grpSpPr>
              <a:xfrm>
                <a:off x="2954160" y="4617720"/>
                <a:ext cx="797040" cy="621360"/>
                <a:chOff x="2954160" y="4617720"/>
                <a:chExt cx="797040" cy="621360"/>
              </a:xfrm>
            </p:grpSpPr>
            <p:sp>
              <p:nvSpPr>
                <p:cNvPr id="2558" name=""/>
                <p:cNvSpPr/>
                <p:nvPr/>
              </p:nvSpPr>
              <p:spPr>
                <a:xfrm>
                  <a:off x="2971440" y="4617720"/>
                  <a:ext cx="762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2954160" y="4617720"/>
                  <a:ext cx="797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0" name=""/>
              <p:cNvGrpSpPr/>
              <p:nvPr/>
            </p:nvGrpSpPr>
            <p:grpSpPr>
              <a:xfrm>
                <a:off x="3751200" y="4617720"/>
                <a:ext cx="1406520" cy="621360"/>
                <a:chOff x="3751200" y="4617720"/>
                <a:chExt cx="1406520" cy="621360"/>
              </a:xfrm>
            </p:grpSpPr>
            <p:sp>
              <p:nvSpPr>
                <p:cNvPr id="2561" name=""/>
                <p:cNvSpPr/>
                <p:nvPr/>
              </p:nvSpPr>
              <p:spPr>
                <a:xfrm>
                  <a:off x="3768480" y="4617720"/>
                  <a:ext cx="137160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位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ART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3751200" y="4617720"/>
                  <a:ext cx="140652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3" name=""/>
              <p:cNvGrpSpPr/>
              <p:nvPr/>
            </p:nvGrpSpPr>
            <p:grpSpPr>
              <a:xfrm>
                <a:off x="5157720" y="4617720"/>
                <a:ext cx="1939680" cy="621360"/>
                <a:chOff x="5157720" y="4617720"/>
                <a:chExt cx="1939680" cy="621360"/>
              </a:xfrm>
            </p:grpSpPr>
            <p:sp>
              <p:nvSpPr>
                <p:cNvPr id="2564" name=""/>
                <p:cNvSpPr/>
                <p:nvPr/>
              </p:nvSpPr>
              <p:spPr>
                <a:xfrm>
                  <a:off x="5175000" y="4617720"/>
                  <a:ext cx="1905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主振频率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/32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或主振频率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/64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5157720" y="4617720"/>
                  <a:ext cx="193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6" name=""/>
              <p:cNvGrpSpPr/>
              <p:nvPr/>
            </p:nvGrpSpPr>
            <p:grpSpPr>
              <a:xfrm>
                <a:off x="1985760" y="5239800"/>
                <a:ext cx="433440" cy="621360"/>
                <a:chOff x="1985760" y="5239800"/>
                <a:chExt cx="433440" cy="621360"/>
              </a:xfrm>
            </p:grpSpPr>
            <p:sp>
              <p:nvSpPr>
                <p:cNvPr id="2567" name=""/>
                <p:cNvSpPr/>
                <p:nvPr/>
              </p:nvSpPr>
              <p:spPr>
                <a:xfrm>
                  <a:off x="2003400" y="5239800"/>
                  <a:ext cx="39816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1985760" y="5239800"/>
                  <a:ext cx="4334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9" name=""/>
              <p:cNvGrpSpPr/>
              <p:nvPr/>
            </p:nvGrpSpPr>
            <p:grpSpPr>
              <a:xfrm>
                <a:off x="2419200" y="5239800"/>
                <a:ext cx="534960" cy="621360"/>
                <a:chOff x="2419200" y="5239800"/>
                <a:chExt cx="534960" cy="621360"/>
              </a:xfrm>
            </p:grpSpPr>
            <p:sp>
              <p:nvSpPr>
                <p:cNvPr id="2570" name=""/>
                <p:cNvSpPr/>
                <p:nvPr/>
              </p:nvSpPr>
              <p:spPr>
                <a:xfrm>
                  <a:off x="2436480" y="5239800"/>
                  <a:ext cx="50004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2419200" y="5239800"/>
                  <a:ext cx="53496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2" name=""/>
              <p:cNvGrpSpPr/>
              <p:nvPr/>
            </p:nvGrpSpPr>
            <p:grpSpPr>
              <a:xfrm>
                <a:off x="2954160" y="5239800"/>
                <a:ext cx="797040" cy="621360"/>
                <a:chOff x="2954160" y="5239800"/>
                <a:chExt cx="797040" cy="621360"/>
              </a:xfrm>
            </p:grpSpPr>
            <p:sp>
              <p:nvSpPr>
                <p:cNvPr id="2573" name=""/>
                <p:cNvSpPr/>
                <p:nvPr/>
              </p:nvSpPr>
              <p:spPr>
                <a:xfrm>
                  <a:off x="2971440" y="5239800"/>
                  <a:ext cx="762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3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2954160" y="5239800"/>
                  <a:ext cx="79704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5" name=""/>
              <p:cNvGrpSpPr/>
              <p:nvPr/>
            </p:nvGrpSpPr>
            <p:grpSpPr>
              <a:xfrm>
                <a:off x="3751200" y="5239800"/>
                <a:ext cx="1406520" cy="621360"/>
                <a:chOff x="3751200" y="5239800"/>
                <a:chExt cx="1406520" cy="621360"/>
              </a:xfrm>
            </p:grpSpPr>
            <p:sp>
              <p:nvSpPr>
                <p:cNvPr id="2576" name=""/>
                <p:cNvSpPr/>
                <p:nvPr/>
              </p:nvSpPr>
              <p:spPr>
                <a:xfrm>
                  <a:off x="3768480" y="5239800"/>
                  <a:ext cx="137160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9</a:t>
                  </a: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  <a:ea typeface="仿宋_GB2312"/>
                    </a:rPr>
                    <a:t>位</a:t>
                  </a:r>
                  <a:r>
                    <a:rPr b="1" lang="en-US" sz="1000" spc="-1" strike="noStrike">
                      <a:solidFill>
                        <a:srgbClr val="5b5249"/>
                      </a:solidFill>
                      <a:latin typeface="Times New Roman"/>
                    </a:rPr>
                    <a:t>UART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3751200" y="5239800"/>
                  <a:ext cx="140652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8" name=""/>
              <p:cNvGrpSpPr/>
              <p:nvPr/>
            </p:nvGrpSpPr>
            <p:grpSpPr>
              <a:xfrm>
                <a:off x="5157720" y="5239800"/>
                <a:ext cx="1939680" cy="621360"/>
                <a:chOff x="5157720" y="5239800"/>
                <a:chExt cx="1939680" cy="62136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5175000" y="5239800"/>
                  <a:ext cx="1905120" cy="62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5b5249"/>
                      </a:solidFill>
                      <a:latin typeface="Times New Roman"/>
                    </a:rPr>
                    <a:t>可变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5157720" y="5239800"/>
                  <a:ext cx="1939680" cy="62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1" name=""/>
            <p:cNvSpPr/>
            <p:nvPr/>
          </p:nvSpPr>
          <p:spPr>
            <a:xfrm>
              <a:off x="1981080" y="2590920"/>
              <a:ext cx="5121360" cy="3276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"/>
          <p:cNvSpPr/>
          <p:nvPr/>
        </p:nvSpPr>
        <p:spPr>
          <a:xfrm>
            <a:off x="533520" y="99072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10032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84" name="方式0时序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733560" cy="3809880"/>
          </a:xfrm>
          <a:prstGeom prst="rect">
            <a:avLst/>
          </a:prstGeom>
          <a:ln w="0">
            <a:noFill/>
          </a:ln>
        </p:spPr>
      </p:pic>
      <p:sp>
        <p:nvSpPr>
          <p:cNvPr id="2585" name="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7-8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串行口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时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"/>
          <p:cNvSpPr/>
          <p:nvPr/>
        </p:nvSpPr>
        <p:spPr>
          <a:xfrm>
            <a:off x="838080" y="990720"/>
            <a:ext cx="914400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．方式</a:t>
            </a: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1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在方式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时，串行口被设置为波特率可变的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8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位异步通信接口。其时序如图 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7-9 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87" name="方式1时序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572000" cy="2933640"/>
          </a:xfrm>
          <a:prstGeom prst="rect">
            <a:avLst/>
          </a:prstGeom>
          <a:ln w="0">
            <a:noFill/>
          </a:ln>
        </p:spPr>
      </p:pic>
      <p:sp>
        <p:nvSpPr>
          <p:cNvPr id="2588" name=""/>
          <p:cNvSpPr/>
          <p:nvPr/>
        </p:nvSpPr>
        <p:spPr>
          <a:xfrm>
            <a:off x="0" y="54100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9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串行口方式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的时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 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CS-5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单片机的结构原理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805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单片机的结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9" name="51单片机基本结构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791320" cy="3429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89840" y="624852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图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2‑1  </a:t>
            </a: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MCS-51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单片机的基本结构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"/>
          <p:cNvSpPr/>
          <p:nvPr/>
        </p:nvSpPr>
        <p:spPr>
          <a:xfrm>
            <a:off x="457200" y="914400"/>
            <a:ext cx="91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串行口工作为方式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时，被定义为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9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位异步通信接口。其时序如图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7-10 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所示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2562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91" name="方式2时序" descr=""/>
          <p:cNvPicPr/>
          <p:nvPr/>
        </p:nvPicPr>
        <p:blipFill>
          <a:blip r:embed="rId1"/>
          <a:stretch/>
        </p:blipFill>
        <p:spPr>
          <a:xfrm>
            <a:off x="1981080" y="1938240"/>
            <a:ext cx="5029200" cy="3319560"/>
          </a:xfrm>
          <a:prstGeom prst="rect">
            <a:avLst/>
          </a:prstGeom>
          <a:ln w="0">
            <a:noFill/>
          </a:ln>
        </p:spPr>
      </p:pic>
      <p:sp>
        <p:nvSpPr>
          <p:cNvPr id="2592" name=""/>
          <p:cNvSpPr/>
          <p:nvPr/>
        </p:nvSpPr>
        <p:spPr>
          <a:xfrm>
            <a:off x="457200" y="518148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4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方式</a:t>
            </a:r>
            <a:r>
              <a:rPr b="0" lang="zh-CN" sz="1800" spc="-1" strike="noStrike">
                <a:solidFill>
                  <a:srgbClr val="5b5249"/>
                </a:solidFill>
                <a:latin typeface="宋体"/>
              </a:rPr>
              <a:t>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7-10  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串行口方式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2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、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Arial"/>
              </a:rPr>
              <a:t>3</a:t>
            </a:r>
            <a:r>
              <a:rPr b="0" lang="zh-CN" sz="1800" spc="-1" strike="noStrike">
                <a:solidFill>
                  <a:srgbClr val="5b5249"/>
                </a:solidFill>
                <a:latin typeface="Arial"/>
                <a:ea typeface="黑体"/>
              </a:rPr>
              <a:t>的时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"/>
          <p:cNvSpPr/>
          <p:nvPr/>
        </p:nvSpPr>
        <p:spPr>
          <a:xfrm>
            <a:off x="30492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MCS-5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串行通信的波特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57200" y="152388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．方式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的波特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57200" y="1981080"/>
            <a:ext cx="112777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方式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的波特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80880" y="2438280"/>
            <a:ext cx="92203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3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方式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或方式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宋体"/>
              </a:rPr>
              <a:t>的波特率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3240" y="-6872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Arial"/>
              </a:rPr>
              <a:t>7-2  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常用波特率和定时器</a:t>
            </a:r>
            <a:r>
              <a:rPr b="0" lang="en-US" sz="1000" spc="-1" strike="noStrike">
                <a:solidFill>
                  <a:srgbClr val="5b5249"/>
                </a:solidFill>
                <a:latin typeface="Arial"/>
                <a:ea typeface="Arial"/>
              </a:rPr>
              <a:t>T1</a:t>
            </a:r>
            <a:r>
              <a:rPr b="0" lang="zh-CN" sz="1000" spc="-1" strike="noStrike">
                <a:solidFill>
                  <a:srgbClr val="5b5249"/>
                </a:solidFill>
                <a:latin typeface="Arial"/>
                <a:ea typeface="黑体"/>
              </a:rPr>
              <a:t>初值关系表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8" name=""/>
          <p:cNvGrpSpPr/>
          <p:nvPr/>
        </p:nvGrpSpPr>
        <p:grpSpPr>
          <a:xfrm>
            <a:off x="1676520" y="1066680"/>
            <a:ext cx="6532200" cy="5562720"/>
            <a:chOff x="1676520" y="1066680"/>
            <a:chExt cx="6532200" cy="5562720"/>
          </a:xfrm>
        </p:grpSpPr>
        <p:grpSp>
          <p:nvGrpSpPr>
            <p:cNvPr id="2599" name=""/>
            <p:cNvGrpSpPr/>
            <p:nvPr/>
          </p:nvGrpSpPr>
          <p:grpSpPr>
            <a:xfrm>
              <a:off x="1681560" y="1069920"/>
              <a:ext cx="6521400" cy="5555520"/>
              <a:chOff x="1681560" y="1069920"/>
              <a:chExt cx="6521400" cy="5555520"/>
            </a:xfrm>
          </p:grpSpPr>
          <p:grpSp>
            <p:nvGrpSpPr>
              <p:cNvPr id="2600" name=""/>
              <p:cNvGrpSpPr/>
              <p:nvPr/>
            </p:nvGrpSpPr>
            <p:grpSpPr>
              <a:xfrm>
                <a:off x="1681560" y="1069920"/>
                <a:ext cx="811440" cy="999720"/>
                <a:chOff x="1681560" y="1069920"/>
                <a:chExt cx="811440" cy="999720"/>
              </a:xfrm>
            </p:grpSpPr>
            <p:sp>
              <p:nvSpPr>
                <p:cNvPr id="2601" name=""/>
                <p:cNvSpPr/>
                <p:nvPr/>
              </p:nvSpPr>
              <p:spPr>
                <a:xfrm>
                  <a:off x="1701000" y="1069920"/>
                  <a:ext cx="772920" cy="99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波特率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(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、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)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1681560" y="1069920"/>
                  <a:ext cx="811440" cy="99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3" name=""/>
              <p:cNvGrpSpPr/>
              <p:nvPr/>
            </p:nvGrpSpPr>
            <p:grpSpPr>
              <a:xfrm>
                <a:off x="2493360" y="1069920"/>
                <a:ext cx="2028240" cy="444600"/>
                <a:chOff x="2493360" y="1069920"/>
                <a:chExt cx="2028240" cy="44460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2512800" y="1069920"/>
                  <a:ext cx="19893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osc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=6M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2493360" y="1069920"/>
                  <a:ext cx="20282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4522320" y="1069920"/>
                <a:ext cx="1916280" cy="444600"/>
                <a:chOff x="4522320" y="1069920"/>
                <a:chExt cx="1916280" cy="44460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4541040" y="1069920"/>
                  <a:ext cx="18777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osc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=12M 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4522320" y="1069920"/>
                  <a:ext cx="191628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438960" y="1069920"/>
                <a:ext cx="1764000" cy="444600"/>
                <a:chOff x="6438960" y="1069920"/>
                <a:chExt cx="1764000" cy="44460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457680" y="1069920"/>
                  <a:ext cx="172548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osc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 = 11.059M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6438960" y="1069920"/>
                  <a:ext cx="17640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2493360" y="1514520"/>
                <a:ext cx="587880" cy="555120"/>
                <a:chOff x="2493360" y="1514520"/>
                <a:chExt cx="587880" cy="55512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2512800" y="1514520"/>
                  <a:ext cx="54900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O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2493360" y="1514520"/>
                  <a:ext cx="58788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3081600" y="1514520"/>
                <a:ext cx="587160" cy="555120"/>
                <a:chOff x="3081600" y="1514520"/>
                <a:chExt cx="587160" cy="55512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3100320" y="1514520"/>
                  <a:ext cx="54936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3081600" y="1514520"/>
                  <a:ext cx="58716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3669480" y="1514520"/>
                <a:ext cx="577440" cy="555120"/>
                <a:chOff x="3669480" y="1514520"/>
                <a:chExt cx="577440" cy="55512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3688920" y="1514520"/>
                  <a:ext cx="53856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初值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3669480" y="1514520"/>
                  <a:ext cx="57744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4247640" y="1514520"/>
                <a:ext cx="549000" cy="555120"/>
                <a:chOff x="4247640" y="1514520"/>
                <a:chExt cx="549000" cy="55512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4266360" y="1514520"/>
                  <a:ext cx="51120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O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4247640" y="1514520"/>
                  <a:ext cx="54900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4797000" y="1514520"/>
                <a:ext cx="820440" cy="555120"/>
                <a:chOff x="4797000" y="1514520"/>
                <a:chExt cx="820440" cy="55512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4816440" y="1514520"/>
                  <a:ext cx="78192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4797000" y="1514520"/>
                  <a:ext cx="82044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7" name=""/>
              <p:cNvGrpSpPr/>
              <p:nvPr/>
            </p:nvGrpSpPr>
            <p:grpSpPr>
              <a:xfrm>
                <a:off x="5617800" y="1514520"/>
                <a:ext cx="820800" cy="555120"/>
                <a:chOff x="5617800" y="1514520"/>
                <a:chExt cx="820800" cy="555120"/>
              </a:xfrm>
            </p:grpSpPr>
            <p:sp>
              <p:nvSpPr>
                <p:cNvPr id="2628" name=""/>
                <p:cNvSpPr/>
                <p:nvPr/>
              </p:nvSpPr>
              <p:spPr>
                <a:xfrm>
                  <a:off x="5637240" y="1514520"/>
                  <a:ext cx="78192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初值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5617800" y="1514520"/>
                  <a:ext cx="82080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0" name=""/>
              <p:cNvGrpSpPr/>
              <p:nvPr/>
            </p:nvGrpSpPr>
            <p:grpSpPr>
              <a:xfrm>
                <a:off x="6438960" y="1514520"/>
                <a:ext cx="520920" cy="555120"/>
                <a:chOff x="6438960" y="1514520"/>
                <a:chExt cx="520920" cy="555120"/>
              </a:xfrm>
            </p:grpSpPr>
            <p:sp>
              <p:nvSpPr>
                <p:cNvPr id="2631" name=""/>
                <p:cNvSpPr/>
                <p:nvPr/>
              </p:nvSpPr>
              <p:spPr>
                <a:xfrm>
                  <a:off x="6457680" y="1514520"/>
                  <a:ext cx="48276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SMOD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438960" y="1514520"/>
                  <a:ext cx="52092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3" name=""/>
              <p:cNvGrpSpPr/>
              <p:nvPr/>
            </p:nvGrpSpPr>
            <p:grpSpPr>
              <a:xfrm>
                <a:off x="6960600" y="1514520"/>
                <a:ext cx="585720" cy="555120"/>
                <a:chOff x="6960600" y="1514520"/>
                <a:chExt cx="585720" cy="555120"/>
              </a:xfrm>
            </p:grpSpPr>
            <p:sp>
              <p:nvSpPr>
                <p:cNvPr id="2634" name=""/>
                <p:cNvSpPr/>
                <p:nvPr/>
              </p:nvSpPr>
              <p:spPr>
                <a:xfrm>
                  <a:off x="6979320" y="1514520"/>
                  <a:ext cx="54720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T</a:t>
                  </a:r>
                  <a:r>
                    <a:rPr b="0" lang="en-US" sz="900" spc="-1" strike="noStrike" baseline="-30000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方式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6960600" y="1514520"/>
                  <a:ext cx="58572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6" name=""/>
              <p:cNvGrpSpPr/>
              <p:nvPr/>
            </p:nvGrpSpPr>
            <p:grpSpPr>
              <a:xfrm>
                <a:off x="7547040" y="1514520"/>
                <a:ext cx="655920" cy="555120"/>
                <a:chOff x="7547040" y="1514520"/>
                <a:chExt cx="655920" cy="555120"/>
              </a:xfrm>
            </p:grpSpPr>
            <p:sp>
              <p:nvSpPr>
                <p:cNvPr id="2637" name=""/>
                <p:cNvSpPr/>
                <p:nvPr/>
              </p:nvSpPr>
              <p:spPr>
                <a:xfrm>
                  <a:off x="7565760" y="1514520"/>
                  <a:ext cx="61740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初值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7547040" y="1514520"/>
                  <a:ext cx="655920" cy="55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9" name=""/>
              <p:cNvGrpSpPr/>
              <p:nvPr/>
            </p:nvGrpSpPr>
            <p:grpSpPr>
              <a:xfrm>
                <a:off x="1681560" y="2069640"/>
                <a:ext cx="811440" cy="444600"/>
                <a:chOff x="1681560" y="2069640"/>
                <a:chExt cx="811440" cy="444600"/>
              </a:xfrm>
            </p:grpSpPr>
            <p:sp>
              <p:nvSpPr>
                <p:cNvPr id="2640" name=""/>
                <p:cNvSpPr/>
                <p:nvPr/>
              </p:nvSpPr>
              <p:spPr>
                <a:xfrm>
                  <a:off x="1701000" y="2069640"/>
                  <a:ext cx="772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62.5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1681560" y="2069640"/>
                  <a:ext cx="811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2" name=""/>
              <p:cNvGrpSpPr/>
              <p:nvPr/>
            </p:nvGrpSpPr>
            <p:grpSpPr>
              <a:xfrm>
                <a:off x="2493360" y="2069640"/>
                <a:ext cx="587880" cy="444600"/>
                <a:chOff x="2493360" y="2069640"/>
                <a:chExt cx="587880" cy="444600"/>
              </a:xfrm>
            </p:grpSpPr>
            <p:sp>
              <p:nvSpPr>
                <p:cNvPr id="2643" name=""/>
                <p:cNvSpPr/>
                <p:nvPr/>
              </p:nvSpPr>
              <p:spPr>
                <a:xfrm>
                  <a:off x="2512800" y="2069640"/>
                  <a:ext cx="5490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2493360" y="2069640"/>
                  <a:ext cx="58788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5" name=""/>
              <p:cNvGrpSpPr/>
              <p:nvPr/>
            </p:nvGrpSpPr>
            <p:grpSpPr>
              <a:xfrm>
                <a:off x="3081600" y="2069640"/>
                <a:ext cx="587160" cy="444600"/>
                <a:chOff x="3081600" y="2069640"/>
                <a:chExt cx="587160" cy="444600"/>
              </a:xfrm>
            </p:grpSpPr>
            <p:sp>
              <p:nvSpPr>
                <p:cNvPr id="2646" name=""/>
                <p:cNvSpPr/>
                <p:nvPr/>
              </p:nvSpPr>
              <p:spPr>
                <a:xfrm>
                  <a:off x="3100320" y="2069640"/>
                  <a:ext cx="5493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3081600" y="2069640"/>
                  <a:ext cx="58716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8" name=""/>
              <p:cNvGrpSpPr/>
              <p:nvPr/>
            </p:nvGrpSpPr>
            <p:grpSpPr>
              <a:xfrm>
                <a:off x="3669480" y="2069640"/>
                <a:ext cx="577440" cy="444600"/>
                <a:chOff x="3669480" y="2069640"/>
                <a:chExt cx="577440" cy="44460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3688920" y="2069640"/>
                  <a:ext cx="5385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3669480" y="2069640"/>
                  <a:ext cx="577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1" name=""/>
              <p:cNvGrpSpPr/>
              <p:nvPr/>
            </p:nvGrpSpPr>
            <p:grpSpPr>
              <a:xfrm>
                <a:off x="4247640" y="2069640"/>
                <a:ext cx="549000" cy="444600"/>
                <a:chOff x="4247640" y="2069640"/>
                <a:chExt cx="549000" cy="444600"/>
              </a:xfrm>
            </p:grpSpPr>
            <p:sp>
              <p:nvSpPr>
                <p:cNvPr id="2652" name=""/>
                <p:cNvSpPr/>
                <p:nvPr/>
              </p:nvSpPr>
              <p:spPr>
                <a:xfrm>
                  <a:off x="4266360" y="2069640"/>
                  <a:ext cx="511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4247640" y="2069640"/>
                  <a:ext cx="5490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4" name=""/>
              <p:cNvGrpSpPr/>
              <p:nvPr/>
            </p:nvGrpSpPr>
            <p:grpSpPr>
              <a:xfrm>
                <a:off x="4797000" y="2069640"/>
                <a:ext cx="820440" cy="444600"/>
                <a:chOff x="4797000" y="2069640"/>
                <a:chExt cx="820440" cy="444600"/>
              </a:xfrm>
            </p:grpSpPr>
            <p:sp>
              <p:nvSpPr>
                <p:cNvPr id="2655" name=""/>
                <p:cNvSpPr/>
                <p:nvPr/>
              </p:nvSpPr>
              <p:spPr>
                <a:xfrm>
                  <a:off x="4816440" y="206964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4797000" y="2069640"/>
                  <a:ext cx="820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7" name=""/>
              <p:cNvGrpSpPr/>
              <p:nvPr/>
            </p:nvGrpSpPr>
            <p:grpSpPr>
              <a:xfrm>
                <a:off x="5617800" y="2069640"/>
                <a:ext cx="820800" cy="444600"/>
                <a:chOff x="5617800" y="2069640"/>
                <a:chExt cx="820800" cy="444600"/>
              </a:xfrm>
            </p:grpSpPr>
            <p:sp>
              <p:nvSpPr>
                <p:cNvPr id="2658" name=""/>
                <p:cNvSpPr/>
                <p:nvPr/>
              </p:nvSpPr>
              <p:spPr>
                <a:xfrm>
                  <a:off x="5637240" y="206964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F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5617800" y="2069640"/>
                  <a:ext cx="8208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0" name=""/>
              <p:cNvGrpSpPr/>
              <p:nvPr/>
            </p:nvGrpSpPr>
            <p:grpSpPr>
              <a:xfrm>
                <a:off x="6438960" y="2069640"/>
                <a:ext cx="520920" cy="444600"/>
                <a:chOff x="6438960" y="2069640"/>
                <a:chExt cx="520920" cy="444600"/>
              </a:xfrm>
            </p:grpSpPr>
            <p:sp>
              <p:nvSpPr>
                <p:cNvPr id="2661" name=""/>
                <p:cNvSpPr/>
                <p:nvPr/>
              </p:nvSpPr>
              <p:spPr>
                <a:xfrm>
                  <a:off x="6457680" y="2069640"/>
                  <a:ext cx="4827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6438960" y="2069640"/>
                  <a:ext cx="520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3" name=""/>
              <p:cNvGrpSpPr/>
              <p:nvPr/>
            </p:nvGrpSpPr>
            <p:grpSpPr>
              <a:xfrm>
                <a:off x="6960600" y="2069640"/>
                <a:ext cx="585720" cy="444600"/>
                <a:chOff x="6960600" y="2069640"/>
                <a:chExt cx="585720" cy="444600"/>
              </a:xfrm>
            </p:grpSpPr>
            <p:sp>
              <p:nvSpPr>
                <p:cNvPr id="2664" name=""/>
                <p:cNvSpPr/>
                <p:nvPr/>
              </p:nvSpPr>
              <p:spPr>
                <a:xfrm>
                  <a:off x="6979320" y="2069640"/>
                  <a:ext cx="547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960600" y="2069640"/>
                  <a:ext cx="5857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6" name=""/>
              <p:cNvGrpSpPr/>
              <p:nvPr/>
            </p:nvGrpSpPr>
            <p:grpSpPr>
              <a:xfrm>
                <a:off x="7547040" y="2069640"/>
                <a:ext cx="655920" cy="444600"/>
                <a:chOff x="7547040" y="2069640"/>
                <a:chExt cx="655920" cy="444600"/>
              </a:xfrm>
            </p:grpSpPr>
            <p:sp>
              <p:nvSpPr>
                <p:cNvPr id="2667" name=""/>
                <p:cNvSpPr/>
                <p:nvPr/>
              </p:nvSpPr>
              <p:spPr>
                <a:xfrm>
                  <a:off x="7565760" y="2069640"/>
                  <a:ext cx="6174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7547040" y="2069640"/>
                  <a:ext cx="655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9" name=""/>
              <p:cNvGrpSpPr/>
              <p:nvPr/>
            </p:nvGrpSpPr>
            <p:grpSpPr>
              <a:xfrm>
                <a:off x="1681560" y="2514600"/>
                <a:ext cx="811440" cy="444240"/>
                <a:chOff x="1681560" y="2514600"/>
                <a:chExt cx="811440" cy="444240"/>
              </a:xfrm>
            </p:grpSpPr>
            <p:sp>
              <p:nvSpPr>
                <p:cNvPr id="2670" name=""/>
                <p:cNvSpPr/>
                <p:nvPr/>
              </p:nvSpPr>
              <p:spPr>
                <a:xfrm>
                  <a:off x="1701000" y="251460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9.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1681560" y="251460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2" name=""/>
              <p:cNvGrpSpPr/>
              <p:nvPr/>
            </p:nvGrpSpPr>
            <p:grpSpPr>
              <a:xfrm>
                <a:off x="2493360" y="2514600"/>
                <a:ext cx="587880" cy="444240"/>
                <a:chOff x="2493360" y="2514600"/>
                <a:chExt cx="587880" cy="444240"/>
              </a:xfrm>
            </p:grpSpPr>
            <p:sp>
              <p:nvSpPr>
                <p:cNvPr id="2673" name=""/>
                <p:cNvSpPr/>
                <p:nvPr/>
              </p:nvSpPr>
              <p:spPr>
                <a:xfrm>
                  <a:off x="2512800" y="251460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2493360" y="251460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5" name=""/>
              <p:cNvGrpSpPr/>
              <p:nvPr/>
            </p:nvGrpSpPr>
            <p:grpSpPr>
              <a:xfrm>
                <a:off x="3081600" y="2514600"/>
                <a:ext cx="587160" cy="444240"/>
                <a:chOff x="3081600" y="2514600"/>
                <a:chExt cx="587160" cy="444240"/>
              </a:xfrm>
            </p:grpSpPr>
            <p:sp>
              <p:nvSpPr>
                <p:cNvPr id="2676" name=""/>
                <p:cNvSpPr/>
                <p:nvPr/>
              </p:nvSpPr>
              <p:spPr>
                <a:xfrm>
                  <a:off x="3100320" y="251460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3081600" y="251460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8" name=""/>
              <p:cNvGrpSpPr/>
              <p:nvPr/>
            </p:nvGrpSpPr>
            <p:grpSpPr>
              <a:xfrm>
                <a:off x="3669480" y="2514600"/>
                <a:ext cx="577440" cy="444240"/>
                <a:chOff x="3669480" y="2514600"/>
                <a:chExt cx="577440" cy="44424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3688920" y="251460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3669480" y="251460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4247640" y="2514600"/>
                <a:ext cx="549000" cy="444240"/>
                <a:chOff x="4247640" y="2514600"/>
                <a:chExt cx="549000" cy="44424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4266360" y="251460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4247640" y="251460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4797000" y="2514600"/>
                <a:ext cx="820440" cy="444240"/>
                <a:chOff x="4797000" y="2514600"/>
                <a:chExt cx="820440" cy="44424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4816440" y="251460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4797000" y="251460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5617800" y="2514600"/>
                <a:ext cx="820800" cy="444240"/>
                <a:chOff x="5617800" y="2514600"/>
                <a:chExt cx="820800" cy="44424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5637240" y="251460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5617800" y="251460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6438960" y="2514600"/>
                <a:ext cx="520920" cy="444240"/>
                <a:chOff x="6438960" y="2514600"/>
                <a:chExt cx="520920" cy="44424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6457680" y="251460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438960" y="251460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960600" y="2514600"/>
                <a:ext cx="585720" cy="444240"/>
                <a:chOff x="6960600" y="2514600"/>
                <a:chExt cx="585720" cy="44424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979320" y="251460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6960600" y="251460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7547040" y="2514600"/>
                <a:ext cx="655920" cy="444240"/>
                <a:chOff x="7547040" y="2514600"/>
                <a:chExt cx="655920" cy="44424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7565760" y="251460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D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7547040" y="251460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1681560" y="2958840"/>
                <a:ext cx="811440" cy="444240"/>
                <a:chOff x="1681560" y="2958840"/>
                <a:chExt cx="811440" cy="44424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1701000" y="295884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.6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1681560" y="295884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2" name=""/>
              <p:cNvGrpSpPr/>
              <p:nvPr/>
            </p:nvGrpSpPr>
            <p:grpSpPr>
              <a:xfrm>
                <a:off x="2493360" y="2958840"/>
                <a:ext cx="587880" cy="444240"/>
                <a:chOff x="2493360" y="2958840"/>
                <a:chExt cx="587880" cy="444240"/>
              </a:xfrm>
            </p:grpSpPr>
            <p:sp>
              <p:nvSpPr>
                <p:cNvPr id="2703" name=""/>
                <p:cNvSpPr/>
                <p:nvPr/>
              </p:nvSpPr>
              <p:spPr>
                <a:xfrm>
                  <a:off x="2512800" y="295884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2493360" y="295884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5" name=""/>
              <p:cNvGrpSpPr/>
              <p:nvPr/>
            </p:nvGrpSpPr>
            <p:grpSpPr>
              <a:xfrm>
                <a:off x="3081600" y="2958840"/>
                <a:ext cx="587160" cy="444240"/>
                <a:chOff x="3081600" y="2958840"/>
                <a:chExt cx="587160" cy="444240"/>
              </a:xfrm>
            </p:grpSpPr>
            <p:sp>
              <p:nvSpPr>
                <p:cNvPr id="2706" name=""/>
                <p:cNvSpPr/>
                <p:nvPr/>
              </p:nvSpPr>
              <p:spPr>
                <a:xfrm>
                  <a:off x="3100320" y="295884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3081600" y="295884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3669480" y="2958840"/>
                <a:ext cx="577440" cy="444240"/>
                <a:chOff x="3669480" y="2958840"/>
                <a:chExt cx="577440" cy="44424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3688920" y="295884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3669480" y="295884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1" name=""/>
              <p:cNvGrpSpPr/>
              <p:nvPr/>
            </p:nvGrpSpPr>
            <p:grpSpPr>
              <a:xfrm>
                <a:off x="4247640" y="2958840"/>
                <a:ext cx="549000" cy="444240"/>
                <a:chOff x="4247640" y="2958840"/>
                <a:chExt cx="549000" cy="444240"/>
              </a:xfrm>
            </p:grpSpPr>
            <p:sp>
              <p:nvSpPr>
                <p:cNvPr id="2712" name=""/>
                <p:cNvSpPr/>
                <p:nvPr/>
              </p:nvSpPr>
              <p:spPr>
                <a:xfrm>
                  <a:off x="4266360" y="295884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4247640" y="295884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4" name=""/>
              <p:cNvGrpSpPr/>
              <p:nvPr/>
            </p:nvGrpSpPr>
            <p:grpSpPr>
              <a:xfrm>
                <a:off x="4797000" y="2958840"/>
                <a:ext cx="820440" cy="444240"/>
                <a:chOff x="4797000" y="2958840"/>
                <a:chExt cx="820440" cy="444240"/>
              </a:xfrm>
            </p:grpSpPr>
            <p:sp>
              <p:nvSpPr>
                <p:cNvPr id="2715" name=""/>
                <p:cNvSpPr/>
                <p:nvPr/>
              </p:nvSpPr>
              <p:spPr>
                <a:xfrm>
                  <a:off x="4816440" y="295884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4797000" y="295884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7" name=""/>
              <p:cNvGrpSpPr/>
              <p:nvPr/>
            </p:nvGrpSpPr>
            <p:grpSpPr>
              <a:xfrm>
                <a:off x="5617800" y="2958840"/>
                <a:ext cx="820800" cy="444240"/>
                <a:chOff x="5617800" y="2958840"/>
                <a:chExt cx="820800" cy="444240"/>
              </a:xfrm>
            </p:grpSpPr>
            <p:sp>
              <p:nvSpPr>
                <p:cNvPr id="2718" name=""/>
                <p:cNvSpPr/>
                <p:nvPr/>
              </p:nvSpPr>
              <p:spPr>
                <a:xfrm>
                  <a:off x="5637240" y="295884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5617800" y="295884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0" name=""/>
              <p:cNvGrpSpPr/>
              <p:nvPr/>
            </p:nvGrpSpPr>
            <p:grpSpPr>
              <a:xfrm>
                <a:off x="6438960" y="2958840"/>
                <a:ext cx="520920" cy="444240"/>
                <a:chOff x="6438960" y="2958840"/>
                <a:chExt cx="520920" cy="444240"/>
              </a:xfrm>
            </p:grpSpPr>
            <p:sp>
              <p:nvSpPr>
                <p:cNvPr id="2721" name=""/>
                <p:cNvSpPr/>
                <p:nvPr/>
              </p:nvSpPr>
              <p:spPr>
                <a:xfrm>
                  <a:off x="6457680" y="295884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438960" y="295884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3" name=""/>
              <p:cNvGrpSpPr/>
              <p:nvPr/>
            </p:nvGrpSpPr>
            <p:grpSpPr>
              <a:xfrm>
                <a:off x="6960600" y="2958840"/>
                <a:ext cx="585720" cy="444240"/>
                <a:chOff x="6960600" y="2958840"/>
                <a:chExt cx="585720" cy="444240"/>
              </a:xfrm>
            </p:grpSpPr>
            <p:sp>
              <p:nvSpPr>
                <p:cNvPr id="2724" name=""/>
                <p:cNvSpPr/>
                <p:nvPr/>
              </p:nvSpPr>
              <p:spPr>
                <a:xfrm>
                  <a:off x="6979320" y="295884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960600" y="295884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6" name=""/>
              <p:cNvGrpSpPr/>
              <p:nvPr/>
            </p:nvGrpSpPr>
            <p:grpSpPr>
              <a:xfrm>
                <a:off x="7547040" y="2958840"/>
                <a:ext cx="655920" cy="444240"/>
                <a:chOff x="7547040" y="2958840"/>
                <a:chExt cx="655920" cy="444240"/>
              </a:xfrm>
            </p:grpSpPr>
            <p:sp>
              <p:nvSpPr>
                <p:cNvPr id="2727" name=""/>
                <p:cNvSpPr/>
                <p:nvPr/>
              </p:nvSpPr>
              <p:spPr>
                <a:xfrm>
                  <a:off x="7565760" y="295884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D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7547040" y="295884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9" name=""/>
              <p:cNvGrpSpPr/>
              <p:nvPr/>
            </p:nvGrpSpPr>
            <p:grpSpPr>
              <a:xfrm>
                <a:off x="1681560" y="3403080"/>
                <a:ext cx="811440" cy="444600"/>
                <a:chOff x="1681560" y="3403080"/>
                <a:chExt cx="811440" cy="444600"/>
              </a:xfrm>
            </p:grpSpPr>
            <p:sp>
              <p:nvSpPr>
                <p:cNvPr id="2730" name=""/>
                <p:cNvSpPr/>
                <p:nvPr/>
              </p:nvSpPr>
              <p:spPr>
                <a:xfrm>
                  <a:off x="1701000" y="3403080"/>
                  <a:ext cx="772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4.8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1681560" y="3403080"/>
                  <a:ext cx="811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2" name=""/>
              <p:cNvGrpSpPr/>
              <p:nvPr/>
            </p:nvGrpSpPr>
            <p:grpSpPr>
              <a:xfrm>
                <a:off x="2493360" y="3403080"/>
                <a:ext cx="587880" cy="444600"/>
                <a:chOff x="2493360" y="3403080"/>
                <a:chExt cx="587880" cy="44460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2512800" y="3403080"/>
                  <a:ext cx="5490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2493360" y="3403080"/>
                  <a:ext cx="58788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5" name=""/>
              <p:cNvGrpSpPr/>
              <p:nvPr/>
            </p:nvGrpSpPr>
            <p:grpSpPr>
              <a:xfrm>
                <a:off x="3081600" y="3403080"/>
                <a:ext cx="587160" cy="444600"/>
                <a:chOff x="3081600" y="3403080"/>
                <a:chExt cx="587160" cy="444600"/>
              </a:xfrm>
            </p:grpSpPr>
            <p:sp>
              <p:nvSpPr>
                <p:cNvPr id="2736" name=""/>
                <p:cNvSpPr/>
                <p:nvPr/>
              </p:nvSpPr>
              <p:spPr>
                <a:xfrm>
                  <a:off x="3100320" y="3403080"/>
                  <a:ext cx="5493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3081600" y="3403080"/>
                  <a:ext cx="58716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8" name=""/>
              <p:cNvGrpSpPr/>
              <p:nvPr/>
            </p:nvGrpSpPr>
            <p:grpSpPr>
              <a:xfrm>
                <a:off x="3669480" y="3403080"/>
                <a:ext cx="577440" cy="444600"/>
                <a:chOff x="3669480" y="3403080"/>
                <a:chExt cx="577440" cy="44460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3688920" y="3403080"/>
                  <a:ext cx="5385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3669480" y="3403080"/>
                  <a:ext cx="577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4247640" y="3403080"/>
                <a:ext cx="549000" cy="444600"/>
                <a:chOff x="4247640" y="3403080"/>
                <a:chExt cx="549000" cy="444600"/>
              </a:xfrm>
            </p:grpSpPr>
            <p:sp>
              <p:nvSpPr>
                <p:cNvPr id="2742" name=""/>
                <p:cNvSpPr/>
                <p:nvPr/>
              </p:nvSpPr>
              <p:spPr>
                <a:xfrm>
                  <a:off x="4266360" y="3403080"/>
                  <a:ext cx="511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4247640" y="3403080"/>
                  <a:ext cx="5490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4" name=""/>
              <p:cNvGrpSpPr/>
              <p:nvPr/>
            </p:nvGrpSpPr>
            <p:grpSpPr>
              <a:xfrm>
                <a:off x="4797000" y="3403080"/>
                <a:ext cx="820440" cy="444600"/>
                <a:chOff x="4797000" y="3403080"/>
                <a:chExt cx="820440" cy="444600"/>
              </a:xfrm>
            </p:grpSpPr>
            <p:sp>
              <p:nvSpPr>
                <p:cNvPr id="2745" name=""/>
                <p:cNvSpPr/>
                <p:nvPr/>
              </p:nvSpPr>
              <p:spPr>
                <a:xfrm>
                  <a:off x="4816440" y="340308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4797000" y="3403080"/>
                  <a:ext cx="820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7" name=""/>
              <p:cNvGrpSpPr/>
              <p:nvPr/>
            </p:nvGrpSpPr>
            <p:grpSpPr>
              <a:xfrm>
                <a:off x="5617800" y="3403080"/>
                <a:ext cx="820800" cy="444600"/>
                <a:chOff x="5617800" y="3403080"/>
                <a:chExt cx="820800" cy="444600"/>
              </a:xfrm>
            </p:grpSpPr>
            <p:sp>
              <p:nvSpPr>
                <p:cNvPr id="2748" name=""/>
                <p:cNvSpPr/>
                <p:nvPr/>
              </p:nvSpPr>
              <p:spPr>
                <a:xfrm>
                  <a:off x="5637240" y="340308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3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5617800" y="3403080"/>
                  <a:ext cx="8208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0" name=""/>
              <p:cNvGrpSpPr/>
              <p:nvPr/>
            </p:nvGrpSpPr>
            <p:grpSpPr>
              <a:xfrm>
                <a:off x="6438960" y="3403080"/>
                <a:ext cx="520920" cy="444600"/>
                <a:chOff x="6438960" y="3403080"/>
                <a:chExt cx="520920" cy="444600"/>
              </a:xfrm>
            </p:grpSpPr>
            <p:sp>
              <p:nvSpPr>
                <p:cNvPr id="2751" name=""/>
                <p:cNvSpPr/>
                <p:nvPr/>
              </p:nvSpPr>
              <p:spPr>
                <a:xfrm>
                  <a:off x="6457680" y="3403080"/>
                  <a:ext cx="4827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438960" y="3403080"/>
                  <a:ext cx="520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3" name=""/>
              <p:cNvGrpSpPr/>
              <p:nvPr/>
            </p:nvGrpSpPr>
            <p:grpSpPr>
              <a:xfrm>
                <a:off x="6960600" y="3403080"/>
                <a:ext cx="585720" cy="444600"/>
                <a:chOff x="6960600" y="3403080"/>
                <a:chExt cx="585720" cy="444600"/>
              </a:xfrm>
            </p:grpSpPr>
            <p:sp>
              <p:nvSpPr>
                <p:cNvPr id="2754" name=""/>
                <p:cNvSpPr/>
                <p:nvPr/>
              </p:nvSpPr>
              <p:spPr>
                <a:xfrm>
                  <a:off x="6979320" y="3403080"/>
                  <a:ext cx="547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960600" y="3403080"/>
                  <a:ext cx="5857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6" name=""/>
              <p:cNvGrpSpPr/>
              <p:nvPr/>
            </p:nvGrpSpPr>
            <p:grpSpPr>
              <a:xfrm>
                <a:off x="7547040" y="3403080"/>
                <a:ext cx="655920" cy="444600"/>
                <a:chOff x="7547040" y="3403080"/>
                <a:chExt cx="655920" cy="444600"/>
              </a:xfrm>
            </p:grpSpPr>
            <p:sp>
              <p:nvSpPr>
                <p:cNvPr id="2757" name=""/>
                <p:cNvSpPr/>
                <p:nvPr/>
              </p:nvSpPr>
              <p:spPr>
                <a:xfrm>
                  <a:off x="7565760" y="3403080"/>
                  <a:ext cx="6174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A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7547040" y="3403080"/>
                  <a:ext cx="655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9" name=""/>
              <p:cNvGrpSpPr/>
              <p:nvPr/>
            </p:nvGrpSpPr>
            <p:grpSpPr>
              <a:xfrm>
                <a:off x="1681560" y="3848040"/>
                <a:ext cx="811440" cy="444240"/>
                <a:chOff x="1681560" y="3848040"/>
                <a:chExt cx="811440" cy="444240"/>
              </a:xfrm>
            </p:grpSpPr>
            <p:sp>
              <p:nvSpPr>
                <p:cNvPr id="2760" name=""/>
                <p:cNvSpPr/>
                <p:nvPr/>
              </p:nvSpPr>
              <p:spPr>
                <a:xfrm>
                  <a:off x="1701000" y="384804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.4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1681560" y="384804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2" name=""/>
              <p:cNvGrpSpPr/>
              <p:nvPr/>
            </p:nvGrpSpPr>
            <p:grpSpPr>
              <a:xfrm>
                <a:off x="2493360" y="3848040"/>
                <a:ext cx="587880" cy="444240"/>
                <a:chOff x="2493360" y="3848040"/>
                <a:chExt cx="587880" cy="44424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2512800" y="384804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2493360" y="384804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5" name=""/>
              <p:cNvGrpSpPr/>
              <p:nvPr/>
            </p:nvGrpSpPr>
            <p:grpSpPr>
              <a:xfrm>
                <a:off x="3081600" y="3848040"/>
                <a:ext cx="587160" cy="444240"/>
                <a:chOff x="3081600" y="3848040"/>
                <a:chExt cx="587160" cy="44424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3100320" y="384804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3081600" y="384804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8" name=""/>
              <p:cNvGrpSpPr/>
              <p:nvPr/>
            </p:nvGrpSpPr>
            <p:grpSpPr>
              <a:xfrm>
                <a:off x="3669480" y="3848040"/>
                <a:ext cx="577440" cy="444240"/>
                <a:chOff x="3669480" y="3848040"/>
                <a:chExt cx="577440" cy="44424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3688920" y="384804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3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3669480" y="384804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1" name=""/>
              <p:cNvGrpSpPr/>
              <p:nvPr/>
            </p:nvGrpSpPr>
            <p:grpSpPr>
              <a:xfrm>
                <a:off x="4247640" y="3848040"/>
                <a:ext cx="549000" cy="444240"/>
                <a:chOff x="4247640" y="3848040"/>
                <a:chExt cx="549000" cy="444240"/>
              </a:xfrm>
            </p:grpSpPr>
            <p:sp>
              <p:nvSpPr>
                <p:cNvPr id="2772" name=""/>
                <p:cNvSpPr/>
                <p:nvPr/>
              </p:nvSpPr>
              <p:spPr>
                <a:xfrm>
                  <a:off x="4266360" y="384804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4247640" y="384804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4" name=""/>
              <p:cNvGrpSpPr/>
              <p:nvPr/>
            </p:nvGrpSpPr>
            <p:grpSpPr>
              <a:xfrm>
                <a:off x="4797000" y="3848040"/>
                <a:ext cx="820440" cy="444240"/>
                <a:chOff x="4797000" y="3848040"/>
                <a:chExt cx="820440" cy="444240"/>
              </a:xfrm>
            </p:grpSpPr>
            <p:sp>
              <p:nvSpPr>
                <p:cNvPr id="2775" name=""/>
                <p:cNvSpPr/>
                <p:nvPr/>
              </p:nvSpPr>
              <p:spPr>
                <a:xfrm>
                  <a:off x="4816440" y="384804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4797000" y="384804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7" name=""/>
              <p:cNvGrpSpPr/>
              <p:nvPr/>
            </p:nvGrpSpPr>
            <p:grpSpPr>
              <a:xfrm>
                <a:off x="5617800" y="3848040"/>
                <a:ext cx="820800" cy="444240"/>
                <a:chOff x="5617800" y="3848040"/>
                <a:chExt cx="820800" cy="444240"/>
              </a:xfrm>
            </p:grpSpPr>
            <p:sp>
              <p:nvSpPr>
                <p:cNvPr id="2778" name=""/>
                <p:cNvSpPr/>
                <p:nvPr/>
              </p:nvSpPr>
              <p:spPr>
                <a:xfrm>
                  <a:off x="5637240" y="384804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3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5617800" y="384804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0" name=""/>
              <p:cNvGrpSpPr/>
              <p:nvPr/>
            </p:nvGrpSpPr>
            <p:grpSpPr>
              <a:xfrm>
                <a:off x="6438960" y="3848040"/>
                <a:ext cx="520920" cy="444240"/>
                <a:chOff x="6438960" y="3848040"/>
                <a:chExt cx="520920" cy="444240"/>
              </a:xfrm>
            </p:grpSpPr>
            <p:sp>
              <p:nvSpPr>
                <p:cNvPr id="2781" name=""/>
                <p:cNvSpPr/>
                <p:nvPr/>
              </p:nvSpPr>
              <p:spPr>
                <a:xfrm>
                  <a:off x="6457680" y="384804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6438960" y="384804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3" name=""/>
              <p:cNvGrpSpPr/>
              <p:nvPr/>
            </p:nvGrpSpPr>
            <p:grpSpPr>
              <a:xfrm>
                <a:off x="6960600" y="3848040"/>
                <a:ext cx="585720" cy="444240"/>
                <a:chOff x="6960600" y="3848040"/>
                <a:chExt cx="585720" cy="444240"/>
              </a:xfrm>
            </p:grpSpPr>
            <p:sp>
              <p:nvSpPr>
                <p:cNvPr id="2784" name=""/>
                <p:cNvSpPr/>
                <p:nvPr/>
              </p:nvSpPr>
              <p:spPr>
                <a:xfrm>
                  <a:off x="6979320" y="384804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6960600" y="384804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6" name=""/>
              <p:cNvGrpSpPr/>
              <p:nvPr/>
            </p:nvGrpSpPr>
            <p:grpSpPr>
              <a:xfrm>
                <a:off x="7547040" y="3848040"/>
                <a:ext cx="655920" cy="444240"/>
                <a:chOff x="7547040" y="3848040"/>
                <a:chExt cx="655920" cy="444240"/>
              </a:xfrm>
            </p:grpSpPr>
            <p:sp>
              <p:nvSpPr>
                <p:cNvPr id="2787" name=""/>
                <p:cNvSpPr/>
                <p:nvPr/>
              </p:nvSpPr>
              <p:spPr>
                <a:xfrm>
                  <a:off x="7565760" y="384804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4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7547040" y="384804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9" name=""/>
              <p:cNvGrpSpPr/>
              <p:nvPr/>
            </p:nvGrpSpPr>
            <p:grpSpPr>
              <a:xfrm>
                <a:off x="1681560" y="4292280"/>
                <a:ext cx="811440" cy="444240"/>
                <a:chOff x="1681560" y="4292280"/>
                <a:chExt cx="811440" cy="444240"/>
              </a:xfrm>
            </p:grpSpPr>
            <p:sp>
              <p:nvSpPr>
                <p:cNvPr id="2790" name=""/>
                <p:cNvSpPr/>
                <p:nvPr/>
              </p:nvSpPr>
              <p:spPr>
                <a:xfrm>
                  <a:off x="1701000" y="429228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.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k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1681560" y="429228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2" name=""/>
              <p:cNvGrpSpPr/>
              <p:nvPr/>
            </p:nvGrpSpPr>
            <p:grpSpPr>
              <a:xfrm>
                <a:off x="2493360" y="4292280"/>
                <a:ext cx="587880" cy="444240"/>
                <a:chOff x="2493360" y="4292280"/>
                <a:chExt cx="587880" cy="444240"/>
              </a:xfrm>
            </p:grpSpPr>
            <p:sp>
              <p:nvSpPr>
                <p:cNvPr id="2793" name=""/>
                <p:cNvSpPr/>
                <p:nvPr/>
              </p:nvSpPr>
              <p:spPr>
                <a:xfrm>
                  <a:off x="2512800" y="429228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2493360" y="429228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5" name=""/>
              <p:cNvGrpSpPr/>
              <p:nvPr/>
            </p:nvGrpSpPr>
            <p:grpSpPr>
              <a:xfrm>
                <a:off x="3081600" y="4292280"/>
                <a:ext cx="587160" cy="444240"/>
                <a:chOff x="3081600" y="4292280"/>
                <a:chExt cx="587160" cy="444240"/>
              </a:xfrm>
            </p:grpSpPr>
            <p:sp>
              <p:nvSpPr>
                <p:cNvPr id="2796" name=""/>
                <p:cNvSpPr/>
                <p:nvPr/>
              </p:nvSpPr>
              <p:spPr>
                <a:xfrm>
                  <a:off x="3100320" y="429228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3081600" y="429228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8" name=""/>
              <p:cNvGrpSpPr/>
              <p:nvPr/>
            </p:nvGrpSpPr>
            <p:grpSpPr>
              <a:xfrm>
                <a:off x="3669480" y="4292280"/>
                <a:ext cx="577440" cy="444240"/>
                <a:chOff x="3669480" y="4292280"/>
                <a:chExt cx="577440" cy="44424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3688920" y="429228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E6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3669480" y="429228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1" name=""/>
              <p:cNvGrpSpPr/>
              <p:nvPr/>
            </p:nvGrpSpPr>
            <p:grpSpPr>
              <a:xfrm>
                <a:off x="4247640" y="4292280"/>
                <a:ext cx="549000" cy="444240"/>
                <a:chOff x="4247640" y="4292280"/>
                <a:chExt cx="549000" cy="444240"/>
              </a:xfrm>
            </p:grpSpPr>
            <p:sp>
              <p:nvSpPr>
                <p:cNvPr id="2802" name=""/>
                <p:cNvSpPr/>
                <p:nvPr/>
              </p:nvSpPr>
              <p:spPr>
                <a:xfrm>
                  <a:off x="4266360" y="429228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4247640" y="429228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4" name=""/>
              <p:cNvGrpSpPr/>
              <p:nvPr/>
            </p:nvGrpSpPr>
            <p:grpSpPr>
              <a:xfrm>
                <a:off x="4797000" y="4292280"/>
                <a:ext cx="820440" cy="444240"/>
                <a:chOff x="4797000" y="4292280"/>
                <a:chExt cx="820440" cy="444240"/>
              </a:xfrm>
            </p:grpSpPr>
            <p:sp>
              <p:nvSpPr>
                <p:cNvPr id="2805" name=""/>
                <p:cNvSpPr/>
                <p:nvPr/>
              </p:nvSpPr>
              <p:spPr>
                <a:xfrm>
                  <a:off x="4816440" y="429228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4797000" y="429228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7" name=""/>
              <p:cNvGrpSpPr/>
              <p:nvPr/>
            </p:nvGrpSpPr>
            <p:grpSpPr>
              <a:xfrm>
                <a:off x="5617800" y="4292280"/>
                <a:ext cx="820800" cy="444240"/>
                <a:chOff x="5617800" y="4292280"/>
                <a:chExt cx="820800" cy="44424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5637240" y="429228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E6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5617800" y="429228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0" name=""/>
              <p:cNvGrpSpPr/>
              <p:nvPr/>
            </p:nvGrpSpPr>
            <p:grpSpPr>
              <a:xfrm>
                <a:off x="6438960" y="4292280"/>
                <a:ext cx="520920" cy="444240"/>
                <a:chOff x="6438960" y="4292280"/>
                <a:chExt cx="520920" cy="444240"/>
              </a:xfrm>
            </p:grpSpPr>
            <p:sp>
              <p:nvSpPr>
                <p:cNvPr id="2811" name=""/>
                <p:cNvSpPr/>
                <p:nvPr/>
              </p:nvSpPr>
              <p:spPr>
                <a:xfrm>
                  <a:off x="6457680" y="429228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438960" y="429228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3" name=""/>
              <p:cNvGrpSpPr/>
              <p:nvPr/>
            </p:nvGrpSpPr>
            <p:grpSpPr>
              <a:xfrm>
                <a:off x="6960600" y="4292280"/>
                <a:ext cx="585720" cy="444240"/>
                <a:chOff x="6960600" y="4292280"/>
                <a:chExt cx="585720" cy="444240"/>
              </a:xfrm>
            </p:grpSpPr>
            <p:sp>
              <p:nvSpPr>
                <p:cNvPr id="2814" name=""/>
                <p:cNvSpPr/>
                <p:nvPr/>
              </p:nvSpPr>
              <p:spPr>
                <a:xfrm>
                  <a:off x="6979320" y="429228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960600" y="429228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6" name=""/>
              <p:cNvGrpSpPr/>
              <p:nvPr/>
            </p:nvGrpSpPr>
            <p:grpSpPr>
              <a:xfrm>
                <a:off x="7547040" y="4292280"/>
                <a:ext cx="655920" cy="444240"/>
                <a:chOff x="7547040" y="4292280"/>
                <a:chExt cx="655920" cy="444240"/>
              </a:xfrm>
            </p:grpSpPr>
            <p:sp>
              <p:nvSpPr>
                <p:cNvPr id="2817" name=""/>
                <p:cNvSpPr/>
                <p:nvPr/>
              </p:nvSpPr>
              <p:spPr>
                <a:xfrm>
                  <a:off x="7565760" y="429228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E8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7547040" y="429228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9" name=""/>
              <p:cNvGrpSpPr/>
              <p:nvPr/>
            </p:nvGrpSpPr>
            <p:grpSpPr>
              <a:xfrm>
                <a:off x="1681560" y="4736520"/>
                <a:ext cx="811440" cy="444600"/>
                <a:chOff x="1681560" y="4736520"/>
                <a:chExt cx="811440" cy="444600"/>
              </a:xfrm>
            </p:grpSpPr>
            <p:sp>
              <p:nvSpPr>
                <p:cNvPr id="2820" name=""/>
                <p:cNvSpPr/>
                <p:nvPr/>
              </p:nvSpPr>
              <p:spPr>
                <a:xfrm>
                  <a:off x="1701000" y="4736520"/>
                  <a:ext cx="772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60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1681560" y="4736520"/>
                  <a:ext cx="811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2" name=""/>
              <p:cNvGrpSpPr/>
              <p:nvPr/>
            </p:nvGrpSpPr>
            <p:grpSpPr>
              <a:xfrm>
                <a:off x="2493360" y="4736520"/>
                <a:ext cx="587880" cy="444600"/>
                <a:chOff x="2493360" y="4736520"/>
                <a:chExt cx="587880" cy="444600"/>
              </a:xfrm>
            </p:grpSpPr>
            <p:sp>
              <p:nvSpPr>
                <p:cNvPr id="2823" name=""/>
                <p:cNvSpPr/>
                <p:nvPr/>
              </p:nvSpPr>
              <p:spPr>
                <a:xfrm>
                  <a:off x="2512800" y="4736520"/>
                  <a:ext cx="5490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2493360" y="4736520"/>
                  <a:ext cx="58788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5" name=""/>
              <p:cNvGrpSpPr/>
              <p:nvPr/>
            </p:nvGrpSpPr>
            <p:grpSpPr>
              <a:xfrm>
                <a:off x="3081600" y="4736520"/>
                <a:ext cx="587160" cy="444600"/>
                <a:chOff x="3081600" y="4736520"/>
                <a:chExt cx="587160" cy="444600"/>
              </a:xfrm>
            </p:grpSpPr>
            <p:sp>
              <p:nvSpPr>
                <p:cNvPr id="2826" name=""/>
                <p:cNvSpPr/>
                <p:nvPr/>
              </p:nvSpPr>
              <p:spPr>
                <a:xfrm>
                  <a:off x="3100320" y="4736520"/>
                  <a:ext cx="5493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3081600" y="4736520"/>
                  <a:ext cx="58716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8" name=""/>
              <p:cNvGrpSpPr/>
              <p:nvPr/>
            </p:nvGrpSpPr>
            <p:grpSpPr>
              <a:xfrm>
                <a:off x="3669480" y="4736520"/>
                <a:ext cx="577440" cy="444600"/>
                <a:chOff x="3669480" y="4736520"/>
                <a:chExt cx="577440" cy="444600"/>
              </a:xfrm>
            </p:grpSpPr>
            <p:sp>
              <p:nvSpPr>
                <p:cNvPr id="2829" name=""/>
                <p:cNvSpPr/>
                <p:nvPr/>
              </p:nvSpPr>
              <p:spPr>
                <a:xfrm>
                  <a:off x="3688920" y="4736520"/>
                  <a:ext cx="5385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CC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3669480" y="4736520"/>
                  <a:ext cx="577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1" name=""/>
              <p:cNvGrpSpPr/>
              <p:nvPr/>
            </p:nvGrpSpPr>
            <p:grpSpPr>
              <a:xfrm>
                <a:off x="4247640" y="4736520"/>
                <a:ext cx="549000" cy="444600"/>
                <a:chOff x="4247640" y="4736520"/>
                <a:chExt cx="549000" cy="444600"/>
              </a:xfrm>
            </p:grpSpPr>
            <p:sp>
              <p:nvSpPr>
                <p:cNvPr id="2832" name=""/>
                <p:cNvSpPr/>
                <p:nvPr/>
              </p:nvSpPr>
              <p:spPr>
                <a:xfrm>
                  <a:off x="4266360" y="4736520"/>
                  <a:ext cx="511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4247640" y="4736520"/>
                  <a:ext cx="5490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4" name=""/>
              <p:cNvGrpSpPr/>
              <p:nvPr/>
            </p:nvGrpSpPr>
            <p:grpSpPr>
              <a:xfrm>
                <a:off x="4797000" y="4736520"/>
                <a:ext cx="820440" cy="444600"/>
                <a:chOff x="4797000" y="4736520"/>
                <a:chExt cx="820440" cy="444600"/>
              </a:xfrm>
            </p:grpSpPr>
            <p:sp>
              <p:nvSpPr>
                <p:cNvPr id="2835" name=""/>
                <p:cNvSpPr/>
                <p:nvPr/>
              </p:nvSpPr>
              <p:spPr>
                <a:xfrm>
                  <a:off x="4816440" y="473652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4797000" y="4736520"/>
                  <a:ext cx="82044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7" name=""/>
              <p:cNvGrpSpPr/>
              <p:nvPr/>
            </p:nvGrpSpPr>
            <p:grpSpPr>
              <a:xfrm>
                <a:off x="5617800" y="4736520"/>
                <a:ext cx="820800" cy="444600"/>
                <a:chOff x="5617800" y="4736520"/>
                <a:chExt cx="820800" cy="444600"/>
              </a:xfrm>
            </p:grpSpPr>
            <p:sp>
              <p:nvSpPr>
                <p:cNvPr id="2838" name=""/>
                <p:cNvSpPr/>
                <p:nvPr/>
              </p:nvSpPr>
              <p:spPr>
                <a:xfrm>
                  <a:off x="5637240" y="4736520"/>
                  <a:ext cx="78192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CC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5617800" y="4736520"/>
                  <a:ext cx="82080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0" name=""/>
              <p:cNvGrpSpPr/>
              <p:nvPr/>
            </p:nvGrpSpPr>
            <p:grpSpPr>
              <a:xfrm>
                <a:off x="6438960" y="4736520"/>
                <a:ext cx="520920" cy="444600"/>
                <a:chOff x="6438960" y="4736520"/>
                <a:chExt cx="520920" cy="444600"/>
              </a:xfrm>
            </p:grpSpPr>
            <p:sp>
              <p:nvSpPr>
                <p:cNvPr id="2841" name=""/>
                <p:cNvSpPr/>
                <p:nvPr/>
              </p:nvSpPr>
              <p:spPr>
                <a:xfrm>
                  <a:off x="6457680" y="4736520"/>
                  <a:ext cx="48276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438960" y="4736520"/>
                  <a:ext cx="520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3" name=""/>
              <p:cNvGrpSpPr/>
              <p:nvPr/>
            </p:nvGrpSpPr>
            <p:grpSpPr>
              <a:xfrm>
                <a:off x="6960600" y="4736520"/>
                <a:ext cx="585720" cy="444600"/>
                <a:chOff x="6960600" y="4736520"/>
                <a:chExt cx="585720" cy="444600"/>
              </a:xfrm>
            </p:grpSpPr>
            <p:sp>
              <p:nvSpPr>
                <p:cNvPr id="2844" name=""/>
                <p:cNvSpPr/>
                <p:nvPr/>
              </p:nvSpPr>
              <p:spPr>
                <a:xfrm>
                  <a:off x="6979320" y="4736520"/>
                  <a:ext cx="5472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6960600" y="4736520"/>
                  <a:ext cx="5857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6" name=""/>
              <p:cNvGrpSpPr/>
              <p:nvPr/>
            </p:nvGrpSpPr>
            <p:grpSpPr>
              <a:xfrm>
                <a:off x="7547040" y="4736520"/>
                <a:ext cx="655920" cy="444600"/>
                <a:chOff x="7547040" y="4736520"/>
                <a:chExt cx="655920" cy="444600"/>
              </a:xfrm>
            </p:grpSpPr>
            <p:sp>
              <p:nvSpPr>
                <p:cNvPr id="2847" name=""/>
                <p:cNvSpPr/>
                <p:nvPr/>
              </p:nvSpPr>
              <p:spPr>
                <a:xfrm>
                  <a:off x="7565760" y="4736520"/>
                  <a:ext cx="617400" cy="44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0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547040" y="4736520"/>
                  <a:ext cx="655920" cy="44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9" name=""/>
              <p:cNvGrpSpPr/>
              <p:nvPr/>
            </p:nvGrpSpPr>
            <p:grpSpPr>
              <a:xfrm>
                <a:off x="1681560" y="5181120"/>
                <a:ext cx="811440" cy="444240"/>
                <a:chOff x="1681560" y="5181120"/>
                <a:chExt cx="811440" cy="444240"/>
              </a:xfrm>
            </p:grpSpPr>
            <p:sp>
              <p:nvSpPr>
                <p:cNvPr id="2850" name=""/>
                <p:cNvSpPr/>
                <p:nvPr/>
              </p:nvSpPr>
              <p:spPr>
                <a:xfrm>
                  <a:off x="1701000" y="518112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30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1681560" y="518112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2" name=""/>
              <p:cNvGrpSpPr/>
              <p:nvPr/>
            </p:nvGrpSpPr>
            <p:grpSpPr>
              <a:xfrm>
                <a:off x="2493360" y="5181120"/>
                <a:ext cx="587880" cy="444240"/>
                <a:chOff x="2493360" y="5181120"/>
                <a:chExt cx="587880" cy="444240"/>
              </a:xfrm>
            </p:grpSpPr>
            <p:sp>
              <p:nvSpPr>
                <p:cNvPr id="2853" name=""/>
                <p:cNvSpPr/>
                <p:nvPr/>
              </p:nvSpPr>
              <p:spPr>
                <a:xfrm>
                  <a:off x="2512800" y="518112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2493360" y="518112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5" name=""/>
              <p:cNvGrpSpPr/>
              <p:nvPr/>
            </p:nvGrpSpPr>
            <p:grpSpPr>
              <a:xfrm>
                <a:off x="3081600" y="5181120"/>
                <a:ext cx="587160" cy="444240"/>
                <a:chOff x="3081600" y="5181120"/>
                <a:chExt cx="587160" cy="444240"/>
              </a:xfrm>
            </p:grpSpPr>
            <p:sp>
              <p:nvSpPr>
                <p:cNvPr id="2856" name=""/>
                <p:cNvSpPr/>
                <p:nvPr/>
              </p:nvSpPr>
              <p:spPr>
                <a:xfrm>
                  <a:off x="3100320" y="518112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3081600" y="518112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8" name=""/>
              <p:cNvGrpSpPr/>
              <p:nvPr/>
            </p:nvGrpSpPr>
            <p:grpSpPr>
              <a:xfrm>
                <a:off x="3669480" y="5181120"/>
                <a:ext cx="577440" cy="444240"/>
                <a:chOff x="3669480" y="5181120"/>
                <a:chExt cx="577440" cy="444240"/>
              </a:xfrm>
            </p:grpSpPr>
            <p:sp>
              <p:nvSpPr>
                <p:cNvPr id="2859" name=""/>
                <p:cNvSpPr/>
                <p:nvPr/>
              </p:nvSpPr>
              <p:spPr>
                <a:xfrm>
                  <a:off x="3688920" y="518112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CC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3669480" y="518112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1" name=""/>
              <p:cNvGrpSpPr/>
              <p:nvPr/>
            </p:nvGrpSpPr>
            <p:grpSpPr>
              <a:xfrm>
                <a:off x="4247640" y="5181120"/>
                <a:ext cx="549000" cy="444240"/>
                <a:chOff x="4247640" y="5181120"/>
                <a:chExt cx="549000" cy="444240"/>
              </a:xfrm>
            </p:grpSpPr>
            <p:sp>
              <p:nvSpPr>
                <p:cNvPr id="2862" name=""/>
                <p:cNvSpPr/>
                <p:nvPr/>
              </p:nvSpPr>
              <p:spPr>
                <a:xfrm>
                  <a:off x="4266360" y="518112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4247640" y="518112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4" name=""/>
              <p:cNvGrpSpPr/>
              <p:nvPr/>
            </p:nvGrpSpPr>
            <p:grpSpPr>
              <a:xfrm>
                <a:off x="4797000" y="5181120"/>
                <a:ext cx="820440" cy="444240"/>
                <a:chOff x="4797000" y="5181120"/>
                <a:chExt cx="820440" cy="444240"/>
              </a:xfrm>
            </p:grpSpPr>
            <p:sp>
              <p:nvSpPr>
                <p:cNvPr id="2865" name=""/>
                <p:cNvSpPr/>
                <p:nvPr/>
              </p:nvSpPr>
              <p:spPr>
                <a:xfrm>
                  <a:off x="4816440" y="518112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4797000" y="518112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7" name=""/>
              <p:cNvGrpSpPr/>
              <p:nvPr/>
            </p:nvGrpSpPr>
            <p:grpSpPr>
              <a:xfrm>
                <a:off x="5617800" y="5181120"/>
                <a:ext cx="820800" cy="444240"/>
                <a:chOff x="5617800" y="5181120"/>
                <a:chExt cx="820800" cy="444240"/>
              </a:xfrm>
            </p:grpSpPr>
            <p:sp>
              <p:nvSpPr>
                <p:cNvPr id="2868" name=""/>
                <p:cNvSpPr/>
                <p:nvPr/>
              </p:nvSpPr>
              <p:spPr>
                <a:xfrm>
                  <a:off x="5637240" y="518112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98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5617800" y="518112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0" name=""/>
              <p:cNvGrpSpPr/>
              <p:nvPr/>
            </p:nvGrpSpPr>
            <p:grpSpPr>
              <a:xfrm>
                <a:off x="6438960" y="5181120"/>
                <a:ext cx="520920" cy="444240"/>
                <a:chOff x="6438960" y="5181120"/>
                <a:chExt cx="520920" cy="444240"/>
              </a:xfrm>
            </p:grpSpPr>
            <p:sp>
              <p:nvSpPr>
                <p:cNvPr id="2871" name=""/>
                <p:cNvSpPr/>
                <p:nvPr/>
              </p:nvSpPr>
              <p:spPr>
                <a:xfrm>
                  <a:off x="6457680" y="518112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6438960" y="518112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3" name=""/>
              <p:cNvGrpSpPr/>
              <p:nvPr/>
            </p:nvGrpSpPr>
            <p:grpSpPr>
              <a:xfrm>
                <a:off x="6960600" y="5181120"/>
                <a:ext cx="585720" cy="444240"/>
                <a:chOff x="6960600" y="5181120"/>
                <a:chExt cx="585720" cy="444240"/>
              </a:xfrm>
            </p:grpSpPr>
            <p:sp>
              <p:nvSpPr>
                <p:cNvPr id="2874" name=""/>
                <p:cNvSpPr/>
                <p:nvPr/>
              </p:nvSpPr>
              <p:spPr>
                <a:xfrm>
                  <a:off x="6979320" y="518112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6960600" y="518112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6" name=""/>
              <p:cNvGrpSpPr/>
              <p:nvPr/>
            </p:nvGrpSpPr>
            <p:grpSpPr>
              <a:xfrm>
                <a:off x="7547040" y="5181120"/>
                <a:ext cx="655920" cy="444240"/>
                <a:chOff x="7547040" y="5181120"/>
                <a:chExt cx="655920" cy="444240"/>
              </a:xfrm>
            </p:grpSpPr>
            <p:sp>
              <p:nvSpPr>
                <p:cNvPr id="2877" name=""/>
                <p:cNvSpPr/>
                <p:nvPr/>
              </p:nvSpPr>
              <p:spPr>
                <a:xfrm>
                  <a:off x="7565760" y="518112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A0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547040" y="518112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9" name=""/>
              <p:cNvGrpSpPr/>
              <p:nvPr/>
            </p:nvGrpSpPr>
            <p:grpSpPr>
              <a:xfrm>
                <a:off x="1681560" y="5625720"/>
                <a:ext cx="811440" cy="444240"/>
                <a:chOff x="1681560" y="5625720"/>
                <a:chExt cx="811440" cy="444240"/>
              </a:xfrm>
            </p:grpSpPr>
            <p:sp>
              <p:nvSpPr>
                <p:cNvPr id="2880" name=""/>
                <p:cNvSpPr/>
                <p:nvPr/>
              </p:nvSpPr>
              <p:spPr>
                <a:xfrm>
                  <a:off x="1701000" y="5625720"/>
                  <a:ext cx="772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37.5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1681560" y="5625720"/>
                  <a:ext cx="811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2" name=""/>
              <p:cNvGrpSpPr/>
              <p:nvPr/>
            </p:nvGrpSpPr>
            <p:grpSpPr>
              <a:xfrm>
                <a:off x="2493360" y="5625720"/>
                <a:ext cx="587880" cy="444240"/>
                <a:chOff x="2493360" y="5625720"/>
                <a:chExt cx="587880" cy="444240"/>
              </a:xfrm>
            </p:grpSpPr>
            <p:sp>
              <p:nvSpPr>
                <p:cNvPr id="2883" name=""/>
                <p:cNvSpPr/>
                <p:nvPr/>
              </p:nvSpPr>
              <p:spPr>
                <a:xfrm>
                  <a:off x="2512800" y="5625720"/>
                  <a:ext cx="5490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2493360" y="5625720"/>
                  <a:ext cx="58788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5" name=""/>
              <p:cNvGrpSpPr/>
              <p:nvPr/>
            </p:nvGrpSpPr>
            <p:grpSpPr>
              <a:xfrm>
                <a:off x="3081600" y="5625720"/>
                <a:ext cx="587160" cy="444240"/>
                <a:chOff x="3081600" y="5625720"/>
                <a:chExt cx="587160" cy="444240"/>
              </a:xfrm>
            </p:grpSpPr>
            <p:sp>
              <p:nvSpPr>
                <p:cNvPr id="2886" name=""/>
                <p:cNvSpPr/>
                <p:nvPr/>
              </p:nvSpPr>
              <p:spPr>
                <a:xfrm>
                  <a:off x="3100320" y="5625720"/>
                  <a:ext cx="5493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3081600" y="5625720"/>
                  <a:ext cx="58716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8" name=""/>
              <p:cNvGrpSpPr/>
              <p:nvPr/>
            </p:nvGrpSpPr>
            <p:grpSpPr>
              <a:xfrm>
                <a:off x="3669480" y="5625720"/>
                <a:ext cx="577440" cy="444240"/>
                <a:chOff x="3669480" y="5625720"/>
                <a:chExt cx="577440" cy="444240"/>
              </a:xfrm>
            </p:grpSpPr>
            <p:sp>
              <p:nvSpPr>
                <p:cNvPr id="2889" name=""/>
                <p:cNvSpPr/>
                <p:nvPr/>
              </p:nvSpPr>
              <p:spPr>
                <a:xfrm>
                  <a:off x="3688920" y="5625720"/>
                  <a:ext cx="5385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3669480" y="5625720"/>
                  <a:ext cx="577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1" name=""/>
              <p:cNvGrpSpPr/>
              <p:nvPr/>
            </p:nvGrpSpPr>
            <p:grpSpPr>
              <a:xfrm>
                <a:off x="4247640" y="5625720"/>
                <a:ext cx="549000" cy="444240"/>
                <a:chOff x="4247640" y="5625720"/>
                <a:chExt cx="549000" cy="444240"/>
              </a:xfrm>
            </p:grpSpPr>
            <p:sp>
              <p:nvSpPr>
                <p:cNvPr id="2892" name=""/>
                <p:cNvSpPr/>
                <p:nvPr/>
              </p:nvSpPr>
              <p:spPr>
                <a:xfrm>
                  <a:off x="4266360" y="5625720"/>
                  <a:ext cx="511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4247640" y="5625720"/>
                  <a:ext cx="5490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4" name=""/>
              <p:cNvGrpSpPr/>
              <p:nvPr/>
            </p:nvGrpSpPr>
            <p:grpSpPr>
              <a:xfrm>
                <a:off x="4797000" y="5625720"/>
                <a:ext cx="820440" cy="444240"/>
                <a:chOff x="4797000" y="5625720"/>
                <a:chExt cx="820440" cy="444240"/>
              </a:xfrm>
            </p:grpSpPr>
            <p:sp>
              <p:nvSpPr>
                <p:cNvPr id="2895" name=""/>
                <p:cNvSpPr/>
                <p:nvPr/>
              </p:nvSpPr>
              <p:spPr>
                <a:xfrm>
                  <a:off x="4816440" y="562572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4797000" y="5625720"/>
                  <a:ext cx="82044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7" name=""/>
              <p:cNvGrpSpPr/>
              <p:nvPr/>
            </p:nvGrpSpPr>
            <p:grpSpPr>
              <a:xfrm>
                <a:off x="5617800" y="5625720"/>
                <a:ext cx="820800" cy="444240"/>
                <a:chOff x="5617800" y="5625720"/>
                <a:chExt cx="820800" cy="444240"/>
              </a:xfrm>
            </p:grpSpPr>
            <p:sp>
              <p:nvSpPr>
                <p:cNvPr id="2898" name=""/>
                <p:cNvSpPr/>
                <p:nvPr/>
              </p:nvSpPr>
              <p:spPr>
                <a:xfrm>
                  <a:off x="5637240" y="5625720"/>
                  <a:ext cx="7819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D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5617800" y="5625720"/>
                  <a:ext cx="82080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0" name=""/>
              <p:cNvGrpSpPr/>
              <p:nvPr/>
            </p:nvGrpSpPr>
            <p:grpSpPr>
              <a:xfrm>
                <a:off x="6438960" y="5625720"/>
                <a:ext cx="520920" cy="444240"/>
                <a:chOff x="6438960" y="5625720"/>
                <a:chExt cx="520920" cy="444240"/>
              </a:xfrm>
            </p:grpSpPr>
            <p:sp>
              <p:nvSpPr>
                <p:cNvPr id="2901" name=""/>
                <p:cNvSpPr/>
                <p:nvPr/>
              </p:nvSpPr>
              <p:spPr>
                <a:xfrm>
                  <a:off x="6457680" y="5625720"/>
                  <a:ext cx="48276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6438960" y="5625720"/>
                  <a:ext cx="520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3" name=""/>
              <p:cNvGrpSpPr/>
              <p:nvPr/>
            </p:nvGrpSpPr>
            <p:grpSpPr>
              <a:xfrm>
                <a:off x="6960600" y="5625720"/>
                <a:ext cx="585720" cy="444240"/>
                <a:chOff x="6960600" y="5625720"/>
                <a:chExt cx="585720" cy="444240"/>
              </a:xfrm>
            </p:grpSpPr>
            <p:sp>
              <p:nvSpPr>
                <p:cNvPr id="2904" name=""/>
                <p:cNvSpPr/>
                <p:nvPr/>
              </p:nvSpPr>
              <p:spPr>
                <a:xfrm>
                  <a:off x="6979320" y="5625720"/>
                  <a:ext cx="5472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6960600" y="5625720"/>
                  <a:ext cx="5857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6" name=""/>
              <p:cNvGrpSpPr/>
              <p:nvPr/>
            </p:nvGrpSpPr>
            <p:grpSpPr>
              <a:xfrm>
                <a:off x="7547040" y="5625720"/>
                <a:ext cx="655920" cy="444240"/>
                <a:chOff x="7547040" y="5625720"/>
                <a:chExt cx="655920" cy="444240"/>
              </a:xfrm>
            </p:grpSpPr>
            <p:sp>
              <p:nvSpPr>
                <p:cNvPr id="2907" name=""/>
                <p:cNvSpPr/>
                <p:nvPr/>
              </p:nvSpPr>
              <p:spPr>
                <a:xfrm>
                  <a:off x="7565760" y="5625720"/>
                  <a:ext cx="617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E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547040" y="5625720"/>
                  <a:ext cx="655920" cy="44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1681560" y="6069960"/>
                <a:ext cx="811440" cy="555480"/>
                <a:chOff x="1681560" y="6069960"/>
                <a:chExt cx="811440" cy="55548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1701000" y="6069960"/>
                  <a:ext cx="77292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1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1681560" y="6069960"/>
                  <a:ext cx="81144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2" name=""/>
              <p:cNvGrpSpPr/>
              <p:nvPr/>
            </p:nvGrpSpPr>
            <p:grpSpPr>
              <a:xfrm>
                <a:off x="2493360" y="6069960"/>
                <a:ext cx="587880" cy="555480"/>
                <a:chOff x="2493360" y="6069960"/>
                <a:chExt cx="587880" cy="555480"/>
              </a:xfrm>
            </p:grpSpPr>
            <p:sp>
              <p:nvSpPr>
                <p:cNvPr id="2913" name=""/>
                <p:cNvSpPr/>
                <p:nvPr/>
              </p:nvSpPr>
              <p:spPr>
                <a:xfrm>
                  <a:off x="2512800" y="6069960"/>
                  <a:ext cx="54900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2493360" y="6069960"/>
                  <a:ext cx="58788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5" name=""/>
              <p:cNvGrpSpPr/>
              <p:nvPr/>
            </p:nvGrpSpPr>
            <p:grpSpPr>
              <a:xfrm>
                <a:off x="3081600" y="6069960"/>
                <a:ext cx="587160" cy="555480"/>
                <a:chOff x="3081600" y="6069960"/>
                <a:chExt cx="587160" cy="555480"/>
              </a:xfrm>
            </p:grpSpPr>
            <p:sp>
              <p:nvSpPr>
                <p:cNvPr id="2916" name=""/>
                <p:cNvSpPr/>
                <p:nvPr/>
              </p:nvSpPr>
              <p:spPr>
                <a:xfrm>
                  <a:off x="3100320" y="6069960"/>
                  <a:ext cx="54936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3081600" y="6069960"/>
                  <a:ext cx="58716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8" name=""/>
              <p:cNvGrpSpPr/>
              <p:nvPr/>
            </p:nvGrpSpPr>
            <p:grpSpPr>
              <a:xfrm>
                <a:off x="3669480" y="6069960"/>
                <a:ext cx="577440" cy="555480"/>
                <a:chOff x="3669480" y="6069960"/>
                <a:chExt cx="577440" cy="555480"/>
              </a:xfrm>
            </p:grpSpPr>
            <p:sp>
              <p:nvSpPr>
                <p:cNvPr id="2919" name=""/>
                <p:cNvSpPr/>
                <p:nvPr/>
              </p:nvSpPr>
              <p:spPr>
                <a:xfrm>
                  <a:off x="3688920" y="6069960"/>
                  <a:ext cx="53856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72</a:t>
                  </a: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3669480" y="6069960"/>
                  <a:ext cx="57744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1" name=""/>
              <p:cNvGrpSpPr/>
              <p:nvPr/>
            </p:nvGrpSpPr>
            <p:grpSpPr>
              <a:xfrm>
                <a:off x="4247640" y="6069960"/>
                <a:ext cx="549000" cy="555480"/>
                <a:chOff x="4247640" y="6069960"/>
                <a:chExt cx="549000" cy="555480"/>
              </a:xfrm>
            </p:grpSpPr>
            <p:sp>
              <p:nvSpPr>
                <p:cNvPr id="2922" name=""/>
                <p:cNvSpPr/>
                <p:nvPr/>
              </p:nvSpPr>
              <p:spPr>
                <a:xfrm>
                  <a:off x="4266360" y="6069960"/>
                  <a:ext cx="51120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4247640" y="6069960"/>
                  <a:ext cx="54900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4" name=""/>
              <p:cNvGrpSpPr/>
              <p:nvPr/>
            </p:nvGrpSpPr>
            <p:grpSpPr>
              <a:xfrm>
                <a:off x="4797000" y="6069960"/>
                <a:ext cx="820440" cy="555480"/>
                <a:chOff x="4797000" y="6069960"/>
                <a:chExt cx="820440" cy="555480"/>
              </a:xfrm>
            </p:grpSpPr>
            <p:sp>
              <p:nvSpPr>
                <p:cNvPr id="2925" name=""/>
                <p:cNvSpPr/>
                <p:nvPr/>
              </p:nvSpPr>
              <p:spPr>
                <a:xfrm>
                  <a:off x="4816440" y="6069960"/>
                  <a:ext cx="78192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4797000" y="6069960"/>
                  <a:ext cx="82044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7" name=""/>
              <p:cNvGrpSpPr/>
              <p:nvPr/>
            </p:nvGrpSpPr>
            <p:grpSpPr>
              <a:xfrm>
                <a:off x="5617800" y="6069960"/>
                <a:ext cx="820800" cy="555480"/>
                <a:chOff x="5617800" y="6069960"/>
                <a:chExt cx="820800" cy="555480"/>
              </a:xfrm>
            </p:grpSpPr>
            <p:sp>
              <p:nvSpPr>
                <p:cNvPr id="2928" name=""/>
                <p:cNvSpPr/>
                <p:nvPr/>
              </p:nvSpPr>
              <p:spPr>
                <a:xfrm>
                  <a:off x="5637240" y="6069960"/>
                  <a:ext cx="78192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EEB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5617800" y="6069960"/>
                  <a:ext cx="82080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0" name=""/>
              <p:cNvGrpSpPr/>
              <p:nvPr/>
            </p:nvGrpSpPr>
            <p:grpSpPr>
              <a:xfrm>
                <a:off x="6438960" y="6069960"/>
                <a:ext cx="520920" cy="555480"/>
                <a:chOff x="6438960" y="6069960"/>
                <a:chExt cx="520920" cy="555480"/>
              </a:xfrm>
            </p:grpSpPr>
            <p:sp>
              <p:nvSpPr>
                <p:cNvPr id="2931" name=""/>
                <p:cNvSpPr/>
                <p:nvPr/>
              </p:nvSpPr>
              <p:spPr>
                <a:xfrm>
                  <a:off x="6457680" y="6069960"/>
                  <a:ext cx="48276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6438960" y="6069960"/>
                  <a:ext cx="52092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3" name=""/>
              <p:cNvGrpSpPr/>
              <p:nvPr/>
            </p:nvGrpSpPr>
            <p:grpSpPr>
              <a:xfrm>
                <a:off x="6960600" y="6069960"/>
                <a:ext cx="585720" cy="555480"/>
                <a:chOff x="6960600" y="6069960"/>
                <a:chExt cx="585720" cy="555480"/>
              </a:xfrm>
            </p:grpSpPr>
            <p:sp>
              <p:nvSpPr>
                <p:cNvPr id="2934" name=""/>
                <p:cNvSpPr/>
                <p:nvPr/>
              </p:nvSpPr>
              <p:spPr>
                <a:xfrm>
                  <a:off x="6979320" y="6069960"/>
                  <a:ext cx="54720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5b5249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6960600" y="6069960"/>
                  <a:ext cx="58572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6" name=""/>
              <p:cNvGrpSpPr/>
              <p:nvPr/>
            </p:nvGrpSpPr>
            <p:grpSpPr>
              <a:xfrm>
                <a:off x="7547040" y="6069960"/>
                <a:ext cx="655920" cy="555480"/>
                <a:chOff x="7547040" y="6069960"/>
                <a:chExt cx="655920" cy="555480"/>
              </a:xfrm>
            </p:grpSpPr>
            <p:sp>
              <p:nvSpPr>
                <p:cNvPr id="2937" name=""/>
                <p:cNvSpPr/>
                <p:nvPr/>
              </p:nvSpPr>
              <p:spPr>
                <a:xfrm>
                  <a:off x="7565760" y="6069960"/>
                  <a:ext cx="617400" cy="55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5b5249"/>
                      </a:solidFill>
                      <a:latin typeface="Times New Roman"/>
                    </a:rPr>
                    <a:t>FEFFH</a:t>
                  </a: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547040" y="6069960"/>
                  <a:ext cx="655920" cy="55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9" name=""/>
            <p:cNvSpPr/>
            <p:nvPr/>
          </p:nvSpPr>
          <p:spPr>
            <a:xfrm>
              <a:off x="1676520" y="1066680"/>
              <a:ext cx="6532200" cy="5562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40" name=""/>
          <p:cNvSpPr/>
          <p:nvPr/>
        </p:nvSpPr>
        <p:spPr>
          <a:xfrm>
            <a:off x="228600" y="5335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表格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2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常用波特率和定时器</a:t>
            </a:r>
            <a:r>
              <a:rPr b="0" lang="en-US" sz="1600" spc="-1" strike="noStrike">
                <a:solidFill>
                  <a:srgbClr val="5b5249"/>
                </a:solidFill>
                <a:latin typeface="Arial"/>
                <a:ea typeface="Arial"/>
              </a:rPr>
              <a:t>T1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初值关系表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"/>
          <p:cNvSpPr/>
          <p:nvPr/>
        </p:nvSpPr>
        <p:spPr>
          <a:xfrm>
            <a:off x="106668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7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．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3  </a:t>
            </a:r>
            <a:r>
              <a:rPr b="0" lang="en-US" sz="3200" spc="-1" strike="noStrike">
                <a:solidFill>
                  <a:srgbClr val="5b5249"/>
                </a:solidFill>
                <a:latin typeface="黑体"/>
                <a:ea typeface="黑体"/>
              </a:rPr>
              <a:t>MCS-51</a:t>
            </a:r>
            <a:r>
              <a:rPr b="0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单片机串行口的应用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762120" y="19051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一、 串行口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0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用作扩展并行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I/O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口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330048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44" name="方式0串转并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405240" cy="2057400"/>
          </a:xfrm>
          <a:prstGeom prst="rect">
            <a:avLst/>
          </a:prstGeom>
          <a:ln w="0">
            <a:noFill/>
          </a:ln>
        </p:spPr>
      </p:pic>
      <p:sp>
        <p:nvSpPr>
          <p:cNvPr id="2945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11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串行口方式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0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扩展并行输出口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6" name=""/>
          <p:cNvGrpSpPr/>
          <p:nvPr/>
        </p:nvGrpSpPr>
        <p:grpSpPr>
          <a:xfrm>
            <a:off x="914400" y="1143000"/>
            <a:ext cx="6323760" cy="4723920"/>
            <a:chOff x="914400" y="1143000"/>
            <a:chExt cx="6323760" cy="4723920"/>
          </a:xfrm>
        </p:grpSpPr>
        <p:sp>
          <p:nvSpPr>
            <p:cNvPr id="2947" name=""/>
            <p:cNvSpPr/>
            <p:nvPr/>
          </p:nvSpPr>
          <p:spPr>
            <a:xfrm>
              <a:off x="914400" y="1143000"/>
              <a:ext cx="1092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007360" y="1143000"/>
              <a:ext cx="609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616480" y="1143000"/>
              <a:ext cx="1583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200480" y="1143000"/>
              <a:ext cx="303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914400" y="1473120"/>
              <a:ext cx="1092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007360" y="1473120"/>
              <a:ext cx="609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616480" y="1473120"/>
              <a:ext cx="158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CON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#00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200480" y="1473120"/>
              <a:ext cx="3037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串行口方式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初始化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914400" y="1879560"/>
              <a:ext cx="1092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007360" y="1879560"/>
              <a:ext cx="6091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616480" y="1879560"/>
              <a:ext cx="158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#80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200480" y="1879560"/>
              <a:ext cx="3037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最左一位发光二极管先亮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914400" y="2286000"/>
              <a:ext cx="1092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2007360" y="2286000"/>
              <a:ext cx="609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2616480" y="2286000"/>
              <a:ext cx="158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.0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200480" y="2286000"/>
              <a:ext cx="3037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关闭并行输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914400" y="2692440"/>
              <a:ext cx="1092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TART1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007360" y="2692440"/>
              <a:ext cx="6091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616480" y="2692440"/>
              <a:ext cx="158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BUF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200480" y="2692440"/>
              <a:ext cx="3037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开始串行输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914400" y="3098520"/>
              <a:ext cx="1092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LOOP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007360" y="3098520"/>
              <a:ext cx="609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JNB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616480" y="3098520"/>
              <a:ext cx="1583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I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LOOP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200480" y="3098520"/>
              <a:ext cx="303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查询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I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914400" y="3429000"/>
              <a:ext cx="1092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007360" y="3429000"/>
              <a:ext cx="609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ETB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616480" y="3429000"/>
              <a:ext cx="158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.0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200480" y="3429000"/>
              <a:ext cx="3037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启动并行输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914400" y="3835440"/>
              <a:ext cx="1092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007360" y="3835440"/>
              <a:ext cx="609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CALL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616480" y="3835440"/>
              <a:ext cx="1583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DELAY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200480" y="3835440"/>
              <a:ext cx="3037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显示延时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914400" y="4317840"/>
              <a:ext cx="1092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2007360" y="4317840"/>
              <a:ext cx="6091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616480" y="4317840"/>
              <a:ext cx="158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I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200480" y="4317840"/>
              <a:ext cx="3037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清发送中断标志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914400" y="4724280"/>
              <a:ext cx="1092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2007360" y="4724280"/>
              <a:ext cx="609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2616480" y="4724280"/>
              <a:ext cx="1583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200480" y="4724280"/>
              <a:ext cx="303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准备右边一位显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914400" y="5054400"/>
              <a:ext cx="1092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007360" y="5054400"/>
              <a:ext cx="609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616480" y="5054400"/>
              <a:ext cx="158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.0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200480" y="5054400"/>
              <a:ext cx="3037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关闭并行输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914400" y="5460840"/>
              <a:ext cx="1092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007360" y="5460840"/>
              <a:ext cx="6091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JMP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616480" y="5460840"/>
              <a:ext cx="158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TART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200480" y="5460840"/>
              <a:ext cx="3037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再一次串行输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"/>
          <p:cNvSpPr/>
          <p:nvPr/>
        </p:nvSpPr>
        <p:spPr>
          <a:xfrm>
            <a:off x="685800" y="121932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二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与点对点的异步通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533520" y="18288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在下面给出的实现指定功能的通讯程序中，发送和接收都通过调用子程序来完成，并设发送数据区的首地址为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接收数据区的首地址为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40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主程序：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97" name=""/>
          <p:cNvGrpSpPr/>
          <p:nvPr/>
        </p:nvGrpSpPr>
        <p:grpSpPr>
          <a:xfrm>
            <a:off x="1523880" y="2209680"/>
            <a:ext cx="4343400" cy="2362320"/>
            <a:chOff x="1523880" y="2209680"/>
            <a:chExt cx="4343400" cy="2362320"/>
          </a:xfrm>
        </p:grpSpPr>
        <p:sp>
          <p:nvSpPr>
            <p:cNvPr id="2998" name=""/>
            <p:cNvSpPr/>
            <p:nvPr/>
          </p:nvSpPr>
          <p:spPr>
            <a:xfrm>
              <a:off x="1523880" y="220968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070000" y="220968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TMOD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2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812760" y="220968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定时器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设为方式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1523880" y="247212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070000" y="247212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TL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   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0F3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812760" y="247212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定时器初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1523880" y="273456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070000" y="273456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TH1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 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0F3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3812760" y="273456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8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位重装值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523880" y="299700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070000" y="299700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SETB   TR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3812760" y="299700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启动定时器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523880" y="325944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070000" y="325944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SCON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5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3812760" y="325944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串行口设为方式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REN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＝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1523880" y="352188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070000" y="352188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R</a:t>
              </a:r>
              <a:r>
                <a:rPr b="1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0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  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2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3812760" y="352188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发送数据区首址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523880" y="378432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070000" y="378432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MOV    R</a:t>
              </a:r>
              <a:r>
                <a:rPr b="1" lang="en-US" sz="9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  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#40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812760" y="378432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接收数据区首址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523880" y="404676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070000" y="404676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ACALL  SOUT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3812760" y="404676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输出一个字符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523880" y="4309560"/>
              <a:ext cx="5461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$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070000" y="4309560"/>
              <a:ext cx="1742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SJMP    $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812760" y="4309560"/>
              <a:ext cx="20545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等待中断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025" name=""/>
          <p:cNvSpPr/>
          <p:nvPr/>
        </p:nvSpPr>
        <p:spPr>
          <a:xfrm>
            <a:off x="228600" y="4724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中断服务程序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026" name=""/>
          <p:cNvGrpSpPr/>
          <p:nvPr/>
        </p:nvGrpSpPr>
        <p:grpSpPr>
          <a:xfrm>
            <a:off x="1447920" y="4495680"/>
            <a:ext cx="4466880" cy="1905120"/>
            <a:chOff x="1447920" y="4495680"/>
            <a:chExt cx="4466880" cy="1905120"/>
          </a:xfrm>
        </p:grpSpPr>
        <p:sp>
          <p:nvSpPr>
            <p:cNvPr id="3027" name=""/>
            <p:cNvSpPr/>
            <p:nvPr/>
          </p:nvSpPr>
          <p:spPr>
            <a:xfrm>
              <a:off x="1447920" y="4495680"/>
              <a:ext cx="60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057760" y="4495680"/>
              <a:ext cx="179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ORG   0023H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3850920" y="4495680"/>
              <a:ext cx="2063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串行口中断入口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1447920" y="4876560"/>
              <a:ext cx="60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057760" y="4876560"/>
              <a:ext cx="179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AJMP   SBR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3850920" y="4876560"/>
              <a:ext cx="2063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转至中断服务程序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447920" y="5257800"/>
              <a:ext cx="60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SBRl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057760" y="5257800"/>
              <a:ext cx="179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JNB    RI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SEND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3850920" y="5257800"/>
              <a:ext cx="2063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TI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＝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为发送中断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447920" y="5638680"/>
              <a:ext cx="60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057760" y="5638680"/>
              <a:ext cx="179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ACALL  SIN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850920" y="5638680"/>
              <a:ext cx="2063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RI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＝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为接收中断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447920" y="6019920"/>
              <a:ext cx="609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057760" y="6019920"/>
              <a:ext cx="179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b5249"/>
                  </a:solidFill>
                  <a:latin typeface="Times New Roman"/>
                </a:rPr>
                <a:t>SJMP   NEXT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850920" y="6019920"/>
              <a:ext cx="2063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b5249"/>
                  </a:solidFill>
                  <a:latin typeface="Times New Roman"/>
                </a:rPr>
                <a:t>；转至统一的出口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2" name=""/>
          <p:cNvGrpSpPr/>
          <p:nvPr/>
        </p:nvGrpSpPr>
        <p:grpSpPr>
          <a:xfrm>
            <a:off x="2666880" y="1295280"/>
            <a:ext cx="4390920" cy="990720"/>
            <a:chOff x="2666880" y="1295280"/>
            <a:chExt cx="4390920" cy="990720"/>
          </a:xfrm>
        </p:grpSpPr>
        <p:sp>
          <p:nvSpPr>
            <p:cNvPr id="3043" name=""/>
            <p:cNvSpPr/>
            <p:nvPr/>
          </p:nvSpPr>
          <p:spPr>
            <a:xfrm>
              <a:off x="2666880" y="1295280"/>
              <a:ext cx="5997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END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3266640" y="1295280"/>
              <a:ext cx="1762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CALL  SOUT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028840" y="1295280"/>
              <a:ext cx="202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调用发送子程序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666880" y="1790640"/>
              <a:ext cx="5997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NEXT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3266640" y="1790640"/>
              <a:ext cx="1762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ETI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5028840" y="1790640"/>
              <a:ext cx="202896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中断返回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049" name=""/>
          <p:cNvSpPr/>
          <p:nvPr/>
        </p:nvSpPr>
        <p:spPr>
          <a:xfrm>
            <a:off x="609480" y="1981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发送子程序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050" name=""/>
          <p:cNvGrpSpPr/>
          <p:nvPr/>
        </p:nvGrpSpPr>
        <p:grpSpPr>
          <a:xfrm>
            <a:off x="1981080" y="2514600"/>
            <a:ext cx="5486040" cy="3124080"/>
            <a:chOff x="1981080" y="2514600"/>
            <a:chExt cx="5486040" cy="3124080"/>
          </a:xfrm>
        </p:grpSpPr>
        <p:sp>
          <p:nvSpPr>
            <p:cNvPr id="3051" name=""/>
            <p:cNvSpPr/>
            <p:nvPr/>
          </p:nvSpPr>
          <p:spPr>
            <a:xfrm>
              <a:off x="1981080" y="2514600"/>
              <a:ext cx="7322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OUT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713320" y="2514600"/>
              <a:ext cx="52812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3241440" y="2514600"/>
              <a:ext cx="168048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＠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o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922280" y="2514600"/>
              <a:ext cx="25448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取发送数据到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981080" y="2945160"/>
              <a:ext cx="7322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713320" y="2945160"/>
              <a:ext cx="52812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241440" y="2945160"/>
              <a:ext cx="168048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922280" y="2945160"/>
              <a:ext cx="25448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加上奇校验位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81080" y="3376080"/>
              <a:ext cx="73224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2713320" y="3376080"/>
              <a:ext cx="52812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PL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3241440" y="3376080"/>
              <a:ext cx="16804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922280" y="3376080"/>
              <a:ext cx="254484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1981080" y="3726360"/>
              <a:ext cx="7322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713320" y="3726360"/>
              <a:ext cx="52812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241440" y="3726360"/>
              <a:ext cx="168048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CC.7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922280" y="3726360"/>
              <a:ext cx="25448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981080" y="4156920"/>
              <a:ext cx="7322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713320" y="4156920"/>
              <a:ext cx="52812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INC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241440" y="4156920"/>
              <a:ext cx="168048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0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922280" y="4156920"/>
              <a:ext cx="25448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修改发送数据指针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1981080" y="4507200"/>
              <a:ext cx="7322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713320" y="4507200"/>
              <a:ext cx="52812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241440" y="4507200"/>
              <a:ext cx="168048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BUF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922280" y="4507200"/>
              <a:ext cx="254484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发送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SCII</a:t>
              </a: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码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1981080" y="4938120"/>
              <a:ext cx="73224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713320" y="4938120"/>
              <a:ext cx="52812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241440" y="4938120"/>
              <a:ext cx="16804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TI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922280" y="4938120"/>
              <a:ext cx="254484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清发送中断标志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981080" y="5288400"/>
              <a:ext cx="7322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713320" y="5288400"/>
              <a:ext cx="52812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ET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241440" y="5288400"/>
              <a:ext cx="168048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922280" y="5288400"/>
              <a:ext cx="25448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"/>
          <p:cNvSpPr/>
          <p:nvPr/>
        </p:nvSpPr>
        <p:spPr>
          <a:xfrm>
            <a:off x="762120" y="9144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b5249"/>
                </a:solidFill>
                <a:latin typeface="Times New Roman"/>
              </a:rPr>
              <a:t>接收子程序：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084" name=""/>
          <p:cNvGrpSpPr/>
          <p:nvPr/>
        </p:nvGrpSpPr>
        <p:grpSpPr>
          <a:xfrm>
            <a:off x="1523880" y="1676520"/>
            <a:ext cx="6019560" cy="4266720"/>
            <a:chOff x="1523880" y="1676520"/>
            <a:chExt cx="6019560" cy="4266720"/>
          </a:xfrm>
        </p:grpSpPr>
        <p:sp>
          <p:nvSpPr>
            <p:cNvPr id="3085" name=""/>
            <p:cNvSpPr/>
            <p:nvPr/>
          </p:nvSpPr>
          <p:spPr>
            <a:xfrm>
              <a:off x="1523880" y="1676520"/>
              <a:ext cx="6976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IN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：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221560" y="1676520"/>
              <a:ext cx="54396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765880" y="1676520"/>
              <a:ext cx="166752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SBUF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433760" y="1676520"/>
              <a:ext cx="310968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读出接收缓冲区内容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1523880" y="2280600"/>
              <a:ext cx="6976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221560" y="2280600"/>
              <a:ext cx="5439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765880" y="2280600"/>
              <a:ext cx="16675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33760" y="2280600"/>
              <a:ext cx="31096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取出校验位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523880" y="2884320"/>
              <a:ext cx="69768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221560" y="2884320"/>
              <a:ext cx="54396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PL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765880" y="2884320"/>
              <a:ext cx="166752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433760" y="2884320"/>
              <a:ext cx="310968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奇校验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523880" y="3375360"/>
              <a:ext cx="697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221560" y="3375360"/>
              <a:ext cx="543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NL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765880" y="3375360"/>
              <a:ext cx="16675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#7FH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433760" y="3375360"/>
              <a:ext cx="3109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删除校验位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1523880" y="3866400"/>
              <a:ext cx="6976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21560" y="3866400"/>
              <a:ext cx="5439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MOV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765880" y="3866400"/>
              <a:ext cx="16675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＠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，</a:t>
              </a: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433760" y="3866400"/>
              <a:ext cx="31096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读入接收缓冲区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523880" y="4470120"/>
              <a:ext cx="697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221560" y="4470120"/>
              <a:ext cx="543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INC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765880" y="4470120"/>
              <a:ext cx="16675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</a:t>
              </a:r>
              <a:r>
                <a:rPr b="1" lang="en-US" sz="1000" spc="-1" strike="noStrike" baseline="-30000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433760" y="4470120"/>
              <a:ext cx="3109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修改接收数据指针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1523880" y="4961160"/>
              <a:ext cx="69768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221560" y="4961160"/>
              <a:ext cx="54396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CLR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765880" y="4961160"/>
              <a:ext cx="166752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I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433760" y="4961160"/>
              <a:ext cx="310968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；清接收中断标志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523880" y="5452560"/>
              <a:ext cx="697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221560" y="5452560"/>
              <a:ext cx="543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5b5249"/>
                  </a:solidFill>
                  <a:latin typeface="Times New Roman"/>
                </a:rPr>
                <a:t>RET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765880" y="5452560"/>
              <a:ext cx="16675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433760" y="5452560"/>
              <a:ext cx="3109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b5249"/>
                  </a:solidFill>
                  <a:latin typeface="Times New Roman"/>
                </a:rPr>
                <a:t> 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"/>
          <p:cNvSpPr/>
          <p:nvPr/>
        </p:nvSpPr>
        <p:spPr>
          <a:xfrm>
            <a:off x="685800" y="914400"/>
            <a:ext cx="9144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三、 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、方式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3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  <a:ea typeface="黑体"/>
              </a:rPr>
              <a:t>与多机通讯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225756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19" name="多机通讯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638680" cy="2971800"/>
          </a:xfrm>
          <a:prstGeom prst="rect">
            <a:avLst/>
          </a:prstGeom>
          <a:ln w="0">
            <a:noFill/>
          </a:ln>
        </p:spPr>
      </p:pic>
      <p:sp>
        <p:nvSpPr>
          <p:cNvPr id="3120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图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Arial"/>
              </a:rPr>
              <a:t>7-12 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  <a:ea typeface="黑体"/>
              </a:rPr>
              <a:t>多机通讯连接示意图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"/>
          <p:cNvSpPr/>
          <p:nvPr/>
        </p:nvSpPr>
        <p:spPr>
          <a:xfrm>
            <a:off x="457200" y="91440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多机通信原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533520" y="1447920"/>
            <a:ext cx="914400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5b5249"/>
                </a:solidFill>
                <a:latin typeface="Arial"/>
              </a:rPr>
              <a:t>多机通信实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380880" y="1905120"/>
            <a:ext cx="92203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  <a:ea typeface="黑体"/>
              </a:rPr>
              <a:t>四、 微机与单片机之间的通讯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27241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25" name="与微机串行通讯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5791320" cy="2590920"/>
          </a:xfrm>
          <a:prstGeom prst="rect">
            <a:avLst/>
          </a:prstGeom>
          <a:ln w="0">
            <a:noFill/>
          </a:ln>
        </p:spPr>
      </p:pic>
      <p:sp>
        <p:nvSpPr>
          <p:cNvPr id="3126" name=""/>
          <p:cNvSpPr/>
          <p:nvPr/>
        </p:nvSpPr>
        <p:spPr>
          <a:xfrm>
            <a:off x="2666880" y="5562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图 </a:t>
            </a: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7-13  </a:t>
            </a:r>
            <a:r>
              <a:rPr b="0" lang="zh-CN" sz="1600" spc="-1" strike="noStrike">
                <a:solidFill>
                  <a:srgbClr val="5b5249"/>
                </a:solidFill>
                <a:latin typeface="黑体"/>
                <a:ea typeface="黑体"/>
              </a:rPr>
              <a:t>微机与单片机串行通信接口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4T03:44:27Z</dcterms:created>
  <dc:creator>wang</dc:creator>
  <dc:description/>
  <dc:language>en-US</dc:language>
  <cp:lastModifiedBy>Zhongsheng Li</cp:lastModifiedBy>
  <dcterms:modified xsi:type="dcterms:W3CDTF">2001-10-23T08:13:07Z</dcterms:modified>
  <cp:revision>16</cp:revision>
  <dc:subject/>
  <dc:title>单片机原理及应用电子教案</dc:title>
</cp:coreProperties>
</file>