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B2D-49B4-45C0-B26D-EC883FAA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A90-70A3-40A0-B9FC-53758F85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0B8-183A-48C0-8D47-15D71C6A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4CF-19C9-488C-840D-B4948BA5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CC3-D0C5-4730-BE05-F49330B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B45-ECEA-41FF-A680-EBBDA0F4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D1FE-FD3C-46C7-9634-65C33102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4D1-AF56-4B9B-AA9A-E332FC26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6FC4-9161-4641-A472-C215436F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B23-7F9E-4CFD-A0F0-63C92C3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F70-AA11-4ADC-B573-D13C9A2C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48F-7FF1-4C14-9F8B-9BEDF8E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3A6-4ED2-4A51-B67B-1196D8ED69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15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" Target="slide12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1599840"/>
            <a:ext cx="60199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计算机导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4343040"/>
            <a:ext cx="485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文斌  田原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04920"/>
            <a:ext cx="815328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.2   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的中文平台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CDOS  6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华文隶书"/>
                <a:ea typeface="华文隶书"/>
              </a:rPr>
              <a:t>安装</a:t>
            </a:r>
            <a:r>
              <a:rPr b="0" lang="zh-CN" sz="3200" spc="-1" strike="noStrike">
                <a:solidFill>
                  <a:srgbClr val="cc3300"/>
                </a:solidFill>
                <a:latin typeface="华文隶书"/>
                <a:ea typeface="华文隶书"/>
              </a:rPr>
              <a:t>UCDOS 6.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插入软件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选择源盘驱动器和目标驱动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运行安装程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选择安装类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选择安装驱动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选择安装方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文件拷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放弃安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安装完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04920"/>
            <a:ext cx="815328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.2   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的中文平台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CDOS  6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219320"/>
            <a:ext cx="80010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在安装运行过程中，一般功能键的定义规则如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光标移动键 ↑↓          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移动当前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格                               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改变选择项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回车                               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继续执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SC                                         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返回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0"/>
            <a:ext cx="51055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1.3   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的中文平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743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支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中、英文应用软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200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提供多种输入方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62120"/>
            <a:ext cx="77724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通利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Rich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ichWin for Windows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四通利方公司最新推出的中文平台系统，它提供两个版本，一个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ichWin for Windows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另一个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ichWin for Windows 2000, Terminal Server Edition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它具有以下系统特性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33520" y="1219320"/>
            <a:ext cx="2819160" cy="2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581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提供精美字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038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中英文切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41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支持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800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多内码系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257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rminal Serv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特殊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辅助工具 利方电子词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7400" y="304920"/>
            <a:ext cx="55627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1.3   Window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的中文平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066680"/>
            <a:ext cx="8534520" cy="52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中文之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STAR 2.9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文之星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环境下比较流行的中文平台，它由北京方正新天地软件科技有限责任公司设计开发，比较充分地考虑到中国人对中文平台的要求。下面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9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版为例介绍它的安装、使用和注意事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硬件和软件要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安装和运行中文之星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9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配置要求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 IBM-P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或兼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0386 CPU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或更高档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至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6M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存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最小安装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M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硬盘空间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全部安装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40M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硬盘空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光盘驱动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于安装中文之星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用英汉词典发音功能，需要能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环境下使用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ound Blaster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兼容声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请注意：中文之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9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支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icrosoft Windows 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"/>
            <a:ext cx="472428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文之星链形菜单管理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066680"/>
          <a:ext cx="44956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495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800600" y="0"/>
            <a:ext cx="39625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安装完成后，启动中文之星，桌面上出现如图链形菜单管理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根据各个按钮的功能，该链形菜单管理器可以分为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系统设置钮：单击此按钮，将显示相应的系统设置菜单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法选择钮：单击此按钮，将显示相应的输入法选择菜单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间按钮：用于显示当前的日期和时间信息；单击此按钮可快速运行常用的应用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工具按钮：单击这类按钮，将启动与该按钮所对应的应用程序。工具按钮的提供使得用户可以方便的启动那些常用的应用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链形菜单管理器的使用方法非常简单，鼠标光标移动到相应的按钮上，按动鼠标左键，即可执行该按钮所对应的功能。如果用户对某一按钮的具体功能没有把握，那么移动鼠标光标到该按钮上后，停留数秒不动， 中文之星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9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显示该按钮的功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395440" y="914400"/>
            <a:ext cx="3981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方正舒体"/>
              </a:rPr>
              <a:t>3.2 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文字处理软件</a:t>
            </a:r>
            <a:r>
              <a:rPr b="0" i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1371600" y="4038480"/>
            <a:ext cx="7442280" cy="520920"/>
          </a:xfrm>
          <a:custGeom>
            <a:avLst/>
            <a:gdLst>
              <a:gd name="textAreaLeft" fmla="*/ 33480 w 7442280"/>
              <a:gd name="textAreaRight" fmla="*/ 7408800 w 74422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308397" h="21600">
                <a:moveTo>
                  <a:pt x="0" y="0"/>
                </a:moveTo>
                <a:lnTo>
                  <a:pt x="308397" y="0"/>
                </a:lnTo>
                <a:lnTo>
                  <a:pt x="308397" y="21600"/>
                </a:lnTo>
                <a:lnTo>
                  <a:pt x="0" y="21600"/>
                </a:lnTo>
                <a:close/>
              </a:path>
              <a:path fill="lightenLess" w="308397" h="21600">
                <a:moveTo>
                  <a:pt x="0" y="0"/>
                </a:moveTo>
                <a:lnTo>
                  <a:pt x="308397" y="0"/>
                </a:lnTo>
                <a:lnTo>
                  <a:pt x="306997" y="1400"/>
                </a:lnTo>
                <a:lnTo>
                  <a:pt x="1400" y="1400"/>
                </a:lnTo>
                <a:close/>
              </a:path>
              <a:path fill="darken" w="308397" h="21600">
                <a:moveTo>
                  <a:pt x="308397" y="0"/>
                </a:moveTo>
                <a:lnTo>
                  <a:pt x="308397" y="21600"/>
                </a:lnTo>
                <a:lnTo>
                  <a:pt x="306997" y="20200"/>
                </a:lnTo>
                <a:lnTo>
                  <a:pt x="306997" y="1400"/>
                </a:lnTo>
                <a:close/>
              </a:path>
              <a:path fill="darkenLess" w="308397" h="21600">
                <a:moveTo>
                  <a:pt x="308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6997" y="20200"/>
                </a:lnTo>
                <a:close/>
              </a:path>
              <a:path fill="lighten" w="308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2   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境下的文字处理软件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PS 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304920" y="2895480"/>
            <a:ext cx="8534160" cy="520920"/>
          </a:xfrm>
          <a:custGeom>
            <a:avLst/>
            <a:gdLst>
              <a:gd name="textAreaLeft" fmla="*/ 33480 w 8534160"/>
              <a:gd name="textAreaRight" fmla="*/ 8500680 w 853416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353640" h="21600">
                <a:moveTo>
                  <a:pt x="0" y="0"/>
                </a:moveTo>
                <a:lnTo>
                  <a:pt x="353640" y="0"/>
                </a:lnTo>
                <a:lnTo>
                  <a:pt x="353640" y="21600"/>
                </a:lnTo>
                <a:lnTo>
                  <a:pt x="0" y="21600"/>
                </a:lnTo>
                <a:close/>
              </a:path>
              <a:path fill="lightenLess" w="353640" h="21600">
                <a:moveTo>
                  <a:pt x="0" y="0"/>
                </a:moveTo>
                <a:lnTo>
                  <a:pt x="353640" y="0"/>
                </a:lnTo>
                <a:lnTo>
                  <a:pt x="352240" y="1400"/>
                </a:lnTo>
                <a:lnTo>
                  <a:pt x="1400" y="1400"/>
                </a:lnTo>
                <a:close/>
              </a:path>
              <a:path fill="darken" w="353640" h="21600">
                <a:moveTo>
                  <a:pt x="353640" y="0"/>
                </a:moveTo>
                <a:lnTo>
                  <a:pt x="353640" y="21600"/>
                </a:lnTo>
                <a:lnTo>
                  <a:pt x="352240" y="20200"/>
                </a:lnTo>
                <a:lnTo>
                  <a:pt x="352240" y="1400"/>
                </a:lnTo>
                <a:close/>
              </a:path>
              <a:path fill="darkenLess" w="353640" h="21600">
                <a:moveTo>
                  <a:pt x="353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40" y="20200"/>
                </a:lnTo>
                <a:close/>
              </a:path>
              <a:path fill="lighten" w="353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.1   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境下的文字处理软件——文字处理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介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3049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文字处理软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是专门处理中文信息的软件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下，我们熟知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处理软件；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下，最常用的是金山公司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 97/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微软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列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0968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D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环境下的文字处理软件——文字处理系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WP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简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rd Processing Syste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缩写，它是由香港金山公司和北京大学新技术公司共同开发的一个集编辑、排版和打印为一体的汉字处理系统。该系统不仅具有丰富的全屏幕编辑功能，而且还提供了各种输出格式及打印功能，使打印输出的文稿既美观又规范，并可以选择多种字体和字号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齐全，操作简单易学。它提供的一系列帮助信息和功能菜单，使初学者能够通过菜单提示而自由地进行操作，并在操作过程中可以随时请求系统帮助，以了解命令的正确使用方法。对于熟练的用户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提供了一组直接控制命令，以提高操作速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240"/>
            <a:ext cx="914400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一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W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基本组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微型机系统的硬件配置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型机以上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40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内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至少要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0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硬盘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GA(640×4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彩色图形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印机：任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针点阵打印机或激光打印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软件运行环境要求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必须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DOS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下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P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per—CG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简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必须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DOS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下运行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必须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DOS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版本下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身包括下列四个文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编辑及打印程序，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257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；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覆盖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448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V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覆盖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98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F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系统配置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系统自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0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P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处理系统提供了一个汉字工作环境，其低层软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—DOS(MS—DOS)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版本。一个完整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应由下列三部分组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汉字操作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per—CC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处理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文编辑排版系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0920" y="228600"/>
            <a:ext cx="25146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启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14300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523880"/>
            <a:ext cx="0" cy="5335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057400"/>
            <a:ext cx="1447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机自检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438280"/>
            <a:ext cx="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8954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352680"/>
            <a:ext cx="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09880"/>
            <a:ext cx="2819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目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267080"/>
            <a:ext cx="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724280"/>
            <a:ext cx="2666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汉字操作系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181480"/>
            <a:ext cx="0" cy="4572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56386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762120"/>
            <a:ext cx="556272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开机到进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主菜单的全过程，称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启动，如图所示。图中，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启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DOS3.3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若要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进行多窗口编辑，用户需设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ONFIG.SY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文件的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参数。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示进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子目录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其后操作过程可以写入批处理文件。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示启动汉字操作系统，要求装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字库管理模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P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键盘及显示管理模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P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汉字输入法模块，它们可以是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Y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拼音输入法模块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BX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五笔字型输入法模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CSJ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层次四角输入法模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XM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形码输入法模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示启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只要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PDO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系统提示符下直接打入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回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屏幕便显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主菜单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屏幕。显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菜单，表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已启动成功，可按屏幕提示进行下一步操作。若键入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或移动光标到“退出处理系统”项后按回车键，均可退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返回到操作系统提示符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696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第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章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计算机操作能力培养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09680"/>
            <a:ext cx="74678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本章学习目标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中文平台与汉字系统的区别与联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UCDOS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安装与使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中文之星的安装与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PS20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基本操作和常用技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8080"/>
            <a:ext cx="70866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590920"/>
            <a:ext cx="853416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主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屏幕如上图显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菜单。在进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菜单后，用户可按下列三种方式之一选择命令，以进行有关操作：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菜单法：通过移动主菜单上的光标；选择操作命令，再按回车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命令法：直接镀入主菜单提示的键盘命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鼠标法：将鼠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示的箭头移到主菜单上的所选项，再按动鼠标器的左键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菜单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最高一级功能菜单，它提供了六种功能可自供选择，下面对这六种功能作一说明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304920"/>
            <a:ext cx="3047760" cy="2437920"/>
            <a:chOff x="4724280" y="304920"/>
            <a:chExt cx="3047760" cy="2437920"/>
          </a:xfrm>
        </p:grpSpPr>
        <p:sp>
          <p:nvSpPr>
            <p:cNvPr id="119" name=""/>
            <p:cNvSpPr/>
            <p:nvPr/>
          </p:nvSpPr>
          <p:spPr>
            <a:xfrm>
              <a:off x="5401080" y="304920"/>
              <a:ext cx="1806120" cy="40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WPS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文字处理系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4280" y="710280"/>
              <a:ext cx="3047760" cy="2032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主菜单 版本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3.0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编辑文书文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N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编辑非文书文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P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打印文书文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H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帮助信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F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文件服务功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X---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退出处理系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111744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228600"/>
            <a:ext cx="4038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WPS</a:t>
            </a: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主菜单六种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990720"/>
            <a:ext cx="8153280" cy="39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一）编辑文书文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当用户在主菜单中选择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后，屏幕显示“被编辑的文件名：”和可供选择的文件目录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此时，用户可先查看屏幕右侧的提示，根据需要，选择下列操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^P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即按下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＞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选择不同的文件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^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选择文件名类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移动光标到已存盘的原有文件名上，选择相应文件，并按团车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若用户需要新建立一个文件，则可键入新的文件名，该文件名立即显示在提示项”被编辑的文件名：”之后。然后，按回车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执行上述操作之一后，系统便进入编辑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编辑状态下，用户可选择不同的汉字输入法，键入文本。按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＞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^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＞，便可进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命令菜单。用户可利用该菜单提供的多种命令，实现对已键人的文本进行编辑；如删除、插入、选择字型、排版等。并可再次按下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＞键，方便地退出命令菜单，返回文本编辑画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22860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28600"/>
            <a:ext cx="4038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WPS</a:t>
            </a: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主菜单六种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44792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二）编辑非文书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主菜单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并打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建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文件，就能进入非文书文件的编辑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是供专门编辑源程序或不带控制符号的文本用的，不能进行自动换行、排版及设置打印格式等。除此以外，在操作上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一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打印文书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在主菜单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后，回答系统提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人要打印阶文件名，屏幕上显出供用户选择打印格式的一些信息；用户可根据具体要求进行选择，最后按回车键即可进行打印。若要停止打印，可按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十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95480" y="380880"/>
            <a:ext cx="33530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WPS</a:t>
            </a:r>
            <a:r>
              <a:rPr b="0" lang="zh-CN" sz="2400" spc="-1" strike="noStrike">
                <a:solidFill>
                  <a:srgbClr val="cc3300"/>
                </a:solidFill>
                <a:latin typeface="方正舒体"/>
                <a:ea typeface="方正舒体"/>
              </a:rPr>
              <a:t>主菜单六种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066680"/>
            <a:ext cx="853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四）帮助信息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户在主菜单下选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即可进入“请求帮助”状态。在该状态下，用户通过移动光标，可选择帮助系统目录中的任何一项，就能得到有关的命令及其简介。帮助信息列出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所有控制命令，并采用分页显示方式，可在屏幕上像看书一样进行阅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五）文件服务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户在主菜单下选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后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便进入文件服务辅助菜单，用户可根据屏幕提示选择所需之项，例如，若要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ST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转换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文件，可在文件服务菜单上选择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文件服务功能实现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S24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ST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文件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之间的相互转换，使在四通文字处理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S24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中西文文字编辑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ST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生成的文本文件能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环境下编辑、打印。该项功能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与其它文本文件提供了转换接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六）退出处理系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户在主菜单下选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后，即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处理系统，返回到操作系统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3808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菜单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990720"/>
            <a:ext cx="8915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当系统进入编辑状态后，按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键即可进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命令菜单，该菜单为用户提供了一套丰富的编辑命令，包括：文件操作、块操作、删除字符、光标移动 ；查找和替换；打印控制、版面控制；编辑控制、窗口编辑和模拟显示等命令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利用移动光标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←、↑、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将光标移到所要选择的命令上、然后按回车键就可执行该命令。这些命令的选择也可以通过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的组合键来实现，如按下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写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G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可删除当前光标处的一个字符，而不必在命令菜单中，先用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将光标移到“删除字符”项，然后用键将光标再移到“删除一字”处，按回车键执行“删除一字”命令。显然，用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组合键命令实现文本编辑的速度要比用菜单命令快许多。但由于菜单命令的使用方法直观简便，适用于初学者使用。为了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众多命令及其功能，可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进入帮助信息，里面分别列出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常用命令及打印控制命令。这些命令只有在实际应用中不断使用，才能真正理解其含义。读者对上述命令有一个总体印象，便可上机实践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70866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2.2   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境下的文字处理软件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 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2438280" y="2286000"/>
            <a:ext cx="4038840" cy="520560"/>
          </a:xfrm>
          <a:custGeom>
            <a:avLst/>
            <a:gdLst>
              <a:gd name="textAreaLeft" fmla="*/ 33480 w 4038840"/>
              <a:gd name="textAreaRight" fmla="*/ 4005360 w 4038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67486" h="21600">
                <a:moveTo>
                  <a:pt x="0" y="0"/>
                </a:moveTo>
                <a:lnTo>
                  <a:pt x="167486" y="0"/>
                </a:lnTo>
                <a:lnTo>
                  <a:pt x="167486" y="21600"/>
                </a:lnTo>
                <a:lnTo>
                  <a:pt x="0" y="21600"/>
                </a:lnTo>
                <a:close/>
              </a:path>
              <a:path fill="lightenLess" w="167486" h="21600">
                <a:moveTo>
                  <a:pt x="0" y="0"/>
                </a:moveTo>
                <a:lnTo>
                  <a:pt x="167486" y="0"/>
                </a:lnTo>
                <a:lnTo>
                  <a:pt x="166086" y="1400"/>
                </a:lnTo>
                <a:lnTo>
                  <a:pt x="1400" y="1400"/>
                </a:lnTo>
                <a:close/>
              </a:path>
              <a:path fill="darken" w="167486" h="21600">
                <a:moveTo>
                  <a:pt x="167486" y="0"/>
                </a:moveTo>
                <a:lnTo>
                  <a:pt x="167486" y="21600"/>
                </a:lnTo>
                <a:lnTo>
                  <a:pt x="166086" y="20200"/>
                </a:lnTo>
                <a:lnTo>
                  <a:pt x="166086" y="1400"/>
                </a:lnTo>
                <a:close/>
              </a:path>
              <a:path fill="darkenLess" w="167486" h="21600">
                <a:moveTo>
                  <a:pt x="167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086" y="20200"/>
                </a:lnTo>
                <a:close/>
              </a:path>
              <a:path fill="lighten" w="167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>
            <a:off x="2438280" y="2895480"/>
            <a:ext cx="4038840" cy="520920"/>
          </a:xfrm>
          <a:custGeom>
            <a:avLst/>
            <a:gdLst>
              <a:gd name="textAreaLeft" fmla="*/ 33480 w 4038840"/>
              <a:gd name="textAreaRight" fmla="*/ 4005360 w 4038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67370" h="21600">
                <a:moveTo>
                  <a:pt x="0" y="0"/>
                </a:moveTo>
                <a:lnTo>
                  <a:pt x="167370" y="0"/>
                </a:lnTo>
                <a:lnTo>
                  <a:pt x="167370" y="21600"/>
                </a:lnTo>
                <a:lnTo>
                  <a:pt x="0" y="21600"/>
                </a:lnTo>
                <a:close/>
              </a:path>
              <a:path fill="lightenLess" w="167370" h="21600">
                <a:moveTo>
                  <a:pt x="0" y="0"/>
                </a:moveTo>
                <a:lnTo>
                  <a:pt x="167370" y="0"/>
                </a:lnTo>
                <a:lnTo>
                  <a:pt x="165970" y="1400"/>
                </a:lnTo>
                <a:lnTo>
                  <a:pt x="1400" y="1400"/>
                </a:lnTo>
                <a:close/>
              </a:path>
              <a:path fill="darken" w="167370" h="21600">
                <a:moveTo>
                  <a:pt x="167370" y="0"/>
                </a:moveTo>
                <a:lnTo>
                  <a:pt x="167370" y="21600"/>
                </a:lnTo>
                <a:lnTo>
                  <a:pt x="165970" y="20200"/>
                </a:lnTo>
                <a:lnTo>
                  <a:pt x="165970" y="1400"/>
                </a:lnTo>
                <a:close/>
              </a:path>
              <a:path fill="darkenLess" w="167370" h="21600">
                <a:moveTo>
                  <a:pt x="167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970" y="20200"/>
                </a:lnTo>
                <a:close/>
              </a:path>
              <a:path fill="lighten" w="167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档管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2438280" y="3505320"/>
            <a:ext cx="4038840" cy="520560"/>
          </a:xfrm>
          <a:custGeom>
            <a:avLst/>
            <a:gdLst>
              <a:gd name="textAreaLeft" fmla="*/ 33480 w 4038840"/>
              <a:gd name="textAreaRight" fmla="*/ 4005360 w 4038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67486" h="21600">
                <a:moveTo>
                  <a:pt x="0" y="0"/>
                </a:moveTo>
                <a:lnTo>
                  <a:pt x="167486" y="0"/>
                </a:lnTo>
                <a:lnTo>
                  <a:pt x="167486" y="21600"/>
                </a:lnTo>
                <a:lnTo>
                  <a:pt x="0" y="21600"/>
                </a:lnTo>
                <a:close/>
              </a:path>
              <a:path fill="lightenLess" w="167486" h="21600">
                <a:moveTo>
                  <a:pt x="0" y="0"/>
                </a:moveTo>
                <a:lnTo>
                  <a:pt x="167486" y="0"/>
                </a:lnTo>
                <a:lnTo>
                  <a:pt x="166086" y="1400"/>
                </a:lnTo>
                <a:lnTo>
                  <a:pt x="1400" y="1400"/>
                </a:lnTo>
                <a:close/>
              </a:path>
              <a:path fill="darken" w="167486" h="21600">
                <a:moveTo>
                  <a:pt x="167486" y="0"/>
                </a:moveTo>
                <a:lnTo>
                  <a:pt x="167486" y="21600"/>
                </a:lnTo>
                <a:lnTo>
                  <a:pt x="166086" y="20200"/>
                </a:lnTo>
                <a:lnTo>
                  <a:pt x="166086" y="1400"/>
                </a:lnTo>
                <a:close/>
              </a:path>
              <a:path fill="darkenLess" w="167486" h="21600">
                <a:moveTo>
                  <a:pt x="167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086" y="20200"/>
                </a:lnTo>
                <a:close/>
              </a:path>
              <a:path fill="lighten" w="167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文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5" action="ppaction://hlinksldjump"/>
          </p:cNvPr>
          <p:cNvSpPr/>
          <p:nvPr/>
        </p:nvSpPr>
        <p:spPr>
          <a:xfrm>
            <a:off x="2438280" y="4114800"/>
            <a:ext cx="4038840" cy="520560"/>
          </a:xfrm>
          <a:custGeom>
            <a:avLst/>
            <a:gdLst>
              <a:gd name="textAreaLeft" fmla="*/ 33480 w 4038840"/>
              <a:gd name="textAreaRight" fmla="*/ 4005360 w 40388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167486" h="21600">
                <a:moveTo>
                  <a:pt x="0" y="0"/>
                </a:moveTo>
                <a:lnTo>
                  <a:pt x="167486" y="0"/>
                </a:lnTo>
                <a:lnTo>
                  <a:pt x="167486" y="21600"/>
                </a:lnTo>
                <a:lnTo>
                  <a:pt x="0" y="21600"/>
                </a:lnTo>
                <a:close/>
              </a:path>
              <a:path fill="lightenLess" w="167486" h="21600">
                <a:moveTo>
                  <a:pt x="0" y="0"/>
                </a:moveTo>
                <a:lnTo>
                  <a:pt x="167486" y="0"/>
                </a:lnTo>
                <a:lnTo>
                  <a:pt x="166086" y="1400"/>
                </a:lnTo>
                <a:lnTo>
                  <a:pt x="1400" y="1400"/>
                </a:lnTo>
                <a:close/>
              </a:path>
              <a:path fill="darken" w="167486" h="21600">
                <a:moveTo>
                  <a:pt x="167486" y="0"/>
                </a:moveTo>
                <a:lnTo>
                  <a:pt x="167486" y="21600"/>
                </a:lnTo>
                <a:lnTo>
                  <a:pt x="166086" y="20200"/>
                </a:lnTo>
                <a:lnTo>
                  <a:pt x="166086" y="1400"/>
                </a:lnTo>
                <a:close/>
              </a:path>
              <a:path fill="darkenLess" w="167486" h="21600">
                <a:moveTo>
                  <a:pt x="167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086" y="20200"/>
                </a:lnTo>
                <a:close/>
              </a:path>
              <a:path fill="lighten" w="167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落排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2438280" y="4724280"/>
            <a:ext cx="4038840" cy="520920"/>
          </a:xfrm>
          <a:custGeom>
            <a:avLst/>
            <a:gdLst>
              <a:gd name="textAreaLeft" fmla="*/ 33480 w 4038840"/>
              <a:gd name="textAreaRight" fmla="*/ 4005360 w 403884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167370" h="21600">
                <a:moveTo>
                  <a:pt x="0" y="0"/>
                </a:moveTo>
                <a:lnTo>
                  <a:pt x="167370" y="0"/>
                </a:lnTo>
                <a:lnTo>
                  <a:pt x="167370" y="21600"/>
                </a:lnTo>
                <a:lnTo>
                  <a:pt x="0" y="21600"/>
                </a:lnTo>
                <a:close/>
              </a:path>
              <a:path fill="lightenLess" w="167370" h="21600">
                <a:moveTo>
                  <a:pt x="0" y="0"/>
                </a:moveTo>
                <a:lnTo>
                  <a:pt x="167370" y="0"/>
                </a:lnTo>
                <a:lnTo>
                  <a:pt x="165970" y="1400"/>
                </a:lnTo>
                <a:lnTo>
                  <a:pt x="1400" y="1400"/>
                </a:lnTo>
                <a:close/>
              </a:path>
              <a:path fill="darken" w="167370" h="21600">
                <a:moveTo>
                  <a:pt x="167370" y="0"/>
                </a:moveTo>
                <a:lnTo>
                  <a:pt x="167370" y="21600"/>
                </a:lnTo>
                <a:lnTo>
                  <a:pt x="165970" y="20200"/>
                </a:lnTo>
                <a:lnTo>
                  <a:pt x="165970" y="1400"/>
                </a:lnTo>
                <a:close/>
              </a:path>
              <a:path fill="darkenLess" w="167370" h="21600">
                <a:moveTo>
                  <a:pt x="1673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970" y="20200"/>
                </a:lnTo>
                <a:close/>
              </a:path>
              <a:path fill="lighten" w="1673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排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124080" y="380880"/>
            <a:ext cx="2590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述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990720"/>
            <a:ext cx="8915400" cy="30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9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基础上经过全面修改，增添了许多实用功能和最新技术，各方面性能都较突出的集成办公软件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软件，运行在中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5/98/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西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 95/98+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文平台的环境下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大加强了编辑和排版、文字修饰、表格和图像等的功能，兼容更多的文件格式，可以编辑处理文字、表格、图像、多媒体等多种对象，是一套具有报告演示、多媒体播放、电子邮件发送、公式编辑、图文框处理、表格处理、图像编辑、样式处理、语音控制等诸多功能的大型办公软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着良好的兼容性。从文件格式而言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仅可以直接读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各个版本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视窗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9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生成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，并且可以直接读入写字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*.WR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中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ord(*.DOC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ich Text Format(*.RTF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超文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ML(*.HTM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格式的文档。此外，在读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T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格式的文件时，可以在不同内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GB23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B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IG5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间进行转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了让用户能使用熟悉的操作方式和界面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除了保留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9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操作方式及界面外，为了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户的能够顺利过渡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允许用户定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风格的界面和快捷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819520" y="304920"/>
            <a:ext cx="4038480" cy="100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方正姚体"/>
                <a:ea typeface="方正姚体"/>
              </a:rPr>
              <a:t>WPS  2000</a:t>
            </a:r>
            <a:r>
              <a:rPr b="0" lang="zh-CN" sz="3600" spc="-1" strike="noStrike">
                <a:solidFill>
                  <a:srgbClr val="cc3300"/>
                </a:solidFill>
                <a:latin typeface="方正姚体"/>
                <a:ea typeface="方正姚体"/>
              </a:rPr>
              <a:t>教学参考意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0574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PS  2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具体操作是本章实践性很强的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，有条件采用多媒体教学的学校最好采用该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件进行现场实际操作教学，效果比单纯静态的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教案要好的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本章小结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838080"/>
            <a:ext cx="85345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操作系统是人机交互的界面，是最底层的管理软件。早期的操作系统只能处理英文，称为西文操作系统。在西文操作系统上进行二次开发，使之能处理中文，即构成了汉字系统。汉字系统能进行汉字信息的输入、输出和处理，但未对用户软件开发提供充分支持，中文平台是增强的汉字系统，它比较全面地考虑了软件开发人员的需求，采用了中文处理平台的开发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中文平台一般分为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OS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的中文平台和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WINDOWS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的中文平台。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DOS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的中文平台比较流行的有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UCDOS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天汇等等，这里讲解了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UCDOS 6.0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安装及启动步骤、方法。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WINDOWS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下的中文平台较多，本章简要介绍了四通利方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RichWin for Win2000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和中文之星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star 2.97</a:t>
            </a:r>
            <a:r>
              <a:rPr b="0" i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的功能、安装及注意事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86200" y="380880"/>
            <a:ext cx="16002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本章小结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143000"/>
            <a:ext cx="8610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计算机应用软件的操作方式大致相同，本章重点介绍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下的文字处理软件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2000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功能及操作方式，系统掌握了该软件的操作方法，则其它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INDOWS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下的软件的操作可参照进行。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2000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是金山公司在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97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基础上全面修改开发的集成办公软件，在这一节详述了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2000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启动与退出、认识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2000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窗口、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WPS 2000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的文档管理、编辑文档方式与方法、打印前的页面排版等，很多功能的实现讲解了几种操作方式，可熟练掌握其中的一种方法。整个叙述中图文并茂，方便大家的学习和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方正舒体"/>
                <a:ea typeface="方正舒体"/>
              </a:rPr>
              <a:t>计算机操作能力的培养重在实践，边学边练，方可熟能生巧，促进计算机操作能力的提高。</a:t>
            </a:r>
            <a:r>
              <a:rPr b="1" lang="zh-CN" sz="2800" spc="-1" strike="noStrike">
                <a:solidFill>
                  <a:srgbClr val="cc3300"/>
                </a:solidFill>
                <a:latin typeface="方正舒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19320" y="533520"/>
            <a:ext cx="72388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幼圆"/>
              </a:rPr>
              <a:t>本章内容安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2057400" y="1821960"/>
            <a:ext cx="5486400" cy="573480"/>
          </a:xfrm>
          <a:custGeom>
            <a:avLst/>
            <a:gdLst>
              <a:gd name="textAreaLeft" fmla="*/ 56880 w 5486400"/>
              <a:gd name="textAreaRight" fmla="*/ 5429520 w 5486400"/>
              <a:gd name="textAreaTop" fmla="*/ 56880 h 573480"/>
              <a:gd name="textAreaBottom" fmla="*/ 516600 h 573480"/>
            </a:gdLst>
            <a:ahLst/>
            <a:rect l="textAreaLeft" t="textAreaTop" r="textAreaRight" b="textAreaBottom"/>
            <a:pathLst>
              <a:path w="206528" h="21600">
                <a:moveTo>
                  <a:pt x="0" y="0"/>
                </a:moveTo>
                <a:lnTo>
                  <a:pt x="206528" y="0"/>
                </a:lnTo>
                <a:lnTo>
                  <a:pt x="206528" y="21600"/>
                </a:lnTo>
                <a:lnTo>
                  <a:pt x="0" y="21600"/>
                </a:lnTo>
                <a:close/>
              </a:path>
              <a:path fill="lightenLess" w="206528" h="21600">
                <a:moveTo>
                  <a:pt x="0" y="0"/>
                </a:moveTo>
                <a:lnTo>
                  <a:pt x="206528" y="0"/>
                </a:lnTo>
                <a:lnTo>
                  <a:pt x="204380" y="2148"/>
                </a:lnTo>
                <a:lnTo>
                  <a:pt x="2148" y="2148"/>
                </a:lnTo>
                <a:close/>
              </a:path>
              <a:path fill="darken" w="206528" h="21600">
                <a:moveTo>
                  <a:pt x="206528" y="0"/>
                </a:moveTo>
                <a:lnTo>
                  <a:pt x="206528" y="21600"/>
                </a:lnTo>
                <a:lnTo>
                  <a:pt x="204380" y="19452"/>
                </a:lnTo>
                <a:lnTo>
                  <a:pt x="204380" y="2148"/>
                </a:lnTo>
                <a:close/>
              </a:path>
              <a:path fill="darkenLess" w="206528" h="21600">
                <a:moveTo>
                  <a:pt x="206528" y="21600"/>
                </a:moveTo>
                <a:lnTo>
                  <a:pt x="0" y="21600"/>
                </a:lnTo>
                <a:lnTo>
                  <a:pt x="2148" y="19452"/>
                </a:lnTo>
                <a:lnTo>
                  <a:pt x="204380" y="19452"/>
                </a:lnTo>
                <a:close/>
              </a:path>
              <a:path fill="lighten" w="206528" h="21600">
                <a:moveTo>
                  <a:pt x="0" y="21600"/>
                </a:moveTo>
                <a:lnTo>
                  <a:pt x="0" y="0"/>
                </a:lnTo>
                <a:lnTo>
                  <a:pt x="2148" y="2148"/>
                </a:lnTo>
                <a:lnTo>
                  <a:pt x="2148" y="1945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平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2057400" y="273960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字处理软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2057400" y="357768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3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441612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习 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2057400" y="5254200"/>
            <a:ext cx="5486400" cy="528120"/>
          </a:xfrm>
          <a:custGeom>
            <a:avLst/>
            <a:gdLst>
              <a:gd name="textAreaLeft" fmla="*/ 34200 w 5486400"/>
              <a:gd name="textAreaRight" fmla="*/ 5452200 w 54864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224254" h="21600">
                <a:moveTo>
                  <a:pt x="0" y="0"/>
                </a:moveTo>
                <a:lnTo>
                  <a:pt x="224254" y="0"/>
                </a:lnTo>
                <a:lnTo>
                  <a:pt x="224254" y="21600"/>
                </a:lnTo>
                <a:lnTo>
                  <a:pt x="0" y="21600"/>
                </a:lnTo>
                <a:close/>
              </a:path>
              <a:path fill="lightenLess" w="224254" h="21600">
                <a:moveTo>
                  <a:pt x="0" y="0"/>
                </a:moveTo>
                <a:lnTo>
                  <a:pt x="224254" y="0"/>
                </a:lnTo>
                <a:lnTo>
                  <a:pt x="222855" y="1400"/>
                </a:lnTo>
                <a:lnTo>
                  <a:pt x="1400" y="1400"/>
                </a:lnTo>
                <a:close/>
              </a:path>
              <a:path fill="darken" w="224254" h="21600">
                <a:moveTo>
                  <a:pt x="224254" y="0"/>
                </a:moveTo>
                <a:lnTo>
                  <a:pt x="224254" y="21600"/>
                </a:lnTo>
                <a:lnTo>
                  <a:pt x="222855" y="20200"/>
                </a:lnTo>
                <a:lnTo>
                  <a:pt x="222855" y="1400"/>
                </a:lnTo>
                <a:close/>
              </a:path>
              <a:path fill="darkenLess" w="224254" h="21600">
                <a:moveTo>
                  <a:pt x="2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55" y="20200"/>
                </a:lnTo>
                <a:close/>
              </a:path>
              <a:path fill="lighten" w="2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160440" y="914400"/>
            <a:ext cx="3170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1  </a:t>
            </a:r>
            <a:r>
              <a:rPr b="0" i="1" lang="zh-CN" sz="4800" spc="-1" strike="noStrike">
                <a:solidFill>
                  <a:srgbClr val="ffffff"/>
                </a:solidFill>
                <a:latin typeface="Times New Roman"/>
              </a:rPr>
              <a:t>中文平台</a:t>
            </a:r>
            <a:r>
              <a:rPr b="0" i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1828800" y="3276720"/>
            <a:ext cx="5867280" cy="520560"/>
          </a:xfrm>
          <a:custGeom>
            <a:avLst/>
            <a:gdLst>
              <a:gd name="textAreaLeft" fmla="*/ 33480 w 5867280"/>
              <a:gd name="textAreaRight" fmla="*/ 5833800 w 5867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3302" h="21600">
                <a:moveTo>
                  <a:pt x="0" y="0"/>
                </a:moveTo>
                <a:lnTo>
                  <a:pt x="243302" y="0"/>
                </a:lnTo>
                <a:lnTo>
                  <a:pt x="243302" y="21600"/>
                </a:lnTo>
                <a:lnTo>
                  <a:pt x="0" y="21600"/>
                </a:lnTo>
                <a:close/>
              </a:path>
              <a:path fill="lightenLess" w="243302" h="21600">
                <a:moveTo>
                  <a:pt x="0" y="0"/>
                </a:moveTo>
                <a:lnTo>
                  <a:pt x="243302" y="0"/>
                </a:lnTo>
                <a:lnTo>
                  <a:pt x="241902" y="1400"/>
                </a:lnTo>
                <a:lnTo>
                  <a:pt x="1400" y="1400"/>
                </a:lnTo>
                <a:close/>
              </a:path>
              <a:path fill="darken" w="243302" h="21600">
                <a:moveTo>
                  <a:pt x="243302" y="0"/>
                </a:moveTo>
                <a:lnTo>
                  <a:pt x="243302" y="21600"/>
                </a:lnTo>
                <a:lnTo>
                  <a:pt x="241902" y="20200"/>
                </a:lnTo>
                <a:lnTo>
                  <a:pt x="241902" y="1400"/>
                </a:lnTo>
                <a:close/>
              </a:path>
              <a:path fill="darkenLess" w="243302" h="21600">
                <a:moveTo>
                  <a:pt x="243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2" y="20200"/>
                </a:lnTo>
                <a:close/>
              </a:path>
              <a:path fill="lighten" w="243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2   DO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的中文平台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CDOS  6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1828800" y="3962520"/>
            <a:ext cx="5867280" cy="520560"/>
          </a:xfrm>
          <a:custGeom>
            <a:avLst/>
            <a:gdLst>
              <a:gd name="textAreaLeft" fmla="*/ 33480 w 5867280"/>
              <a:gd name="textAreaRight" fmla="*/ 5833800 w 5867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3302" h="21600">
                <a:moveTo>
                  <a:pt x="0" y="0"/>
                </a:moveTo>
                <a:lnTo>
                  <a:pt x="243302" y="0"/>
                </a:lnTo>
                <a:lnTo>
                  <a:pt x="243302" y="21600"/>
                </a:lnTo>
                <a:lnTo>
                  <a:pt x="0" y="21600"/>
                </a:lnTo>
                <a:close/>
              </a:path>
              <a:path fill="lightenLess" w="243302" h="21600">
                <a:moveTo>
                  <a:pt x="0" y="0"/>
                </a:moveTo>
                <a:lnTo>
                  <a:pt x="243302" y="0"/>
                </a:lnTo>
                <a:lnTo>
                  <a:pt x="241902" y="1400"/>
                </a:lnTo>
                <a:lnTo>
                  <a:pt x="1400" y="1400"/>
                </a:lnTo>
                <a:close/>
              </a:path>
              <a:path fill="darken" w="243302" h="21600">
                <a:moveTo>
                  <a:pt x="243302" y="0"/>
                </a:moveTo>
                <a:lnTo>
                  <a:pt x="243302" y="21600"/>
                </a:lnTo>
                <a:lnTo>
                  <a:pt x="241902" y="20200"/>
                </a:lnTo>
                <a:lnTo>
                  <a:pt x="241902" y="1400"/>
                </a:lnTo>
                <a:close/>
              </a:path>
              <a:path fill="darkenLess" w="243302" h="21600">
                <a:moveTo>
                  <a:pt x="243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2" y="20200"/>
                </a:lnTo>
                <a:close/>
              </a:path>
              <a:path fill="lighten" w="243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3   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的中文平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endshow"/>
          </p:cNvPr>
          <p:cNvSpPr/>
          <p:nvPr/>
        </p:nvSpPr>
        <p:spPr>
          <a:xfrm>
            <a:off x="1828800" y="4572000"/>
            <a:ext cx="5867280" cy="520560"/>
          </a:xfrm>
          <a:custGeom>
            <a:avLst/>
            <a:gdLst>
              <a:gd name="textAreaLeft" fmla="*/ 33480 w 5867280"/>
              <a:gd name="textAreaRight" fmla="*/ 5833800 w 5867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3302" h="21600">
                <a:moveTo>
                  <a:pt x="0" y="0"/>
                </a:moveTo>
                <a:lnTo>
                  <a:pt x="243302" y="0"/>
                </a:lnTo>
                <a:lnTo>
                  <a:pt x="243302" y="21600"/>
                </a:lnTo>
                <a:lnTo>
                  <a:pt x="0" y="21600"/>
                </a:lnTo>
                <a:close/>
              </a:path>
              <a:path fill="lightenLess" w="243302" h="21600">
                <a:moveTo>
                  <a:pt x="0" y="0"/>
                </a:moveTo>
                <a:lnTo>
                  <a:pt x="243302" y="0"/>
                </a:lnTo>
                <a:lnTo>
                  <a:pt x="241902" y="1400"/>
                </a:lnTo>
                <a:lnTo>
                  <a:pt x="1400" y="1400"/>
                </a:lnTo>
                <a:close/>
              </a:path>
              <a:path fill="darken" w="243302" h="21600">
                <a:moveTo>
                  <a:pt x="243302" y="0"/>
                </a:moveTo>
                <a:lnTo>
                  <a:pt x="243302" y="21600"/>
                </a:lnTo>
                <a:lnTo>
                  <a:pt x="241902" y="20200"/>
                </a:lnTo>
                <a:lnTo>
                  <a:pt x="241902" y="1400"/>
                </a:lnTo>
                <a:close/>
              </a:path>
              <a:path fill="darkenLess" w="243302" h="21600">
                <a:moveTo>
                  <a:pt x="243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2" y="20200"/>
                </a:lnTo>
                <a:close/>
              </a:path>
              <a:path fill="lighten" w="243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1828800" y="2590920"/>
            <a:ext cx="5867280" cy="520560"/>
          </a:xfrm>
          <a:custGeom>
            <a:avLst/>
            <a:gdLst>
              <a:gd name="textAreaLeft" fmla="*/ 33480 w 5867280"/>
              <a:gd name="textAreaRight" fmla="*/ 5833800 w 586728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243302" h="21600">
                <a:moveTo>
                  <a:pt x="0" y="0"/>
                </a:moveTo>
                <a:lnTo>
                  <a:pt x="243302" y="0"/>
                </a:lnTo>
                <a:lnTo>
                  <a:pt x="243302" y="21600"/>
                </a:lnTo>
                <a:lnTo>
                  <a:pt x="0" y="21600"/>
                </a:lnTo>
                <a:close/>
              </a:path>
              <a:path fill="lightenLess" w="243302" h="21600">
                <a:moveTo>
                  <a:pt x="0" y="0"/>
                </a:moveTo>
                <a:lnTo>
                  <a:pt x="243302" y="0"/>
                </a:lnTo>
                <a:lnTo>
                  <a:pt x="241902" y="1400"/>
                </a:lnTo>
                <a:lnTo>
                  <a:pt x="1400" y="1400"/>
                </a:lnTo>
                <a:close/>
              </a:path>
              <a:path fill="darken" w="243302" h="21600">
                <a:moveTo>
                  <a:pt x="243302" y="0"/>
                </a:moveTo>
                <a:lnTo>
                  <a:pt x="243302" y="21600"/>
                </a:lnTo>
                <a:lnTo>
                  <a:pt x="241902" y="20200"/>
                </a:lnTo>
                <a:lnTo>
                  <a:pt x="241902" y="1400"/>
                </a:lnTo>
                <a:close/>
              </a:path>
              <a:path fill="darkenLess" w="243302" h="21600">
                <a:moveTo>
                  <a:pt x="243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02" y="20200"/>
                </a:lnTo>
                <a:close/>
              </a:path>
              <a:path fill="lighten" w="243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.1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平台的出现和发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42876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机靠软件来管理，而最底层的管理软件就是操作系统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是第一个为中国人熟知的操作系统，但是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里不能直接识别汉字，也不能直接对汉字进行处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0481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机工作者想出的办法是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系统的基础上运行一个汉字管理程序。虽然这个管理程序并不是一个单独的操作系统，它必须依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而存在，但在显示汉字、输入汉字、处理汉字信息的技术方面是完善的，所以也叫作汉字操作系统，简称汉字系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1905120"/>
            <a:ext cx="17524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6019920"/>
            <a:ext cx="17524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7400" y="914400"/>
            <a:ext cx="380880" cy="2743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685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中文软件开发人员要面对这样一些难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905120"/>
            <a:ext cx="807732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方正姚体"/>
                <a:ea typeface="方正姚体"/>
              </a:rPr>
              <a:t>（１）由于汉字系统本身是依赖于设备的，无法支持种类繁多的外设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方正姚体"/>
                <a:ea typeface="方正姚体"/>
              </a:rPr>
              <a:t>（２）由于汉字系统本身也没有提供较好的中文处理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方正姚体"/>
                <a:ea typeface="方正姚体"/>
              </a:rPr>
              <a:t>（３）由于汉字系统没有规范的、开放的编程接囗，缺乏良好的文档支持和技术服务，因此，程序员很难利用汉字系统所提供的功能和资源，经常变化的编程接口也使开发人员无法适应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4582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汉字处理技术是开放的技术，因此在我国陆续出现了许多种汉字系统，它们比较全面地考虑了软件开发人员的需求，采用了中文处理平台的开发思想，基本克服了上述的障碍，受到了广大开发人员的欢迎。这种汉字系统叫做“中文平台”，比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C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天汇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介绍的汉字系统都是工作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基础上，可以统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汉字系统，在计算机术语中，也称作“</a:t>
            </a:r>
            <a:r>
              <a:rPr b="0" lang="zh-CN" sz="3200" spc="-1" strike="noStrike">
                <a:solidFill>
                  <a:srgbClr val="ff9900"/>
                </a:solidFill>
                <a:latin typeface="华文行楷"/>
                <a:ea typeface="华文行楷"/>
              </a:rPr>
              <a:t>DOS</a:t>
            </a:r>
            <a:r>
              <a:rPr b="0" lang="zh-CN" sz="32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文平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0384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微软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发布后，它的方便实用性渐渐为人们所认同，许多软件也开发了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工作的版本。中文之星是第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工作的汉字系统，使用它能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方便的显示、输入汉字，紧接着出现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chw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南极星等优秀的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中文平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815328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.2   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的中文平台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CDOS  6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CDOS 6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版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CDOS 6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版包括单用户版和网络版两种版本。单用户版适合于单机上使用；网络版除可以安装于单机外，还可以安装于网络服务器，同时供任意多个工作站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两种版本的包装内容基本相同，通过包装盒和安装盘上的标签，可以加以区别。每种包装盒只含有一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盘，但是，可以根据需要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盘转换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盘，或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盘转换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盘，具体转换方法为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CDOS 6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每片磁盘进行整盘复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CDOS 6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包装中包括下列项目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磁盘： 十五片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寸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tallDi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k #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k #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手册： 两本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希望汉字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CDOS 6.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－ 使用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希望汉字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CDOS 6.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－ 编程手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软件狗： 一个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304920"/>
            <a:ext cx="8153280" cy="60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1.2   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的中文平台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UCDOS  6.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简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8839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</a:t>
            </a:r>
            <a:r>
              <a:rPr b="0" lang="zh-CN" sz="2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系统运行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硬件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主    机：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AT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8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8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48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8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各种兼容机，最好为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86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及更高档的微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内    存：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640KB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基本内存，最好为具有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M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上的扩充内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显 示 卡：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HGC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E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E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V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V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以及各种类型的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Super V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显示内存：对于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VGA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般要求有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12K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显示内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硬盘空间：最小化安装约需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3M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硬盘空间，全部安装约需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M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硬盘空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打 印 机：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Epson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HP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系列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Canon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系列等各种类型的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针、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针、喷墨、彩色和激光打印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软件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操作系统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S-DOS 3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-DOS 3.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及以上各种版本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9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环境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vell 3.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vell 4.x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indows NT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驱动程序：最好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IMEM.SY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MM386.EX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扩充内存管理器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6T03:21:04Z</dcterms:created>
  <dc:creator>www</dc:creator>
  <dc:description/>
  <dc:language>en-US</dc:language>
  <cp:lastModifiedBy>www</cp:lastModifiedBy>
  <dcterms:modified xsi:type="dcterms:W3CDTF">2001-08-21T12:57:33Z</dcterms:modified>
  <cp:revision>129</cp:revision>
  <dc:subject/>
  <dc:title>计算机导论</dc:title>
</cp:coreProperties>
</file>