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C7B3-44EF-4A9B-8745-1C295B7E7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6033-E6F4-4293-B335-FD8BEE733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BC27-EBCD-460F-86C2-136DCFC9A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694D-0A8D-47E4-987E-E269C3CBC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D84D-EBDC-482A-95E1-5BC9C396E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3411-4A95-4F2A-9910-57B18270C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AE8B-AB21-4993-9EF9-3EDCE62A9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1FB8-7CBB-412F-AA8F-432DCB59A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5302-87AA-4EF5-93B2-603DD44D4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FDAC-A8B7-4E9E-85EC-0AADFD51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270A-0187-4919-9F55-DC938269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2DA5-A80A-4A54-A837-357635D3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2FE80-18C9-456B-9794-2E43ACA8E81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9.xml"/><Relationship Id="rId3" Type="http://schemas.openxmlformats.org/officeDocument/2006/relationships/slide" Target="slide21.xm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1600200"/>
            <a:ext cx="6019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ff33"/>
                </a:solidFill>
                <a:latin typeface="Times New Roman"/>
              </a:rPr>
              <a:t>第</a:t>
            </a:r>
            <a:r>
              <a:rPr b="0" lang="zh-CN" sz="4400" spc="-1" strike="noStrike">
                <a:solidFill>
                  <a:srgbClr val="66ff33"/>
                </a:solidFill>
                <a:latin typeface="Times New Roman"/>
              </a:rPr>
              <a:t>4</a:t>
            </a:r>
            <a:r>
              <a:rPr b="0" lang="zh-CN" sz="4400" spc="-1" strike="noStrike">
                <a:solidFill>
                  <a:srgbClr val="66ff33"/>
                </a:solidFill>
                <a:latin typeface="Times New Roman"/>
              </a:rPr>
              <a:t>章   串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4114800"/>
            <a:ext cx="485604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数据结构（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C++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描述）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210996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486240" y="14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3048120" y="228600"/>
            <a:ext cx="363384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210996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47920" y="380880"/>
            <a:ext cx="7086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串的紧缩存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根据各机器字的长度，尽可能将多个字符存放在一个字中。假设一个字可存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符，则紧缩存储具体形式见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-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43000" y="2438280"/>
            <a:ext cx="7620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从上面介绍的两种存储方式可知，紧缩存储能够节省大量存储单元，但对串的单个字符操作很不方便，需要花费较多的处理时间。而非紧缩存储的特点刚好相反，操作方便，但将占用较多的内存单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00200" y="838080"/>
            <a:ext cx="24382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210996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14560" y="14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2149560" y="990720"/>
            <a:ext cx="40798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210996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95280" y="0"/>
            <a:ext cx="7391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串的字节存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前两种存储方法都是以字编址形式进行的，而字节编址方式是一个字符占用一个字节，具体形式见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-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2904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1600200" y="3033720"/>
            <a:ext cx="6114960" cy="1566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295280" y="380880"/>
            <a:ext cx="243864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210996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71600" y="298440"/>
            <a:ext cx="716292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顺序串的数据类型描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nst  int   maxsize=maxlen;                //maxle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串的最大容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ruct     seqstring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har     ch[maxsize];                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存放串的值的一维数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  curlen;             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当前串的长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71600" y="762120"/>
            <a:ext cx="34830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210996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.2.2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链式存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19320" y="685800"/>
            <a:ext cx="7162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结点大小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链式存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前面介绍到的单链表一样，每个结点为一个字符，链表也可以带头结点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24382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=“abcdef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存储结构具体形式见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-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6716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143000" y="3952800"/>
            <a:ext cx="6705720" cy="11620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295280" y="1143000"/>
            <a:ext cx="36990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210996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371600" y="762120"/>
            <a:ext cx="7010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结点大小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链式存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160020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紧缩存储类似，假设一个字中可以存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符，则一个结点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数据域和一个 指针域，若一个结点中数据域少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，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ø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代替。例如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=“abcdef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存储结构具体形式见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-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假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K=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并且链表带头结点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10500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1752480" y="4486320"/>
            <a:ext cx="5410440" cy="12826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477800" y="1219320"/>
            <a:ext cx="362772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210996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752480" y="4572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链串的数据类型描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371600" y="1219320"/>
            <a:ext cx="71629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结点大小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的链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第二章单链表的定义类似，只需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域的类型由元素类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lemtyp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改为字符类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ha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即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371600" y="3048120"/>
            <a:ext cx="72388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结点大小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的链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具体描述形式见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-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数据类型描述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ruct     link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Char       data  [5];                                  //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仅使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ata[1]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ata[4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存储空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nk4         * next  ;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38280" y="914400"/>
            <a:ext cx="243864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62320" y="1676520"/>
            <a:ext cx="24382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362320" y="3505320"/>
            <a:ext cx="24382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210996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76520" y="533520"/>
            <a:ext cx="6781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4.2.3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索引存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990720"/>
            <a:ext cx="7696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该方法是用串变量的名字作为关键字组织名字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索引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该表中存储的是串名和串值之间的对应关系。名字表中包含的项目根据不同的需要来设置，只要为存取串值提供足够的信息即可。如果串值是以链接方式存储的，则名字表中只要存入串名及其串值的链表的头指针即可。若串值是以顺序方式存放的，则表中除了存入指示串值存放的起始地址首指针外，还必须有信息指出串值存放的末地址。末地址的表示方法有几种：给出串长、在串值末尾设置结束符、设置尾指针直接指向串值末地址等。具体介绍下面两种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210996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95280" y="0"/>
            <a:ext cx="72392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带长度的名字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表中给出串名、串存放的起始位置及串长度，具体形式见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-6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67660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1371600" y="2209680"/>
            <a:ext cx="6467400" cy="22258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219320" y="4648320"/>
            <a:ext cx="7543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从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-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知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长度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起始位置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开始，故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1=“abcdefg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长度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起始位置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开始，故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2=”gbc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76520" y="457200"/>
            <a:ext cx="24382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71800" y="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目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2362320" y="762120"/>
            <a:ext cx="6400800" cy="990360"/>
          </a:xfrm>
          <a:custGeom>
            <a:avLst/>
            <a:gdLst>
              <a:gd name="textAreaLeft" fmla="*/ 64080 w 6400800"/>
              <a:gd name="textAreaRight" fmla="*/ 6336720 w 64008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139560" h="21600">
                <a:moveTo>
                  <a:pt x="0" y="0"/>
                </a:moveTo>
                <a:lnTo>
                  <a:pt x="139560" y="0"/>
                </a:lnTo>
                <a:lnTo>
                  <a:pt x="139560" y="21600"/>
                </a:lnTo>
                <a:lnTo>
                  <a:pt x="0" y="21600"/>
                </a:lnTo>
                <a:close/>
              </a:path>
              <a:path fill="lightenLess" w="139560" h="21600">
                <a:moveTo>
                  <a:pt x="0" y="0"/>
                </a:moveTo>
                <a:lnTo>
                  <a:pt x="139560" y="0"/>
                </a:lnTo>
                <a:lnTo>
                  <a:pt x="138160" y="1400"/>
                </a:lnTo>
                <a:lnTo>
                  <a:pt x="1400" y="1400"/>
                </a:lnTo>
                <a:close/>
              </a:path>
              <a:path fill="darken" w="139560" h="21600">
                <a:moveTo>
                  <a:pt x="139560" y="0"/>
                </a:moveTo>
                <a:lnTo>
                  <a:pt x="139560" y="21600"/>
                </a:lnTo>
                <a:lnTo>
                  <a:pt x="138160" y="20200"/>
                </a:lnTo>
                <a:lnTo>
                  <a:pt x="138160" y="1400"/>
                </a:lnTo>
                <a:close/>
              </a:path>
              <a:path fill="darkenLess" w="139560" h="21600">
                <a:moveTo>
                  <a:pt x="139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160" y="20200"/>
                </a:lnTo>
                <a:close/>
              </a:path>
              <a:path fill="lighten" w="139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串的定义及运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2" action="ppaction://hlinksldjump"/>
          </p:cNvPr>
          <p:cNvSpPr/>
          <p:nvPr/>
        </p:nvSpPr>
        <p:spPr>
          <a:xfrm>
            <a:off x="2362320" y="2057400"/>
            <a:ext cx="6400800" cy="990720"/>
          </a:xfrm>
          <a:custGeom>
            <a:avLst/>
            <a:gdLst>
              <a:gd name="textAreaLeft" fmla="*/ 64080 w 6400800"/>
              <a:gd name="textAreaRight" fmla="*/ 6336720 w 64008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139509" h="21600">
                <a:moveTo>
                  <a:pt x="0" y="0"/>
                </a:moveTo>
                <a:lnTo>
                  <a:pt x="139509" y="0"/>
                </a:lnTo>
                <a:lnTo>
                  <a:pt x="139509" y="21600"/>
                </a:lnTo>
                <a:lnTo>
                  <a:pt x="0" y="21600"/>
                </a:lnTo>
                <a:close/>
              </a:path>
              <a:path fill="lightenLess" w="139509" h="21600">
                <a:moveTo>
                  <a:pt x="0" y="0"/>
                </a:moveTo>
                <a:lnTo>
                  <a:pt x="139509" y="0"/>
                </a:lnTo>
                <a:lnTo>
                  <a:pt x="138110" y="1400"/>
                </a:lnTo>
                <a:lnTo>
                  <a:pt x="1400" y="1400"/>
                </a:lnTo>
                <a:close/>
              </a:path>
              <a:path fill="darken" w="139509" h="21600">
                <a:moveTo>
                  <a:pt x="139509" y="0"/>
                </a:moveTo>
                <a:lnTo>
                  <a:pt x="139509" y="21600"/>
                </a:lnTo>
                <a:lnTo>
                  <a:pt x="138110" y="20200"/>
                </a:lnTo>
                <a:lnTo>
                  <a:pt x="138110" y="1400"/>
                </a:lnTo>
                <a:close/>
              </a:path>
              <a:path fill="darkenLess" w="139509" h="21600">
                <a:moveTo>
                  <a:pt x="1395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110" y="20200"/>
                </a:lnTo>
                <a:close/>
              </a:path>
              <a:path fill="lighten" w="1395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2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串的存储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3" action="ppaction://hlinksldjump"/>
          </p:cNvPr>
          <p:cNvSpPr/>
          <p:nvPr/>
        </p:nvSpPr>
        <p:spPr>
          <a:xfrm>
            <a:off x="2362320" y="3429000"/>
            <a:ext cx="6400800" cy="914400"/>
          </a:xfrm>
          <a:custGeom>
            <a:avLst/>
            <a:gdLst>
              <a:gd name="textAreaLeft" fmla="*/ 59040 w 6400800"/>
              <a:gd name="textAreaRight" fmla="*/ 6341760 w 6400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151149" h="21600">
                <a:moveTo>
                  <a:pt x="0" y="0"/>
                </a:moveTo>
                <a:lnTo>
                  <a:pt x="151149" y="0"/>
                </a:lnTo>
                <a:lnTo>
                  <a:pt x="151149" y="21600"/>
                </a:lnTo>
                <a:lnTo>
                  <a:pt x="0" y="21600"/>
                </a:lnTo>
                <a:close/>
              </a:path>
              <a:path fill="lightenLess" w="151149" h="21600">
                <a:moveTo>
                  <a:pt x="0" y="0"/>
                </a:moveTo>
                <a:lnTo>
                  <a:pt x="151149" y="0"/>
                </a:lnTo>
                <a:lnTo>
                  <a:pt x="149749" y="1400"/>
                </a:lnTo>
                <a:lnTo>
                  <a:pt x="1400" y="1400"/>
                </a:lnTo>
                <a:close/>
              </a:path>
              <a:path fill="darken" w="151149" h="21600">
                <a:moveTo>
                  <a:pt x="151149" y="0"/>
                </a:moveTo>
                <a:lnTo>
                  <a:pt x="151149" y="21600"/>
                </a:lnTo>
                <a:lnTo>
                  <a:pt x="149749" y="20200"/>
                </a:lnTo>
                <a:lnTo>
                  <a:pt x="149749" y="1400"/>
                </a:lnTo>
                <a:close/>
              </a:path>
              <a:path fill="darkenLess" w="151149" h="21600">
                <a:moveTo>
                  <a:pt x="151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9749" y="20200"/>
                </a:lnTo>
                <a:close/>
              </a:path>
              <a:path fill="lighten" w="151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.3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的运算的实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endshow"/>
          </p:cNvPr>
          <p:cNvSpPr/>
          <p:nvPr/>
        </p:nvSpPr>
        <p:spPr>
          <a:xfrm>
            <a:off x="2438280" y="4724280"/>
            <a:ext cx="6324840" cy="914400"/>
          </a:xfrm>
          <a:custGeom>
            <a:avLst/>
            <a:gdLst>
              <a:gd name="textAreaLeft" fmla="*/ 59040 w 6324840"/>
              <a:gd name="textAreaRight" fmla="*/ 6265800 w 63248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149355" h="21600">
                <a:moveTo>
                  <a:pt x="0" y="0"/>
                </a:moveTo>
                <a:lnTo>
                  <a:pt x="149355" y="0"/>
                </a:lnTo>
                <a:lnTo>
                  <a:pt x="149355" y="21600"/>
                </a:lnTo>
                <a:lnTo>
                  <a:pt x="0" y="21600"/>
                </a:lnTo>
                <a:close/>
              </a:path>
              <a:path fill="lightenLess" w="149355" h="21600">
                <a:moveTo>
                  <a:pt x="0" y="0"/>
                </a:moveTo>
                <a:lnTo>
                  <a:pt x="149355" y="0"/>
                </a:lnTo>
                <a:lnTo>
                  <a:pt x="147955" y="1400"/>
                </a:lnTo>
                <a:lnTo>
                  <a:pt x="1400" y="1400"/>
                </a:lnTo>
                <a:close/>
              </a:path>
              <a:path fill="darken" w="149355" h="21600">
                <a:moveTo>
                  <a:pt x="149355" y="0"/>
                </a:moveTo>
                <a:lnTo>
                  <a:pt x="149355" y="21600"/>
                </a:lnTo>
                <a:lnTo>
                  <a:pt x="147955" y="20200"/>
                </a:lnTo>
                <a:lnTo>
                  <a:pt x="147955" y="1400"/>
                </a:lnTo>
                <a:close/>
              </a:path>
              <a:path fill="darkenLess" w="149355" h="21600">
                <a:moveTo>
                  <a:pt x="1493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7955" y="20200"/>
                </a:lnTo>
                <a:close/>
              </a:path>
              <a:path fill="lighten" w="1493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结束放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210996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371600" y="53352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带末指针的名字表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43000" y="1143000"/>
            <a:ext cx="7620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表中给出串的名字、头指针及末指针，具体形式见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-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676600" y="26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1523880" y="2209680"/>
            <a:ext cx="5096160" cy="21258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066680" y="464832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从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-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知，两个串的名字分别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头指针指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末指针指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故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1=”abcdefg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头指针指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末指针指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故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2=”gbc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81080" y="990720"/>
            <a:ext cx="243864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1676520" y="2362320"/>
          <a:ext cx="6095880" cy="4066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2362320"/>
                    <a:ext cx="6095880" cy="40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210996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3808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.3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的运算的实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43000" y="10666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.3.1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扦入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66680" y="16002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顺序串上的扦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sert(&amp;S,i,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25146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要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扦入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中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位置，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中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位置开始，一直到最后的字符，每个都要向后移动若干位，移动的位数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长度。具体实现过程参见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-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66920" y="22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1600200" y="3886200"/>
            <a:ext cx="5334120" cy="26337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295280" y="2057400"/>
            <a:ext cx="243864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210996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19320" y="152280"/>
            <a:ext cx="746748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算法描述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oid        Insert (seqstring  &amp;S, int   i,    seqstring    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if     ( S.curlen  + T.curlen&gt;=max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ut&lt;&lt;“overflow”;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lse    {   for (int  j=S.curlen;   j&gt;=i;j--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. ch[j+T.curlen]=s.ch[j];          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元素后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r (j=1;   j&lt;=T.curlen;    j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.  ch [j+i-1]=T.ch[j];     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扦入元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.curlen=S.curlen +T.curlen;             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长度增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90720" y="57150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长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长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则该算法时间复杂度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(n+m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210996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19320" y="457200"/>
            <a:ext cx="7543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链串的扦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nsert(&amp;S,i,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143000" y="12193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仅考虑结点大小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链串，要在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位置扦入，先用一个指针指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的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位置，然后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中用另一个指针指向最后，具体实现过程参见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-9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95680" y="27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1752480" y="2743200"/>
            <a:ext cx="5762880" cy="1974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143000" y="51055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算法描述如下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19320" y="914400"/>
            <a:ext cx="362736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1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210996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371600" y="152280"/>
            <a:ext cx="723888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oid      Insert (link  *S,  int     i  ,  link    *T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   link      *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*Q ;   int     j=0 ; P=S 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hile     (P!=NULL)&amp;&amp;(j&lt;i-1)    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查找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   j++  ;     P=P-&gt;next;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Q=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hile  (Q-&gt;next !=NU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Q=Q-&gt;next;             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查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最后一个元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 (P!=NULL)           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插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 Q-&gt;next=P-&gt;next;         P-&gt;next=T-&gt;nex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lse cout  &lt;&lt;“error!”}              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找不到扦入位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143000" y="5943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该算法花费的时间主要在查找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时间复杂度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(n+m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210996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371600" y="380880"/>
            <a:ext cx="7086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4.3.2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串删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066680" y="121932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顺序串的删除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elete(&amp;S,i,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66680" y="18288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删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中从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位置开始连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符，可以分成三种情形讨论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值不在串值范围内，不能删除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置开始到最后的字符数目不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，删除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需移动元素，只需修改串长度即可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3) 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都可以满足需求。删除过程参见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-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假设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=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j=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9068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>
            <a:off x="1143000" y="4191120"/>
            <a:ext cx="7543800" cy="18889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190520" y="1676520"/>
            <a:ext cx="39150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"/>
          <p:cNvSpPr/>
          <p:nvPr/>
        </p:nvSpPr>
        <p:spPr>
          <a:xfrm>
            <a:off x="210996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95280" y="457200"/>
            <a:ext cx="739152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oid        delete (seqstring    &amp;S,     int      i  ,    int    j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 if     ( i&lt;1)||( i&gt;s.curlen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nt &lt;&lt;“error”;   // 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值不在串值范围内，不能删除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lse     if   ( s.curlen  -i+1&lt;j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.curlen =i-1;                       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置开始到最后的字符数目不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，删除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/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移动元素，只需修改串长度即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lse  {for  (int  k=i+j;   k&lt;=s.curlen  ;k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.ch [k-j]= s.ch [k];               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元素前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.curlen =s.curlen –j ; }}                   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长度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19320" y="5638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该算法时间复杂度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(n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210996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95280" y="45720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链串的删除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elete(&amp;S,i,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371600" y="11430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顺序串的删除一样，也可以分三种情形来讨论。删除过程参见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-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假设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=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j=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71476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1676520" y="2666880"/>
            <a:ext cx="5591160" cy="12906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295280" y="4800600"/>
            <a:ext cx="6934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算法描述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295280" y="914400"/>
            <a:ext cx="362772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"/>
          <p:cNvSpPr/>
          <p:nvPr/>
        </p:nvSpPr>
        <p:spPr>
          <a:xfrm>
            <a:off x="210996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066680" y="228600"/>
            <a:ext cx="739152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oid     delete   (link   *S ,  int   i,  int   j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link       *P,     *Q;int k=0;P=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hile     (P!=NULL) &amp;&amp;(k&lt;i-1)   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查找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  k++ ;    P=P-&gt;next 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Q=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hile   (Q!=NULL)&amp;&amp;( k&lt;i+j)   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查找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+j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 k++ ;    Q=Q-&gt;nex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   (P!=NULL)               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保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合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 if  (Q!=NULL)      P-&gt;next=Q;else   P-&gt;next =NULL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lse    cout &lt;&lt;“error”;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066680" y="57913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该算法的时间复杂度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(n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210996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371600" y="763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.3.3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子串定位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533520"/>
            <a:ext cx="7467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顺序串上 的子串定位运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ndex(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14400" y="1066680"/>
            <a:ext cx="7772400" cy="29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子串的定位运算通常称为串的模式匹配，是串处理中最重要的运算之一。设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=“a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…a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串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=“b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…b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”(m≤n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子串定位是要在主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找出一个与子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相同的子串。通常把主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称为目标，把子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称为模式，把从目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查找模式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子串的过程称为“模式匹配”。匹配有两种结果出现：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有模式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子串，就返回该子串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的位置，当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有多个模式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子串，通常只要找出第一个子串即可，这种情况称为匹配成功，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无模式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子串，返回值为零，称为匹配失败。模式匹配过程如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-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示，假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=“abababac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=“abac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990720"/>
            <a:ext cx="71326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10996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457200"/>
            <a:ext cx="685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串的定义及运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47920" y="114300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.1.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基本概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1676520"/>
            <a:ext cx="7620120" cy="20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串的定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 string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由零个或多个字符组成的有限序列，记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=“a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…a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其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串的名字，用成对的双引号括起来的字符序列为串的值，但两边的双引号不算串值，不包含在串中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1≤i≤n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以是字母、数字或其它字符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串中字符的个数，称为串的长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19320" y="4495680"/>
            <a:ext cx="7238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空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含任何字符的串称为空串，它的长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=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记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=“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90720" y="2057400"/>
            <a:ext cx="24382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4952880"/>
            <a:ext cx="243864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1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210996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405160" y="8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2209680" y="304920"/>
            <a:ext cx="4999320" cy="60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6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210996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71600" y="457200"/>
            <a:ext cx="739152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式匹配算法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   INDEX  (    seqstring  S, seqstring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 int   i=t ,  j=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hile    ( i&lt;=S.curlen )&amp;&amp;(j&lt;=T.curl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  (S.ch[i]==T.ch [j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    i++;   j++ ;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lse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i=i-j+2 ;  j=1;}                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针回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  ( j&gt;T.curlen ) return  (i-T.curle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lse   return (0);   }               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匹配失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210996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533520"/>
            <a:ext cx="7467480" cy="24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该算法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针回溯语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=i-j+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可以这样理解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本趟匹配中，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i≠tj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但前面的字符都匹配，即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t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j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s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-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t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j-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…,s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-j+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t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因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趟匹配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应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-j+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下一位置开始，即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=i-j+1+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就是算法中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=i-j+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该算法的最好时间复杂度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(n+m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最坏时间复杂度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(n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990720" y="3352680"/>
            <a:ext cx="7696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链串上的子串定位运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ndex(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990720" y="41148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顺序串上子串定位运算类似，但返回的值不是位置，而是位置指针。若匹配成功，则返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中的地址（指针），若匹配不成功，则返回空指针。算法描述如下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990720" y="3809880"/>
            <a:ext cx="55702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7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"/>
          <p:cNvSpPr/>
          <p:nvPr/>
        </p:nvSpPr>
        <p:spPr>
          <a:xfrm>
            <a:off x="210996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609480"/>
            <a:ext cx="716292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nk  *index (link  *S ,link  *T)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假设两个链串都带头结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   link   *P  ,*Q , *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=S-&gt;next;   Q=T-&gt;next ;    R=P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hile (P!=NULL)&amp;&amp;(Q!=NU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  (P-&gt;data==Q-&gt;da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 P=P-&gt;next ;  Q=Q-&gt;nex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lse {     R=R-&gt;next;                              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针回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=R ;     Q=T-&gt;next 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 (Q==NULL)  rerurn   R;                 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匹配成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lse   return  NULL ; }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匹配失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210996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380880"/>
            <a:ext cx="7467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空白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含有一个空格的串，称为空白串，它的长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=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记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=“  ”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=“ </a:t>
            </a:r>
            <a:r>
              <a:rPr b="0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ø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19320" y="2133720"/>
            <a:ext cx="74674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子串、主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若一个串是另一个串中连续的一段，则这个串称为另一个串的子串，而另一个串相对于该串称为主串。例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1=“abcdefg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2=“fabcdefghxyz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子串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相对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主串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43000" y="4419720"/>
            <a:ext cx="73915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另外，空串是任意串的子串，任意串是自身的子串。若一个串的长度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则它的子串数目为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真子串个数为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除串本身以外的子串都称为真子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6642000" y="4724280"/>
                <a:ext cx="5032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540160" y="5181480"/>
                <a:ext cx="4316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990720" y="838080"/>
            <a:ext cx="24382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2590920"/>
            <a:ext cx="243864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210996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19320" y="304920"/>
            <a:ext cx="7391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4.1.2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串的运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90720" y="990720"/>
            <a:ext cx="7391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描述方便，假定用大写字母表示串名，小写字母表示组成串的字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2057400"/>
            <a:ext cx="7620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赋值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ssign(&amp;S,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的值赋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3429000"/>
            <a:ext cx="7543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联接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oncat(&amp;S,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联接起来，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接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的后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95280" y="4876920"/>
            <a:ext cx="72392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求串长度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length 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的长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2514600"/>
            <a:ext cx="24382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3886200"/>
            <a:ext cx="24382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90720" y="5334120"/>
            <a:ext cx="24382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210996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0"/>
            <a:ext cx="7086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子串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ubstr(S,i,j,&amp;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截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中从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符开始连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符，作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一个子串，存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371600" y="1600200"/>
            <a:ext cx="73152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串比较大小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trcmp(S,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比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的大小，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&lt;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函数值为负，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=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函数值为零，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&gt;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函数值为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3880" y="3352680"/>
            <a:ext cx="7239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.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串插入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nsert (&amp;S,i,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的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位置扦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71600" y="495288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.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串删除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elete(&amp;S,i,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删除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从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符开始连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符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00200" y="457200"/>
            <a:ext cx="24382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2057400"/>
            <a:ext cx="243864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71600" y="3809880"/>
            <a:ext cx="24382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5410080"/>
            <a:ext cx="24382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210996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152280"/>
            <a:ext cx="7086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.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求子串位置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ndex(S,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子串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主串中首次出现的位置，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不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的子串，则位置为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90720" y="160020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9.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串替换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replace (&amp;S,i,j,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中从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位置开始连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符，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替换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71600" y="2666880"/>
            <a:ext cx="72388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4.1.3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串的抽象数据类型描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的抽象数据类型可描述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71600" y="3886200"/>
            <a:ext cx="7238880" cy="17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DT   strings    IS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ata: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含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…,a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3880" y="4952880"/>
            <a:ext cx="7162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pera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oid   assign(&amp;S,T)   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的值赋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609480"/>
            <a:ext cx="24382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1981080"/>
            <a:ext cx="243864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210996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95280" y="28440"/>
            <a:ext cx="74678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oid   concat(&amp;S,T)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联接起来，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接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的后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    length(T)         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的长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oid  substr(S,i,j,&amp;T)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截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中从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符开始连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符，作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一个子串，存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中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2514600"/>
            <a:ext cx="777240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  strcmp(S,T)      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比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的大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&lt;T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值为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S=T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值为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S&gt;T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值为正。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oid  insert(&amp;S,i,T)   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的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位置扦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oid  delete(&amp;S,i,j)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删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从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符开始连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    index(S,T)  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子串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主串中首次出现的位置，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不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的子串，则位置为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oid   replace(&amp;S,i,j,T)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中从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位置开始连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符，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替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nd  str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210996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457200"/>
            <a:ext cx="7543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2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串的存储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762120"/>
            <a:ext cx="7391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4.2.1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顺序存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的顺序存储结构，也称为顺序串，与第二章介绍的顺序表类似。但由于串中元素全部为字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故存放形式与顺序表有所区别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2971800"/>
            <a:ext cx="7620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串的非紧缩存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个存储单元中只存储一个字符，和顺序表中一个元素占用一个存储单元类似。具体形式见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-1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=“How  do   you  do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371600" y="3429000"/>
            <a:ext cx="24382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9T03:51:56Z</dcterms:created>
  <dc:creator>li</dc:creator>
  <dc:description/>
  <dc:language>en-US</dc:language>
  <cp:lastModifiedBy>李根强</cp:lastModifiedBy>
  <dcterms:modified xsi:type="dcterms:W3CDTF">2001-08-27T07:09:53Z</dcterms:modified>
  <cp:revision>67</cp:revision>
  <dc:subject/>
  <dc:title>没有幻灯片标题</dc:title>
</cp:coreProperties>
</file>