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912E-6753-47CE-A7EA-FB36E4BD9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B141-D4A9-477C-8F52-84395741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292F-88FC-4A88-B6B8-DDD4E9949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6E75-1F02-4DBA-AF5A-48245A61A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4051-EEC8-469E-9D02-2ED38303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88B8-CF88-41C1-8A17-82F9331C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0EA0-557F-4CF6-8E39-7DFA7EA5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F9DA-14EB-4C93-85CB-B5DBA293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9DD0-33AB-4066-A6EC-CDA0FBEF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B453-B2F0-48E5-9CE6-EFFFCEFE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541C-4FF8-4D22-AD42-8327CD3E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EECF-31C7-4C3C-AF72-5346A994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3638-0EBF-4E4C-9EBF-F1120306E5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" Target="slide11.xml"/><Relationship Id="rId5" Type="http://schemas.openxmlformats.org/officeDocument/2006/relationships/slide" Target="slide25.xml"/><Relationship Id="rId6" Type="http://schemas.openxmlformats.org/officeDocument/2006/relationships/slide" Target="slide25.xml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1600200"/>
            <a:ext cx="6019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33"/>
                </a:solidFill>
                <a:latin typeface="Times New Roman"/>
              </a:rPr>
              <a:t>第</a:t>
            </a:r>
            <a:r>
              <a:rPr b="0" lang="zh-CN" sz="4400" spc="-1" strike="noStrike">
                <a:solidFill>
                  <a:srgbClr val="66ff33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66ff33"/>
                </a:solidFill>
                <a:latin typeface="Times New Roman"/>
              </a:rPr>
              <a:t>章   线性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14600" y="4343400"/>
            <a:ext cx="485604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数据结构（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C++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描述）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295280" y="0"/>
            <a:ext cx="73915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-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假设线性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=(23,56,89,76,18),i=3,x=56,y=88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一组操作及结果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ength(L);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得结果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(L,i)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得结果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or(L,x)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得结果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ext(L,x)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得结果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cate(L,x)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得结果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sert(&amp;L,y,i)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得结果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3,56,88,89,76,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lete(&amp;L,i+1)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得结果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3,56,88,76,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371600" y="6094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线性表的顺序存储结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16002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2.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顺序表结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266688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线性表的顺序存储结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也称为顺序表。其存储方式为：在内存中开辟一片连续存储空间，但该连续存储空间的大小要大于或等于顺序表的长度，然后让线性表中第一个元素存放在连续存储空间第一个位置，第二个元素紧跟着第一个之后，其余依此类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1447920" y="228600"/>
            <a:ext cx="723888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假设线性表中元素为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设第一个元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内存地址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C(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在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-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表示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而每个元素在计算机内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存贮单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元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地址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C(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=LOC(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+(i-1)×d   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≤i≤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892160"/>
            <a:ext cx="723924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于是可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+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描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st  int  maxsize=maxle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/maxle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线性表允许的最大长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uct  sequen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emtype  a[maxsize];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线性表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      len;            //le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线性表的实际长度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086280" y="16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286000" y="914400"/>
            <a:ext cx="434664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1447920" y="533520"/>
            <a:ext cx="7162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2.2.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顺序表运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1295280"/>
            <a:ext cx="73152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求顺序表的长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ength(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length(sequenlist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 L.l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该算法的语句频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时间复杂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1828800"/>
            <a:ext cx="57150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1447920" y="442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插入运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sert( &amp;L,x,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507960"/>
            <a:ext cx="739152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Insert(sequenlist &amp;L,elemtype x,int 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int j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(L.len&gt;=maxsize-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ut&lt;&lt;”overflow”&lt;&lt;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 if ((i&lt;1)||(i&gt;L.len+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ut&lt;&lt;”position is not correct!”&lt;&lt;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 {        for(j=L.len;j&gt;=i;j-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.a[j+1]=L.a[j];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元素后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.a[i]=x;     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插入元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.len++;     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长度增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533520"/>
            <a:ext cx="57150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277164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676520" y="228600"/>
            <a:ext cx="4849560" cy="65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1295280" y="533520"/>
            <a:ext cx="7162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３．  删除运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elete(&amp;L,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1320840"/>
            <a:ext cx="70102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Delete(sequenlist &amp;L,int 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int j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((i&lt;1)||(i&gt;L.len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ut&lt;&lt;” position is not correct!”&lt;&lt;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(j=i+1;j&lt;=L.len;j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.a[j-1]=L.a[j];                  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元素前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.len--;                                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长度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1143000"/>
            <a:ext cx="57150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277164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2030400" y="714240"/>
            <a:ext cx="43419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219320" y="685800"/>
            <a:ext cx="746748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插入算法花费的时间，主要在于循环中元素的后移（其它语句花费的时间可以省去），即从插入位置到最后位置的所有元素都要后移一位，使空出的位置插入元素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但是，插入的位置是不固定的，当插入位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时，全部元素都得移动，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次移动，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=n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时，不需移动元素，故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置插入时移动次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-i+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假设在每个位置插入的概率相等为    ，则平均移动元素的次数为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故时间复杂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(n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同理，可推出删除运算的平均移动次数为          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故时间复杂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(n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867280" y="2895480"/>
                <a:ext cx="5032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590920" y="3809880"/>
                <a:ext cx="1041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[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159080" y="3429000"/>
                <a:ext cx="53352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858000" y="4800600"/>
                <a:ext cx="541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3352680" y="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1371600" y="700200"/>
            <a:ext cx="7391520" cy="1066680"/>
          </a:xfrm>
          <a:custGeom>
            <a:avLst/>
            <a:gdLst>
              <a:gd name="textAreaLeft" fmla="*/ 69120 w 7391520"/>
              <a:gd name="textAreaRight" fmla="*/ 7322400 w 73915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149633" h="21600">
                <a:moveTo>
                  <a:pt x="0" y="0"/>
                </a:moveTo>
                <a:lnTo>
                  <a:pt x="149633" y="0"/>
                </a:lnTo>
                <a:lnTo>
                  <a:pt x="149633" y="21600"/>
                </a:lnTo>
                <a:lnTo>
                  <a:pt x="0" y="21600"/>
                </a:lnTo>
                <a:close/>
              </a:path>
              <a:path fill="lightenLess" w="149633" h="21600">
                <a:moveTo>
                  <a:pt x="0" y="0"/>
                </a:moveTo>
                <a:lnTo>
                  <a:pt x="149633" y="0"/>
                </a:lnTo>
                <a:lnTo>
                  <a:pt x="148233" y="1400"/>
                </a:lnTo>
                <a:lnTo>
                  <a:pt x="1400" y="1400"/>
                </a:lnTo>
                <a:close/>
              </a:path>
              <a:path fill="darken" w="149633" h="21600">
                <a:moveTo>
                  <a:pt x="149633" y="0"/>
                </a:moveTo>
                <a:lnTo>
                  <a:pt x="149633" y="21600"/>
                </a:lnTo>
                <a:lnTo>
                  <a:pt x="148233" y="20200"/>
                </a:lnTo>
                <a:lnTo>
                  <a:pt x="148233" y="1400"/>
                </a:lnTo>
                <a:close/>
              </a:path>
              <a:path fill="darkenLess" w="149633" h="21600">
                <a:moveTo>
                  <a:pt x="1496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8233" y="20200"/>
                </a:lnTo>
                <a:close/>
              </a:path>
              <a:path fill="lighten" w="1496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线性表的定义及其运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4" action="ppaction://hlinksldjump"/>
          </p:cNvPr>
          <p:cNvSpPr/>
          <p:nvPr/>
        </p:nvSpPr>
        <p:spPr>
          <a:xfrm>
            <a:off x="1371600" y="2055960"/>
            <a:ext cx="7391520" cy="1143000"/>
          </a:xfrm>
          <a:custGeom>
            <a:avLst/>
            <a:gdLst>
              <a:gd name="textAreaLeft" fmla="*/ 73800 w 7391520"/>
              <a:gd name="textAreaRight" fmla="*/ 7317720 w 73915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139645" h="21600">
                <a:moveTo>
                  <a:pt x="0" y="0"/>
                </a:moveTo>
                <a:lnTo>
                  <a:pt x="139645" y="0"/>
                </a:lnTo>
                <a:lnTo>
                  <a:pt x="139645" y="21600"/>
                </a:lnTo>
                <a:lnTo>
                  <a:pt x="0" y="21600"/>
                </a:lnTo>
                <a:close/>
              </a:path>
              <a:path fill="lightenLess" w="139645" h="21600">
                <a:moveTo>
                  <a:pt x="0" y="0"/>
                </a:moveTo>
                <a:lnTo>
                  <a:pt x="139645" y="0"/>
                </a:lnTo>
                <a:lnTo>
                  <a:pt x="138245" y="1400"/>
                </a:lnTo>
                <a:lnTo>
                  <a:pt x="1400" y="1400"/>
                </a:lnTo>
                <a:close/>
              </a:path>
              <a:path fill="darken" w="139645" h="21600">
                <a:moveTo>
                  <a:pt x="139645" y="0"/>
                </a:moveTo>
                <a:lnTo>
                  <a:pt x="139645" y="21600"/>
                </a:lnTo>
                <a:lnTo>
                  <a:pt x="138245" y="20200"/>
                </a:lnTo>
                <a:lnTo>
                  <a:pt x="138245" y="1400"/>
                </a:lnTo>
                <a:close/>
              </a:path>
              <a:path fill="darkenLess" w="139645" h="21600">
                <a:moveTo>
                  <a:pt x="1396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245" y="20200"/>
                </a:lnTo>
                <a:close/>
              </a:path>
              <a:path fill="lighten" w="1396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线性表的顺序存储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5" action="ppaction://hlinksldjump"/>
          </p:cNvPr>
          <p:cNvSpPr/>
          <p:nvPr/>
        </p:nvSpPr>
        <p:spPr>
          <a:xfrm>
            <a:off x="1371600" y="3535200"/>
            <a:ext cx="7315200" cy="1067040"/>
          </a:xfrm>
          <a:custGeom>
            <a:avLst/>
            <a:gdLst>
              <a:gd name="textAreaLeft" fmla="*/ 69120 w 7315200"/>
              <a:gd name="textAreaRight" fmla="*/ 7246080 w 731520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148038" h="21600">
                <a:moveTo>
                  <a:pt x="0" y="0"/>
                </a:moveTo>
                <a:lnTo>
                  <a:pt x="148038" y="0"/>
                </a:lnTo>
                <a:lnTo>
                  <a:pt x="148038" y="21600"/>
                </a:lnTo>
                <a:lnTo>
                  <a:pt x="0" y="21600"/>
                </a:lnTo>
                <a:close/>
              </a:path>
              <a:path fill="lightenLess" w="148038" h="21600">
                <a:moveTo>
                  <a:pt x="0" y="0"/>
                </a:moveTo>
                <a:lnTo>
                  <a:pt x="148038" y="0"/>
                </a:lnTo>
                <a:lnTo>
                  <a:pt x="146638" y="1400"/>
                </a:lnTo>
                <a:lnTo>
                  <a:pt x="1400" y="1400"/>
                </a:lnTo>
                <a:close/>
              </a:path>
              <a:path fill="darken" w="148038" h="21600">
                <a:moveTo>
                  <a:pt x="148038" y="0"/>
                </a:moveTo>
                <a:lnTo>
                  <a:pt x="148038" y="21600"/>
                </a:lnTo>
                <a:lnTo>
                  <a:pt x="146638" y="20200"/>
                </a:lnTo>
                <a:lnTo>
                  <a:pt x="146638" y="1400"/>
                </a:lnTo>
                <a:close/>
              </a:path>
              <a:path fill="darkenLess" w="148038" h="21600">
                <a:moveTo>
                  <a:pt x="148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6638" y="20200"/>
                </a:lnTo>
                <a:close/>
              </a:path>
              <a:path fill="lighten" w="148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线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的链式存贮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endshow"/>
          </p:cNvPr>
          <p:cNvSpPr/>
          <p:nvPr/>
        </p:nvSpPr>
        <p:spPr>
          <a:xfrm>
            <a:off x="1523880" y="5029200"/>
            <a:ext cx="7162920" cy="990720"/>
          </a:xfrm>
          <a:custGeom>
            <a:avLst/>
            <a:gdLst>
              <a:gd name="textAreaLeft" fmla="*/ 64080 w 7162920"/>
              <a:gd name="textAreaRight" fmla="*/ 7098840 w 71629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56119" h="21600">
                <a:moveTo>
                  <a:pt x="0" y="0"/>
                </a:moveTo>
                <a:lnTo>
                  <a:pt x="156119" y="0"/>
                </a:lnTo>
                <a:lnTo>
                  <a:pt x="156119" y="21600"/>
                </a:lnTo>
                <a:lnTo>
                  <a:pt x="0" y="21600"/>
                </a:lnTo>
                <a:close/>
              </a:path>
              <a:path fill="lightenLess" w="156119" h="21600">
                <a:moveTo>
                  <a:pt x="0" y="0"/>
                </a:moveTo>
                <a:lnTo>
                  <a:pt x="156119" y="0"/>
                </a:lnTo>
                <a:lnTo>
                  <a:pt x="154719" y="1400"/>
                </a:lnTo>
                <a:lnTo>
                  <a:pt x="1400" y="1400"/>
                </a:lnTo>
                <a:close/>
              </a:path>
              <a:path fill="darken" w="156119" h="21600">
                <a:moveTo>
                  <a:pt x="156119" y="0"/>
                </a:moveTo>
                <a:lnTo>
                  <a:pt x="156119" y="21600"/>
                </a:lnTo>
                <a:lnTo>
                  <a:pt x="154719" y="20200"/>
                </a:lnTo>
                <a:lnTo>
                  <a:pt x="154719" y="1400"/>
                </a:lnTo>
                <a:close/>
              </a:path>
              <a:path fill="darkenLess" w="156119" h="21600">
                <a:moveTo>
                  <a:pt x="15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4719" y="20200"/>
                </a:lnTo>
                <a:close/>
              </a:path>
              <a:path fill="lighten" w="15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束放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219320" y="9907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 置空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null(&amp;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1905120"/>
            <a:ext cx="7620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setnull(sequenlist &amp;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.len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该算法的时间复杂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1523880"/>
            <a:ext cx="57150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1295280" y="106668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 定位算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ocate(L,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1828800"/>
            <a:ext cx="76964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Locate(sequenlist L, elemtype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int j=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(j&lt;=L.len)&amp;&amp;(L.a[j]!=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++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(j&lt;=L.len)  return j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 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该算法的时间复杂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(n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1600200"/>
            <a:ext cx="57150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914400" y="1143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 取元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(L,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1981080"/>
            <a:ext cx="75438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emtype Get(sequenlist L,int 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(i&lt;1)||(i&gt;L.len) return NU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 return L.a[i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该算法的时间复杂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1676520"/>
            <a:ext cx="57150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1295280" y="12193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2.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顺序表存储空间的动态分配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981080"/>
            <a:ext cx="7543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将前面线性表的顺序存储结构类型中的数组形式改为指针形式，则得到动态分配形式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uct sequen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emtype  *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l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990720" y="1371600"/>
            <a:ext cx="754380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此时，只有线性表置空表算法需要修改，其它算法都与静态分配相同。这时的置空表算法应改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setnull(sequenlist &amp;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.a=new elemtype[maxsize];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动态申请存储单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(L.a==NULL)   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申请不成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.len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1295280" y="121932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线性表的链式存贮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167652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线性表的链式存贮结构，也称为链表。其存贮方式是：在内存中利用存贮单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以不连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来存放元素值及它在内存的地址，各个元素的存放顺序及位置都可以以任意顺序进行，原来相邻的元素存放到计算机内存后不一定相邻，从一个元素找下一个元素必须通过地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才能实现。故不能像顺序表一样可随机访问，而只能按顺序访问。常用的链表有单链表、循环链表和双向链表、多重链表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1219320" y="914400"/>
            <a:ext cx="739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３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单链表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1981080"/>
            <a:ext cx="7238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定义的链表中，若只含有一个指针域来存放下一个元素地址，称这样的链表为单链表或线性链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线性链表中的结点结构可描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9564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3276720" y="3603600"/>
            <a:ext cx="2743200" cy="793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447920" y="4495680"/>
            <a:ext cx="7238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at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域用来存放结点本身信息，类型由具体问题而定，本书中，我们也将其设定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emtyp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型，表示某一种具体的已知类型，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域用来存放下一个元素地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2852640" y="18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2567160" y="123840"/>
            <a:ext cx="5376600" cy="49752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02904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1631880" y="5232240"/>
            <a:ext cx="568332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1447920" y="152280"/>
            <a:ext cx="71625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链表可用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描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uct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 elemtype data;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元素类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nk     *next;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针类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存放下一个元素地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4316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1981080" y="3133800"/>
            <a:ext cx="5334120" cy="1101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09564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1752480" y="4527720"/>
            <a:ext cx="5486400" cy="17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447920" y="53352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单链表运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2057400"/>
            <a:ext cx="65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１． 头插法建立单链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左边插入结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52480" y="2743200"/>
            <a:ext cx="58676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447920" y="685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线性表的定义及其运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175248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1.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线性表的定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2438280"/>
            <a:ext cx="7925040" cy="24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 线性表的定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线性表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near lis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≥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个数据元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组成的有限序列。其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称为数据元素的个数或线性表的长度，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称为空表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&gt;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称为非空表。通常将非空的线性表记为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其中的数据元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≤i≤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是一个抽象的符号，其具体含义在不同情况下是不同的，即它的数据类型可以根据具体情况而定，本书中，我们将它的类型设定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emtyp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表示某一种具体的已知数据类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2819520"/>
            <a:ext cx="25909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1295280" y="609480"/>
            <a:ext cx="73915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nk *hcreat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link 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,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;   int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in&gt;&gt;i;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入结点数值，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算法结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=NU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(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s=new link;     s-&gt;data=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-&gt;next=p;     p=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in&gt;&gt;i;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1371600" y="533520"/>
            <a:ext cx="7162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  尾插法建立单链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右边插入结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1219320"/>
            <a:ext cx="72388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nk *rcreat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link 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,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,*p;   int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=r=new link;       p-&gt;next=NU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in&gt;&gt;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(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 s=new link;      s-&gt;data=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-&gt;next=s;               r=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in&gt;&gt;i;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-&gt;next=NULL;       return p;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19320" y="1143000"/>
            <a:ext cx="5867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066680" y="106668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 单链表上的查找运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2057400"/>
            <a:ext cx="7620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值查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cate(head,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单链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ea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查找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结点，若找到，返回它的地址，否则返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19320" y="4038480"/>
            <a:ext cx="71625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序号查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(head,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单链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ea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查找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位置上的元素，若找到，则返回它的地址，否则返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1676520"/>
            <a:ext cx="5867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2590920"/>
            <a:ext cx="5867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4572000"/>
            <a:ext cx="58676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143000" y="533520"/>
            <a:ext cx="73152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nk *Locate(link *head,elemtype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link *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=head-&gt;n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((p!=NULL)&amp;&amp;(p-&gt;data!=x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=p-&gt;n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47920" y="49528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算法的时间复杂度都为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n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1066680" y="304920"/>
            <a:ext cx="75438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nk *get(link *head,int 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int j;     link *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=1;       p=head-&gt;n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((j&lt;i)&amp;&amp;(p!=N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j++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=p-&gt;next;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90720" y="51814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算法的时间复杂度都为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n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1143000" y="4572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 单链表上的插入运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16765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插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间，插入结点的指针变化如图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2900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1752480" y="2863800"/>
            <a:ext cx="5181840" cy="26989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990720" y="1143000"/>
            <a:ext cx="5867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1295280" y="457200"/>
            <a:ext cx="73915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insert(link *head,elemtype x,elemtype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头指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ea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指单链表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结点之后插入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结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link 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,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=new link;    s-&gt;data=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(head-&gt;next==NULL)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链表为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head-&gt;next=s;       s-&gt;next=NULL;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=Locate(head,y)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调用查找算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(p==NULL)    cout&lt;&lt;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插入位置非法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   {  s-&gt;next=p-&gt;n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-&gt;next=s; }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1447920" y="38088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５． 单链表上的删除运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14479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删除，删除结点的指针变化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-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4348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1752480" y="2962440"/>
            <a:ext cx="5600880" cy="25416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219320" y="990720"/>
            <a:ext cx="5867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1371600" y="533520"/>
            <a:ext cx="70866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delete(link *head,elemtype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ea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头指针的单链表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删除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结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link 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,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q=head;    p=head-&gt;n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(p!=NULL)&amp;&amp;(p-&gt;data!=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q=p;      p=p-&gt;next;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(p==NULL)  cout&lt;&lt;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要删除的结点不存在”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   { q-&gt;next=p-&gt;next;  delete(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1295280" y="3808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６． 输出单链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66680" y="11430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需将单链表按逻辑顺序输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见图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10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必须从头到尾访问单链表中每一个结点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2912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523880" y="2133720"/>
            <a:ext cx="6629400" cy="14446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31488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1600200" y="4238640"/>
            <a:ext cx="6477120" cy="20368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1143000" y="990720"/>
            <a:ext cx="5867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295280" y="457200"/>
            <a:ext cx="7162920" cy="39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  线性表的特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线性表的定义可以看出线性表的特征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且仅有一个开始结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头结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它没有直接前驱，只有一个直接后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且仅有一个终端结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尾结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它没有直接后继，只有一个直接前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它结点都有一个直接前驱和直接后继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元素之间为一对一的线性关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95280" y="990720"/>
            <a:ext cx="25909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36840" y="1447920"/>
            <a:ext cx="761760" cy="6858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60520" y="2286000"/>
            <a:ext cx="762120" cy="6858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3137040"/>
            <a:ext cx="761760" cy="6858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34960" y="3886200"/>
            <a:ext cx="762120" cy="6858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1523880" y="457200"/>
            <a:ext cx="6858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print(link *he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 link *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=head-&gt;n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(p-&gt;next!=N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cout&lt;&lt;p-&gt;data&lt;&lt;”-&gt;”;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出表中非最后一个元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=p-&gt;next;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ut&lt;&lt;p-&gt;data;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出表中最后一个元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ut&lt;&lt;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1295280" y="5335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３  循环链表结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66680" y="11430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链表上的访问是一种顺序访问，从其中某一个结点出发，可以找到它的直接后继，但无法找到它的直接前驱。因此，我们可以考虑建立这样的链表，具有单链表的特征，但又不需要增加额外的存贮空间，仅对表的链接方式稍作改变，使得对表的处理更加方便灵活。从单链表可知，最后一个结点的指针域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单链表已经结束。如果将单链表最后一个结点的指针域改为存放链表中头结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第一个结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地址，就使得整个链表构成一个环，又没有增加额外的存贮空间，称这们的链表为单循环链表，在不引起混淆时称为循环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面还要提到双向循环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1447920" y="533520"/>
            <a:ext cx="72388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循环链表上的运算与单链表上运算基本一致，区别只在于最后一个结点的判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循环的条件不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但利用循环链表实现某些运算较单链表方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某个结点出发能求出它的直接前驱，而单链表是不行的，只能从头出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76560" y="25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1523880" y="2743200"/>
            <a:ext cx="624852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5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1447920" y="380880"/>
            <a:ext cx="7162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2.3.4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双向链表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1219320"/>
            <a:ext cx="76960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 双向链表基本概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单链表中，从某个结点出发可以直接找到它的直接后继，时间复杂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但无法直接找到它的直接前驱；在单循环链表中，从某个结点出发可以直接找到它的直接后继，时间复杂仍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直接找到它的直接前驱，时间复杂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(n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有时，希望能快速找到一个结点的直接前驱，这时，可以在单链表中的结点中增加一个指针域指向它的直接前驱，这样的链表，就称为双向链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个结点中含有两个指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如果每条链构成一个循环链表，则会得双向循环链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1752480"/>
            <a:ext cx="5867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295280" y="685800"/>
            <a:ext cx="71629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双向链表可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+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描述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uct du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emtype data;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点的数据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型设定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em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ulink  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ext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prior;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义指向直接后继和直接前驱的指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295740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1295280" y="76320"/>
            <a:ext cx="6858000" cy="21034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295740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1523880" y="2719440"/>
            <a:ext cx="557712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>
            <a:off x="1295280" y="5335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  双向链表插入运算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uinsert (head,x,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66680" y="11430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ea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头指针的双向链表中，在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结点之后插入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结点，插入结点的指针变化见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-16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改为在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结点之前插入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结点，可以作类似分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20040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295280" y="2867040"/>
          <a:ext cx="5639040" cy="3660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2867040"/>
                    <a:ext cx="5639040" cy="36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1219320" y="1066680"/>
            <a:ext cx="5867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1447920" y="0"/>
            <a:ext cx="723888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插入算法描述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duinsert(dulink *head,elemtype x,elemtype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dulink 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,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=new dulink;   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申请待插入的结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-&gt;data=x;  p=hea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(p!=NULL)&amp;&amp;(p-&gt;data!=y)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循环查找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结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=p-&gt;n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(p!=NULL)         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已找到插入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s-&gt;next=p-&gt;next;   p-&gt;next-&gt;prior=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-&gt;prior=p;      p-&gt;next=s;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  cout&lt;&lt;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插入位置不存在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1447920" y="53352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双向链表的删除运算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udelete(head ,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47920" y="144792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ea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头的双向链表中删除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结点，删除算法的指针变化见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-1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5764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4"/>
          <a:stretch/>
        </p:blipFill>
        <p:spPr>
          <a:xfrm>
            <a:off x="2133720" y="2681280"/>
            <a:ext cx="5429160" cy="30877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371600" y="1066680"/>
            <a:ext cx="5867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1143000" y="457200"/>
            <a:ext cx="72388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删除算法描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 dudelete(dulink  *head,int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dulink *p;   p=hea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(p!=NULL)&amp;&amp;(p-&gt;data!=x)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循环查找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结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=p-&gt;nex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(p!=NULL)            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已找到该结点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  p-&gt;prior-&gt;next=p-&gt;n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-&gt;next-&gt;prior=p-&gt;pri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lete p; }             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删除后的结点空间回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  cout&lt;&lt;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没找到，不能删除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447920" y="533520"/>
            <a:ext cx="6933960" cy="39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线性表是一种典型的线性结构，用二元组表示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near_list=(A,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={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∣1≤i≤n,n≥0,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∈elemtyp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={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={&lt;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∣1≤i≤n-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7920" y="41911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应的逻辑结构图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976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905120" y="4903920"/>
          <a:ext cx="5410080" cy="1191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5120" y="4903920"/>
                    <a:ext cx="5410080" cy="11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295280" y="457200"/>
            <a:ext cx="7239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2.1.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线性表的运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1066680"/>
            <a:ext cx="75438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见线性表的运算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置空表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NUL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amp;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将线性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置成空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 求长度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求给定线性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长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 取元素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  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≤i≤length(L)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取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位置上的元素，否则取得的元素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求直接前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0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求线性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元素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直接前趋，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第一个元素，前驱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2057400"/>
            <a:ext cx="40388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92240" y="2685960"/>
            <a:ext cx="40384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55600" y="3143160"/>
            <a:ext cx="40388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55600" y="4070520"/>
            <a:ext cx="40388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1447920" y="380880"/>
            <a:ext cx="7086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求直接后继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求线性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元素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接后继，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最后一个元素，后继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定位函数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C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 在线性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查找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元素位置，若有多个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以第一个为准，若没有，位置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插入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amp;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线性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位置上插入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元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删除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amp;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删除线性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位置上的元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81120" y="806400"/>
            <a:ext cx="40384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1720800"/>
            <a:ext cx="40388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38360" y="3016080"/>
            <a:ext cx="40384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1280" y="3930480"/>
            <a:ext cx="40384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447920" y="609480"/>
            <a:ext cx="7010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2.1.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线性表的抽象数据类型描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1523880"/>
            <a:ext cx="7543800" cy="49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述这些操作可用抽象数据类型描述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T  Linearlis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个线性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义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=(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）时定义为一个空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pe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    setnull(&amp;L)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线性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置成空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      Length(L)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求给定线性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长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emtype  Get(L,i)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取线性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位置上的元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295280" y="380880"/>
            <a:ext cx="74678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emtype  Prior(L,x)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求线性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元素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直接前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emtype  Next(L,x)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求线性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元素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直接后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      Locate(L,x)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线性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查找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元素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     Insert(&amp;L,x,i)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线性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位置上插入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元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     Delete(&amp;L,i)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删除线性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位置上的元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  Linear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9T03:51:56Z</dcterms:created>
  <dc:creator>li</dc:creator>
  <dc:description/>
  <dc:language>en-US</dc:language>
  <cp:lastModifiedBy>李根强</cp:lastModifiedBy>
  <dcterms:modified xsi:type="dcterms:W3CDTF">2001-08-27T07:20:52Z</dcterms:modified>
  <cp:revision>102</cp:revision>
  <dc:subject/>
  <dc:title>没有幻灯片标题</dc:title>
</cp:coreProperties>
</file>