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007-2E97-4E26-943A-077B3876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ACE-8B14-4C38-90CC-1DB4B9D8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EF9-8B5F-4A46-AB66-EED6EADB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711-2371-4C53-B982-86C4918D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281-5F88-4683-B90F-B9FAD2C3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0B9-A487-4B9D-9BA3-2A75DD1D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67F-374B-4B59-A75C-3D9CFDB2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317-B2C6-4962-BDF2-03E82BB5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0CA-1E8A-48FC-B9C4-79063209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438-AB3B-4911-87D0-DDB6E41D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1C0-FAF1-42AA-835E-8CD722C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C9F-3B9E-42A0-9C82-4094857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8561-CF50-44F9-BE87-0FBE08012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hyperlink" Target="file:///usr/lib/libreoffice/share/gallery/sounds/laser.wav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usr/lib/libreoffice/share/gallery/sounds/laser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数据结构电子教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N01108_" descr=""/>
          <p:cNvPicPr/>
          <p:nvPr/>
        </p:nvPicPr>
        <p:blipFill>
          <a:blip r:embed="rId1"/>
          <a:stretch/>
        </p:blipFill>
        <p:spPr>
          <a:xfrm>
            <a:off x="2738520" y="457200"/>
            <a:ext cx="404316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0" y="1219320"/>
            <a:ext cx="46483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湖南计算机高等专科学校         李根强制作     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00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990720" y="838080"/>
            <a:ext cx="7772400" cy="762120"/>
          </a:xfrm>
          <a:custGeom>
            <a:avLst/>
            <a:gdLst>
              <a:gd name="textAreaLeft" fmla="*/ 49320 w 7772400"/>
              <a:gd name="textAreaRight" fmla="*/ 7723080 w 7772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20192" h="21600">
                <a:moveTo>
                  <a:pt x="0" y="0"/>
                </a:moveTo>
                <a:lnTo>
                  <a:pt x="220192" y="0"/>
                </a:lnTo>
                <a:lnTo>
                  <a:pt x="220192" y="21600"/>
                </a:lnTo>
                <a:lnTo>
                  <a:pt x="0" y="21600"/>
                </a:lnTo>
                <a:close/>
              </a:path>
              <a:path fill="lightenLess" w="220192" h="21600">
                <a:moveTo>
                  <a:pt x="0" y="0"/>
                </a:moveTo>
                <a:lnTo>
                  <a:pt x="220192" y="0"/>
                </a:lnTo>
                <a:lnTo>
                  <a:pt x="218792" y="1400"/>
                </a:lnTo>
                <a:lnTo>
                  <a:pt x="1400" y="1400"/>
                </a:lnTo>
                <a:close/>
              </a:path>
              <a:path fill="darken" w="220192" h="21600">
                <a:moveTo>
                  <a:pt x="220192" y="0"/>
                </a:moveTo>
                <a:lnTo>
                  <a:pt x="220192" y="21600"/>
                </a:lnTo>
                <a:lnTo>
                  <a:pt x="218792" y="20200"/>
                </a:lnTo>
                <a:lnTo>
                  <a:pt x="218792" y="1400"/>
                </a:lnTo>
                <a:close/>
              </a:path>
              <a:path fill="darkenLess" w="220192" h="21600">
                <a:moveTo>
                  <a:pt x="220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92" y="20200"/>
                </a:lnTo>
                <a:close/>
              </a:path>
              <a:path fill="lighten" w="220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章 绪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/>
          </p:cNvPr>
          <p:cNvSpPr/>
          <p:nvPr/>
        </p:nvSpPr>
        <p:spPr>
          <a:xfrm>
            <a:off x="990720" y="1981080"/>
            <a:ext cx="7772400" cy="762120"/>
          </a:xfrm>
          <a:custGeom>
            <a:avLst/>
            <a:gdLst>
              <a:gd name="textAreaLeft" fmla="*/ 49320 w 7772400"/>
              <a:gd name="textAreaRight" fmla="*/ 7723080 w 7772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20192" h="21600">
                <a:moveTo>
                  <a:pt x="0" y="0"/>
                </a:moveTo>
                <a:lnTo>
                  <a:pt x="220192" y="0"/>
                </a:lnTo>
                <a:lnTo>
                  <a:pt x="220192" y="21600"/>
                </a:lnTo>
                <a:lnTo>
                  <a:pt x="0" y="21600"/>
                </a:lnTo>
                <a:close/>
              </a:path>
              <a:path fill="lightenLess" w="220192" h="21600">
                <a:moveTo>
                  <a:pt x="0" y="0"/>
                </a:moveTo>
                <a:lnTo>
                  <a:pt x="220192" y="0"/>
                </a:lnTo>
                <a:lnTo>
                  <a:pt x="218792" y="1400"/>
                </a:lnTo>
                <a:lnTo>
                  <a:pt x="1400" y="1400"/>
                </a:lnTo>
                <a:close/>
              </a:path>
              <a:path fill="darken" w="220192" h="21600">
                <a:moveTo>
                  <a:pt x="220192" y="0"/>
                </a:moveTo>
                <a:lnTo>
                  <a:pt x="220192" y="21600"/>
                </a:lnTo>
                <a:lnTo>
                  <a:pt x="218792" y="20200"/>
                </a:lnTo>
                <a:lnTo>
                  <a:pt x="218792" y="1400"/>
                </a:lnTo>
                <a:close/>
              </a:path>
              <a:path fill="darkenLess" w="220192" h="21600">
                <a:moveTo>
                  <a:pt x="220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92" y="20200"/>
                </a:lnTo>
                <a:close/>
              </a:path>
              <a:path fill="lighten" w="220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章 线性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990720" y="3181320"/>
            <a:ext cx="7772400" cy="685800"/>
          </a:xfrm>
          <a:custGeom>
            <a:avLst/>
            <a:gdLst>
              <a:gd name="textAreaLeft" fmla="*/ 44280 w 7772400"/>
              <a:gd name="textAreaRight" fmla="*/ 7728120 w 7772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4683" h="21600">
                <a:moveTo>
                  <a:pt x="0" y="0"/>
                </a:moveTo>
                <a:lnTo>
                  <a:pt x="244683" y="0"/>
                </a:lnTo>
                <a:lnTo>
                  <a:pt x="244683" y="21600"/>
                </a:lnTo>
                <a:lnTo>
                  <a:pt x="0" y="21600"/>
                </a:lnTo>
                <a:close/>
              </a:path>
              <a:path fill="lightenLess" w="244683" h="21600">
                <a:moveTo>
                  <a:pt x="0" y="0"/>
                </a:moveTo>
                <a:lnTo>
                  <a:pt x="244683" y="0"/>
                </a:lnTo>
                <a:lnTo>
                  <a:pt x="243283" y="1400"/>
                </a:lnTo>
                <a:lnTo>
                  <a:pt x="1400" y="1400"/>
                </a:lnTo>
                <a:close/>
              </a:path>
              <a:path fill="darken" w="244683" h="21600">
                <a:moveTo>
                  <a:pt x="244683" y="0"/>
                </a:moveTo>
                <a:lnTo>
                  <a:pt x="244683" y="21600"/>
                </a:lnTo>
                <a:lnTo>
                  <a:pt x="243283" y="20200"/>
                </a:lnTo>
                <a:lnTo>
                  <a:pt x="243283" y="1400"/>
                </a:lnTo>
                <a:close/>
              </a:path>
              <a:path fill="darkenLess" w="244683" h="21600">
                <a:moveTo>
                  <a:pt x="24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83" y="20200"/>
                </a:lnTo>
                <a:close/>
              </a:path>
              <a:path fill="lighten" w="24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章 栈和队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/>
          </p:cNvPr>
          <p:cNvSpPr/>
          <p:nvPr/>
        </p:nvSpPr>
        <p:spPr>
          <a:xfrm>
            <a:off x="990720" y="4267080"/>
            <a:ext cx="7772400" cy="838440"/>
          </a:xfrm>
          <a:custGeom>
            <a:avLst/>
            <a:gdLst>
              <a:gd name="textAreaLeft" fmla="*/ 54360 w 7772400"/>
              <a:gd name="textAreaRight" fmla="*/ 7718040 w 7772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00157" h="21600">
                <a:moveTo>
                  <a:pt x="0" y="0"/>
                </a:moveTo>
                <a:lnTo>
                  <a:pt x="200157" y="0"/>
                </a:lnTo>
                <a:lnTo>
                  <a:pt x="200157" y="21600"/>
                </a:lnTo>
                <a:lnTo>
                  <a:pt x="0" y="21600"/>
                </a:lnTo>
                <a:close/>
              </a:path>
              <a:path fill="lightenLess" w="200157" h="21600">
                <a:moveTo>
                  <a:pt x="0" y="0"/>
                </a:moveTo>
                <a:lnTo>
                  <a:pt x="200157" y="0"/>
                </a:lnTo>
                <a:lnTo>
                  <a:pt x="198757" y="1400"/>
                </a:lnTo>
                <a:lnTo>
                  <a:pt x="1400" y="1400"/>
                </a:lnTo>
                <a:close/>
              </a:path>
              <a:path fill="darken" w="200157" h="21600">
                <a:moveTo>
                  <a:pt x="200157" y="0"/>
                </a:moveTo>
                <a:lnTo>
                  <a:pt x="200157" y="21600"/>
                </a:lnTo>
                <a:lnTo>
                  <a:pt x="198757" y="20200"/>
                </a:lnTo>
                <a:lnTo>
                  <a:pt x="198757" y="1400"/>
                </a:lnTo>
                <a:close/>
              </a:path>
              <a:path fill="darkenLess" w="200157" h="21600">
                <a:moveTo>
                  <a:pt x="200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57" y="20200"/>
                </a:lnTo>
                <a:close/>
              </a:path>
              <a:path fill="lighten" w="200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章 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/>
          </p:cNvPr>
          <p:cNvSpPr/>
          <p:nvPr/>
        </p:nvSpPr>
        <p:spPr>
          <a:xfrm>
            <a:off x="990720" y="5638680"/>
            <a:ext cx="7772400" cy="685800"/>
          </a:xfrm>
          <a:custGeom>
            <a:avLst/>
            <a:gdLst>
              <a:gd name="textAreaLeft" fmla="*/ 44280 w 7772400"/>
              <a:gd name="textAreaRight" fmla="*/ 7728120 w 7772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4683" h="21600">
                <a:moveTo>
                  <a:pt x="0" y="0"/>
                </a:moveTo>
                <a:lnTo>
                  <a:pt x="244683" y="0"/>
                </a:lnTo>
                <a:lnTo>
                  <a:pt x="244683" y="21600"/>
                </a:lnTo>
                <a:lnTo>
                  <a:pt x="0" y="21600"/>
                </a:lnTo>
                <a:close/>
              </a:path>
              <a:path fill="lightenLess" w="244683" h="21600">
                <a:moveTo>
                  <a:pt x="0" y="0"/>
                </a:moveTo>
                <a:lnTo>
                  <a:pt x="244683" y="0"/>
                </a:lnTo>
                <a:lnTo>
                  <a:pt x="243283" y="1400"/>
                </a:lnTo>
                <a:lnTo>
                  <a:pt x="1400" y="1400"/>
                </a:lnTo>
                <a:close/>
              </a:path>
              <a:path fill="darken" w="244683" h="21600">
                <a:moveTo>
                  <a:pt x="244683" y="0"/>
                </a:moveTo>
                <a:lnTo>
                  <a:pt x="244683" y="21600"/>
                </a:lnTo>
                <a:lnTo>
                  <a:pt x="243283" y="20200"/>
                </a:lnTo>
                <a:lnTo>
                  <a:pt x="243283" y="1400"/>
                </a:lnTo>
                <a:close/>
              </a:path>
              <a:path fill="darkenLess" w="244683" h="21600">
                <a:moveTo>
                  <a:pt x="24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83" y="20200"/>
                </a:lnTo>
                <a:close/>
              </a:path>
              <a:path fill="lighten" w="24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五章 多维数组和广义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1"/>
          </p:cNvPr>
          <p:cNvSpPr/>
          <p:nvPr/>
        </p:nvSpPr>
        <p:spPr>
          <a:xfrm>
            <a:off x="1219320" y="1676520"/>
            <a:ext cx="7391160" cy="990360"/>
          </a:xfrm>
          <a:custGeom>
            <a:avLst/>
            <a:gdLst>
              <a:gd name="textAreaLeft" fmla="*/ 64080 w 7391160"/>
              <a:gd name="textAreaRight" fmla="*/ 7327080 w 7391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1152" h="21600">
                <a:moveTo>
                  <a:pt x="0" y="0"/>
                </a:moveTo>
                <a:lnTo>
                  <a:pt x="161152" y="0"/>
                </a:lnTo>
                <a:lnTo>
                  <a:pt x="161152" y="21600"/>
                </a:lnTo>
                <a:lnTo>
                  <a:pt x="0" y="21600"/>
                </a:lnTo>
                <a:close/>
              </a:path>
              <a:path fill="lightenLess" w="161152" h="21600">
                <a:moveTo>
                  <a:pt x="0" y="0"/>
                </a:moveTo>
                <a:lnTo>
                  <a:pt x="161152" y="0"/>
                </a:lnTo>
                <a:lnTo>
                  <a:pt x="159752" y="1400"/>
                </a:lnTo>
                <a:lnTo>
                  <a:pt x="1400" y="1400"/>
                </a:lnTo>
                <a:close/>
              </a:path>
              <a:path fill="darken" w="161152" h="21600">
                <a:moveTo>
                  <a:pt x="161152" y="0"/>
                </a:moveTo>
                <a:lnTo>
                  <a:pt x="161152" y="21600"/>
                </a:lnTo>
                <a:lnTo>
                  <a:pt x="159752" y="20200"/>
                </a:lnTo>
                <a:lnTo>
                  <a:pt x="159752" y="1400"/>
                </a:lnTo>
                <a:close/>
              </a:path>
              <a:path fill="darkenLess" w="161152" h="21600">
                <a:moveTo>
                  <a:pt x="161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9752" y="20200"/>
                </a:lnTo>
                <a:close/>
              </a:path>
              <a:path fill="lighten" w="161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七章 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"/>
          </p:cNvPr>
          <p:cNvSpPr/>
          <p:nvPr/>
        </p:nvSpPr>
        <p:spPr>
          <a:xfrm>
            <a:off x="1219320" y="3048120"/>
            <a:ext cx="7467480" cy="1143000"/>
          </a:xfrm>
          <a:custGeom>
            <a:avLst/>
            <a:gdLst>
              <a:gd name="textAreaLeft" fmla="*/ 73800 w 7467480"/>
              <a:gd name="textAreaRight" fmla="*/ 7393680 w 74674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41080" h="21600">
                <a:moveTo>
                  <a:pt x="0" y="0"/>
                </a:moveTo>
                <a:lnTo>
                  <a:pt x="141080" y="0"/>
                </a:lnTo>
                <a:lnTo>
                  <a:pt x="141080" y="21600"/>
                </a:lnTo>
                <a:lnTo>
                  <a:pt x="0" y="21600"/>
                </a:lnTo>
                <a:close/>
              </a:path>
              <a:path fill="lightenLess" w="141080" h="21600">
                <a:moveTo>
                  <a:pt x="0" y="0"/>
                </a:moveTo>
                <a:lnTo>
                  <a:pt x="141080" y="0"/>
                </a:lnTo>
                <a:lnTo>
                  <a:pt x="139680" y="1400"/>
                </a:lnTo>
                <a:lnTo>
                  <a:pt x="1400" y="1400"/>
                </a:lnTo>
                <a:close/>
              </a:path>
              <a:path fill="darken" w="141080" h="21600">
                <a:moveTo>
                  <a:pt x="141080" y="0"/>
                </a:moveTo>
                <a:lnTo>
                  <a:pt x="141080" y="21600"/>
                </a:lnTo>
                <a:lnTo>
                  <a:pt x="139680" y="20200"/>
                </a:lnTo>
                <a:lnTo>
                  <a:pt x="139680" y="1400"/>
                </a:lnTo>
                <a:close/>
              </a:path>
              <a:path fill="darkenLess" w="141080" h="21600">
                <a:moveTo>
                  <a:pt x="141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680" y="20200"/>
                </a:lnTo>
                <a:close/>
              </a:path>
              <a:path fill="lighten" w="141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八章 查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/>
          </p:cNvPr>
          <p:cNvSpPr/>
          <p:nvPr/>
        </p:nvSpPr>
        <p:spPr>
          <a:xfrm>
            <a:off x="1219320" y="4419720"/>
            <a:ext cx="7543800" cy="914400"/>
          </a:xfrm>
          <a:custGeom>
            <a:avLst/>
            <a:gdLst>
              <a:gd name="textAreaLeft" fmla="*/ 59040 w 7543800"/>
              <a:gd name="textAreaRight" fmla="*/ 7484760 w 7543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78138" h="21600">
                <a:moveTo>
                  <a:pt x="0" y="0"/>
                </a:moveTo>
                <a:lnTo>
                  <a:pt x="178138" y="0"/>
                </a:lnTo>
                <a:lnTo>
                  <a:pt x="178138" y="21600"/>
                </a:lnTo>
                <a:lnTo>
                  <a:pt x="0" y="21600"/>
                </a:lnTo>
                <a:close/>
              </a:path>
              <a:path fill="lightenLess" w="178138" h="21600">
                <a:moveTo>
                  <a:pt x="0" y="0"/>
                </a:moveTo>
                <a:lnTo>
                  <a:pt x="178138" y="0"/>
                </a:lnTo>
                <a:lnTo>
                  <a:pt x="176738" y="1400"/>
                </a:lnTo>
                <a:lnTo>
                  <a:pt x="1400" y="1400"/>
                </a:lnTo>
                <a:close/>
              </a:path>
              <a:path fill="darken" w="178138" h="21600">
                <a:moveTo>
                  <a:pt x="178138" y="0"/>
                </a:moveTo>
                <a:lnTo>
                  <a:pt x="178138" y="21600"/>
                </a:lnTo>
                <a:lnTo>
                  <a:pt x="176738" y="20200"/>
                </a:lnTo>
                <a:lnTo>
                  <a:pt x="176738" y="1400"/>
                </a:lnTo>
                <a:close/>
              </a:path>
              <a:path fill="darkenLess" w="178138" h="21600">
                <a:moveTo>
                  <a:pt x="178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738" y="20200"/>
                </a:lnTo>
                <a:close/>
              </a:path>
              <a:path fill="lighten" w="178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九章  排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endshow"/>
          </p:cNvPr>
          <p:cNvSpPr/>
          <p:nvPr/>
        </p:nvSpPr>
        <p:spPr>
          <a:xfrm>
            <a:off x="1295280" y="5562720"/>
            <a:ext cx="7467840" cy="990360"/>
          </a:xfrm>
          <a:custGeom>
            <a:avLst/>
            <a:gdLst>
              <a:gd name="textAreaLeft" fmla="*/ 64080 w 7467840"/>
              <a:gd name="textAreaRight" fmla="*/ 7403760 w 7467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62824" h="21600">
                <a:moveTo>
                  <a:pt x="0" y="0"/>
                </a:moveTo>
                <a:lnTo>
                  <a:pt x="162824" y="0"/>
                </a:lnTo>
                <a:lnTo>
                  <a:pt x="162824" y="21600"/>
                </a:lnTo>
                <a:lnTo>
                  <a:pt x="0" y="21600"/>
                </a:lnTo>
                <a:close/>
              </a:path>
              <a:path fill="lightenLess" w="162824" h="21600">
                <a:moveTo>
                  <a:pt x="0" y="0"/>
                </a:moveTo>
                <a:lnTo>
                  <a:pt x="162824" y="0"/>
                </a:lnTo>
                <a:lnTo>
                  <a:pt x="161424" y="1400"/>
                </a:lnTo>
                <a:lnTo>
                  <a:pt x="1400" y="1400"/>
                </a:lnTo>
                <a:close/>
              </a:path>
              <a:path fill="darken" w="162824" h="21600">
                <a:moveTo>
                  <a:pt x="162824" y="0"/>
                </a:moveTo>
                <a:lnTo>
                  <a:pt x="162824" y="21600"/>
                </a:lnTo>
                <a:lnTo>
                  <a:pt x="161424" y="20200"/>
                </a:lnTo>
                <a:lnTo>
                  <a:pt x="161424" y="1400"/>
                </a:lnTo>
                <a:close/>
              </a:path>
              <a:path fill="darkenLess" w="162824" h="21600">
                <a:moveTo>
                  <a:pt x="16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424" y="20200"/>
                </a:lnTo>
                <a:close/>
              </a:path>
              <a:path fill="lighten" w="16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播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/>
          </p:cNvPr>
          <p:cNvSpPr/>
          <p:nvPr/>
        </p:nvSpPr>
        <p:spPr>
          <a:xfrm>
            <a:off x="1219320" y="533520"/>
            <a:ext cx="7391160" cy="914400"/>
          </a:xfrm>
          <a:custGeom>
            <a:avLst/>
            <a:gdLst>
              <a:gd name="textAreaLeft" fmla="*/ 59040 w 7391160"/>
              <a:gd name="textAreaRight" fmla="*/ 7332120 w 7391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74534" h="21600">
                <a:moveTo>
                  <a:pt x="0" y="0"/>
                </a:moveTo>
                <a:lnTo>
                  <a:pt x="174534" y="0"/>
                </a:lnTo>
                <a:lnTo>
                  <a:pt x="174534" y="21600"/>
                </a:lnTo>
                <a:lnTo>
                  <a:pt x="0" y="21600"/>
                </a:lnTo>
                <a:close/>
              </a:path>
              <a:path fill="lightenLess" w="174534" h="21600">
                <a:moveTo>
                  <a:pt x="0" y="0"/>
                </a:moveTo>
                <a:lnTo>
                  <a:pt x="174534" y="0"/>
                </a:lnTo>
                <a:lnTo>
                  <a:pt x="173134" y="1400"/>
                </a:lnTo>
                <a:lnTo>
                  <a:pt x="1400" y="1400"/>
                </a:lnTo>
                <a:close/>
              </a:path>
              <a:path fill="darken" w="174534" h="21600">
                <a:moveTo>
                  <a:pt x="174534" y="0"/>
                </a:moveTo>
                <a:lnTo>
                  <a:pt x="174534" y="21600"/>
                </a:lnTo>
                <a:lnTo>
                  <a:pt x="173134" y="20200"/>
                </a:lnTo>
                <a:lnTo>
                  <a:pt x="173134" y="1400"/>
                </a:lnTo>
                <a:close/>
              </a:path>
              <a:path fill="darkenLess" w="174534" h="21600">
                <a:moveTo>
                  <a:pt x="17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134" y="20200"/>
                </a:lnTo>
                <a:close/>
              </a:path>
              <a:path fill="lighten" w="17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六章 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3059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说明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每章单独为一个演示文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要求所有演示文稿都存放在我的文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结构  文件夹中，   以便能方便地实现每章的超级链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每章的演示文稿可以单独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运行，也可以直接运行数据结构电子教案演示文稿，利用动作按钮的超级链接直接进入所需的章节演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228600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162240"/>
            <a:ext cx="13716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562200"/>
            <a:ext cx="3429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1:47:25Z</dcterms:created>
  <dc:creator>李根强</dc:creator>
  <dc:description/>
  <dc:language>en-US</dc:language>
  <cp:lastModifiedBy>李根强</cp:lastModifiedBy>
  <dcterms:modified xsi:type="dcterms:W3CDTF">2001-08-27T07:30:09Z</dcterms:modified>
  <cp:revision>10</cp:revision>
  <dc:subject/>
  <dc:title>数据结构电子教案</dc:title>
</cp:coreProperties>
</file>