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6A8-7E29-4E84-86F4-6FBB58E1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931-FBDA-45B6-A22E-D439A962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5C7-8160-4C40-81D3-BCE225AE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E6C-D7FA-4D0E-B3C1-780AFE9C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CEA-D0E8-412A-AA83-BA88BF9C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925-3D0F-4081-870B-FA202A8C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A39-775B-434B-8D8A-46404087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EB6C-B287-40F7-A2E0-2596BADD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4BC-4C6D-42CD-9BEE-68BED395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2D6-676E-4195-9171-C3631A01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49E-1DE1-4DF2-81F0-FF1FCE0B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19F4-7739-43BC-AD29-0CCBC115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A5EB-4AB4-4EEF-A92F-14DF534859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600200"/>
            <a:ext cx="6019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</a:rPr>
              <a:t>第</a:t>
            </a:r>
            <a:r>
              <a:rPr b="0" lang="zh-CN" sz="4400" spc="-1" strike="noStrike">
                <a:solidFill>
                  <a:srgbClr val="66ff33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66ff33"/>
                </a:solidFill>
                <a:latin typeface="Times New Roman"/>
              </a:rPr>
              <a:t>章   串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4114800"/>
            <a:ext cx="48560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数据结构（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++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描述）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8624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048120" y="228600"/>
            <a:ext cx="36338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38088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串的紧缩存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各机器字的长度，尽可能将多个字符存放在一个字中。假设一个字可存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则紧缩存储具体形式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43828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上面介绍的两种存储方式可知，紧缩存储能够节省大量存储单元，但对串的单个字符操作很不方便，需要花费较多的处理时间。而非紧缩存储的特点刚好相反，操作方便，但将占用较多的内存单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83808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1456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149560" y="990720"/>
            <a:ext cx="4079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串的字节存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前两种存储方法都是以字编址形式进行的，而字节编址方式是一个字符占用一个字节，具体形式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2904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600200" y="3033720"/>
            <a:ext cx="6114960" cy="1566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95280" y="380880"/>
            <a:ext cx="2438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298440"/>
            <a:ext cx="71629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顺序串的数据类型描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  int   maxsize=maxlen;                //maxl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串的最大容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    seqstring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     ch[maxsize];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放串的值的一维数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curlen;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前串的长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762120"/>
            <a:ext cx="3483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2.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链式存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685800"/>
            <a:ext cx="7162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结点大小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链式存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前面介绍到的单链表一样，每个结点为一个字符，链表也可以带头结点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24382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“abcdef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存储结构具体形式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671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143000" y="3952800"/>
            <a:ext cx="6705720" cy="1162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95280" y="1143000"/>
            <a:ext cx="3699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76212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结点大小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链式存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16002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紧缩存储类似，假设一个字中可以存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则一个结点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数据域和一个 指针域，若一个结点中数据域少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替。例如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“abcdef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存储结构具体形式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假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=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并且链表带头结点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0500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752480" y="4486320"/>
            <a:ext cx="5410440" cy="1282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477800" y="1219320"/>
            <a:ext cx="3627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4572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链串的数据类型描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219320"/>
            <a:ext cx="7162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结点大小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的链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第二章单链表的定义类似，只需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域的类型由元素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改为字符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3048120"/>
            <a:ext cx="72388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结点大小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的链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具体描述形式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数据类型描述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    link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Char       data  [5];                                  //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仅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[1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[4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储空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nk4         * next  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914400"/>
            <a:ext cx="2438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167652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350532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53352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2.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索引存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99072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方法是用串变量的名字作为关键字组织名字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索引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该表中存储的是串名和串值之间的对应关系。名字表中包含的项目根据不同的需要来设置，只要为存取串值提供足够的信息即可。如果串值是以链接方式存储的，则名字表中只要存入串名及其串值的链表的头指针即可。若串值是以顺序方式存放的，则表中除了存入指示串值存放的起始地址首指针外，还必须有信息指出串值存放的末地址。末地址的表示方法有几种：给出串长、在串值末尾设置结束符、设置尾指针直接指向串值末地址等。具体介绍下面两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带长度的名字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表中给出串名、串存放的起始位置及串长度，具体形式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7660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371600" y="2209680"/>
            <a:ext cx="6467400" cy="222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219320" y="4648320"/>
            <a:ext cx="754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知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起始位置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，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=“abcdefg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起始位置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，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=”gb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45720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71800" y="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2362320" y="762120"/>
            <a:ext cx="6400800" cy="990360"/>
          </a:xfrm>
          <a:custGeom>
            <a:avLst/>
            <a:gdLst>
              <a:gd name="textAreaLeft" fmla="*/ 64080 w 6400800"/>
              <a:gd name="textAreaRight" fmla="*/ 6336720 w 6400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39560" h="21600">
                <a:moveTo>
                  <a:pt x="0" y="0"/>
                </a:moveTo>
                <a:lnTo>
                  <a:pt x="139560" y="0"/>
                </a:lnTo>
                <a:lnTo>
                  <a:pt x="139560" y="21600"/>
                </a:lnTo>
                <a:lnTo>
                  <a:pt x="0" y="21600"/>
                </a:lnTo>
                <a:close/>
              </a:path>
              <a:path fill="lightenLess" w="139560" h="21600">
                <a:moveTo>
                  <a:pt x="0" y="0"/>
                </a:moveTo>
                <a:lnTo>
                  <a:pt x="139560" y="0"/>
                </a:lnTo>
                <a:lnTo>
                  <a:pt x="138160" y="1400"/>
                </a:lnTo>
                <a:lnTo>
                  <a:pt x="1400" y="1400"/>
                </a:lnTo>
                <a:close/>
              </a:path>
              <a:path fill="darken" w="139560" h="21600">
                <a:moveTo>
                  <a:pt x="139560" y="0"/>
                </a:moveTo>
                <a:lnTo>
                  <a:pt x="139560" y="21600"/>
                </a:lnTo>
                <a:lnTo>
                  <a:pt x="138160" y="20200"/>
                </a:lnTo>
                <a:lnTo>
                  <a:pt x="138160" y="1400"/>
                </a:lnTo>
                <a:close/>
              </a:path>
              <a:path fill="darkenLess" w="139560" h="21600">
                <a:moveTo>
                  <a:pt x="139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160" y="20200"/>
                </a:lnTo>
                <a:close/>
              </a:path>
              <a:path fill="lighten" w="139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串的定义及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2362320" y="2057400"/>
            <a:ext cx="6400800" cy="990720"/>
          </a:xfrm>
          <a:custGeom>
            <a:avLst/>
            <a:gdLst>
              <a:gd name="textAreaLeft" fmla="*/ 64080 w 6400800"/>
              <a:gd name="textAreaRight" fmla="*/ 6336720 w 6400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39509" h="21600">
                <a:moveTo>
                  <a:pt x="0" y="0"/>
                </a:moveTo>
                <a:lnTo>
                  <a:pt x="139509" y="0"/>
                </a:lnTo>
                <a:lnTo>
                  <a:pt x="139509" y="21600"/>
                </a:lnTo>
                <a:lnTo>
                  <a:pt x="0" y="21600"/>
                </a:lnTo>
                <a:close/>
              </a:path>
              <a:path fill="lightenLess" w="139509" h="21600">
                <a:moveTo>
                  <a:pt x="0" y="0"/>
                </a:moveTo>
                <a:lnTo>
                  <a:pt x="139509" y="0"/>
                </a:lnTo>
                <a:lnTo>
                  <a:pt x="138110" y="1400"/>
                </a:lnTo>
                <a:lnTo>
                  <a:pt x="1400" y="1400"/>
                </a:lnTo>
                <a:close/>
              </a:path>
              <a:path fill="darken" w="139509" h="21600">
                <a:moveTo>
                  <a:pt x="139509" y="0"/>
                </a:moveTo>
                <a:lnTo>
                  <a:pt x="139509" y="21600"/>
                </a:lnTo>
                <a:lnTo>
                  <a:pt x="138110" y="20200"/>
                </a:lnTo>
                <a:lnTo>
                  <a:pt x="138110" y="1400"/>
                </a:lnTo>
                <a:close/>
              </a:path>
              <a:path fill="darkenLess" w="139509" h="21600">
                <a:moveTo>
                  <a:pt x="1395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110" y="20200"/>
                </a:lnTo>
                <a:close/>
              </a:path>
              <a:path fill="lighten" w="1395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串的存储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2362320" y="3429000"/>
            <a:ext cx="6400800" cy="914400"/>
          </a:xfrm>
          <a:custGeom>
            <a:avLst/>
            <a:gdLst>
              <a:gd name="textAreaLeft" fmla="*/ 59040 w 6400800"/>
              <a:gd name="textAreaRight" fmla="*/ 6341760 w 6400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51149" h="21600">
                <a:moveTo>
                  <a:pt x="0" y="0"/>
                </a:moveTo>
                <a:lnTo>
                  <a:pt x="151149" y="0"/>
                </a:lnTo>
                <a:lnTo>
                  <a:pt x="151149" y="21600"/>
                </a:lnTo>
                <a:lnTo>
                  <a:pt x="0" y="21600"/>
                </a:lnTo>
                <a:close/>
              </a:path>
              <a:path fill="lightenLess" w="151149" h="21600">
                <a:moveTo>
                  <a:pt x="0" y="0"/>
                </a:moveTo>
                <a:lnTo>
                  <a:pt x="151149" y="0"/>
                </a:lnTo>
                <a:lnTo>
                  <a:pt x="149749" y="1400"/>
                </a:lnTo>
                <a:lnTo>
                  <a:pt x="1400" y="1400"/>
                </a:lnTo>
                <a:close/>
              </a:path>
              <a:path fill="darken" w="151149" h="21600">
                <a:moveTo>
                  <a:pt x="151149" y="0"/>
                </a:moveTo>
                <a:lnTo>
                  <a:pt x="151149" y="21600"/>
                </a:lnTo>
                <a:lnTo>
                  <a:pt x="149749" y="20200"/>
                </a:lnTo>
                <a:lnTo>
                  <a:pt x="149749" y="1400"/>
                </a:lnTo>
                <a:close/>
              </a:path>
              <a:path fill="darkenLess" w="151149" h="21600">
                <a:moveTo>
                  <a:pt x="151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749" y="20200"/>
                </a:lnTo>
                <a:close/>
              </a:path>
              <a:path fill="lighten" w="151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运算的实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2438280" y="4724280"/>
            <a:ext cx="6324840" cy="914400"/>
          </a:xfrm>
          <a:custGeom>
            <a:avLst/>
            <a:gdLst>
              <a:gd name="textAreaLeft" fmla="*/ 59040 w 6324840"/>
              <a:gd name="textAreaRight" fmla="*/ 6265800 w 6324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49355" h="21600">
                <a:moveTo>
                  <a:pt x="0" y="0"/>
                </a:moveTo>
                <a:lnTo>
                  <a:pt x="149355" y="0"/>
                </a:lnTo>
                <a:lnTo>
                  <a:pt x="149355" y="21600"/>
                </a:lnTo>
                <a:lnTo>
                  <a:pt x="0" y="21600"/>
                </a:lnTo>
                <a:close/>
              </a:path>
              <a:path fill="lightenLess" w="149355" h="21600">
                <a:moveTo>
                  <a:pt x="0" y="0"/>
                </a:moveTo>
                <a:lnTo>
                  <a:pt x="149355" y="0"/>
                </a:lnTo>
                <a:lnTo>
                  <a:pt x="147955" y="1400"/>
                </a:lnTo>
                <a:lnTo>
                  <a:pt x="1400" y="1400"/>
                </a:lnTo>
                <a:close/>
              </a:path>
              <a:path fill="darken" w="149355" h="21600">
                <a:moveTo>
                  <a:pt x="149355" y="0"/>
                </a:moveTo>
                <a:lnTo>
                  <a:pt x="149355" y="21600"/>
                </a:lnTo>
                <a:lnTo>
                  <a:pt x="147955" y="20200"/>
                </a:lnTo>
                <a:lnTo>
                  <a:pt x="147955" y="1400"/>
                </a:lnTo>
                <a:close/>
              </a:path>
              <a:path fill="darkenLess" w="149355" h="21600">
                <a:moveTo>
                  <a:pt x="1493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7955" y="20200"/>
                </a:lnTo>
                <a:close/>
              </a:path>
              <a:path fill="lighten" w="1493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束放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5335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带末指针的名字表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114300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表中给出串的名字、头指针及末指针，具体形式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7660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523880" y="2209680"/>
            <a:ext cx="5096160" cy="2125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066680" y="46483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知，两个串的名字分别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头指针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末指针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故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=”abcdefg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头指针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末指针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故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=”gb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990720"/>
            <a:ext cx="2438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1676520" y="2362320"/>
          <a:ext cx="6095880" cy="406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362320"/>
                    <a:ext cx="6095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80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运算的实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3.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扦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1600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顺序串上的扦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ert(&amp;S,i,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2514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扦入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中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，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中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开始，一直到最后的字符，每个都要向后移动若干位，移动的位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长度。具体实现过程参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6692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1600200" y="3886200"/>
            <a:ext cx="5334120" cy="2633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295280" y="2057400"/>
            <a:ext cx="2438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152280"/>
            <a:ext cx="74674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算法描述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      Insert (seqstring  &amp;S, int   i,    seqstring    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f     ( S.curlen  + T.curlen&gt;=max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t&lt;&lt;“overflow”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  {   for (int  j=S.curlen;   j&gt;=i;j-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. ch[j+T.curlen]=s.ch[j];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素后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 (j=1;   j&lt;=T.curlen;    j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.  ch [j+i-1]=T.ch[j];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扦入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.curlen=S.curlen +T.curlen;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长度增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5715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长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长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该算法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(n+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45720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链串的扦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sert(&amp;S,i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1219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仅考虑结点大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链串，要在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扦入，先用一个指针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，然后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中用另一个指针指向最后，具体实现过程参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9568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1752480" y="2743200"/>
            <a:ext cx="5762880" cy="1974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4300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算法描述如下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914400"/>
            <a:ext cx="3627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152280"/>
            <a:ext cx="72388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    Insert (link  *S,  int     i  ,  link    *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 link      *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*Q ;   int     j=0 ; P=S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    (P!=NULL)&amp;&amp;(j&lt;i-1)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查找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 j++  ;     P=P-&gt;next;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=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 (Q-&gt;next !=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=Q-&gt;next;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查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最后一个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(P!=NULL)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Q-&gt;next=P-&gt;next;         P-&gt;next=T-&gt;nex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cout  &lt;&lt;“error!”}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找不到扦入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5943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算法花费的时间主要在查找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n+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38088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3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串删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12193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顺序串的删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elete(&amp;S,i,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1828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中从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开始连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可以分成三种情形讨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不在串值范围内，不能删除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置开始到最后的字符数目不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，删除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需移动元素，只需修改串长度即可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 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可以满足需求。删除过程参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假设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906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1143000" y="4191120"/>
            <a:ext cx="7543800" cy="1888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190520" y="1676520"/>
            <a:ext cx="3915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457200"/>
            <a:ext cx="73915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      delete (seqstring    &amp;S,     int      i  ,    int    j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if     ( i&lt;1)||( i&gt;s.curle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t &lt;&lt;“error”;   // 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不在串值范围内，不能删除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   if   ( s.curlen  -i+1&lt;j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.curlen =i-1;       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置开始到最后的字符数目不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，删除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移动元素，只需修改串长度即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{for  (int  k=i+j;   k&lt;=s.curlen  ;k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.ch [k-j]= s.ch [k];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素前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.curlen =s.curlen –j ; }}   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长度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5638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算法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4572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链串的删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elete(&amp;S,i,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1143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顺序串的删除一样，也可以分三种情形来讨论。删除过程参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假设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=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1476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1676520" y="2666880"/>
            <a:ext cx="5591160" cy="1290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295280" y="480060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算法描述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95280" y="914400"/>
            <a:ext cx="3627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228600"/>
            <a:ext cx="73915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   delete   (link   *S ,  int   i,  int   j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link       *P,     *Q;int k=0;P=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    (P!=NULL) &amp;&amp;(k&lt;i-1)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查找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k++ ;    P=P-&gt;next 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=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  (Q!=NULL)&amp;&amp;( k&lt;i+j)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查找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+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k++ ;    Q=Q-&gt;nex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  (P!=NULL)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保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合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if  (Q!=NULL)      P-&gt;next=Q;else   P-&gt;next =NULL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  cout &lt;&lt;“error”;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5791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算法的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76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3.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串定位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33520"/>
            <a:ext cx="7467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顺序串上 的子串定位运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dex(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1066680"/>
            <a:ext cx="7772400" cy="29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串的定位运算通常称为串的模式匹配，是串处理中最重要的运算之一。设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“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串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=“b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b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(m≤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子串定位是要在主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找出一个与子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同的子串。通常把主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目标，把子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模式，把从目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查找模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子串的过程称为“模式匹配”。匹配有两种结果出现：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有模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子串，就返回该子串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位置，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有多个模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子串，通常只要找出第一个子串即可，这种情况称为匹配成功，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无模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子串，返回值为零，称为匹配失败。模式匹配过程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，假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“abababa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=“aba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990720"/>
            <a:ext cx="71326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45720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串的定义及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11430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1.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本概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676520"/>
            <a:ext cx="7620120" cy="20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串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string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由零个或多个字符组成的有限序列，记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“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串的名字，用成对的双引号括起来的字符序列为串的值，但两边的双引号不算串值，不包含在串中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≤i≤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是字母、数字或其它字符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串中字符的个数，称为串的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449568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空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含任何字符的串称为空串，它的长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“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205740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952880"/>
            <a:ext cx="2438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05160" y="8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2209680" y="304920"/>
            <a:ext cx="499932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457200"/>
            <a:ext cx="73915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式匹配算法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INDEX  (    seqstring  S, seqstring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int   i=t ,  j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   ( i&lt;=S.curlen )&amp;&amp;(j&lt;=T.cur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 (S.ch[i]==T.ch [j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  i++;   j++ 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=i-j+2 ;  j=1;}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针回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 ( j&gt;T.curlen ) return  (i-T.curle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 return (0);   }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匹配失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33520"/>
            <a:ext cx="746748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算法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针回溯语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i-j+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可以这样理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本趟匹配中，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≠t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但前面的字符都匹配，即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j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j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s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j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因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趟匹配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-j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下一位置开始，即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i-j+1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就是算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i-j+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该算法的最好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n+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最坏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335268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链串上的子串定位运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dex(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4114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顺序串上子串定位运算类似，但返回的值不是位置，而是位置指针。若匹配成功，则返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中的地址（指针），若匹配不成功，则返回空指针。算法描述如下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3809880"/>
            <a:ext cx="5570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609480"/>
            <a:ext cx="71629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nk  *index (link  *S ,link  *T)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两个链串都带头结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 link   *P  ,*Q , *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S-&gt;next;   Q=T-&gt;next ;    R=P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 (P!=NULL)&amp;&amp;(Q!=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 (P-&gt;data==Q-&gt;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P=P-&gt;next ;  Q=Q-&gt;nex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{     R=R-&gt;next;              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针回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R ;     Q=T-&gt;next 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(Q==NULL)  rerurn   R; 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匹配成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 return  NULL ; }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匹配失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8088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空白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含有一个空格的串，称为空白串，它的长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“  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“ 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2133720"/>
            <a:ext cx="7467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子串、主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一个串是另一个串中连续的一段，则这个串称为另一个串的子串，而另一个串相对于该串称为主串。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=“abcdefg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=“fabcdefghxyz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子串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对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主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4419720"/>
            <a:ext cx="7391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外，空串是任意串的子串，任意串是自身的子串。若一个串的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它的子串数目为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真子串个数为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除串本身以外的子串都称为真子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642000" y="4724280"/>
                <a:ext cx="503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40160" y="5181480"/>
                <a:ext cx="431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990720" y="83808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2590920"/>
            <a:ext cx="2438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30492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1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串的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99072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描述方便，假定用大写字母表示串名，小写字母表示组成串的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05740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赋值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ssign(&amp;S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值赋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342900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联接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oncat(&amp;S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联接起来，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接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后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487692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串长度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ength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51460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88620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533412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子串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ubstr(S,i,j,&amp;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截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中从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开始连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个子串，存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1600200"/>
            <a:ext cx="73152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串比较大小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rcmp(S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大小，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&lt;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函数值为负，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函数值为零，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&gt;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函数值为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3352680"/>
            <a:ext cx="723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.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串插入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sert (&amp;S,i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扦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49528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.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串删除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elete(&amp;S,i,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从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开始连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45720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2057400"/>
            <a:ext cx="2438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380988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541008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15228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.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子串位置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dex(S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串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串中首次出现的位置，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不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子串，则位置为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00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.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串替换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eplace (&amp;S,i,j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中从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开始连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替换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26668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1.3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串的抽象数据类型描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抽象数据类型可描述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3886200"/>
            <a:ext cx="723888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T   strings    I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: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含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495288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r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 assign(&amp;S,T)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值赋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60948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981080"/>
            <a:ext cx="2438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28440"/>
            <a:ext cx="74678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 concat(&amp;S,T)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联接起来，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接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后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length(T)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substr(S,i,j,&amp;T)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截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中从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开始连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个子串，存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514600"/>
            <a:ext cx="77724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strcmp(S,T)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大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&lt;T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值为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S=T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值为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S&gt;T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值为正。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insert(&amp;S,i,T)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扦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delete(&amp;S,i,j)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从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开始连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index(S,T)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串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串中首次出现的位置，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不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子串，则位置为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 replace(&amp;S,i,j,T)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中从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开始连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替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 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10996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45720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串的存储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76212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2.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顺序存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串的顺序存储结构，也称为顺序串，与第二章介绍的顺序表类似。但由于串中元素全部为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故存放形式与顺序表有所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97180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串的非紧缩存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存储单元中只存储一个字符，和顺序表中一个元素占用一个存储单元类似。具体形式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1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“How  do   you  do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3429000"/>
            <a:ext cx="2438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03:51:56Z</dcterms:created>
  <dc:creator>li</dc:creator>
  <dc:description/>
  <dc:language>en-US</dc:language>
  <cp:lastModifiedBy>李根强</cp:lastModifiedBy>
  <dcterms:modified xsi:type="dcterms:W3CDTF">2001-08-27T07:09:53Z</dcterms:modified>
  <cp:revision>67</cp:revision>
  <dc:subject/>
  <dc:title>没有幻灯片标题</dc:title>
</cp:coreProperties>
</file>