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1EE-F1BB-4829-89BF-F16636AC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C7F-BBE6-47A7-942D-DC3BBD83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D98-54C9-4D9D-9DE2-6A0CC8D3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C59-A010-455F-9BBC-D275AF80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971-7C45-402D-8F9E-98743F1F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348-D21B-4795-AF0E-23F9381A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094-0F29-4508-9908-D9014421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03CC-645B-46D6-9D54-185461E3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FA5-434F-4FA9-AB98-D5FA7472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5BB-1DA2-45DC-BD42-E2A9CE77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A94-D424-4578-A708-88ACFD1F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04F5-E1E0-4205-B560-B2A342F0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9561-739B-4721-A105-3A694D1639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" Target="slide11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1600200"/>
            <a:ext cx="6019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</a:rPr>
              <a:t>第</a:t>
            </a:r>
            <a:r>
              <a:rPr b="0" lang="zh-CN" sz="4400" spc="-1" strike="noStrike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66ff33"/>
                </a:solidFill>
                <a:latin typeface="Times New Roman"/>
              </a:rPr>
              <a:t>章   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4343400"/>
            <a:ext cx="48560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数据结构（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++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描述）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295280" y="0"/>
            <a:ext cx="73915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-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=(23,56,89,76,18),i=3,x=56,y=88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一组操作及结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gth(L);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得结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(L,i)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得结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or(L,x)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得结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xt(L,x)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得结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ate(L,x)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得结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(&amp;L,y,i)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得结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3,56,88,89,76,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(&amp;L,i+1)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得结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3,56,88,76,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371600" y="609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的顺序存储结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6002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2.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顺序表结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6668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的顺序存储结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称为顺序表。其存储方式为：在内存中开辟一片连续存储空间，但该连续存储空间的大小要大于或等于顺序表的长度，然后让线性表中第一个元素存放在连续存储空间第一个位置，第二个元素紧跟着第一个之后，其余依此类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447920" y="228600"/>
            <a:ext cx="72388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线性表中元素为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设第一个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内存地址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(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在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表示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而每个元素在计算机内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存贮单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地址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(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=LOC(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+(i-1)×d  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≤i≤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892160"/>
            <a:ext cx="72392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是可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描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  int  maxsize=maxl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maxl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线性表允许的最大长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 sequen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  a[maxsize];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线性表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  len;            //l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线性表的实际长度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08628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286000" y="914400"/>
            <a:ext cx="434664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447920" y="533520"/>
            <a:ext cx="7162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2.2.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顺序表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295280"/>
            <a:ext cx="7315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求顺序表的长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ength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length(sequenlist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 L.l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算法的语句频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828800"/>
            <a:ext cx="5715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447920" y="442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插入运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( &amp;L,x,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507960"/>
            <a:ext cx="739152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Insert(sequenlist &amp;L,elemtype x,in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L.len&gt;=maxsize-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t&lt;&lt;”overflow”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if ((i&lt;1)||(i&gt;L.len+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t&lt;&lt;”position is not correct!”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{        for(j=L.len;j&gt;=i;j-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a[j+1]=L.a[j];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素后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a[i]=x;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len++;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长度增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520"/>
            <a:ext cx="5715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77164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76520" y="228600"/>
            <a:ext cx="484956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295280" y="53352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３．  删除运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elete(&amp;L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1320840"/>
            <a:ext cx="7010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Delete(sequenlist &amp;L,in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(i&lt;1)||(i&gt;L.le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t&lt;&lt;” position is not correct!”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j=i+1;j&lt;=L.len;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a[j-1]=L.a[j];         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素前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len--;                       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长度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1143000"/>
            <a:ext cx="5715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2771640" y="10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030400" y="714240"/>
            <a:ext cx="43419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1219320" y="685800"/>
            <a:ext cx="74674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算法花费的时间，主要在于循环中元素的后移（其它语句花费的时间可以省去），即从插入位置到最后位置的所有元素都要后移一位，使空出的位置插入元素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但是，插入的位置是不固定的，当插入位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时，全部元素都得移动，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移动，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=n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时，不需移动元素，故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置插入时移动次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-i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假设在每个位置插入的概率相等为    ，则平均移动元素的次数为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理，可推出删除运算的平均移动次数为          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867280" y="2895480"/>
                <a:ext cx="503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590920" y="3809880"/>
                <a:ext cx="1041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[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59080" y="3429000"/>
                <a:ext cx="5335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858000" y="4800600"/>
                <a:ext cx="541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352680" y="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1371600" y="700200"/>
            <a:ext cx="7391520" cy="1066680"/>
          </a:xfrm>
          <a:custGeom>
            <a:avLst/>
            <a:gdLst>
              <a:gd name="textAreaLeft" fmla="*/ 69120 w 7391520"/>
              <a:gd name="textAreaRight" fmla="*/ 7322400 w 73915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49633" h="21600">
                <a:moveTo>
                  <a:pt x="0" y="0"/>
                </a:moveTo>
                <a:lnTo>
                  <a:pt x="149633" y="0"/>
                </a:lnTo>
                <a:lnTo>
                  <a:pt x="149633" y="21600"/>
                </a:lnTo>
                <a:lnTo>
                  <a:pt x="0" y="21600"/>
                </a:lnTo>
                <a:close/>
              </a:path>
              <a:path fill="lightenLess" w="149633" h="21600">
                <a:moveTo>
                  <a:pt x="0" y="0"/>
                </a:moveTo>
                <a:lnTo>
                  <a:pt x="149633" y="0"/>
                </a:lnTo>
                <a:lnTo>
                  <a:pt x="148233" y="1400"/>
                </a:lnTo>
                <a:lnTo>
                  <a:pt x="1400" y="1400"/>
                </a:lnTo>
                <a:close/>
              </a:path>
              <a:path fill="darken" w="149633" h="21600">
                <a:moveTo>
                  <a:pt x="149633" y="0"/>
                </a:moveTo>
                <a:lnTo>
                  <a:pt x="149633" y="21600"/>
                </a:lnTo>
                <a:lnTo>
                  <a:pt x="148233" y="20200"/>
                </a:lnTo>
                <a:lnTo>
                  <a:pt x="148233" y="1400"/>
                </a:lnTo>
                <a:close/>
              </a:path>
              <a:path fill="darkenLess" w="149633" h="21600">
                <a:moveTo>
                  <a:pt x="149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8233" y="20200"/>
                </a:lnTo>
                <a:close/>
              </a:path>
              <a:path fill="lighten" w="149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的定义及其运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1371600" y="2055960"/>
            <a:ext cx="7391520" cy="1143000"/>
          </a:xfrm>
          <a:custGeom>
            <a:avLst/>
            <a:gdLst>
              <a:gd name="textAreaLeft" fmla="*/ 73800 w 7391520"/>
              <a:gd name="textAreaRight" fmla="*/ 7317720 w 73915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39645" h="21600">
                <a:moveTo>
                  <a:pt x="0" y="0"/>
                </a:moveTo>
                <a:lnTo>
                  <a:pt x="139645" y="0"/>
                </a:lnTo>
                <a:lnTo>
                  <a:pt x="139645" y="21600"/>
                </a:lnTo>
                <a:lnTo>
                  <a:pt x="0" y="21600"/>
                </a:lnTo>
                <a:close/>
              </a:path>
              <a:path fill="lightenLess" w="139645" h="21600">
                <a:moveTo>
                  <a:pt x="0" y="0"/>
                </a:moveTo>
                <a:lnTo>
                  <a:pt x="139645" y="0"/>
                </a:lnTo>
                <a:lnTo>
                  <a:pt x="138245" y="1400"/>
                </a:lnTo>
                <a:lnTo>
                  <a:pt x="1400" y="1400"/>
                </a:lnTo>
                <a:close/>
              </a:path>
              <a:path fill="darken" w="139645" h="21600">
                <a:moveTo>
                  <a:pt x="139645" y="0"/>
                </a:moveTo>
                <a:lnTo>
                  <a:pt x="139645" y="21600"/>
                </a:lnTo>
                <a:lnTo>
                  <a:pt x="138245" y="20200"/>
                </a:lnTo>
                <a:lnTo>
                  <a:pt x="138245" y="1400"/>
                </a:lnTo>
                <a:close/>
              </a:path>
              <a:path fill="darkenLess" w="139645" h="21600">
                <a:moveTo>
                  <a:pt x="139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245" y="20200"/>
                </a:lnTo>
                <a:close/>
              </a:path>
              <a:path fill="lighten" w="139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的顺序存储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1371600" y="3535200"/>
            <a:ext cx="7315200" cy="1067040"/>
          </a:xfrm>
          <a:custGeom>
            <a:avLst/>
            <a:gdLst>
              <a:gd name="textAreaLeft" fmla="*/ 69120 w 7315200"/>
              <a:gd name="textAreaRight" fmla="*/ 7246080 w 73152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48038" h="21600">
                <a:moveTo>
                  <a:pt x="0" y="0"/>
                </a:moveTo>
                <a:lnTo>
                  <a:pt x="148038" y="0"/>
                </a:lnTo>
                <a:lnTo>
                  <a:pt x="148038" y="21600"/>
                </a:lnTo>
                <a:lnTo>
                  <a:pt x="0" y="21600"/>
                </a:lnTo>
                <a:close/>
              </a:path>
              <a:path fill="lightenLess" w="148038" h="21600">
                <a:moveTo>
                  <a:pt x="0" y="0"/>
                </a:moveTo>
                <a:lnTo>
                  <a:pt x="148038" y="0"/>
                </a:lnTo>
                <a:lnTo>
                  <a:pt x="146638" y="1400"/>
                </a:lnTo>
                <a:lnTo>
                  <a:pt x="1400" y="1400"/>
                </a:lnTo>
                <a:close/>
              </a:path>
              <a:path fill="darken" w="148038" h="21600">
                <a:moveTo>
                  <a:pt x="148038" y="0"/>
                </a:moveTo>
                <a:lnTo>
                  <a:pt x="148038" y="21600"/>
                </a:lnTo>
                <a:lnTo>
                  <a:pt x="146638" y="20200"/>
                </a:lnTo>
                <a:lnTo>
                  <a:pt x="146638" y="1400"/>
                </a:lnTo>
                <a:close/>
              </a:path>
              <a:path fill="darkenLess" w="148038" h="21600">
                <a:moveTo>
                  <a:pt x="148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6638" y="20200"/>
                </a:lnTo>
                <a:close/>
              </a:path>
              <a:path fill="lighten" w="148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线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的链式存贮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1523880" y="5029200"/>
            <a:ext cx="7162920" cy="990720"/>
          </a:xfrm>
          <a:custGeom>
            <a:avLst/>
            <a:gdLst>
              <a:gd name="textAreaLeft" fmla="*/ 64080 w 7162920"/>
              <a:gd name="textAreaRight" fmla="*/ 7098840 w 7162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56119" h="21600">
                <a:moveTo>
                  <a:pt x="0" y="0"/>
                </a:moveTo>
                <a:lnTo>
                  <a:pt x="156119" y="0"/>
                </a:lnTo>
                <a:lnTo>
                  <a:pt x="156119" y="21600"/>
                </a:lnTo>
                <a:lnTo>
                  <a:pt x="0" y="21600"/>
                </a:lnTo>
                <a:close/>
              </a:path>
              <a:path fill="lightenLess" w="156119" h="21600">
                <a:moveTo>
                  <a:pt x="0" y="0"/>
                </a:moveTo>
                <a:lnTo>
                  <a:pt x="156119" y="0"/>
                </a:lnTo>
                <a:lnTo>
                  <a:pt x="154719" y="1400"/>
                </a:lnTo>
                <a:lnTo>
                  <a:pt x="1400" y="1400"/>
                </a:lnTo>
                <a:close/>
              </a:path>
              <a:path fill="darken" w="156119" h="21600">
                <a:moveTo>
                  <a:pt x="156119" y="0"/>
                </a:moveTo>
                <a:lnTo>
                  <a:pt x="156119" y="21600"/>
                </a:lnTo>
                <a:lnTo>
                  <a:pt x="154719" y="20200"/>
                </a:lnTo>
                <a:lnTo>
                  <a:pt x="154719" y="1400"/>
                </a:lnTo>
                <a:close/>
              </a:path>
              <a:path fill="darkenLess" w="156119" h="21600">
                <a:moveTo>
                  <a:pt x="15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719" y="20200"/>
                </a:lnTo>
                <a:close/>
              </a:path>
              <a:path fill="lighten" w="15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束放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219320" y="9907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 置空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null(&amp;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1905120"/>
            <a:ext cx="7620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setnull(sequenlist &amp;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len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算法的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1523880"/>
            <a:ext cx="5715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295280" y="10666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定位算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ocate(L,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1828800"/>
            <a:ext cx="7696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Locate(sequenlist L, elemtyp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j=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j&lt;=L.len)&amp;&amp;(L.a[j]!=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j&lt;=L.len)  return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算法的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600200"/>
            <a:ext cx="5715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914400" y="1143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 取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(L,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981080"/>
            <a:ext cx="7543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 Get(sequenlist L,in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i&lt;1)||(i&gt;L.len) return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return L.a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算法的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676520"/>
            <a:ext cx="5715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295280" y="12193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2.3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顺序表存储空间的动态分配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981080"/>
            <a:ext cx="754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将前面线性表的顺序存储结构类型中的数组形式改为指针形式，则得到动态分配形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sequen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  *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l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90720" y="1371600"/>
            <a:ext cx="75438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此时，只有线性表置空表算法需要修改，其它算法都与静态分配相同。这时的置空表算法应改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setnull(sequenlist &amp;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a=new elemtype[maxsize];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态申请存储单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L.a==NULL)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申请不成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.len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295280" y="12193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线性表的链式存贮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6765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的链式存贮结构，也称为链表。其存贮方式是：在内存中利用存贮单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不连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存放元素值及它在内存的地址，各个元素的存放顺序及位置都可以以任意顺序进行，原来相邻的元素存放到计算机内存后不一定相邻，从一个元素找下一个元素必须通过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才能实现。故不能像顺序表一样可随机访问，而只能按顺序访问。常用的链表有单链表、循环链表和双向链表、多重链表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219320" y="9144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链表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19810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定义的链表中，若只含有一个指针域来存放下一个元素地址，称这样的链表为单链表或线性链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链表中的结点结构可描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276720" y="3603600"/>
            <a:ext cx="2743200" cy="79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447920" y="44956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域用来存放结点本身信息，类型由具体问题而定，本书中，我们也将其设定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，表示某一种具体的已知类型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域用来存放下一个元素地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85264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567160" y="123840"/>
            <a:ext cx="5376600" cy="4975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2904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631880" y="5232240"/>
            <a:ext cx="568332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447920" y="152280"/>
            <a:ext cx="7162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链表可用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描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elemtype data;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素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k     *next;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放下一个元素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4316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1981080" y="3133800"/>
            <a:ext cx="5334120" cy="1101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09564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1752480" y="4527720"/>
            <a:ext cx="54864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447920" y="53352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链表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05740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１． 头插法建立单链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左边插入结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2743200"/>
            <a:ext cx="5867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44792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的定义及其运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7524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1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的定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438280"/>
            <a:ext cx="792504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线性表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ear lis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≥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个数据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成的有限序列。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称为数据元素的个数或线性表的长度，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称为空表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&gt;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称为非空表。通常将非空的线性表记为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其中的数据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≤i≤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是一个抽象的符号，其具体含义在不同情况下是不同的，即它的数据类型可以根据具体情况而定，本书中，我们将它的类型设定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表示某一种具体的已知数据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819520"/>
            <a:ext cx="25909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1295280" y="609480"/>
            <a:ext cx="73915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k *hcrea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link 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,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;   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in&gt;&gt;i;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结点数值，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算法结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s=new link;     s-&gt;data=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&gt;next=p;     p=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in&gt;&gt;i;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371600" y="53352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 尾插法建立单链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右边插入结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1219320"/>
            <a:ext cx="72388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k *rcrea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link 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,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,*p;   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r=new link;       p-&gt;next=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in&gt;&gt;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s=new link;      s-&gt;data=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-&gt;next=s;               r=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in&gt;&gt;i; 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-&gt;next=NULL;       return p;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114300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066680" y="106668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单链表上的查找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05740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值查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ate(head,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单链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查找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，若找到，返回它的地址，否则返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038480"/>
            <a:ext cx="7162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序号查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(head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单链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查找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上的元素，若找到，则返回它的地址，否则返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167652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59092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4572000"/>
            <a:ext cx="5867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143000" y="533520"/>
            <a:ext cx="731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k *Locate(link *head,elemtyp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link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head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(p!=NULL)&amp;&amp;(p-&gt;data!=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p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49528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算法的时间复杂度都为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066680" y="304920"/>
            <a:ext cx="7543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k *get(link *head,in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int j;     link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=1;       p=head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(j&lt;i)&amp;&amp;(p!=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j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p-&gt;next;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51814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算法的时间复杂度都为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14300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 单链表上的插入运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，插入结点的指针变化如图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1752480" y="2863800"/>
            <a:ext cx="5181840" cy="26989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90720" y="114300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295280" y="457200"/>
            <a:ext cx="73915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insert(link *head,elemtype x,elemtype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头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指单链表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之后插入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link 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,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new link;    s-&gt;data=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head-&gt;next==NULL)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链表为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head-&gt;next=s;       s-&gt;next=NULL;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Locate(head,y)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用查找算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p==NULL)    cout&lt;&l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位置非法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 {  s-&gt;next=p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-&gt;next=s; }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1447920" y="3808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５． 单链表上的删除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14479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，删除结点的指针变化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4348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1752480" y="2962440"/>
            <a:ext cx="5600880" cy="2541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219320" y="99072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1371600" y="533520"/>
            <a:ext cx="70866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delete(link *head,elemtype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头指针的单链表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link 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,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=head;    p=head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p!=NULL)&amp;&amp;(p-&gt;data!=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q=p;      p=p-&gt;next;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p==NULL)  cout&lt;&lt;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删除的结点不存在”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 { q-&gt;next=p-&gt;next;  delete(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295280" y="380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６． 输出单链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11430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需将单链表按逻辑顺序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见图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必须从头到尾访问单链表中每一个结点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912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523880" y="2133720"/>
            <a:ext cx="6629400" cy="1444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31488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600200" y="4238640"/>
            <a:ext cx="6477120" cy="20368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143000" y="99072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295280" y="457200"/>
            <a:ext cx="716292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 线性表的特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线性表的定义可以看出线性表的特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且仅有一个开始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头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它没有直接前驱，只有一个直接后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且仅有一个终端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尾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它没有直接后继，只有一个直接前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它结点都有一个直接前驱和直接后继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元素之间为一对一的线性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990720"/>
            <a:ext cx="25909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36840" y="1447920"/>
            <a:ext cx="761760" cy="6858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60520" y="2286000"/>
            <a:ext cx="762120" cy="6858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137040"/>
            <a:ext cx="761760" cy="6858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34960" y="3886200"/>
            <a:ext cx="762120" cy="68580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523880" y="457200"/>
            <a:ext cx="6858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print(link *h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link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head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p-&gt;next!=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cout&lt;&lt;p-&gt;data&lt;&lt;”-&gt;”;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表中非最后一个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p-&gt;next;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t&lt;&lt;p-&gt;data;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表中最后一个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t&lt;&lt;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295280" y="5335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３  循环链表结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11430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链表上的访问是一种顺序访问，从其中某一个结点出发，可以找到它的直接后继，但无法找到它的直接前驱。因此，我们可以考虑建立这样的链表，具有单链表的特征，但又不需要增加额外的存贮空间，仅对表的链接方式稍作改变，使得对表的处理更加方便灵活。从单链表可知，最后一个结点的指针域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单链表已经结束。如果将单链表最后一个结点的指针域改为存放链表中头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第一个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地址，就使得整个链表构成一个环，又没有增加额外的存贮空间，称这们的链表为单循环链表，在不引起混淆时称为循环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还要提到双向循环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1447920" y="533520"/>
            <a:ext cx="723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链表上的运算与单链表上运算基本一致，区别只在于最后一个结点的判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循环的条件不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但利用循环链表实现某些运算较单链表方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某个结点出发能求出它的直接前驱，而单链表是不行的，只能从头出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7656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1523880" y="2743200"/>
            <a:ext cx="624852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1447920" y="380880"/>
            <a:ext cx="7162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2.3.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双向链表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1219320"/>
            <a:ext cx="7696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 双向链表基本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单链表中，从某个结点出发可以直接找到它的直接后继，时间复杂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但无法直接找到它的直接前驱；在单循环链表中，从某个结点出发可以直接找到它的直接后继，时间复杂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直接找到它的直接前驱，时间复杂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有时，希望能快速找到一个结点的直接前驱，这时，可以在单链表中的结点中增加一个指针域指向它的直接前驱，这样的链表，就称为双向链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结点中含有两个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如果每条链构成一个循环链表，则会得双向循环链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175248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295280" y="685800"/>
            <a:ext cx="7162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双向链表可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描述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du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 data;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点的数据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设定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ulink  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xt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prior;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指向直接后继和直接前驱的指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295740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1295280" y="76320"/>
            <a:ext cx="6858000" cy="21034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95740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1523880" y="2719440"/>
            <a:ext cx="557712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1295280" y="5335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  双向链表插入运算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uinsert (head,x,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11430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头指针的双向链表中，在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之后插入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，插入结点的指针变化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-16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改为在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之前插入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，可以作类似分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295280" y="2867040"/>
          <a:ext cx="5639040" cy="3660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2867040"/>
                    <a:ext cx="563904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219320" y="106668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447920" y="0"/>
            <a:ext cx="723888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算法描述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duinsert(dulink *head,elemtype x,elemtype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dulink 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,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new dulink;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申请待插入的结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&gt;data=x;  p=he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p!=NULL)&amp;&amp;(p-&gt;data!=y)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循环查找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p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(p!=NULL)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找到插入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s-&gt;next=p-&gt;next;   p-&gt;next-&gt;prior=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-&gt;prior=p;      p-&gt;next=s;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cout&lt;&l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位置不存在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447920" y="5335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双向链表的删除运算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udelete(head ,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14479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头的双向链表中删除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，删除算法的指针变化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-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5764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2133720" y="2681280"/>
            <a:ext cx="5429160" cy="3087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371600" y="1066680"/>
            <a:ext cx="5867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143000" y="457200"/>
            <a:ext cx="72388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算法描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dudelete(dulink  *head,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dulink *p;   p=he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p!=NULL)&amp;&amp;(p-&gt;data!=x)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循环查找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=p-&gt;nex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p!=NULL)   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找到该结点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 p-&gt;prior-&gt;next=p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-&gt;next-&gt;prior=p-&gt;pri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 p; }                   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后的结点空间回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cout&lt;&l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没找到，不能删除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447920" y="533520"/>
            <a:ext cx="6933960" cy="39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性表是一种典型的线性结构，用二元组表示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near_list=(A,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{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∣1≤i≤n,n≥0,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∈elemtyp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={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={&lt;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 ∣1≤i≤n-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41911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应的逻辑结构图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97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05120" y="4903920"/>
          <a:ext cx="5410080" cy="11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4903920"/>
                    <a:ext cx="541008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295280" y="45720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2.1.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性表的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066680"/>
            <a:ext cx="75438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线性表的运算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置空表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将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成空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 求长度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求给定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长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 取元素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  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≤i≤length(L)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取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上的元素，否则取得的元素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求直接前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0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求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元素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直接前趋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第一个元素，前驱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057400"/>
            <a:ext cx="40388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92240" y="268596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55600" y="3143160"/>
            <a:ext cx="40388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5600" y="4070520"/>
            <a:ext cx="40388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447920" y="380880"/>
            <a:ext cx="7086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求直接后继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求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元素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接后继，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最后一个元素，后继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定位函数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 在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查找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元素位置，若有多个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以第一个为准，若没有，位置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插入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上插入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元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删除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删除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上的元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81120" y="80640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1720800"/>
            <a:ext cx="40388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38360" y="30160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1280" y="3930480"/>
            <a:ext cx="4038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447920" y="60948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2.1.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性表的抽象数据类型描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523880"/>
            <a:ext cx="754380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述这些操作可用抽象数据类型描述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T  Linearlis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=(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）时定义为一个空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  setnull(&amp;L)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成空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  Length(L)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给定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长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  Get(L,i) 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上的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657440" y="470520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47052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295280" y="380880"/>
            <a:ext cx="7467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  Prior(L,x)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元素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直接前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emtype  Next(L,x)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元素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直接后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     Locate(L,x) 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查找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元素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   Insert(&amp;L,x,i)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上插入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    Delete(&amp;L,i)  /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线性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置上的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  Linear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03:51:56Z</dcterms:created>
  <dc:creator>li</dc:creator>
  <dc:description/>
  <dc:language>en-US</dc:language>
  <cp:lastModifiedBy>李根强</cp:lastModifiedBy>
  <dcterms:modified xsi:type="dcterms:W3CDTF">2001-08-27T07:20:52Z</dcterms:modified>
  <cp:revision>102</cp:revision>
  <dc:subject/>
  <dc:title>没有幻灯片标题</dc:title>
</cp:coreProperties>
</file>