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4235-8875-4161-9E0C-85BCBF97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17C-A61E-4F8E-B919-9D04C717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D31B-0DD5-4979-9013-2B59C38B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0B14-BFE9-4DFD-87EF-7DD76E58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FA7-5480-40C4-A0D0-7A10C69B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AED-C994-4649-BC29-C4C02FBC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731-9F06-4492-B698-6BB7251A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40F-7383-474A-A928-A2AA752D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327-1052-406A-A844-B58A9AC7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3C50-EC17-430B-B094-EB93D807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BA77-0BC8-46F0-BB60-94752B6D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57FF-2837-4A91-99CD-4DA43F64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B40D-BD9D-44C5-84F7-8EEAA8B6A4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31532;01&#31456;.ppt" TargetMode="External"/><Relationship Id="rId2" Type="http://schemas.openxmlformats.org/officeDocument/2006/relationships/hyperlink" Target="file:///&#31532;01&#31456;.ppt" TargetMode="External"/><Relationship Id="rId3" Type="http://schemas.openxmlformats.org/officeDocument/2006/relationships/hyperlink" Target="file:///&#31532;01&#31456;.ppt" TargetMode="External"/><Relationship Id="rId4" Type="http://schemas.openxmlformats.org/officeDocument/2006/relationships/hyperlink" Target="file:///&#31532;01&#31456;.ppt" TargetMode="External"/><Relationship Id="rId5" Type="http://schemas.openxmlformats.org/officeDocument/2006/relationships/hyperlink" Target="file:///&#31532;01&#31456;.ppt" TargetMode="External"/><Relationship Id="rId6" Type="http://schemas.openxmlformats.org/officeDocument/2006/relationships/hyperlink" Target="file:///&#31532;02&#31456;.ppt" TargetMode="External"/><Relationship Id="rId7" Type="http://schemas.openxmlformats.org/officeDocument/2006/relationships/hyperlink" Target="file:///&#31532;02&#31456;.ppt" TargetMode="External"/><Relationship Id="rId8" Type="http://schemas.openxmlformats.org/officeDocument/2006/relationships/hyperlink" Target="file:///&#31532;02&#31456;.ppt" TargetMode="External"/><Relationship Id="rId9" Type="http://schemas.openxmlformats.org/officeDocument/2006/relationships/hyperlink" Target="file:///&#31532;02&#31456;.ppt" TargetMode="External"/><Relationship Id="rId10" Type="http://schemas.openxmlformats.org/officeDocument/2006/relationships/hyperlink" Target="file:///&#31532;02&#31456;.ppt" TargetMode="External"/><Relationship Id="rId11" Type="http://schemas.openxmlformats.org/officeDocument/2006/relationships/hyperlink" Target="file:///&#31532;03&#31456;.ppt" TargetMode="External"/><Relationship Id="rId12" Type="http://schemas.openxmlformats.org/officeDocument/2006/relationships/hyperlink" Target="file:///&#31532;03&#31456;.ppt" TargetMode="External"/><Relationship Id="rId13" Type="http://schemas.openxmlformats.org/officeDocument/2006/relationships/hyperlink" Target="file:///&#31532;03&#31456;.ppt" TargetMode="External"/><Relationship Id="rId14" Type="http://schemas.openxmlformats.org/officeDocument/2006/relationships/hyperlink" Target="file:///&#31532;03&#31456;.ppt" TargetMode="External"/><Relationship Id="rId15" Type="http://schemas.openxmlformats.org/officeDocument/2006/relationships/hyperlink" Target="file:///&#31532;03&#31456;.ppt" TargetMode="External"/><Relationship Id="rId16" Type="http://schemas.openxmlformats.org/officeDocument/2006/relationships/hyperlink" Target="file:///&#31532;04&#31456;.ppt" TargetMode="External"/><Relationship Id="rId17" Type="http://schemas.openxmlformats.org/officeDocument/2006/relationships/hyperlink" Target="file:///&#31532;04&#31456;.ppt" TargetMode="External"/><Relationship Id="rId18" Type="http://schemas.openxmlformats.org/officeDocument/2006/relationships/hyperlink" Target="file:///&#31532;04&#31456;.ppt" TargetMode="External"/><Relationship Id="rId19" Type="http://schemas.openxmlformats.org/officeDocument/2006/relationships/hyperlink" Target="file:///&#31532;04&#31456;.ppt" TargetMode="External"/><Relationship Id="rId20" Type="http://schemas.openxmlformats.org/officeDocument/2006/relationships/hyperlink" Target="file:///&#31532;04&#31456;.ppt" TargetMode="External"/><Relationship Id="rId21" Type="http://schemas.openxmlformats.org/officeDocument/2006/relationships/hyperlink" Target="file:///&#31532;05&#31456;.ppt" TargetMode="External"/><Relationship Id="rId22" Type="http://schemas.openxmlformats.org/officeDocument/2006/relationships/hyperlink" Target="file:///&#31532;05&#31456;.ppt" TargetMode="External"/><Relationship Id="rId23" Type="http://schemas.openxmlformats.org/officeDocument/2006/relationships/hyperlink" Target="file:///&#31532;05&#31456;.ppt" TargetMode="External"/><Relationship Id="rId24" Type="http://schemas.openxmlformats.org/officeDocument/2006/relationships/hyperlink" Target="file:///&#31532;05&#31456;.ppt" TargetMode="External"/><Relationship Id="rId25" Type="http://schemas.openxmlformats.org/officeDocument/2006/relationships/hyperlink" Target="file:///&#31532;05&#31456;.ppt" TargetMode="External"/><Relationship Id="rId26" Type="http://schemas.openxmlformats.org/officeDocument/2006/relationships/image" Target="../media/image2.wmf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0920" y="1142640"/>
            <a:ext cx="5410080" cy="1676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66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C</a:t>
            </a:r>
            <a:r>
              <a:rPr b="1" lang="zh-CN" sz="60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语言程序设计教程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66520" y="4647960"/>
            <a:ext cx="5257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北京科技大学职业技术学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徐新华  制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目       录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01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1"/>
              </a:rPr>
              <a:t>第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"/>
              </a:rPr>
              <a:t>1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3"/>
              </a:rPr>
              <a:t>章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"/>
              </a:rPr>
              <a:t>    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5"/>
              </a:rPr>
              <a:t>Ｃ语言概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6"/>
              </a:rPr>
              <a:t>第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7"/>
              </a:rPr>
              <a:t>2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8"/>
              </a:rPr>
              <a:t>章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9"/>
              </a:rPr>
              <a:t>    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10"/>
              </a:rPr>
              <a:t>数据类型、运算符与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11"/>
              </a:rPr>
              <a:t>第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2"/>
              </a:rPr>
              <a:t>3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13"/>
              </a:rPr>
              <a:t>章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4"/>
              </a:rPr>
              <a:t>    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15"/>
              </a:rPr>
              <a:t>顺序结构程序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16"/>
              </a:rPr>
              <a:t>第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7"/>
              </a:rPr>
              <a:t>4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18"/>
              </a:rPr>
              <a:t>章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9"/>
              </a:rPr>
              <a:t>    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20"/>
              </a:rPr>
              <a:t>选择结构程序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21"/>
              </a:rPr>
              <a:t>第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2"/>
              </a:rPr>
              <a:t>5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23"/>
              </a:rPr>
              <a:t>章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4"/>
              </a:rPr>
              <a:t>    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25"/>
              </a:rPr>
              <a:t>循环结构程序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编译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结构与链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位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S00554_" descr=""/>
          <p:cNvPicPr/>
          <p:nvPr/>
        </p:nvPicPr>
        <p:blipFill>
          <a:blip r:embed="rId26"/>
          <a:stretch/>
        </p:blipFill>
        <p:spPr>
          <a:xfrm>
            <a:off x="5486400" y="3733920"/>
            <a:ext cx="236232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2:48:25Z</dcterms:created>
  <dc:creator>Xu xinhua</dc:creator>
  <dc:description/>
  <dc:language>en-US</dc:language>
  <cp:lastModifiedBy>Xu xinhua</cp:lastModifiedBy>
  <dcterms:modified xsi:type="dcterms:W3CDTF">2001-08-23T09:02:15Z</dcterms:modified>
  <cp:revision>11</cp:revision>
  <dc:subject/>
  <dc:title>PowerPoint 演示文稿</dc:title>
</cp:coreProperties>
</file>