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6D9-4E7C-4799-AA53-8B8ECF94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7F8-BAA6-4165-8200-00710C35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A52-D3B6-420F-9C16-0FB19751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4AF-CD5C-4052-AC7C-6588AB5A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655-7DA5-46DE-8DDA-FF0B373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7D6-68B8-48E6-AC91-641BE1FD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01E-D562-452C-AC45-1D70417C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899-4FB4-4D64-A36D-8FE5EAFB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BFF-C00D-48C8-9C87-02AA9310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2E6-5A3C-4E3E-B20C-608D462A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7F8-52CA-40D2-93CE-E79EE37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7ED-2BF9-49D2-BB0B-E4DE044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7FB6-F1C7-4DD2-BBCE-CA38FBEB86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4.xml"/><Relationship Id="rId4" Type="http://schemas.openxmlformats.org/officeDocument/2006/relationships/hyperlink" Target="file:///&#23553;&#38754;&#19982;&#30446;&#24405;.ppt" TargetMode="External"/><Relationship Id="rId5" Type="http://schemas.openxmlformats.org/officeDocument/2006/relationships/hyperlink" Target="file:///&#23553;&#38754;&#19982;&#30446;&#24405;.ppt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章    位运算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节省内存空间，在系统软件中常将多个标志状态简单地组合在一起，存储到一个字节（或字）中。Ｃ语言是为研制系统软件而设计的，所以她提供了实现将标志状态从标志字节中分离出来的位运算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位运算是指，按二进制位进行的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11.1  数值在计算机中的表示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11.2  位运算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11.3  位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[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5"/>
              </a:rPr>
              <a:t>Return]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基本思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右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，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移到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构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其余各位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整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行按位与运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1_1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输出一个整数中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构成的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, mas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a integer number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&amp;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 &gt;&gt;= 8;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右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，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移到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sk = ~ ( ~0 &lt;&lt; 4);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间接构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其余各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整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result=0x%x\n", num &amp; mas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a integer number:1000 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ult=0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 ( ~0 &lt;&lt;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位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反，为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左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后，其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各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按位取反，则其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各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这个整数正是我们所需要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上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正整数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按二进制位输出该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11_2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按二进制位输出一个整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, mask,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a integer number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&amp;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sk = 1&lt;&lt;15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最高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其余各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整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屏蔽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=" , 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1; i&lt;=16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utchar(num&amp;mask ? ’1’ : ‘0’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最高位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/0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 &lt;&lt;= 1;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次高位移到最高位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i%4==0 ) putchar(‘,’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四位一组，用逗号分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bB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a integer number:1000 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=0000,0011,1110,100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1.2.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赋值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按位取反运算外，其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运算符均可与赋值运算符一起，构成复合赋值运算符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^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&lt;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&g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长度数据间的位运算──低字节对齐，短数的高字节按最高位补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无符号数和有符号中的正数，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符号数中的负数，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段简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时，存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信息不必占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，只需二进制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（或多个）位就够用。如果仍然使用结构类型，则造成内存空间的浪费。为此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引入了位段类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段的概念与定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谓位段类型，是一种特殊的结构类型，其所有成员均以二进制位为单位定义长度，并称成员为位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状态寄存器，按位段类型定义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unsigned sign: 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符号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zero:  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零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carry: 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进位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parity: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奇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溢出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half_carry: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半进位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negative: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减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 flag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显然，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状态寄存器而言，使用位段类型（仅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），比使用结构类型（需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）节省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因为位段类型是一种结构类型，所以位段类型和位段变量的定义，以及对位段（即位段类型中的成员）的引用，均与结构类型和结构变量一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对位段赋值时，要注意取置范围。一般地说，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位段，其取值范围是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无名位段，可使其后续位段从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开始存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 unsigned sign: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符号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zero: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零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carry: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进位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:                0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长度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无名位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parity: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奇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溢出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half_carry: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半进位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negative: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减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 flag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标志位是连续存储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中的。由于加入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无名位段，所以其后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段，从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开始存储，一共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段必须存储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存储单元（通常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）中，不能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。如果本单元不够容纳某位段，则从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单元开始存储该位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格式字符，以整数形式输出位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数值表达式中引用位段时，系统自动将位段转换为整型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值在计算机中的表示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进制位与字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系统的内存储器，是由许多称为字节的单元组成的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二进制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构成，每位的取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最右端的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称为“最低位”，编号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最左端的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称为“最高位”，而且从最低位到最高位顺序，依次编号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各二进制位的编号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-1  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各二进制位的编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值的原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的原码表示是指，将最高位用作符号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正数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负数），其余各位代表数值本身的绝对值（以二进制形式表示）的表示形式。为简化描述起见，本节约定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整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95280" y="3352680"/>
          <a:ext cx="6096240" cy="517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原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└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位上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正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原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└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位上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负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值的反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的反码表示分两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正数的反码：与原码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反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负数的反码：符号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各位为该数绝对值的原码按位取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反码：因为是负数，则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其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绝对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原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位取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0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反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10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值的补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的补码表示也分两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正数的补码：与原码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补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负数的补码：符号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位为该数绝对值的原码按位取反；然后整个数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补码：因为是负数，则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其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绝对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原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位取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0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补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知一个数的补码，求原码的操作分两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补码的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是一个正数，所以补码就是该数的原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补码的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是一个负数，求原码的操作可以是：符号位不变，其余各位取反，然后再整个数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已知一个补码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1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原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：因为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是一个负数，所以该位不变，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其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反后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值在计算机中的表示──补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计算机系统中，数值一律用补码表示（存储），原因在于：使用补码，可以将符号位和其它位统一处理；同时，减法也可按加法来处理。另外，两个用补码表示的数相加时，如果最高位（符号位）有进位，则进位被舍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1.2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 运 算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1.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位运算及其运算符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按位与─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&amp;y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规则：对应位均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否则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&amp;9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&amp;9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&amp;   100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────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001=1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要用途：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或保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数的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些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，其余各位置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按位或─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|y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规则：对应位均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否则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|9=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|9=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0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|   1001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────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11=11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要用途：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数的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些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其余各位不变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位异或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^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：对应位相同时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不同时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^9=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用途：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的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翻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原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变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变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各位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位取反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：各位翻转，即原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变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原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变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BM-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xff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9=0xfff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用途：间接地构造一个数，以增强程序的可移植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位左移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lt;&lt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：使操作数的各位左移，低位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高位溢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&lt;&lt;2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位右移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g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：使操作数的各位右移，移出的低位舍弃；高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无符号数和有符号中的正数，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符号数中的负数，取决于所使用的系统：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称为“逻辑右移”，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称为“算术右移”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&gt;&gt; 2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位数”等操作数，都只能是整型或字符型数据。除按位取反为单目运算符外，其余均为双目运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参与运算时，操作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都必须首先转换成二进制形式，然后再执行相应的按位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&lt;&lt;2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01 → 1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&gt;&gt; 2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00 → 00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主要用途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构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整数：该数在要取（或保留）的位、或要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、或要翻转的位上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行按位与、或按位或、或按位异或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现按位取反主要用途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间接地构造一个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按需要进行左移或右移操作，构造出所需要的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直接构造一个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BM-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中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xff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），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X-11/7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，却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xffffff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）。如果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构造，系统可以自动适应。具体应用，请参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1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应用举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上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正整数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输出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构成的数（从低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开始编号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2:33:39Z</dcterms:created>
  <dc:creator>Xu xinhua</dc:creator>
  <dc:description/>
  <dc:language>en-US</dc:language>
  <cp:lastModifiedBy>Xu xinhua</cp:lastModifiedBy>
  <dcterms:modified xsi:type="dcterms:W3CDTF">2001-08-21T09:51:08Z</dcterms:modified>
  <cp:revision>33</cp:revision>
  <dc:subject/>
  <dc:title>第11章    位运算</dc:title>
</cp:coreProperties>
</file>