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780-C680-4A2A-9257-A06FFA2D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7D8-E47C-4BEC-ADC2-11C2EE3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BBD-D37D-4199-909A-EA37F354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136-ACF7-4FC0-B3C1-4E8F168F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522-64EF-4CAD-A097-09ADCF3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306-BE31-4FF5-9D6C-2533597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737-9BF3-419F-BC4D-7365F3B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142-F738-4B43-86FF-2FF39766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771-F8BA-49E2-ADEE-3CE364D5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B2B-FB43-4D77-AC84-DA5E4AE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75B-4E9E-47B5-8D69-BEAD0EE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CAC-6FB9-4520-8473-04A4194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19A-A34B-4A8D-B4A7-FC411D1E8C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章    结构与链表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将不同数据类型、但相互关联的一组数据，组合成一个有机整体使用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一种称为“结构”的数据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1  结构类型与结构变量的定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2  结构变量的引用与初始化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3  结构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4  指向结构类型数据的指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5  链表处理──结构指针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6  共用型和枚举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7  定义已有类型的别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student.nam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stude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的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初始化的格式，与一维数组相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的是：如果某成员本身又是结构类型，则该成员的初值为一个初值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={"000102",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 {1980,9,20}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初值的数据类型，应与结构变量中相应成员所要求的一致，否则会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3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数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数组的每一个元素，都是结构类型数据，均包含结构类型的所有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定义的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定义一个结构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存储和显示三个学生的基本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3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[3]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[3]={{“00010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9,20}}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{“000105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8,15}}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{“00011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3,10}}  }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" □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空格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.□□□□Name□□□□□Sex□Birthday\n"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三个学生的基本情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3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%-7s",student[i].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-9s",student[i].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-4s",student[i].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-%d-%d\n",student[i].birthday.yea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[i].birthday.month, student[i].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.        Name     Sex  Birth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001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      男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80-9-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0010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      男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80-8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0011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      女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80-3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结构变量的定义相似，结构数组的定义也分直接定义和间接定义两种方法，只需说明为数组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普通数组一样，结构数组也可在定义时进行初始化。初始化的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数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n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中的结构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[3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0.4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指向结构类型数据的指针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在内存中的起始地址称为结构变量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4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结构变量的指针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指向结构变量的指针来访问结构变量的各个成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4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“struct.h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={“00010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9,20}}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truct  std_info  *p_std=&amp;stud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: %s\n", p_std-&gt;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ame: %s\n", p_std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Sex: %s\n", p_std-&gt;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Birthday: %d-%d-%d\n", p_std-&gt;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birthday.month, p_std-&gt;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指向结构变量的指针来访问结构变量的成员，与直接使用结构变量的效果一样。一般地说，如果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指向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以下三种形式等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*pointer)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“*pointer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面的括号不能省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格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，分量运算符左侧的运算对象，只能是结构变量，；而在格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，指向运算符左侧的运算对象，只能是指向结构变量（或结构数组）的指针变量，否则都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要求从键盘上输入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各成员数据，如何修改程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4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向结构数组的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向结构数组的指针来访问结构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5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[3]={{"000102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5,20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"000105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8,15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“00011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3,10}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truct  std_info  *p_std=studen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.□□□□Name□□□□□Sex□Birthday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结构数组内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 i&lt;3;  i++, p_std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%-7s%-9s%-4s",  p_std-&gt;no,  p_std-&gt;name,  p_std-&gt;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4d-%2d-%2d\n", p_std-&gt;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birthday.month,  p_std-&gt;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指向某结构数组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结构数组的下一个元素，而不是当前元素的下一个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如果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经指向一个结构变量（或结构数组），就不能再使之指向结构变量（或结构数组元素）的某一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4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结构数据的指针作函数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函数调用方式，改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编写一个专门的显示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play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通过主函数调用来实现显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6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[3]={{"000102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5,20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"000105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8,15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“00011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3,10}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void display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.□□□□Name□□□□□Sex□Birthday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内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 i&lt;3; 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display( student + i 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 display(struct  std_info  *p_st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%-7s%-9s%-4s",  p_std-&gt;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name,  p_std-&gt;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4d-%2d-%2d\n",  p_std-&gt;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birthday.month,  p_std-&gt;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类型与结构变量的定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的结构类型，相当于其它高级语言中的“记录”类型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类型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类型名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stru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结构类型关键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数据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数据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……              …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数据项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}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行分号不能少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反映学生基本情况的结构类型，用以存储学生的相关信息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定义一个反映学生基本情况的结构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5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链表处理──结构指针的应用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5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链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表作为一种常用的、能够实现动态存储分配的数据结构，在《数据结构》课程中有详细介绍。为方便没有学过数据结构的读者，本书从应用角度，对链表作一简单介绍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为单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头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链表的首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结点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域组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域──存储结点本身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域──指向后继结点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尾结点的指针域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）”，作为链表结束的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链表的基本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链表的基本操作有：创建、检索（查找）、插入、删除和修改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链表是指，从无到有地建立起一个链表，即往空链表中依次插入若干结点，并保持结点之间的前驱和后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检索操作是指，按给定的结点索引号或检索条件，查找某个结点。如果找到指定的结点，则称为检索成功；否则，称为检索失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插入操作是指，在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插入一个新的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线性表的长度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逻辑关系发生如下变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；插入后，新插入的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操作是指，删除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线性表的长度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逻辑关系发生如下变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；删除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Ｃ语言对链表结点的结构描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用结构类型来描述结点结构。例如：</a:t>
            </a:r>
            <a:br>
              <a:rPr sz="24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 no[7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score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  *nex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5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一个新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写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按照规定的结点结构，创建一个单链表（链表中的结点个数不限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思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向系统申请一个结点的空间，然后输入结点数据域的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数据项，并将指针域置为空（链尾标志），最后将新结点插入到链表尾。对于链表的第一个结点，还要设置头指针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案例代码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说明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指针变量，指向链表的第一个结点，用作函数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新申请的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链表的尾结点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-&gt;next=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实现将新申请的结点，插入到链表尾，使之成为新的尾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0_7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 NULL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  LEN     sizeof(struct grad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结点长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结点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 no[7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score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  *nex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creat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一个具有头结点的单链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返回单链表的头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grade *create( voi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truct grade *head=NULL, *new, *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count=0;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链表中的结点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 ;   ;  )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缺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表达式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new=(struct grade *)malloc(LEN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申请一个新结点的空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输入结点数据域的各数据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the number of student No.%d(6 bytes): ", count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6s", new-&gt;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strcmp(new-&gt;no,"000000")==0)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学号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ree(new);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释放最后申请的结点空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;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the score of the student No.%d: ", count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 &amp;new-&gt;sc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unt++;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点个数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置新结点的指针域为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-&gt;next=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将新结点插入到链表尾，并设置新的尾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count==1)  head=new;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第一个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置头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tail-&gt;next=new;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首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新结点插入到链表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ail=new;    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置新的尾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(h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在设计存储学号数据的字符数组时，其元素个数应为学号长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为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5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链表的插入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写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ert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完成在单链表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点后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新结点的操作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表示新结点插入到第一个结点之前，成为链表新的首结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思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单链表的头指针，首先找到链表的第一个结点；然后顺着结点的指针域找到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结点，最后将新结点插入到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结点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0_8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功能：在单链表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结点后插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新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参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单链表的头指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要插入的新结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结点索引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返回值：单链表的头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grade *insert(struct grade *head, struct grade *new, 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truct grade *po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新结点插入到链表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head==NULL) head=new, new-&gt;next=NULL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新结点插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空链表中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非空链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i==0) new-&gt;next=head,  head=new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新结点成为 链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的首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他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ointer=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查找单链表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 pointer!=NULL &amp;&amp; i&gt;1;  pointer=pointer-&gt;next,  i--) 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pointer==NULL)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越界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Out of the range, can’t insert new node!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情况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点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-&gt;next=pointer-&gt;next, pointer-&gt;next=ne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(h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6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共用型和枚举型简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6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用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概念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使几个不同的变量占用同一段内存空间的结构称为共用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共用类型的定义──与结构类型的定义类似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o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类型名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列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}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共用变量的定义──与结构变量的定义类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间接定义──先定义类型、再定义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类型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,un2,u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语句如下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on  data  un1,un2,u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05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date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期结构类型：由年、月、日三项组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int year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mon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学生信息结构类型：由学号、姓名、性别和生日共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项组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char  no[7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har  name[9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har  sex[3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 birth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scor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成绩结构类型：由学号和三门成绩共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项组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char  no[7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 score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 scor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 score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定义──定义类型的同时定义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on  [data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un1, un2, un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变量占用的内存空间，等于最长成员的长度，而不是各成员长度之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共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操作系统中，占用的内存空间均为４字节（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+1+4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４．共用变量的引用──与结构变量一样，也只能逐个引用共用变量的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访问共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成员的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采用覆盖技术，实现共用变量各成员的内存共享，所以在某一时刻，存放的和起作用的是最后一次存入的成员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i=1, un1.ch='c', un1.f=3.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是有效的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由于所有成员共享同一内存空间，故共用变量与其各成员的地址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能对共用变量进行初始化（注意：结构变量可以）；也不能将共用变量作为函数参数，以及使函数返回一个共用数据，但可以使用指向共用变量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共用类型可以出现在结构类型定义中，反之亦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枚举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枚举类型的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num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枚举类型名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um  weekdays {Sun,Mon,Tue,Wed,Thu,Fri,Sat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２．枚举变量的定义──与结构变量类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间接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um  weekdays  workd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直接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um  [weekdays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Sun,Mon,Tue,Wed,Thu,Fri,Sat } workd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３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枚举型仅适应于取值有限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根据现行的历法规定，１周７天，１年１２个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取值表中的值称为枚举元素，其含义由程序解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不是因为写成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自动代表“星期天”。事实上， 枚举元素用什么表示都可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枚举元素作为常量是有值的──定义时的顺序号（从０开始），所以枚举元素可以进行比较，比较规则是：序号大者为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上例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……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t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&gt;Su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枚举元素的值也是可以人为改变的：在定义时由程序指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um weekdays {Sun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Tue, Wed, Thu, Fri, Sat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n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，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e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依次增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7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义已有类型的别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可直接使用Ｃ提供的标准类型和自定义的类型（结构、共用、枚举）外，也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已有类型的别名。该别名与标准类型名一样，可用来定义相应的变量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已有类型别名的方法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定义变量的方法，写出定义体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变量名换成别名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定义体最前面加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实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定义实型变量的方法，写出定义体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 f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变量名换成别名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 REAL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定义体最前面加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 float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.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给如下所示的结构类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别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year,  month, 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按定义结构变量的方法，写出定义体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 {……}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将变量名换成别名：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 {……}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在定义体最前面加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ypedef struct date {……}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是给已有类型增加１个别名，并不能创造１个新的类型。就如同人一样，除学名外，可以再取一个小名（或雅号），但并不能创造出另一个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相似之处，但二者是不同的：前者是由编译器在编译时处理的；后者是由编译预处理器在编译预处理时处理的，而且只能作简单的字符串替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结构类型名”和“数据项”的命名规则，与变量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类型相同的数据项，既可逐个、逐行分别定义，也可合并成一行定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代码中的日期结构类型，也可改为如下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int  year, month, d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类型中的数据项，既可以是基本数据类型，也允许是另一个已经定义的结构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代码中的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_in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数据项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一个已经定义的日期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本书将１个数据项称为结构类型的１个成员（或分量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自己定义的结构类型，与系统定义的标准类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）一样，可用来定义结构变量的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结构变量的方法，可概括为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间接定义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先定义结构类型、再定义结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定义的学生信息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_in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定义了一个相应的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std_info 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拥有结构类型的全部成员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是一个日期结构类型，它又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成员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使用间接定义法定义结构变量时，必须同时指定结构类型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直接定义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──在定义结构类型的同时，定义结构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结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定义可以改为如下形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stud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时定义结构类型及其结构变量的一般格式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ruct  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类型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变量表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结构类型与结构变量是两个不同的概念，其区别如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变量的区别一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结构类型中的成员名，可以与程序中的变量同名，它们代表不同的对象，互不干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2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变量的引用与初始化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定义的结构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定义一个结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存储和显示一个学生的基本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2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={"000102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9,20}}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{ printf("No: %s\n",student.no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printf("Name: %s\n",student.name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printf("Sex: %s\n",student.sex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printf("Birthday: %d-%d-%d\n",student.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.birthday.month, student.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: 000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x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:1980-9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的引用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结构变量，要通过成员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逐个访问其成员，且访问的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成员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案例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引用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，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某成员本身又是一个结构类型，则只能通过多级的分量运算，对最低一级的成员进行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的引用格式扩展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成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…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子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引用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的格式分别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birthday.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birthday.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birthday.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最低一级成员，可像同类型的普通变量一样，进行相应的各种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既可引用结构变量成员的地址，也可引用结构变量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38:17Z</dcterms:created>
  <dc:creator>Xu xinhua</dc:creator>
  <dc:description/>
  <dc:language>en-US</dc:language>
  <cp:lastModifiedBy>Xu xinhua</cp:lastModifiedBy>
  <dcterms:modified xsi:type="dcterms:W3CDTF">2001-08-21T10:30:50Z</dcterms:modified>
  <cp:revision>61</cp:revision>
  <dc:subject/>
  <dc:title>第10章    结构与链表</dc:title>
</cp:coreProperties>
</file>