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A02E-2EC0-417E-A939-763B6F25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1491-973F-42DE-98F2-04C46E58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7C6A-5C05-4E9B-A350-5D0F201D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1040-3ABC-4D8C-B8BB-39EC1BF0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D3DD-CC38-4589-AEA7-0FC8C327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62B0-2BA8-427C-9024-661C40CF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EE87-88B7-446B-9DD8-32B90D5B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9B9C-1BD9-4756-9D0A-A4B7FEC8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638B-E286-41C8-A7C8-DC355A06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D4D1-2C67-4A0E-A824-A190B08B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CF8F-2E0C-4C05-8033-89E3081C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CA9A-2BB0-4A29-8D80-FB376D23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AE42-FB8E-4EAF-9210-4B0AC8EF10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9.xml"/><Relationship Id="rId4" Type="http://schemas.openxmlformats.org/officeDocument/2006/relationships/slide" Target="slide35.xml"/><Relationship Id="rId5" Type="http://schemas.openxmlformats.org/officeDocument/2006/relationships/slide" Target="slide42.xml"/><Relationship Id="rId6" Type="http://schemas.openxmlformats.org/officeDocument/2006/relationships/slide" Target="slide46.xml"/><Relationship Id="rId7" Type="http://schemas.openxmlformats.org/officeDocument/2006/relationships/slide" Target="slide46.xml"/><Relationship Id="rId8" Type="http://schemas.openxmlformats.org/officeDocument/2006/relationships/slide" Target="slide46.xml"/><Relationship Id="rId9" Type="http://schemas.openxmlformats.org/officeDocument/2006/relationships/slide" Target="slide54.xml"/><Relationship Id="rId10" Type="http://schemas.openxmlformats.org/officeDocument/2006/relationships/hyperlink" Target="file:///&#23553;&#38754;&#19982;&#30446;&#24405;.ppt" TargetMode="External"/><Relationship Id="rId11" Type="http://schemas.openxmlformats.org/officeDocument/2006/relationships/hyperlink" Target="file:///&#23553;&#38754;&#19982;&#30446;&#24405;.ppt" TargetMode="External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章    指   针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针是Ｃ语言中的重要概念，也是Ｃ语言的重要特色。使用指针，可以使程序更加简洁、紧凑、高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9.1  指针和指针变量的概念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9.2  指针变量的定义与应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3" action="ppaction://hlinksldjump"/>
              </a:rPr>
              <a:t>9.3  数组的指针和指向数组的指针变量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4" action="ppaction://hlinksldjump"/>
              </a:rPr>
              <a:t>9.4  字符串的指针和指向字符串的指针变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5" action="ppaction://hlinksldjump"/>
              </a:rPr>
              <a:t>9.5  返回指针值的函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6" action="ppaction://hlinksldjump"/>
              </a:rPr>
              <a:t>9.6  指针数组与主函数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7" action="ppaction://hlinksldjump"/>
              </a:rPr>
              <a:t>main()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8" action="ppaction://hlinksldjump"/>
              </a:rPr>
              <a:t>的形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9" action="ppaction://hlinksldjump"/>
              </a:rPr>
              <a:t>9.7  函数的指针和指向函数的指针变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0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1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指针变量求解：输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整数，按升序（从小到大排序）输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9_2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功能：使用指针变量求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整数的升序输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num1,num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*num1_p=&amp;num1, *num2_p=&amp;num2, *pointer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the first number: ”); scanf(“%d”,num1_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the second number: ”); scanf(“%d”,num2_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num1=%d, num2=%d\n”, num1, num2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( *num1_p &gt; *num2_p 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1&gt;num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则交换指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er= num1_p,  num1_p= num2_p,  num2_p=point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min=%d, max=%d\n”, *num1_p, *num2_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情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put the first number:9←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put the second number:6←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=9, num2=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in=6, max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num1_p&gt;*num2_p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&gt;nu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则交换指针，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_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较小值）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2_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较大值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rintf(“min=%d, max=%d\n”, *num1_p, *num2_p);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语句：通过指针变量，间接访问变量的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本案例的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处理思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：交换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_p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2_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，而不是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未交换，仍保持原值），最后通过指针变量输出处理结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2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针变量作函数参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针变量，既可以作为函数的形参，也可以作函数的实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针变量作实参时，与普通变量一样，也是“值传递”，即将指针变量的值（一个地址）传递给被调用函数的形参（必须是一个指针变量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被调用函数不能改变实参指针变量的值，但可以改变实参指针变量所指向的变量的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.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函数调用方式改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要求实参为指针变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9_3.C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****************************************************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exchange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交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形参指针变量所指向的变量的值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形参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，均为指向整型数据的指针变量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返回值：无                                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*****************************************************/</a:t>
            </a:r>
            <a:br>
              <a:rPr sz="20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exchange(int *pointer1, int *pointer2)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{ int temp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temp=*pointer1, *pointer1=*pointer2, *pointer2=temp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int num1,num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并初始化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_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2_p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*num1_p=&amp;num1, *num2_p=&amp;num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the first number: ”); scanf(“%d”, num1_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the second number: 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“%d”, num2_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num1=%d, num2=%d\n”, num1, num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( *num1_p &gt; *num2_p )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1&gt;num2)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xchange(num1_p, num2_p);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针变量作实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排序后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min=%d, max=%d\n”, num1, num2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情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put the first number:9←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put the second number:6←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1=9, num2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in=6, max=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调用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xchange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前、之时、结束时和结束后的情况，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形参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e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指向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er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指向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在函数调用开始时才分配存储空间，函数调用结束后立即被释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虽然被调用函数不能改变实参指针变量的值，但可以改变它们所指向的变量的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总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为了利用被调用函数改变的变量值，应该使用指针（或指针变量）作函数实参。其机制为：在执行被调用函数时，使形参指针变量所指向的变量的值发生变化；函数调用结束后，通过不变的实参指针（或实参指针变量）将变化的值保留下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.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整数，按降序（从大到小的顺序）输出。要求使用变量的指针作函数调用的实参来实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9_4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****************************************************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exchange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交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形参指针变量所指向的变量的值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形参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，均为指向整型数据的指针变量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返回值：无                                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****************************************************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exchange(int *pointer1, int *pointer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emp=*pointer1, *pointer1=*pointer2, *pointer2=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440" y="457200"/>
            <a:ext cx="79246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主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num1,num2,num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从键盘上输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整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the first number: ”); scanf(“%d”, &amp;num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the second number: ”); scanf(“%d”, &amp;num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the third number: ”); scanf(“%d”, &amp;num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num1=%d, num2=%d, num3=%d\n”, num1, num2, num3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排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( num1 &lt; num2 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num1&lt;num2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xchange( &amp;num1, &amp;num2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( num1 &lt; num3 ) exchange( &amp;num1,  &amp;num3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( num2 &lt; num3 ) exchange( &amp;num2,  &amp;num3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排序结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排序结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: %d, %d, %d\n”,num1,num2,num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程序运行情况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put the first number:9←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put the second number:6←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put the third number:12←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um1=9, num2=6, num3=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排序结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 12, 9,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9.3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数组的指针和指向数组的指针变量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.3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概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的指针──数组在内存中的起始地址，数组元素的指针──数组元素在内存中的起始地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数组的指针变量的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数组的指针变量的定义，与指向普通变量的指针变量的定义方法一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array[10], *pointer=array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array[0])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者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array[10], *point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ra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数组名代表数组在内存中的起始地址（与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元素的地址相同），所以可以用数组名给指针变量赋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9.1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针和指针变量的概念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存地址──内存中存储单元的编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计算机硬件系统的内存储器中，拥有大量的存储单元（容量为１字节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了方便管理，必须为每一个存储单元编号，这个编号就是存储单元的“地址”。每个存储单元都有一个惟一的地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地址所标识的存储单元中存放数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注意：内存单元的地址与内存单元中的数据是两个完全不同的概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地址──系统分配给变量的内存单元的起始地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设有这样一个程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组元素的引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组元素的引用，既可用下标法，也可用指针法。使用下标法，直观；而使用指针法，能使目标程序占用内存少、运行速度快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.3.2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通过指针引用数组元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有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array[10],*pointer=array;”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则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er+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rray+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都是数组元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rray[i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地址，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9-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(pointer+i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(array+i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就是数组元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rray[i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指向数组的指针变量，也可将其看作是数组名，因而可按下标法来使用。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er[i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等价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(pointer+i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er+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向数组的下一个元素，而不是简单地使指针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其实际变化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er+1*size(siz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一个元素占用的字节数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假设指针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当前值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er+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000+1*2=300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而不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00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.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指向数组的指针变量来引用数组元素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9_5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功能：使用指向数组的指针变量来引用数组元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array[10], *pointer=array, i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10 numbers: 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0; i&lt;10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“%d”, pointer+i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指针变量来输入数组元素的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array[10]: 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0; i&lt;10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%d  ”, *(pointer+i)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指向数组的指针变量输出数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情况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put 10 numbers: 0 1 2 3 4 5 6 7 8 9←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rray[10]:  0  1  2  3  4  5  6  7  8 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中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和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，等价于下面的程序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0; i&lt;10; i++,pointer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“%d”,point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array[10]: 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er=array;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重新指向数组的第一个元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0; i&lt;10; i++,pointer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%d”,*point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去掉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er=array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，程序运行结果会如何？请上机验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本案例中，也可以不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来作循环控制变量，程序怎么修改？提示：指针可以参与关系运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指针变量的值是可以改变的，所以必须注意其当前值，否则容易出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指向数组的指针变量，可以指向数组以后的内存单元，虽然没有实际意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对指向数组的指针变量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进行算术运算和关系运算的含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可以进行的算术运算，只有以下几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x±n,  px++/++px,  px--/--px,  px-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px±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将指针从当前位置向前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或回退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数据单位，而不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。显然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x++/++p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x--/--p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x±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特例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px-p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两指针之间的数据个数，而不是指针的地址之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关系运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表示两个指针所指地址之间、位置的前后关系：前者为小，后者为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如果指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指地址在指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指地址之前，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.3.3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再论数组作函数参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组名作形参时，接收实参数组的起始地址；作实参时，将数组的起始地址传递给形参数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引入指向数组的指针变量后，数组及指向数组的指针变量作函数参数时，可有４种等价形式（本质上是一种，即指针数据作函数参数）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形参、实参都用数组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形参、实参都用指针变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形参用指针变量、实参用数组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形参用数组名、实参用指针变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.3.4  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数组的指针及其指针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 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组的指针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假设有如下数组定义语句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array[3][4]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组角度看，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代表数组的起始地址， 是一个以行为单位进行控制的行指针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array+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行指针值，指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组的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*(array+i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（列）指针值，指向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第０列（控制由行转为列，但仍为指针）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*(*(array+i)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数组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ray[i][0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指针访问数组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ray[i][j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格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(*(array+i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行指针是一个２级指针，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组角度看，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下标的每一个值， 共同构成一组新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ray[0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ray[1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ray[2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它们均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元素组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Ｃ语言规定：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数组名代表数组的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所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ray[i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组的地址， 它指向该行的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列元素，是一个以数组元素为单位进行控制的列指针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array[i]+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（列）指针值，指向数组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ray[i][j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*(array[i]+j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数组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ray[i][j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有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array[3][4],*p=array[0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”，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+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下一个元素，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指针访问数组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ray[i][j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格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(p+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行列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j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指针变量──指向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元素组成的一维数组的指针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类型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针变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[n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注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针变量”外的括号不能缺，否则成了指针数组——数组的每个元素都是一个指针──指针数组（本章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节介绍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赋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指针变量 ＝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数组名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指针变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.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行指针和列指针两种方式输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维数组的任一元素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使用行指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9_6_1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功能：使用行指针输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维数组的任一元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int array[3][4]={{1,2,3,4},{5,6,7,8},{9,10,11,12}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(*pointer)[4], row, col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er=arr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row = ”); scanf(“%d”, &amp;row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col = ”); scanf(“%d”, &amp;co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intf(“array[%1d][%1d] = %d\n”, row, col, *(*(pointer+row)+col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程序运行情况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nput row = 1←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nput col = 2←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rray[1][2] =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本题也可以直接使用数组名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作指针，应如何修改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使用列指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L9_6_2.C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程序功能：使用列指针输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维数组的任一元素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{ int array[3][4]={{1,2,3,4},{5,6,7,8},{9,10,11,12}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nt *pointer, row, col;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定义一个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指针变量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ointer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ointer=array[0];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给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指针变量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赋值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intf(“Input row = ”); scanf(“%d”,&amp;row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intf(“Input col = ”); scanf(“%d”,&amp;co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intf(“array[%1d][%1d] = %d\n”, row, col, *(pointer+(row*4+col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. 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维数组指针作函数参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维数组的指针作函数实参时，有列指针和行指针两种形式。相应的，用来接受实参数组指针的形参，必须使用相应形式的指针变量，如下所示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实参：       列指针              行指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↓                       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形参：   （列）指针变量      行指针变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.3.5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动态数组的实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程序运行过程中，数组的大小是不能改变的。这种数组称为静态数组。静态数组的缺点是：对于事先无法准确估计数据量的情况，无法做到既满足处理需要，又不浪费内存空间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动态数组是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在程序运行过程中，根据实际需要指定数组的大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，可利用内存的申请和释放库函数，以及指向数组的指针变量可当数组名使用的特点，来实现动态数组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0769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int nu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"%d",&amp;nu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num=%d\n", nu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译程序编译到该变量定义语句时，将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登录到“符号表”中。符号表的关键属性有两个：一是“标识符名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” ，二是该标识符在内存空间中的“地址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”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描述方便，假设系统分配给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节存储单元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起始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是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内存中的地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值的存取──通过变量在内存中的地址进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执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”%d“,&amp;num)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”num=%d\n“, num)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，存取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值的方式可以有两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动态数组的本质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个指向数组的指针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.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动态数组的实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9_7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功能：实现动态数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  “alloc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  “stdlib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 *array=NULL, num,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the  number  of   element: ”); scanf(“%d”, &amp;n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申请动态数组使用的内存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rray=(int  *)malloc( sizeof(int) * num 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 ( array==NULL 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内存申请失败：提示，退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printf(“out  of  memory, press  any  key  to  quit……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xit(0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exit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终止程序运行，返回操作系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提示输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数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 %d  elements: ”, n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 (i=0; i&lt;num; i++) scanf(“%d”, &amp;array[i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刚输入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数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%d  elements  are: ”, n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 (i=0; i&lt;num; i++) printf(“%d,”, array[i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\b ”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删除最后一个数据后的分隔符“，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ree(array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释放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lloc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申请的内存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运行情况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put the  number  of   element: 3←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put  3  elements: 1  2  3←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  elements are: 1,2,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说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rray=(int  *)malloc( sizeof(int) * num 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─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allo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izeo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运算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库函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allo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法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*malloc(unsigned siz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在内存的动态存储区分配１个长度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连续空间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返回值：申请成功，则返回新分配内存块的起始地址；否则，返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原型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loc.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dlib.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lloc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返回值是一个无类型指针，其特点是可以指向任何类型的数据。但在</a:t>
            </a:r>
            <a:r>
              <a:rPr b="1" i="1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实际使用</a:t>
            </a:r>
            <a:r>
              <a:rPr b="1" i="1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lloc()</a:t>
            </a:r>
            <a:r>
              <a:rPr b="1" i="1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函数时，必须将其返回值强制转换成被赋值指针变量的数据类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以免出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运算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ize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izeof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变量名／类型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求变量／类型占用的内存字节数（正整数）。例如，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BM-P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机上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izeof(int)=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该语句中，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izeof(int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数据占用的内存字节数，而不是使用常量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“%d”, &amp;array[i])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“%d,”, array[i])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指向数组的指针变量当作数组名使用，所以就必须按引用数组元素的语法规则来使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“\b ”)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b”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该语句中的作用是，使光标定位到最后一个数据后的分隔符“，”上，然后再输出一个空格，以达到删除之目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6840" y="6854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ree(array)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──库函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法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 free(void  *pt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：释放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的内存块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调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lloc(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返回值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值：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原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dlib.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loc.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则上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alloc()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函数申请的内存块，操作结束后，应及时使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ree()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函数予以释放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尤其是循环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lloc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时，如果不及时释放不再使用的内存块，很可能很快就耗尽系统的内存资源，从而导致程序无法继续运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9.4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字符串的指针和指向字符串的指针变量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串在内存中的起始地址称为字符串的指针，可以定义一个字符指针变量指向一个字符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.4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符串的表示与引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Ｃ语言中，既可以用字符数组表示字符串，也可用字符指针变量来表示；引用时，既可以逐个字符引用，也可以整体引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逐个引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.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字符指针变量表示和引用字符串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9_8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char *string=”I love Beijing.”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; *string!=’\0’; string++) printf(“%c”, *string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结果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 love Beij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说明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 *string="I love Beijing."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并初始化字符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用串常量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 love Beijing.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地址（由系统自动开辟、存储串常量的内存块的首地址）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赋初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语句也可分成如下所示的两条语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 *str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ing="I love Beijing.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字符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仅存储串常量的地址，而串常量的内容（即字符串本身），是存储在由系统自动开辟的内存块中，并在串尾添加一个结束标志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0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整体引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采取整体引用的办法，改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9_9.C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功能：使用字符指针变量表示和引用字符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char *string=”I love Beijing.”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“%s\n”,string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%s\n",string)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过指向字符串的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整体引用它所指向的字符串的原理：系统首先输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的第一个字符，然后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动加１，使之指向下一个字符；重复上述过程，直至遇到字符串结束标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其它类型的数组，是不能用数组名来一次性输出它的全部元素的，只能逐个元素输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array[10]={……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%d\n",array)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种用法是非法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指针变量与字符数组之比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虽然用字符指针变量和字符数组都能实现字符串的存储和处理，但二者是有区别的，不能混为一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存储内容不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指针变量中存储的是字符串的首地址，而字符数组中存储的是字符串本身（数组的每个元素存放一个字符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440" y="533520"/>
            <a:ext cx="79246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赋值方式不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字符指针变量，可采用下面的赋值语句赋值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ar  *point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er="This is a example.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字符数组，虽然可以在定义时初始化，但不能用赋值语句整体赋值。下面的用法是非法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ar  char_array[20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ar_array="This is a example."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非法用法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指针变量的值是可以改变的，字符指针变量也不例外；而数组名代表数组的起始地址，是一个常量，而常量是不能被改变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.4.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符串指针作函数参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直接访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──直接利用变量的地址进行存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例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“%d”,&amp;num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执行过程是这样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变量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为索引值，检索符号表，找到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起始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然后将键盘输入的值（假设为３）送到内存单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。此时，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内存中的地址和值，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num=%d\n",num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执行过程，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很相似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首先找到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起始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然后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取出其值，最后将它输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间接访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──通过另一变量访问该变量的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Ｃ语言规定：在程序中可以定义一种特殊的变量（称为指针变量），用来存放其它变量的地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9.1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用函数调用方式，实现字符串的复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L9_10.C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string_copy(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函数：复制一个字符串           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形参：字符指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r_from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接收源串，字符指针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r_t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存储目标串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返回值：无                                                     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string_copy(char *str_from, char *str_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i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; (</a:t>
            </a:r>
            <a:r>
              <a:rPr b="1" i="1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*(str_to+i)=*(str_from+i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!=’\0’; i++) ;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循环体为空语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char array_str1[20]=”I am a teacher.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ar array_str2[2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ing_copy(array_str1, array_str2);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组名作实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array_str2=%s\n”, array_str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结果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 am a tea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(; (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*(str_to+i)=*(str_from+i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!=’\0’; i++)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执行过程为：首先将源串中的当前字符，复制到目标串中；然后判断该字符（即赋值表达式的值）是否是结束标志。如果不是，则相对位置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以便复制下一个字符；如果是结束标志，则结束循环。其特点是：先复制、后判断，循环结束前，结束标志已经复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，用赋值运算符、而不是赋值语句来实现赋值操作，能给某些处理带来很大的灵活性，该语句（实现字符串的复制）的用法就是最好的例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9.5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返回指针值的函数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函数可以返回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lo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的数据，也可以返回一个指针类型的数据。 返回指针值的函数（简称指针函数）的定义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类型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参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.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某数理化三项竞赛训练组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人，找出其中至少有一项成绩不合格者。要求使用指针函数实现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9_11.C*/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***********************************************************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seek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：判断是否有不合格成绩     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形参：指向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型元素组成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维数组的行指针变量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返回值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有不合格成绩，则返回指向本行首列的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针；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               (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没有有不合格成绩，返回值为指向下一行的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***********************************************************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*seek( int  (*pnt_row)[3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int i=0, *pnt_col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针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nt_col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nt_col=*(pnt_row+1);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nt_co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指向下一行之首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作标志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)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(; i&lt;3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*(*pnt_row+i)&lt;60)   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某项成绩不合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pnt_col=*pnt_row; 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nt_co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本行之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eak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退出循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(pnt_co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主函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{ int grade[3][3]={{55,65,75},{65,75,85},{75,80,90}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nt i,j,*pointer;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定义一个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指针变量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ointer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for(i=0; i&lt;3; i++)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控制每个学生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{ pointer=seek(grade+i);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用行指针作实参，调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eek(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f(pointer==*(grade+i))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该学生至少有一项成绩不合格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{ 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输出该学生的序号和各项成绩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intf(“No.%d grade list: ”, i+1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for(j=0; j&lt;3; j++) printf(“%d  ”,*(pointer+j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intf(“\n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程序运行结果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No.1 grade list: 55  65  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说明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主函数中的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pointer=seek(grade+i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调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eek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时，将实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rade+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行指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，复制到形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nt_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行指针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，使形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nt_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组的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指针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eek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pnt_col=*(pnt_row+1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(pnt_row+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将行指针转换为列指针，指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组的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第０列，并赋值给（列）指针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nt_co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if(*(*pnt_row+i)&lt;60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nt_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一个行指针，指向数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pnt_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指针由行转换为列，指向数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０列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pnt_row+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还是一个指针，指向数组的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列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(*pnt_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j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一个数据（数组元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rade[i][j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9.6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针数组与主函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main(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形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.6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针数组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概念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数组的每个元素都是一个指针数据。指针数组比较适合用于指向多个字符串，使字符串处理更加方便、灵活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类型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组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素个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与行指针变量定义格式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(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素个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差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.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若干计算机图书，请按字母顺序，从小到大输出书名。解题要求：使用排序函数完成排序，在主函数中进行输入输出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9_12.C*/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功能：指针数组应用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8153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 sort(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函数：对字符指针数组进行排序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形参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name——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字符指针数组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count——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元素个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返回值：无                             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void  sort(char *name[], int cou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{ char *temp_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nt i,j,mi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使用选择法排序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for(i=0; i&lt;count-1; i++)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外循环：控制选择次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{ min=i;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预置本次最小串的位置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for(j=i+1; j&lt;count; j++)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内循环：选出本次的最小串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f(strcmp(name[min],name[j])&gt;0)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存在更小的串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min=j;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保存之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f(min!=i)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存在更小的串，交换位置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temp_p=name[i],name[i]=name[min],name[min]=temp_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07696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主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char *name[5]={“BASIC”,”FORTRAN”,”PASCAL”,”C”,”FoxBASE”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ort(name,5);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字符指针数组名作实参，调用排序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ort()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排序结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; i&lt;5; i++) printf(“%s\n”,name[i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结果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T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x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792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说明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实参对形参的值传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ort(  name  ,     5 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↓          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sort(char *name[], int cou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字符串的比较只能使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cmp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。形参字符指针数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每个元素，都是一个指向字符串的指针，所以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cmp(name[min],name[j]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.6.2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主函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形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以往的程序中，主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都使用其无参形式。实际上，主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也是可以指定形参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.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同一程序实现文件的加密和解密。约定：程序的可执行文件名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ock.ex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其用法为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ock +|- &lt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被处理的文件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其中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加密，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解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9_13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功能：带参主函数的应用示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假设定义了这样一个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_point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它被分配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元，其值可通过赋值语句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_pointer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”得到。此时，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_point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就是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内存中的起始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过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_point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存取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值的过程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首先找到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_point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地址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取出其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正好是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起始地址）； 然后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取出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两种访问方式的比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种访问方式之间的关系，可以用某人甲（系统）要找某人乙（变量）来类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种情况是，甲知道乙在何处，直接去找就是（即直接访问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一种情况是，甲不知道乙在哪，但丙（指针变量）知道，此时甲可以这么做：先找丙，从丙处获得乙的去向，然后再找乙（即间接访问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main(int argc, char *argv[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{ char 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if (argc != 3) printf(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参数个数不对！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{ c=*argv[1];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截取第二个实参字符串的第一个字符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switch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{ case '+':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执行加密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{ /*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加密程序段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printf(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执行加密程序段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case '-':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执行解密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{ /*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解密程序段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printf(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执行解密程序段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default: printf(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二个参数错误！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有参形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ain(int arg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har *argv[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… …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参的来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行带形参的主函数，必须在操作系统状态下，输入主函数所在的可执行文件名，以及所需的实参，然后回车即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行的一般格式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执行文件名实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……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本案例程序的用法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ck  +|- 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被处理的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←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集成环境下，也可直接利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tions | Arguments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项，输入主函数所需要的实参：只须输入各参数（相邻参数间用空格分开），可执行文件名可省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本案例而言，输入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|- 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被处理的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形参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形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g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命令行中参数的个数（可执行文件名本身也算一个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本案例中，形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g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|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文件名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形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g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个字符指针数组，即形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g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首先是一个数组（元素个数为形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g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），其元素值都是指向实参字符串的指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本案例中，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gv[0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实参字符串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ck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gv[1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实参字符串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|-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gv[2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实参字符串“被处理的文件名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.6.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向指针的指针变量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.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主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个字符指针数组，即数组的每一个元素都是一个指向字符串的指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既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个数组，则它的每一个元素也同样有相应的地址，因此可以设置一个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使其指向指针数组的元素（元素的值还是一个指针），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指向指针的指针变量。显然，指向指针的指针变量是一个两级的指针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指针的指针变量的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类型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针变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, *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针变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……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指针的指针变量的赋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针变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针数组名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9.7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函数的指针和指向函数的指针变量简介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指针的概念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一个函数在编译时，被分配了一个入口地址，这个地址就称为该函数的指针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可以用一个指针变量指向一个函数，然后通过该指针变量调用此函数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向函数的指针变量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定义格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函数类型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*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指针变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( 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针变量”外的括号不能缺，否则成了返回指针值的函数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(*fp)();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 f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指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指针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赋值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函数名代表该函数的入口地址。因此，可用函数名给指向函数的指针变量赋值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指向函数的指针变量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&amp;]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函数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函数名后不能带括号和参数；函数名前的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amp;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符号是可选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调用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指针变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(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参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函数的指针变量作函数参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函数的指针变量的常用用途之一，就是将函数指针作参数，传递到其它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名作实参时，因为要缺省括号和参数，造成编译器无法判断它是一个变量还是一个函数，所以必须加以说明。函数说明的格式，与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章中介绍的一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对指向函数的指针变量，诸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+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++/p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运算是没有意义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指针与指针变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指针──即地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个变量的地址称为该变量的指针。通过变量的指针能够找到该变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指针变量──专门用于存储其它变量地址的变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针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_point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就是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地址。指针与指针变量的区别，就是变量值与变量的区别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为表示指针变量和它指向的变量之间的关系，用指针运算符“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表示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指针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_point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与它所指向的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关系，表示为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num_point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num_point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等价于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因此，下面两个语句的作用相同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=3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直接赋给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_pointer=&amp;num;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_point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num_pointer=3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赋给指针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_point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指向的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9.2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针变量的定义与应用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.2.1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指针变量的定义与相关运算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针变量的定义与相关运算示例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L9_1.C*/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{ int num_int=12, *p_int;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定义一个指向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型数据的指针变量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_int */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float num_f=3.14, *p_f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定义一个指向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floa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型数据的指针变量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_f */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char num_ch=’p’, *p_ch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定义一个指向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型数据的指针变量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_ch */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p_int=&amp;num_int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取变量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num_in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地址，赋值给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_int */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p_f=&amp;num_f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取变量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num_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地址，赋值给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_f */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p_ch=&amp;num_ch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取变量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num_c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地址，赋值给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_ch */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printf(“num_int=%d, *p_int=%d\n”, num_int, *p_int);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printf(“num_f=%4.2f, *p_f=%4.2f\n”, num_f, *p_f);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printf(“num_ch=%c, *p_ch=%c\n”, num_ch, *p_ch);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}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结果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_int=12, *p_int=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_f=3.14, *p_f=3.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_ch=p, *p_ch=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说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头三行的变量定义语句──指针变量的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一般变量的定义相比，除变量名前多了一个星号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”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指针变量的定义标识符）外，其余一样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数据类型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指针变量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[,  *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指针变量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……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此时的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_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_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_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并未指向某个具体的变量（称指针是悬空的）。使用悬空指针很容易破坏系统，导致系统瘫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间三行的赋值语句──取地址运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取地址运算的格式：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＆变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amp;num_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amp;num_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amp;num_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结果，分别为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_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_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_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地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指针变量只能存放指针（地址），且只能是相同类型变量的地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指针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_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_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_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只能分别接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型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lo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型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型变量的地址，否则出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后三行的输出语句──指针运算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直接访问和间接访问两种方式，分别输出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_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_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_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这三行出现在指针变量前的星号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指针运算符，访问指针变量所指向的变量的值，而非指针运算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2T00:17:38Z</dcterms:created>
  <dc:creator>Xu xinhua</dc:creator>
  <dc:description/>
  <dc:language>en-US</dc:language>
  <cp:lastModifiedBy>Xu xinhua</cp:lastModifiedBy>
  <dcterms:modified xsi:type="dcterms:W3CDTF">2001-08-21T09:33:34Z</dcterms:modified>
  <cp:revision>116</cp:revision>
  <dc:subject/>
  <dc:title>第9章    指   针</dc:title>
</cp:coreProperties>
</file>