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2DC9D-DBA0-4639-BD9C-F9867844D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09815-03CB-4EF2-B3E8-253D5C8A2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0BEF1-18D6-434A-B7FA-1B27FF37F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0FF5F-814C-477E-943A-EE7292AE8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56A2A-3943-4165-8BA2-480AFBEE1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A5661-391C-48B2-901E-582F2AFDD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C04CD-CC03-4647-8DCA-3CA42F383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62F90-B248-4743-BCC5-39051DEBE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7588D-1B88-48C4-89BD-2D7ECC455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4CF87-59DB-4DE6-91DB-85564D02D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05B08-87E2-4052-A4BA-86C6D716A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11446-B17F-4E7F-954D-CC4D51513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B0B24-BF52-4A5B-A315-AB8BFE8DC29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12.xml"/><Relationship Id="rId3" Type="http://schemas.openxmlformats.org/officeDocument/2006/relationships/slide" Target="slide21.xml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" Target="slide13.xml"/><Relationship Id="rId3" Type="http://schemas.openxmlformats.org/officeDocument/2006/relationships/slide" Target="slide16.xml"/><Relationship Id="rId4" Type="http://schemas.openxmlformats.org/officeDocument/2006/relationships/slide" Target="slide17.xml"/><Relationship Id="rId5" Type="http://schemas.openxmlformats.org/officeDocument/2006/relationships/slide" Target="slide1.xml"/><Relationship Id="rId6" Type="http://schemas.openxmlformats.org/officeDocument/2006/relationships/slide" Target="slide1.xml"/><Relationship Id="rId7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8.xml"/><Relationship Id="rId4" Type="http://schemas.openxmlformats.org/officeDocument/2006/relationships/slide" Target="slide9.xml"/><Relationship Id="rId5" Type="http://schemas.openxmlformats.org/officeDocument/2006/relationships/slide" Target="slide1.xml"/><Relationship Id="rId6" Type="http://schemas.openxmlformats.org/officeDocument/2006/relationships/slide" Target="slide1.xml"/><Relationship Id="rId7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slide" Target="slide22.xml"/><Relationship Id="rId3" Type="http://schemas.openxmlformats.org/officeDocument/2006/relationships/slide" Target="slide22.xml"/><Relationship Id="rId4" Type="http://schemas.openxmlformats.org/officeDocument/2006/relationships/slide" Target="slide26.xml"/><Relationship Id="rId5" Type="http://schemas.openxmlformats.org/officeDocument/2006/relationships/slide" Target="slide26.xml"/><Relationship Id="rId6" Type="http://schemas.openxmlformats.org/officeDocument/2006/relationships/slide" Target="slide28.xml"/><Relationship Id="rId7" Type="http://schemas.openxmlformats.org/officeDocument/2006/relationships/slide" Target="slide28.xml"/><Relationship Id="rId8" Type="http://schemas.openxmlformats.org/officeDocument/2006/relationships/slide" Target="slide1.xml"/><Relationship Id="rId9" Type="http://schemas.openxmlformats.org/officeDocument/2006/relationships/slide" Target="slide1.xml"/><Relationship Id="rId10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1828800"/>
            <a:ext cx="75438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为了解决比较复杂的问题，本章介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语言提供的一种最简单的构造类型──数组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00cc"/>
                </a:solidFill>
                <a:uFillTx/>
                <a:latin typeface="Times New Roman"/>
                <a:hlinkClick r:id="rId1" action="ppaction://hlinksldjump"/>
              </a:rPr>
              <a:t>6.1  1维数组的定义和引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00cc"/>
                </a:solidFill>
                <a:uFillTx/>
                <a:latin typeface="Times New Roman"/>
                <a:hlinkClick r:id="rId2" action="ppaction://hlinksldjump"/>
              </a:rPr>
              <a:t>6.2  2维数组的定义和引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00cc"/>
                </a:solidFill>
                <a:uFillTx/>
                <a:latin typeface="Times New Roman"/>
                <a:hlinkClick r:id="rId3" action="ppaction://hlinksldjump"/>
              </a:rPr>
              <a:t>6.3  字符数组与字符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[Return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第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6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章    数    组</a:t>
            </a: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Arial"/>
              </a:rPr>
              <a:t>6.1.4  1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维数组应用举例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案例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6.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已知某课程的平时、实习、测验和期末成绩，求该课程的总评成绩。其中平时、实习、测验和期末分别占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％、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％、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％、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％。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案例代码文件名：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AL6_2.C*/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功能：从键盘上循环输入某课程的平时、实习、测验和期末成绩，按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％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％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％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％的比例计算总评成绩，并在屏幕上显示出来。按空格键继续循环，其他键终止循环。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#include “stdio.h”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main()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{ int i=1,j;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char con_key=‘\x20’;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   /* ‘\x20’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空格键的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ASCII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码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float score[5],ratio[4]={0.1,0.2,0.2,0.5};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Arial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定义成绩、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比例系数数组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while(con_key=='\x20')</a:t>
            </a: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685800" y="6858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while(con_key=='\x20'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{clrscr();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rintf("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输入第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%2d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个学生的成绩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\n", i++);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rintf("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平时    实习    测验    期末成绩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\n");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score[4]=0;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 score[4]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：存储总评成绩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for(j=0; j&lt;4; j++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{scanf("%f",&amp;score[j]);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score[4] += score[j] * ratio[j];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rintf("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总评成绩为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:%6.1f\n", score[4]);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rintf("\n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按空格键继续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其它键退出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");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con_key=getch();        /*getch(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函数等待从键盘上输入一个字符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程序演示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[Return]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1760" y="762120"/>
            <a:ext cx="7543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6.2   2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维数组的定义和引用</a:t>
            </a: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040" y="2120760"/>
            <a:ext cx="7543800" cy="18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00cc"/>
                </a:solidFill>
                <a:uFillTx/>
                <a:latin typeface="Arial"/>
                <a:ea typeface="Arial"/>
                <a:hlinkClick r:id="rId1" action="ppaction://hlinksldjump"/>
              </a:rPr>
              <a:t>6.2.1  2</a:t>
            </a:r>
            <a:r>
              <a:rPr b="1" lang="zh-CN" sz="2400" spc="-1" strike="noStrike" u="sng">
                <a:solidFill>
                  <a:srgbClr val="0000cc"/>
                </a:solidFill>
                <a:uFillTx/>
                <a:latin typeface="Arial"/>
                <a:ea typeface="黑体"/>
                <a:hlinkClick r:id="rId2" action="ppaction://hlinksldjump"/>
              </a:rPr>
              <a:t>维数组的定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00cc"/>
                </a:solidFill>
                <a:uFillTx/>
                <a:latin typeface="Arial"/>
                <a:ea typeface="黑体"/>
                <a:hlinkClick r:id="rId3" action="ppaction://hlinksldjump"/>
              </a:rPr>
              <a:t>6.2.2  2维数组元素的引用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00cc"/>
                </a:solidFill>
                <a:uFillTx/>
                <a:latin typeface="Arial"/>
                <a:ea typeface="黑体"/>
                <a:hlinkClick r:id="rId4" action="ppaction://hlinksldjump"/>
              </a:rPr>
              <a:t>6.2.3  2维数组元素的初始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6.2.4  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维数组应用举例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>
            <a:hlinkClick r:id="rId5" action="ppaction://hlinksldjump"/>
          </p:cNvPr>
          <p:cNvSpPr/>
          <p:nvPr/>
        </p:nvSpPr>
        <p:spPr>
          <a:xfrm>
            <a:off x="975960" y="4572000"/>
            <a:ext cx="1386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cc"/>
                </a:solidFill>
                <a:uFillTx/>
                <a:latin typeface="Times New Roman"/>
                <a:hlinkClick r:id="rId6" action="ppaction://hlinksldjump"/>
              </a:rPr>
              <a:t>[Return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533520" y="1371240"/>
            <a:ext cx="8076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案例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6.3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]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给一个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＊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的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维数组各元素赋值，并输出全部元素的值。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案例代码文件名：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AL6_3.C*/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功能：从键盘上给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＊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数组赋值，并在屏幕上显示出来。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#define Row 2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#define Col 3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#include "stdio.h"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main(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{ int i, j, array[Row][Col];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定义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个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列的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维数组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array*/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for(i=0; i&lt;Row; i++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外循环：控制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维数组的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for(j=0; j&lt;Col; j++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内循环：控制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维数组的列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{printf("please input array[%2d][%2d]:",i,j);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scanf("%d",&amp;array[i][j]);     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从键盘输入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a[i][j]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的值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rintf("\n");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输出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维数组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array*/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for(i=0;i&lt;Row;i++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380880" y="272880"/>
            <a:ext cx="8382240" cy="641520"/>
          </a:xfrm>
          <a:prstGeom prst="rect">
            <a:avLst/>
          </a:prstGeom>
          <a:solidFill>
            <a:srgbClr val="f8f8f8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6.2.1  2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维数组的定义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380520" y="456840"/>
            <a:ext cx="8001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{ for(j=0;j&lt;Col;j++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rintf("%d\t",array[i][j]);    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将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a[i][j]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的值显示在屏幕上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rintf("\n");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getch();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程序演示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维数组的定义方式如下：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数据类型  数组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行常量表达式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][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列常量表达式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][,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数组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[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行常量表达式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][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列常量表达式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]……];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数组元素在内存中的排列顺序为“按行存放”，即先顺序存放第一行的元素，再存放第二行，以此类推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设有一个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m*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数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则第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行第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列的元素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x[i][j]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在数组中的位置为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*n+j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注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行号、列号均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开始计数）。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685800" y="914040"/>
            <a:ext cx="76960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可以把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维数组看作是一种特殊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维数组：它的元素又是一个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维数组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例如，对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x[3][2]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可以把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看作是一个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维数组，它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个元素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x[0]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x[1]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x[2]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每个元素又是一个包含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个元素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维数组，如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6-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所示。即把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x[0]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x[1]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x[2]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看作是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个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维数组的名字。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374480" y="4419720"/>
            <a:ext cx="1503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[Return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Arial"/>
              </a:rPr>
              <a:t>6.2.2  2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维数组元素的引用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引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维数组元素的形式为：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数组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行下标表达式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][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列下标表达式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“行下标表达式”和“列下标表达式”，都应是整型表达式或符号常量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“行下标表达式”和“列下标表达式”的值，都应在已定义数组大小的范围内。假设有数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x[3][4]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则可用的行下标范围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0~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列下标范围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0~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对基本数据类型的变量所能进行的操作，也都适合于相同数据类型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维数组元素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>
            <a:hlinkClick r:id="rId1" action="ppaction://hlinksldjump"/>
          </p:cNvPr>
          <p:cNvSpPr/>
          <p:nvPr/>
        </p:nvSpPr>
        <p:spPr>
          <a:xfrm>
            <a:off x="765000" y="6019920"/>
            <a:ext cx="1503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[Return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Arial"/>
              </a:rPr>
              <a:t>6.2.3  2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维数组元素的初始化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．按行赋初值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数据类型  数组名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行常量表达式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][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列常量表达式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{{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第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行初值表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第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行初值表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，……，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最后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行初值表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}}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赋值规则：将“第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行初值表”中的数据，依次赋给第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行中各元素；将“第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行初值表”中的数据，依次赋给第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行各元素；以此类推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．按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维数组在内存中的排列顺序给各元素赋初值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数据类型  数组名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行常量表达式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][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列常量表达式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初值表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赋值规则：按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维数组在内存中的排列顺序，将初值表中的数据，依次赋给各元素。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如果对全部元素都赋初值，则“行数”可以省略。</a:t>
            </a:r>
            <a:r>
              <a:rPr b="1" i="1" lang="zh-CN" sz="2000" spc="-1" strike="noStrike">
                <a:solidFill>
                  <a:srgbClr val="000000"/>
                </a:solidFill>
                <a:latin typeface="Times New Roman"/>
              </a:rPr>
              <a:t>注意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：只能省略“行数”。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>
            <a:hlinkClick r:id="rId1" action="ppaction://hlinksldjump"/>
          </p:cNvPr>
          <p:cNvSpPr/>
          <p:nvPr/>
        </p:nvSpPr>
        <p:spPr>
          <a:xfrm>
            <a:off x="536400" y="6019920"/>
            <a:ext cx="1503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[Return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6.2.4  2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维数组应用举例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001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案例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6.4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]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有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个学生，学习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门课程，已知所有学生的各科成绩，编程：分别求每个学生的平均成绩和每门课程的平均成绩。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案例代码文件名：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AL6_4.C*/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功能：计算个人平均成绩与各科平均成绩，并在屏幕上显示出来。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#define NUM_std  5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定义符号常量人数为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5*/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#define NUM_course  4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定义符号常量课程为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4*/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#include "stdio.h"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main(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{ int i,j;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static float score[NUM_std+1][NUM_course+1]={{78,85,83,65},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{88,91,89,93}, {72,65,54,75},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{86,88,75,60}, {69,60,50,72}};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533160" y="533160"/>
            <a:ext cx="79246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for(i=0;i&lt;NUM_std;i++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{for(j=0;j&lt;NUM_course;j++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{ score[i][NUM_course] += score[i][j];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求第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个人的总成绩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score[NUM_std][j] += score[i][j];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求第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门课的总成绩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score[i][NUM_course] /= NUM_course;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求第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个人的平均成绩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for(j=0;j&lt;NUM_course;j++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score[NUM_std][j] /= NUM_std;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求第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门课的平均成绩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clrscr();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输出表头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rintf("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学生编号  课程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课程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2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课程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3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课程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4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个人平均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\n");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输出每个学生的各科成绩和平均成绩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1760" y="762120"/>
            <a:ext cx="7543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6.1   1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维数组的定义和引用</a:t>
            </a: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43000" y="2120760"/>
            <a:ext cx="6324480" cy="18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00cc"/>
                </a:solidFill>
                <a:uFillTx/>
                <a:latin typeface="Arial"/>
                <a:ea typeface="Arial"/>
                <a:hlinkClick r:id="rId1" action="ppaction://hlinksldjump"/>
              </a:rPr>
              <a:t>6.1.1  1</a:t>
            </a:r>
            <a:r>
              <a:rPr b="1" lang="zh-CN" sz="2400" spc="-1" strike="noStrike" u="sng">
                <a:solidFill>
                  <a:srgbClr val="0000cc"/>
                </a:solidFill>
                <a:uFillTx/>
                <a:latin typeface="Arial"/>
                <a:ea typeface="黑体"/>
                <a:hlinkClick r:id="rId2" action="ppaction://hlinksldjump"/>
              </a:rPr>
              <a:t>维数组的定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00cc"/>
                </a:solidFill>
                <a:uFillTx/>
                <a:latin typeface="Arial"/>
                <a:ea typeface="黑体"/>
                <a:hlinkClick r:id="rId3" action="ppaction://hlinksldjump"/>
              </a:rPr>
              <a:t>6.1.2  1维数组元素的引用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00cc"/>
                </a:solidFill>
                <a:uFillTx/>
                <a:latin typeface="Arial"/>
                <a:ea typeface="黑体"/>
                <a:hlinkClick r:id="rId4" action="ppaction://hlinksldjump"/>
              </a:rPr>
              <a:t>6.1.3  1维数组元素的初始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6.1.4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维数组应用举例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>
            <a:hlinkClick r:id="rId5" action="ppaction://hlinksldjump"/>
          </p:cNvPr>
          <p:cNvSpPr/>
          <p:nvPr/>
        </p:nvSpPr>
        <p:spPr>
          <a:xfrm>
            <a:off x="1280880" y="4876920"/>
            <a:ext cx="1386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cc"/>
                </a:solidFill>
                <a:uFillTx/>
                <a:latin typeface="Times New Roman"/>
                <a:hlinkClick r:id="rId6" action="ppaction://hlinksldjump"/>
              </a:rPr>
              <a:t>[Return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685800" y="380880"/>
            <a:ext cx="78487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47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for(i=0;i&lt;NUM_std;i++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{ printf("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学生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%d\t",i+1);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for(j=0;j&lt;NUM_course+1;j++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rintf("%6.1f\t",score[i][j]);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rintf("\n");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输出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条短划线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for(j=0;j&lt;8*(NUM_course+2);j++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rintf("-");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rintf("\n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课程平均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");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输出每门课程的平均成绩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for(j=0;j&lt;NUM_course;j++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rintf("%6.1f\t",score[NUM_std][j]);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rintf("\n");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getch();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程序演示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[Return]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61760" y="91404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6.3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字符数组与字符串</a:t>
            </a: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066680" y="2608200"/>
            <a:ext cx="7315200" cy="20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00cc"/>
                </a:solidFill>
                <a:uFillTx/>
                <a:latin typeface="Arial"/>
                <a:ea typeface="黑体"/>
                <a:hlinkClick r:id="rId1" action="ppaction://hlinksldjump"/>
              </a:rPr>
              <a:t>6.3.1</a:t>
            </a:r>
            <a:r>
              <a:rPr b="1" lang="zh-CN" sz="2400" spc="-1" strike="noStrike" u="sng">
                <a:solidFill>
                  <a:srgbClr val="0000cc"/>
                </a:solidFill>
                <a:uFillTx/>
                <a:latin typeface="黑体"/>
                <a:ea typeface="黑体"/>
                <a:hlinkClick r:id="rId2" action="ppaction://hlinksldjump"/>
              </a:rPr>
              <a:t> 字符数组的逐个字符操作</a:t>
            </a:r>
            <a:r>
              <a:rPr b="1" lang="zh-CN" sz="2400" spc="-1" strike="noStrike" u="sng">
                <a:solidFill>
                  <a:srgbClr val="0000cc"/>
                </a:solidFill>
                <a:uFillTx/>
                <a:latin typeface="黑体"/>
                <a:ea typeface="黑体"/>
                <a:hlinkClick r:id="rId3" action="ppaction://hlinksldjump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00cc"/>
                </a:solidFill>
                <a:uFillTx/>
                <a:latin typeface="Arial"/>
                <a:ea typeface="Arial"/>
                <a:hlinkClick r:id="rId4" action="ppaction://hlinksldjump"/>
              </a:rPr>
              <a:t>6.3.2  </a:t>
            </a:r>
            <a:r>
              <a:rPr b="1" lang="zh-CN" sz="2400" spc="-1" strike="noStrike" u="sng">
                <a:solidFill>
                  <a:srgbClr val="0000cc"/>
                </a:solidFill>
                <a:uFillTx/>
                <a:latin typeface="Arial"/>
                <a:ea typeface="黑体"/>
                <a:hlinkClick r:id="rId5" action="ppaction://hlinksldjump"/>
              </a:rPr>
              <a:t>字符数组的整体操作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00cc"/>
                </a:solidFill>
                <a:uFillTx/>
                <a:latin typeface="Arial"/>
                <a:ea typeface="Arial"/>
                <a:hlinkClick r:id="rId6" action="ppaction://hlinksldjump"/>
              </a:rPr>
              <a:t>6.3.3  </a:t>
            </a:r>
            <a:r>
              <a:rPr b="1" lang="zh-CN" sz="2400" spc="-1" strike="noStrike" u="sng">
                <a:solidFill>
                  <a:srgbClr val="0000cc"/>
                </a:solidFill>
                <a:uFillTx/>
                <a:latin typeface="Arial"/>
                <a:ea typeface="黑体"/>
                <a:hlinkClick r:id="rId7" action="ppaction://hlinksldjump"/>
              </a:rPr>
              <a:t>常用的字符串处理函数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>
            <a:hlinkClick r:id="rId8" action="ppaction://hlinksldjump"/>
          </p:cNvPr>
          <p:cNvSpPr/>
          <p:nvPr/>
        </p:nvSpPr>
        <p:spPr>
          <a:xfrm>
            <a:off x="1128240" y="4648320"/>
            <a:ext cx="1386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cc"/>
                </a:solidFill>
                <a:uFillTx/>
                <a:latin typeface="Times New Roman"/>
                <a:hlinkClick r:id="rId9" action="ppaction://hlinksldjump"/>
              </a:rPr>
              <a:t>[Return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520" y="272880"/>
            <a:ext cx="777240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Arial"/>
              </a:rPr>
              <a:t>6.3.1 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字符数组的逐个字符操作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3059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案例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6.5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从键盘输入一个字符串，回车键结束，并将字符串在屏幕上输出。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案例代码文件名：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AL6_5.C*/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main(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{int i;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static char str[80];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clrscr();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for(i=0;i&lt;80;i++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{ str[i]=getch();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   /*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逐次给数组元素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str[i]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赋值，但不回显在屏幕上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printf("*");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   /*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以星号代替输入字符的个数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if(str[i]=='\x0d') break;/*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若输入回车则终止循环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i=0;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while(str[i]!='\x0d'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printf("%c",str[i++]);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逐次输出字符数组的各个元素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printf("\n");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getch();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程序暂停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程序演示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609480" y="9144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字符数组的定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维字符数组，用于存储和处理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个字符串，其定义格式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维数值数组一样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维字符数组，用于同时存储和处理多个字符串，其定义格式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维数值数组一样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字符数组的初始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字符数组的初始化，可以通过为每个数组元素指定初值字符来实现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字符数组的引用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字符数组的逐个字符引用，与引用数值数组元素类似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字符数组的输入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除了可以通过初始化使字符数组各元素得到初值外，也可以使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getchar(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或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canf(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函数输入字符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例如：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har str[10]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for(i=0; i&lt;10; i++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{ scanf("%c", &amp;str[i]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fflush(stdin)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清除键盘输入缓冲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685800" y="68544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字符数组的输出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字符数组的输出，可以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utchar(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或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rintf(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函数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例如：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har  str[10]="c language";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for(i=0; i&lt;10; i++)  printf("%c", str[i]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rintf("\n");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注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逐个字符输入、输出时，要指出元素的下标，而且使用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%c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格式符。另外，从键盘上输入字符时，无需输入字符的定界符──单引号；输出时，系统也不输出字符的定界符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[Return]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440" y="44280"/>
            <a:ext cx="754380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Arial"/>
              </a:rPr>
              <a:t>6.3.2 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字符数组的整体操作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456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案例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6.6]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字符数组的整体输入与输出。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案例代码文件名：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AL6_6.C*/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功能：将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维字符数组进行初始化，并在屏幕上输出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main(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{ int i;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char name[5][9]={"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张三山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", "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李四季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", "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王五魁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", "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刘六顺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", "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赵七巧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"};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for(i=0;i&lt;5;i++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rintf("\n%s\t",name[i]);       /*name[i]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代表该行数组元素的首地址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getch();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程序演示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字符串及其结束标志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所谓字符串，是指若干有效字符的序列。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语言中的字符串，可以包括字母、数字、专用字符、转义字符等。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语言规定：以‘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\0’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作为字符串结束标志（‘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\0’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代表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ASCII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码为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的字符，表示一个“空操作”，只起一个标志作用）。因此可以对字符数组采用另一种方式进行操作了──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字符数组的整体操作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457200" y="838080"/>
            <a:ext cx="815328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000" spc="-1" strike="noStrike">
                <a:solidFill>
                  <a:srgbClr val="000000"/>
                </a:solidFill>
                <a:latin typeface="Times New Roman"/>
              </a:rPr>
              <a:t>注意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：由于系统在存储字符串常量时，会在串尾自动加上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个结束标志，所以无需人为地再加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个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另外，由于结束标志也要在字符数组中占用一个元素的存储空间，因此在说明字符数组长度时，至少为字符串所需长度加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字符数组的整体初始化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字符串设置了结束标志以后，对字符数组的初始化，就可以用字符串常量来初始化字符数组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字符数组的整体引用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字符串的输入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除了可以通过初始化使字符数组各元素得到初值外，也可以使用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scanf(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函数输入字符串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字符串的输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rintf(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函数，不仅可以逐个输出字符数组元素，还可以整体输出存放在字符数组中的字符串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6400" y="6019920"/>
            <a:ext cx="1503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[Return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Arial"/>
              </a:rPr>
              <a:t>6.3.3 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常用的字符串处理函数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字符串标准函数的原型在头文件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tring.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中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输入字符串──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gets(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函数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调用方式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gets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字符数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函数功能：从标准输入设备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stdin)──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键盘上，读取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个字符串（可以包含空格），并将其存储到字符数组中去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使用说明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gets(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读取的字符串，其长度没有限制，编程者要保证字符数组有足够大的空间，存放输入的字符串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该函数输入的字符串中允许包含空格，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canf(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函数不允许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533520" y="8380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输出字符串──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puts(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函数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调用方式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uts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字符数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函数功能：把字符数组中所存放的字符串，输出到标准输出设备中去，并用‘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\n’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取代字符串的结束标志‘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\0’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所以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uts(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函数输出字符串时，不要求另加换行符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使用说明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字符串中允许包含转义字符，输出时产生一个控制操作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该函数一次只能输出一个字符串，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rintf(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函数也能用来输出字符串，且一次能输出多个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18960" y="349200"/>
            <a:ext cx="662940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6.1.1  1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维数组的定义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784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案例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6.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]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从键盘上任意输入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个整数，要求按从小到大的顺序在屏幕上显示出来。     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排序的方法有很多，本题采用冒泡法。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冒泡法的基本思想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：通过相邻两个数之间的比较和交换，使排序码（数值）较小的数逐渐从底部移向顶部，排序码较大的数逐渐从顶部移向底部。就像水底的气泡一样逐渐向上冒，故而得名。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由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A[n]~A[1]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组成的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个数据，进行冒泡排序的过程可以描述为：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首先将相邻的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A[n]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与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A[n-1]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进行比较，如果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A[n]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的值小于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A[n-1]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的值，则交换两者的位置，使较小的上浮，较大的下沉；接着比较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A[n-1]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与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A[n-2]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，同样使小的上浮，大的下沉。依此类推，直到比较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A[2]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A[1]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后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A[1]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为具有最小排序码（数值）的元素，称第一趟排序结束。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然后在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A[n]~A[2]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区间内，进行第二趟排序，使剩余元素中排序码最小的元素上浮到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A[2]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；重复进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趟后，整个排序过程结束。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609480" y="533520"/>
            <a:ext cx="8077320" cy="50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字符串比较──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strcmp()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函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调用方式：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strcmp(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字符串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 ,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字符串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其中“字符串”可以是串常量，也可以是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维字符数组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函数功能：比较两个字符串的大小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如果：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字符串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1=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字符串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，函数返回值等于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字符串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1&lt;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字符串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，函数返回值负整数；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字符串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1&gt;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字符串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，函数返回值正整数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使用说明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如果一个字符串是另一个字符串从头开始的子串，则母串为大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不能使用关系运算符“＝＝”来比较两个字符串，只能用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strcmp()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函数来处理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案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6.7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]  get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函数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trcmp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函数的应用。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案例代码文件名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L6_7.C*/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功能：简单密码检测程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#include  "stdio.h"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main(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{char pass_str[80];                     /*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定义字符数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assstr*/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nt i=0;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检验密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while(1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{clrscr();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rintf("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请输入密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\n");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gets(pass_str);                    /*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输入密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f(strcmp(pass_str,“password”)!=0)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口令错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rintf("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口令错误，按任意键继续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");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e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break;                 /*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输入正确的密码，中止循环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getch();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++;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f(i==3) exit(0);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输入三次错误的密码，退出程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*/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输入正确密码所进入的程序段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程序演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609480" y="762120"/>
            <a:ext cx="800100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拷贝字符串──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strcpy(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函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调用方式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trcpy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字符数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字符串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其中“字符串”可以是串常量，也可以是字符数组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函数功能：将“字符串”完整地复制到“字符数组”中，字符数组中原有内容被覆盖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使用说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字符数组必须定义得足够大，以便容纳复制过来的字符串。复制时，连同结束标志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'\0'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一起复制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不能用赋值运算符“＝”将一个字符串直接赋值给一个字符数组，只能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trcpy(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函数来处理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609480" y="533520"/>
            <a:ext cx="8001000" cy="43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连接字符串──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strcat(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函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调用方式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trcat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字符数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字符串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函数功能：把“字符串”连接到“字符数组”中的字符串尾端，并存储于“字符数组”中。“字符数组”中原来的结束标志，被“字符串”的第一个字符覆盖，而“字符串”在操作中未被修改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使用说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由于没有边界检查，编程者要注意保证“字符数组”定义得足够大，以便容纳连接后的目标字符串；否则，会因长度不够而产生问题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连接前两个字符串都有结束标志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'\0'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连接后“字符数组”中存储的字符串的结束标志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'\0'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被舍弃，只在目标串的最后保留一个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'\0'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838080" y="762120"/>
            <a:ext cx="762012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6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求字符串长度──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strlen()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函数（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len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是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length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缩写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调用方式：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strlen(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字符串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函数功能：求字符串（常量或字符数组）的实际长度（不包含结束标志）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7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将字符串中大写字母转换成小写──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strlwr()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函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调用方式：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strlwr(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字符串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函数功能：将字符串中的大写字母转换成小写，其它字符（包括小写字母和非字母字符）不转换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8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将字符串中小写字母转换成大写──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strupr()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函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调用方式：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strupr(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字符串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函数功能：将字符串中小写字母转换成大写，其它字符（包括大写字母和非字母字符）不转换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374480" y="6095880"/>
            <a:ext cx="1503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[Return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685800" y="9144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案例代码文件名：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AL6_1.C*/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功能：从键盘上任意输入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个整数，用冒泡法按从小到大地排序，并在屏幕上显示出来。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#include "stdio.h"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#define NUM 1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定义符号常量（数据个数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main(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{ int data[NUM];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定义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个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维整型数组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data*/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int i,j,temp;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定义循环变量和临时变量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clrscr();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库函数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clrscr(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：清屏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rintf("Please input 10 numbers:\n");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for(i=0; i&lt;NUM; i++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scanf("%d", &amp;data[i]);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82296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冒泡法排序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for(i=0; i&lt;NUM-1; i++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外循环：控制比较趟数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for(j=NUM-1; j&gt;i; j--)  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内循环：进行每趟比较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if(data[j]&lt;data[j-1])  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如果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data[j]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大于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data[j-1],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交换两者的位置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{temp=data[j];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data[j]=data[j-1];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data[j-1]=temp;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输出排序后的数据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rintf("\nthe  result of sort:\n");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for(i=0; i&lt;NUM; i++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rintf("%d ",data[i]);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getch();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等待键盘输入任一字符，目的使程序暂停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程序演示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数组同变量一样，也必须先定义、后使用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维数组是只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个下标的数组，定义形式如下：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数据类型   数组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常量表达式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][,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数组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[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常量表达式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]……]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“数据类型”是指数组元素的数据类型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数组名，与变量名一样，必须遵循标识符命名规则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“常量表达式”必须用方括号括起来，指的是数组的元素个数（又称数组长度），它是一个整型值，其中可以包含常数和符号常量，但不能包含变量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注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语言中不允许动态定义数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特别说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在数组定义时，“常量表达式”外的方括号；以及元素引用时，“下标表达式”外的方括号，都是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语言语法规则所要求的，不是本书所约定的可选项的描述符号！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数组元素的下标，是元素相对于数组起始地址的偏移量，所以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开始顺序编号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数组名中存放的是一个地址常量，它代表整个数组的首地址。同一数组中的所有元素，按其下标的顺序占用一段连续的存储单元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765000" y="5638680"/>
            <a:ext cx="1503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[Return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1760" y="457200"/>
            <a:ext cx="7537320" cy="5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  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6.1.2 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数组元素的引用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引用数组中的任意一个元素的形式：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数组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下标表达式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“下标表达式”可以是任何非负整型数据，取值范围是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0~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元素个数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特别强调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在运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语言程序过程中，系统并不自动检验数组元素的下标是否越界。因此在编写程序时，保证数组下标不越界是十分重要的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个数组元素，实质上就是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个变量，它具有和相同类型单个变量一样的属性，可以对它进行赋值和参与各种运算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语言中，数组作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个整体，不能参加数据运算，只能对单个的元素进行处理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>
            <a:hlinkClick r:id="rId1" action="ppaction://hlinksldjump"/>
          </p:cNvPr>
          <p:cNvSpPr/>
          <p:nvPr/>
        </p:nvSpPr>
        <p:spPr>
          <a:xfrm>
            <a:off x="1298160" y="5943600"/>
            <a:ext cx="1503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[Return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6946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6.1.3  1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维数组元素的初始化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初始化格式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数据类型  数组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常量表达式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初值表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如果对数组的全部元素赋以初值，定义时可以不指定数组长度（系统根据初值个数自动确定）。如果被定义数组的长度，与初值个数不同，则数组长度不能省略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“初值表”中的初值个数，可以少于元素个数，即允许只给部分元素赋初值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根据存储类型的不同，数组有静态数组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tati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和动态数组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uto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之分；根据定义的位置不同，数组有内部数组（在函数内部定义的数组）和外部数组（在函数外部定义的数组）之分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>
            <a:hlinkClick r:id="rId1" action="ppaction://hlinksldjump"/>
          </p:cNvPr>
          <p:cNvSpPr/>
          <p:nvPr/>
        </p:nvSpPr>
        <p:spPr>
          <a:xfrm>
            <a:off x="536400" y="6019920"/>
            <a:ext cx="1503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[Return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11T00:07:06Z</dcterms:created>
  <dc:creator>梦翔电脑</dc:creator>
  <dc:description/>
  <dc:language>en-US</dc:language>
  <cp:lastModifiedBy>Xu xinhua</cp:lastModifiedBy>
  <dcterms:modified xsi:type="dcterms:W3CDTF">2001-08-23T03:05:55Z</dcterms:modified>
  <cp:revision>91</cp:revision>
  <dc:subject/>
  <dc:title>第6章    数    组</dc:title>
</cp:coreProperties>
</file>