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7E56-4E7F-4BA3-AE47-737D63F93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9D18-3352-451D-AD2A-DBA51E71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4E05-FF6B-43DF-982D-DAD00BF4D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BA39-4640-482D-8139-C8535A779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523C-B839-48EE-9421-B0257E6F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ADDB-EE17-453B-8502-8DC7D5B8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6781-97F5-418A-BD58-E54459AA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1541-D44C-49DD-9945-8C78CCCD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046C-4795-493B-BB3D-40A17C41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1D9C-D7B1-402B-ADF8-BECB4F77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601D-9C74-42DD-9DF5-B516D9C4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1348-1587-48B8-B584-6A1CC71A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0E0B-F088-43AC-8A88-CF0CAAB07E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" Target="slide20.xml"/><Relationship Id="rId7" Type="http://schemas.openxmlformats.org/officeDocument/2006/relationships/slide" Target="slide20.xml"/><Relationship Id="rId8" Type="http://schemas.openxmlformats.org/officeDocument/2006/relationships/slide" Target="slide20.xml"/><Relationship Id="rId9" Type="http://schemas.openxmlformats.org/officeDocument/2006/relationships/slide" Target="slide25.xml"/><Relationship Id="rId10" Type="http://schemas.openxmlformats.org/officeDocument/2006/relationships/slide" Target="slide30.xml"/><Relationship Id="rId11" Type="http://schemas.openxmlformats.org/officeDocument/2006/relationships/hyperlink" Target="file:///&#23553;&#38754;&#19982;&#30446;&#24405;.ppt" TargetMode="External"/><Relationship Id="rId12" Type="http://schemas.openxmlformats.org/officeDocument/2006/relationships/hyperlink" Target="file:///&#23553;&#38754;&#19982;&#30446;&#24405;.ppt" TargetMode="External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第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章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Arial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选择结构程序设计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要设计选择结构程序，要考虑两个方面的问题：一是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中如何来表示条件，二是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中实现选择结构用什么语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中表示条件，一般用关系表达式或逻辑表达式，实现选择结构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4.1  关系运算及其表达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4.2  逻辑运算及其表达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3" action="ppaction://hlinksldjump"/>
              </a:rPr>
              <a:t>4.3  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4" action="ppaction://hlinksldjump"/>
              </a:rPr>
              <a:t>if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5" action="ppaction://hlinksldjump"/>
              </a:rPr>
              <a:t>语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6" action="ppaction://hlinksldjump"/>
              </a:rPr>
              <a:t>4.4  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7" action="ppaction://hlinksldjump"/>
              </a:rPr>
              <a:t>switch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8" action="ppaction://hlinksldjump"/>
              </a:rPr>
              <a:t>语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9" action="ppaction://hlinksldjump"/>
              </a:rPr>
              <a:t>4.5  选择结构程序举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10" action="ppaction://hlinksldjump"/>
              </a:rPr>
              <a:t>良好的源程序书写风格──注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11"/>
              </a:rPr>
              <a:t>[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12"/>
              </a:rPr>
              <a:t>Retur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3   if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语句和条件运算符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4.3.1  if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语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4.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入任意三个整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求三个数中的最大值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4_1.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功能：说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的格式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main()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int num1,num2,num3,max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printf("Please input three numbers:")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scanf("%d,%d,%d",&amp;num1,&amp;num2,&amp;num3)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if (num1&gt;num2)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max=num1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else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max=num2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if (num3&gt;max)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max=num3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printf("The three numbers are:%d,%d,%d\n",num1,num2,num3)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printf("max=%d\n",max)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运行情况如下：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lease input three numbers:11,22,18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e three numbers are:11,22,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x=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本案例中的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，可优化为如下不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子句的形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x=num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(num2&gt;max) max=num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种优化形式的基本思想是：首先取一个数预置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最大值），然后再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依次与其余的数逐个比较，如果发现有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大的，就用它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新赋值，比较完所有的数后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的数就是最大值。这种方法，对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以上的数中找最大值的处理，非常有效。请读者仔细体会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4.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入任意三个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按从小到大的顺序排序输出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4_2.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int num1,num2,num3,te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Please input three numbers: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anf("%d,%d,%d",&amp;num1,&amp;num2,&amp;num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 (num1&gt;num2) {temp=num1;num1=num2;num2=temp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 (num2&gt;num3) {temp=num2;num2=num3;num3=temp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 (num1&gt;num2) {temp=num1;num1=num2;num2=temp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Three numbers after sorted: %d,%d,%d\n",num1,num2,num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运行情况如下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lease input three numbers:11,22,18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hree numbers after sorted: 11,18,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60912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的一般格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f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表达式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语句组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语句组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;}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中的“表达式”必须用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)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括起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子句（可选）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的一部分，必须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配对使用，不能单独使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当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下面的语句组，仅由一条语句构成时，也可不使用复合语句形式（即去掉花括号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的执行过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缺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子句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“表达式”的值不等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即判定为“逻辑真”）时，则执行语句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否则直接转向执行下一条。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-1(a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指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子句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“表达式”的值不等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即判定为“逻辑真”）时，则执行语句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然后转向下一条语句；否则，执行语句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-1(b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的嵌套与嵌套匹配原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允许嵌套。所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的嵌套是指，在“语句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（和）“语句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，又包含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的情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嵌套时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子句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匹配原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与在它上面、距它最近、且尚未匹配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配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明确匹配关系，避免匹配错误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强烈建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将内嵌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，一律用花括号括起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写一程序，从键盘上输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ea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十进制数），判断其是否闰年。闰年的条件是：能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整除、但不能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整除，或者能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整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算法设计要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如果Ｘ能被Ｙ整除，则余数为０，即如果Ｘ％Ｙ的值等于０，则表示Ｘ能被Ｙ整除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首先将是否闰年的标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ea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预置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非闰年），这样仅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ea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闰年时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ea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置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即可。这种处理两种状态值的方法，对优化算法和提高程序可读性非常有效，请读者仔细体会。参考程序如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4_3.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功能：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的嵌套格式和用法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{int year,leap=0;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 leap=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预置为非闰年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rintf("Please input the year: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canf("%d",&amp;yea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60948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 (year % 4==0)      {if (year % 100 != 0) leap=1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lse      {if (year%400==0) leap=1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 (leap)   printf("%d is a leap year.\n",yea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lse   printf("%d is not a leap year.\n",yea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利用逻辑运算能描述复杂条件的特点，可将上述程序优化如下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int yea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Please input the year: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anf("%d",&amp;yea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 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year%4==0 &amp;&amp; year%100!=0)||(year%400==0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%d is a leap year.\n",yea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%d is not a leap year.\n",yea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440" y="60948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说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后面的“表达式”，除常见的关系表达式或逻辑表达式外，也允许是其它类型的数据，如整型、实型、字符型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允许嵌套，但嵌套的层数不宜太多。在实际编程时，应适当控制嵌套层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“语句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“语句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可以只包含一个简单语句，也可以是复合语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务必牢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不管是简单语句，还是复合语句中的各个语句，每个语句后面的分号必不可少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4.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的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 (num1&gt;num2)  max=num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lse  max=num2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行后面的赋值语句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x=num1;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分号不能省略。但不要误认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独立的语句，它们都属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中的一部分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的子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4.3.2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条件运算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一般格式： 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？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件表达式中的“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“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“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类型，可以各不相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运算规则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“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为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即逻辑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则运算结果等于“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；否则，运算结果等于“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。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-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运算符的优先级与结合性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件运算符的优先级，高于赋值运算符，但低于关系运算符和算术运算符。其结合性为“从右到左”（即右结合性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4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键盘上输入一个字符，如果它是大写字母，则把它转换成小写字母输出；否则，直接输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案例文件名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4_4.C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char c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Input a character: 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anf("%c",&amp;ch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=(ch&gt;='A' &amp;&amp; ch&lt;='Z') ? (ch+32) : c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ch=%c\n",ch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Retur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1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关系运算及其表达式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谓“关系运算”实际上就是“比较运算”，即将两个数据进行比较，判定两个数据是否符合给定的关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 &gt; b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的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一个大于关系运算。如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大于关系运算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结果为“真”，即条件成立；如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大于关系运算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结果为“假”，即条件不成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4.1.1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关系运算符及其优先次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关系运算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提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种关系运算符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lt;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,                &lt;=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于或等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,   &gt;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gt;=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于或等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,  ==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,              !=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等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在Ｃ语言中，“等于”关系运算符是双等号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 =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而不是单等号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 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赋值运算符）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4   switc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语句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言提供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直接处理多分支选择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4.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从键盘上输入一个百分制成绩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or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按下列原则输出其等级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ore≥9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等级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80≤score&lt;9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等级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70≤score&lt;8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等级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0≤score&lt;7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等级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ore&lt;6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等级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4_5.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int  score, grade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printf(“Input a score(0~100): ”)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scanf(“%d”, &amp;score)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grade = score/10; 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将成绩整除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转化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中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标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switch (gra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case  10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se    9: printf(“grade=A\n”); break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990360" y="457200"/>
            <a:ext cx="7543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se    8: printf("grade=B\n"); 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se    7: printf("grade=C\n"); 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se    6: printf("grade=D\n"); 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se    5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se    4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se    3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se    2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se    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se    0: printf(“grade=E\n”); 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efault: printf(“The  score  is  out  of  range!\n”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运行情况如下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put a score(0~100): 85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rade=B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的一般形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witch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case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常量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语句组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rea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ase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常量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语句组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ase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常量表达式ｎ：语句组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rea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defaul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语句组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break; ]]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执行过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后面“表达式”的值，与某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后面的“常量表达式”的值相同时，就执行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后面的语句（组）；当执行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rea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时，跳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，转向执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的下一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如果没有任何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后面的“常量表达式”的值，与“表达式”的值匹配，则执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fault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后面的语句（组）。然后，再执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的下一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说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后面的“表达式”，可以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a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枚举型中的一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每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后面“常量表达式”的值，必须各不相同，否则会出现相互矛盾的现象（即对表达式的同一值，有两种或两种以上的执行方案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后面的常量表达式仅起语句标号作用，并不进行条件判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系统一旦找到入口标号，就从此标号开始执行，不再进行标号判断，所以必须加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rea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，以便结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思考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如果去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中的所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rea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，且输入的成绩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输出会如何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子句的先后次序，不影响程序执行结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多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子句，可共用同一语句（组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的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ase  10: 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ase  9: 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共用语句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grade=A\n"); break;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ase  5: ”~“case  0: 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共用语句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grade=E\n"); break;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实现的多分支结构程序，完全可以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的嵌套来实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Retur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5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选择结构程序设计举例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4.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求一元二次方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zh-CN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+bx+c=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解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≠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4_6.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功能：求一元二次方程的解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#include  "math.h"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float a,b,c,disc,x1,x2,p,q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scanf(“%f,%f,%f”, &amp;a, &amp;b, &amp;c);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disc=b*b-4*a*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 (fabs(disc)&lt;=1e-6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fabs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求绝对值库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printf(“x1=x2=%7.2f\n”, -b/(2*a)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出两个相等的实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else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{ if (disc&gt;1e-6)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{x1=(-b+sqrt(disc))/(2*a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求出两个不相等的实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x2=(-b-sqrt(disc))/(2*a)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printf("x1=%7.2f,x2=%7.2f\n", x1, x2)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09120" y="761760"/>
            <a:ext cx="7620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lse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{p=-b/(2*a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求出两个共轭复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q=sqrt(fabs(disc))/(2*a)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printf(“x1=%7.2f + %7.2f i\n“, p, q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出两个共轭复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printf(”x2=%7.2f - %7.2f i\n“, p, q)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}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}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由于实数在计算机中存储时，经常会有一些微小误差，所以本案例判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s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方法是：判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s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绝对值是否小于一个很小的数（例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-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思考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如果将系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义成整数，能否直接判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s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否等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？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440" y="60912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4.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已知某公司员工的保底薪水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某月所接工程的利润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ofi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整数）与利润提成的关系如下（计量单位：元）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rofit≤100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没有提成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rofit≤200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提成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0%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rofit≤500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提成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5%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500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rofit≤1000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提成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000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rofi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提成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5%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算法设计要点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为使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，必须将利润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ofi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与提成的关系，转换成某些整数与提成的关系。分析本题可知，提成的变化点都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整数倍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……），如果将利润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ofi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整除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则当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rofit≤100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对应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rofit≤200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对应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rofit≤500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对应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500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rofit≤1000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对应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000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rofi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对应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…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为解决相邻两个区间的重叠问题，最简单的方法就是：利润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ofi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先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最小增量），然后再整除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即可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rofit≤100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对应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rofit≤200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对应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rofit≤500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对应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500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rofit≤1000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对应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000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rofi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对应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…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AL4_7.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long  prof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 grad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loat  salary=50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Input  profit: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anf("%ld", &amp;prof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rade= (profit – 1) / 1000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将利润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再整除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转化成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中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标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witch(gra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case  0:  break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profit≤1000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se  1: salary += profit*0.1; break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1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ofit≤2000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se  2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se  3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se  4: salary += profit*0.15; break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2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ofit≤5000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se  5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se  6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se  7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se  8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se  9: salary += profit*0.2; break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5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ofit≤10000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efault: salary += profit*0.25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10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ofit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salary=%.2f\n", salar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Retur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3160" y="533520"/>
            <a:ext cx="79246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优先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在关系运算符中，前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优先级相同，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也相同，且前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高于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与其它种类运算符的优先级关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关系运算符的优先级，低于算术运算符，但高于赋值运算符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4.1.2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关系表达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关系表达式的概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谓关系表达式是指，用关系运算符将两个表达式连接起来，进行关系运算的式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如，下面的关系表达式都是合法的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&gt;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+b&gt;c-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a=3)&lt;=(b=5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'a'&gt;='b'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a&gt;b)= =(b&gt;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关系表达式的值——逻辑值（非“真”即“假”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由于Ｃ语言没有逻辑型数据，所以用整数“１”表示“逻辑真”，用整数“０”表示“逻辑假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良好的源程序书写风格──注释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必要的注释，可有效地提高程序的可读性，从而提高程序的可维护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Ｃ语言源程序中，注释可分为三种情况：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函数体内对语句的注释；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函数之前对函数的注释；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源程序文件开始处，对整个程序的总体说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体内的语句，是由顺序结构、选择结构和循环结构等三种基本结构构成的。在什么地方加以注释的原则是：如果不加注释，理解起来就会有困难，或者虽无困难、但浪费时间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顺序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每个顺序程序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由若干条语句构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之前，用注释说明其功能。除很复杂的处理外，一般没有必要每条语句都加以注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选择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中，选择结构是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来实现的。一般地说，要在前面说明其作用，在每个分支条件语句行的后面，说明该分支的含义，如下所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…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说明功能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件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件成立时的含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{……}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el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口条件含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{……}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…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说明功能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witch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case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常量表达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该入口值的含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组；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……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se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常量表达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该入口值的含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组；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该入口值的含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组；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条件成立时（或入口值）的含义，已经很明确了，也可不再加以注释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Retur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假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1=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2=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3=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1&gt;num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num1&gt;num2)!=num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1&lt;num2&lt;num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思考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任意改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，会影响整个表达式的值吗？为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num1&lt;num2)+num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因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1&lt;num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+5=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再次强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用整数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“逻辑真”，用整数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“逻辑假”。所以，关系表达式的值，还可以参与其它种类的运算，例如算术运算、逻辑运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2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逻辑运算及其表达式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关系表达式只能描述单一条件，例如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&gt;=0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如果需要描述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&gt;=0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同时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&lt;10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就要借助于逻辑表达式了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4.2.1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逻辑运算及其优先次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１．逻辑运算符及其运算规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提供三种逻辑运算符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amp;&amp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逻辑与（相当于“同时”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逻辑或（相当于“或者”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逻辑非（相当于“否定”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下面的表达式都是逻辑表达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x&gt;=0) &amp;&amp; (x&lt;10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x&lt;1) || (x&gt;5)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! (x= =0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year%4==0)&amp;&amp;(year%100!=0)||(year%400==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运算规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amp;&amp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当且仅当两个运算量的值都为“真”时，运算结果为“真”，否则为“假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||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当且仅当两个运算量的值都为“假”时，运算结果为“假”，否则为“真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!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当运算量的值为“真”时，运算结果为“假”；当运算量的值为“假”时，运算结果为“真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假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=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x&gt;=0) &amp;&amp; (x&lt;10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为“真”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x&lt;-1) || (x&gt;5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为“假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逻辑运算符的运算优先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逻辑非的优先级最高，逻辑与次之，逻辑或最低，即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！（非）  →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amp;&amp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与） →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或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与其它种类运算符的优先关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！→ 算术运算 → 关系运算 →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amp;&amp;→ || →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赋值运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4.2.2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逻辑表达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逻辑表达式的概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谓逻辑表达式是指，用逻辑运算符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或多个表达式连接起来，进行逻辑运算的式子。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中，用逻辑表达式表示多个条件的组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year%4==0)&amp;&amp;(year%100!=0)||(year%400==0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就是一个判断一个年份是否是闰年的逻辑表达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6212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逻辑表达式的值也是一个逻辑值（非“真”即“假”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逻辑量的真假判定──０和非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Ｃ语言用整数“１”表示“逻辑真”、用“０”表示“逻辑假”。但在判断一个数据的“真”或“假”时，却以０和非０为根据：如果为０，则判定为“逻辑假”；如果为非０，则判定为“逻辑真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假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=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：  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０ 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&gt;=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＆＆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&lt;=3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１ 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 || num&gt;3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说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逻辑运算符两侧的操作数，除可以是０和非０的整数外，也可以是其它任何类型的数据，如实型、字符型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3160" y="533520"/>
            <a:ext cx="79246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计算逻辑表达式时，只有在必须执行下一个表达式才能求解时，才求解该表达式（即并不是所有的表达式都被求解）。换句话说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对于逻辑与运算，如果第一个操作数被判定为“假”，系统不再判定或求解第二操作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对于逻辑或运算，如果第一个操作数被判定为“真”，系统不再判定或求解第二操作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假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分别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求解表达式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x=n1&gt;n2)&amp;&amp;(y=n3&gt;n4)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后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变为０，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不变，仍等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Retur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31T07:44:20Z</dcterms:created>
  <dc:creator>Xu xinhua</dc:creator>
  <dc:description/>
  <dc:language>en-US</dc:language>
  <cp:lastModifiedBy>Xu xinhua</cp:lastModifiedBy>
  <dcterms:modified xsi:type="dcterms:W3CDTF">2001-08-21T07:45:43Z</dcterms:modified>
  <cp:revision>78</cp:revision>
  <dc:subject/>
  <dc:title>第4章    选择结构程序设计</dc:title>
</cp:coreProperties>
</file>