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17D-9722-4E6D-9A09-A32A31B5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535-1ADD-4D12-B59B-AE54FE8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635-E514-4EF7-9E93-B7E96D1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D99-2933-4A8E-ACBA-E875962E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67B-A1AC-41A3-B07F-0039898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B8A-4C6A-4834-B619-53708AC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2CD-BE1A-4618-B240-0837DA8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3FA-3564-4C85-B227-E373AE2F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307-0A0E-4DF1-ACAE-655BCA5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5E8-03B1-4E27-8EF4-A3CE2E4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50B-11B8-40E4-937D-5A3577A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C1E-BDF2-4C03-A5AC-0FD4ABF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2F3D-DA36-48CB-92B4-C68DBCEE6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22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6.xml"/><Relationship Id="rId17" Type="http://schemas.openxmlformats.org/officeDocument/2006/relationships/slide" Target="slide30.xml"/><Relationship Id="rId18" Type="http://schemas.openxmlformats.org/officeDocument/2006/relationships/hyperlink" Target="file:///&#23553;&#38754;&#19982;&#30446;&#24405;.ppt" TargetMode="External"/><Relationship Id="rId19" Type="http://schemas.openxmlformats.org/officeDocument/2006/relationships/hyperlink" Target="file:///&#23553;&#38754;&#19982;&#30446;&#24405;.ppt" TargetMode="Externa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顺序结构程序设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让计算机处理各种数据，首先就应该把源数据输入到计算机中；计算机处理结束后，再将目标数据信息以人能够识别的方式输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输入输出操作，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编译系统提供的库函数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3.1   格式化输出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print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3.2   格式化输入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scan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3.3  单个字符输入输出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0" action="ppaction://hlinksldjump"/>
              </a:rPr>
              <a:t>getchar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1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2" action="ppaction://hlinksldjump"/>
              </a:rPr>
              <a:t>和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3" action="ppaction://hlinksldjump"/>
              </a:rPr>
              <a:t>putchar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4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5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6" action="ppaction://hlinksldjump"/>
              </a:rPr>
              <a:t>3.4   顺序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7" action="ppaction://hlinksldjump"/>
              </a:rPr>
              <a:t>良好的源程序书写风格──顺序程序段左对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8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9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出一个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0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printf("%s,%5s,%-10s","Internet","Internet","Interne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10.5s,%-10.5s,%4.5s\n","Internet","Internet","Interne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,Internet,Internet□□,□□□□□Inter,Inter□□□□□,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系统输出字符和字符串时，不输出单引号和双引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1.3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使用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输出常量、变量和表达式的值。但格式控制中的格式说明符，必须按从左到右的顺序，与输出项表中的每个数据一一对应，否则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tr=%s, f=%d, i=%f\n", "Internet", 1.0 / 2.0, 3 + 5, "CHINA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错误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格式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用小写字母，也可以用大写字母。使用大写字母时，输出数据中包含的字母也大写。除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字符外，其它格式字符必须用小写字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能写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格式字符紧跟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就作为格式字符，否则将作为普通字符使用（原样输出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”c=%c, f=%f\n“, c, f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第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都是普通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格式化输入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nf(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是用来从外部输入设备向计算机主机输入数据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2.1  scanf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柱体的底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1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igh=2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其体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6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{  float radius=1.5, high=2.0, pi=3.14159, vol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vol=pi*radius*radius*high;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体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printf(“vol=%7.2f\n”,vol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求出的体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柱体的底半径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高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其体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7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格式及作用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float radius,high,vol,pi=3.141592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Please input radius &amp; high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f%f",&amp;radius,&amp;high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输入两个实数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,h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l=pi*radius*radius*hig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radius=%7.2f, high=%7.2f, vol=%7.2f\n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,high,vo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radius &amp; high: 1.5□2.0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=□□□1.50,high=□□□2.00,vol=□□14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中给计算机提供数据，可以用赋值语句，也可以用输入函数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通过键盘输入，给计算机同时提供多个、任意的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anf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字符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项首地址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格式字符串。格式字符串可以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类型的字符：格式指示符、空白字符（空格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和回车键）和非空白字符（又称普通字符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指示符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相似，空白字符作为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数据的缺省分隔符，非空白字符在输入有效数据时，必须原样一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925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入项首地址表──由若干个输入项首地址组成，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项首地址之间，用逗号分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项首地址表中的地址，可以是变量的首地址，也可以是字符数组名或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首地址的表示方法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地址运算符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radiu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首地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功能：从键盘上接收格式化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程序时，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数，分别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hi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始的存储单元中，即输入两个实数分别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格式指示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指示符的一般形式为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 [*] 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[F|N] [h|l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语句中，格式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f%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该项输入数据所占列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换句话说，读取输入数据中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但按需要的位数赋给相应的变量，多余部分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3c%3c",&amp;ch1,&amp;ch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1=%c,ch2=%c\n",ch1,ch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读取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将读取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输出结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=a,ch2=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赋值抑制字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本输入项对应的数据读入后，不赋给相应的变量（该变量由下一个格式指示符输入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2d%*2d%3d",&amp;num1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1=%d,num2=%d\n",num1,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456789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但舍弃掉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）；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7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所以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输出结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,num2=5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修饰符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含义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样，分别为远指针、近指针、短整型和长整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2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输入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如果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格式指示符之间，不指定数据分隔符（如逗号、冒号等），则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数据之间，至少用一个空格分开，或者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分开，或者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后，按回车，然后再输入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%d",&amp;num1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正确的输入操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□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“↙”符号表示按回车键操作，在输入数据操作中的作用是，通知系统输入操作结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格式字符串”中出现的普通字符（包括转义字符形式的字符），务必原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,%d",&amp;num1,&amp;num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正确的输入操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中、格式字符串内的转义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系统并不把它当转义字符来解释，从而产生一个控制操作，而是将其视为普通字符，所以也要原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num1=%d,num2=%d\n",&amp;num1,&amp;num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正确的输入操作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36\n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格式化输出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tf(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作用：向计算机系统默认的输出设备（一般指终端或显示器）输出一个或多个任意类型的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1.1  printf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1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圆周长和圆面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{float  radius,length,area,pi=3.1415926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radius=1.5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length=2*pi*radius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圆周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area=pi*radius*radius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圆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printf(“radius=%f\n”,radius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圆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printf(“length=%7.2f,area=%7.2f\n”,length,area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圆周长、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提高人机交互性建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改善人机交互性，同时简化输入操作，在设计输入操作时，一般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出一个提示信息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进行数据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num1=%d,num2=%d\n",&amp;num1,&amp;nu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1="); scanf("%d",&amp;num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2="); scanf("%d"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输入数据时，遇到以下情况，系统认为该数据结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空格，或者回车键，或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输入域宽度结束。例如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3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非法输入。例如，在输入数值数据时，遇到字母等非数值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符号仅由数字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数点和正负号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使用格式说明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单个字符时，空格和转 义字符均作为有效字符被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c%c%c",&amp;ch1,&amp;ch2,&amp;ch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1=%c,ch2=%c,ch3=%c\n",ch1,ch2,ch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□B□C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空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□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B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3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个字符输入输出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char(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char(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3.1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单个字符的输出─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putchar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putchar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和使用方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8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和使用方法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预处理命令：文件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ch1='N', ch2='E', ch3='W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1); putchar(ch2); putchar(ch3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1); putchar('\n'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并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'E'); putchar('\n'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E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3); putchar('\n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utchar(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是一个字符变量或常量，也可以是一个转义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：向终端输出一个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只能用于单个字符的输出，且一次只能输出一个字符。另外，从功能角度来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可以完全代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程序中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务必牢记：在程序（或文件）的开头加上编译预处理命令（也称包含命令），即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要使用的函数，包含在标准输入输出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i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头文件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个字符的输入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getcha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和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3_9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和作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Please input two charac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=getchar(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并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h);putchar('\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getchar()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一个字符并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two characters: ab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作用：从系统隐含的输入设备（如键盘）输入一个字符。另外，从功能角度来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可以完全代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只能用于单个字符的输入，一次输入一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程序中要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必须在程序（或文件）的开头加上编译预处理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4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顺序结构程序设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顺序结构程序中，各语句（或命令）是按照位置的先后次序，顺序执行的，且每个语句都会被执行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整数，求它们的和及平均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0.C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设计一个顺序结构程序，求三个整数的和及平均值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sum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float aver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Please input three numbers:"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"%d,%d,%d",&amp;num1,&amp;num2,&amp;num3)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三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um=num1+num2+num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aver=sum/3.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平均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num1=%d,num2=%d,num3=%d\n",num1,num2,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sum=%d,aver=%7.2f\n",sum,aver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能否将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ver=sum/3.0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方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实数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键盘输入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4ac&gt;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设计一个顺序结构程序，求方程的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math.h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使用求平方根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r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th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头文件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a,b,c,disc,x1,x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 a, b, c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f,%f,%f",&amp;a,&amp;b,&amp;c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方程的三个系数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c=b*b-4*a*c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判别式的值赋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1=(-b+sqrt(disc))/(2*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2=(-b-sqrt(disc))/(2*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x1=%6.2f\nx2=%6.2f\n",x1,x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输入一个小写字母，要求用大小写字母形式输出该字母及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3_12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c1,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 a  lowercase  let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1=getch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1);printf(",%d\n",c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2=c1-32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大写字母转换成对应的小写字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c,%d\n",c2,c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 a  lowercase  letter: a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,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,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顺序结构程序中，一般包括以下几个部分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程序开头的编译预处理命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中要使用标准函数（又称库函数），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，其它的都必须使用编译预处理命令，将相应的头文件包含进来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顺序结构程序的函数体中，是完成具体功能的各个语句和运算，主要包括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变量类型的说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提供数据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算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输出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=1.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=    9.42,area=    7.0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一般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字符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 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输出项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格式字符串。“格式字符串”也称“转换控制字符串”，可以包含三种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格式指示符。格式指示符的一般形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F|N|h|L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的标志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常用的宽度指示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常用的精度指示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长度修饰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类型转换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 好 的 源 程 序 书 写 风 格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──顺序程序段左对齐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顺序程序段中的所有语句（包括说明语句），一律与本顺序程序段的首行左对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转义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\n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转义字符，输出时产生一个“换行”操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普通字符──除格式指示符和转义字符之外的其它字符。格式字符串中的普通字符，原样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radius=%f\n", radius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length=%7.2f,area=%7.2f\n", length,area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ngth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ea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都是普通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输出项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项表是可选的。如果要输出的数据不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相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之间用逗号分开。下面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都是合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 am a student.\n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",3+2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a=%f      b=%5d\n", a, a+3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须强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格式字符串”中的格式指示符，必须与“输出项表”中、输出项的数据类型一致，否则会引起输出错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1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格式指示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不同类型的数据，要使用不同的类型转换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带符号的十进制整数形式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2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 num1=12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  num2=1234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不同格式，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1=%d,num1=%5d,num1=%-5d,num1=%2d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,num1,num1,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不同格式，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2=%ld,num2=%8ld,num2=%5ld\n",num2,num2,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1=%ld\n",num1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3,num1=□□123,num1=123□□,num1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123456,num2=□□123456,num2=12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69084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整数，还可用八进制、无符号形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o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写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十六进制、无符号形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出。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，也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符，以十进制、无符号形式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无符号形式是指，不论正数还是负数，系统一律当作无符号整数来输出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,%o,%x\n",-1,-1,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小数形式、按系统默认的宽度，输出单精度和双精度实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3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 f=123.4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 d1,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1=1111111111111.1111111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2=2222222222222.2222222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f,%12f,%12.2f,%-12.2f,%.2f\n",f,f,f,f,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d1+d2=%f\n",d1+d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23.456001,□□123.456001,□□□□□□123.46,123.46□□□□□□,123.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1+d2=3333333333333.3330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程序的输出结果中，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.456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33333333333.333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是无意义的，因为它们超出了有效数字的范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实数，也可使用格式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标准指数形式输出：尾数中的整数部分大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小数点占一位，尾数中的小数部分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指数部分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（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-0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占一位，指数符号占一位，指数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共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使用格式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让系统根据数值的大小，自动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、且不输出无意义的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出一个字符（只占一列宽度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4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c='A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6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c=%c,%5c,%d\n",c,c,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=%d,%c",i,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=A,□□□□A,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=65,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是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整数可以用字符形式输出，字符数据也可以用整数形式输出。将整数用字符形式输出时，系统首先求该数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余数，然后将余数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，转换成相应的字符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2:46:58Z</dcterms:created>
  <dc:creator>Xu xinhua</dc:creator>
  <dc:description/>
  <dc:language>en-US</dc:language>
  <cp:lastModifiedBy>Xu xinhua</cp:lastModifiedBy>
  <dcterms:modified xsi:type="dcterms:W3CDTF">2001-08-21T07:46:12Z</dcterms:modified>
  <cp:revision>67</cp:revision>
  <dc:subject/>
  <dc:title>第3章    顺序结构程序设计</dc:title>
</cp:coreProperties>
</file>