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C98-681F-455C-84E5-FF6440F2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F40-22AB-482D-93EA-A70DB72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DFD-132B-4623-899F-2AF04155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13A-2EDA-4AFD-AA6A-B9A772EF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7EC-6FE8-4238-8555-82D8686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22E-A48F-4A7C-9F41-8BF7D1B1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E98-B9A4-40AE-AB5F-8F2E1B1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97A-68CA-49D3-9746-AC9B277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74D-F1F8-4B8F-A3C0-F0849179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B51-C5E0-4683-B041-43315C2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0E7-B26F-43A1-9B20-BAC29EF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90A-1E1F-43DE-95E8-9BA1CCB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C8B6-4A66-4211-9868-EFD5E631F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Ｃ语言概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章主要介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程序的结构和书写规则，以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urbo C V2.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基本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的发展简史和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Ｃ语言程序的结构与书写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的语句和关键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4  Turbo C V2.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基本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执行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由若干条可执行语句构成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的示意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语句部分        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2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结构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体中的变量定义语句，必须在所有可执行语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程序中变量定义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”的位置是非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20968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5909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2209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x,y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语句：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型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3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的赋值语句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6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的赋值语句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语句：出现在可执行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3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6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后，非法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ma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解决办法很简单，请读者自己思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不需要，也可以缺省变量定义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源程序书写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有语句都必须以分号“；”结束，函数的最后一个语句也不例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行的书写格式自由，既允许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内写几条语句，也允许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语句分写在几行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也可改写成如下所示的格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 scanf(“%d”, &amp;num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 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某条语句很长，一般需要将其分写在几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使用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注释格式为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……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以及本节其它部分给出的源程序中，凡是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括起来的文字，都是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成对使用，且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及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不能有空格，否则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技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避免遗漏必须配对使用的符号，例如注释符号、函数体的起止标识符（花括号）、圆括号等等，在输入时，可连续输入这些起止标识符，然后再在其中进行插入来完成内容的编辑。在起止标识符嵌套时，以及相距较远时，这样做更有必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注释的位置，可以单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，也可以跟在语句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写不下，可另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继续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注释中允许使用汉字。在非中文操作系统下，看到的是一串乱码，但不影响程序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3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语句和关键字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1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的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其它高级语言一样，Ｃ语言也是利用函数体中的可执行语句，向计算机系统发出操作命令。按照语句功能或构成的不同，可将Ｃ语言的语句分为五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语句完成一定的控制功能。Ｃ语言只有９条控制语句，又可细分为三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结构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witch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结构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), f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whil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break,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其它控制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,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调用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调用语句由一次函数调用加一个分号（语句结束标志）构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This is a C function statem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达式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达式语句由表达式后加一个分号构成。最典型的表达式语句是，在赋值表达式后加一个分号构成的赋值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5 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赋值表达式，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5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却是一个赋值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语句仅由一个分号构成。显然，空语句什么操作也不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下面就是一个空语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合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语句是由大括号括起来的一组（也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）语句构成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语句。注意：右括号后不需要分号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复合语句的性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语法上和单一语句相同，即单一语句可以出现的地方，也可以使用复合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复合语句可以嵌套，即复合语句中也可出现复合语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3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关键字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根据关键字的作用，可分其为数据类型关键字、控制语句关键字、存储类型关键字和其它关键字四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类型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, double, enum, float, int, long, short, signed, struct, union, unsigned, 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控制语句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, case, continue, default, do, else, for, goto, if, return, switch,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类型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, extern, register, 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其它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, sizeof, typedef,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4  Turbo C V2.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基本操作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.运行一个Ｃ语言程序的一般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2.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TC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的启动、退出与命令菜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3.编辑并保存一个Ｃ语言源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译、连接──单个源程序文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5.运行与查看结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6.编辑下一个新的源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一个Ｃ语言程序的一般过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rbo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是一个集源程序编辑、编译、连接、运行与调试于一体、 用菜单驱动的集成软件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行一个Ｃ语言程序的一般过程：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进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集成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编辑（或修改）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编译。如果编译成功，则可进行下一步操作；否则，返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源程序，再重新编译，直至编译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连接。如果连接成功，则可进行下一步操作；否则，根据系统的错误提示，进行相应修改，再重新连接，直至连接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行。通过观察程序运行结果，验证程序的正确性。如果出现逻辑错误，则必须返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源程序，再重新编译、连接和运行，直至程序正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集成环境，结束本次程序运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发展简史和特点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Ｃ语言的诞生与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诞生以前，系统软件主要是用汇编语言编写的。由于汇编语言程序依赖于计算机硬件，其可读性和可移植性都很差；但一般的高级语言又难以实现对计算机硬件的直接操作（这正是汇编语言的优势），于是人们盼望有一种兼有汇编语言和高级语言特性的新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Ｃ语言是贝尔实验室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初研制出来的，后来又被多次改进，并出现了多种版本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初，美国国家标准化协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根据Ｃ语言问世以来各种版本对Ｃ语言的发展和扩充，制定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再次做了修订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书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SI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标准来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T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启动、退出与命令菜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启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 ←┘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画面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其主菜单条横向排列在屏幕顶端，并被激活，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项成为当前项。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菜单的下面，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编辑）窗口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消息）窗口。两个窗口中，顶端横线为双线显示的，表示该窗口是活动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窗口的顶端为状态行，其中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  1  Col 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显示光标所在的行号和列号，即光标位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表示编辑状态处于“插入”。当处于“改写”状态时，此处为空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 NONAME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显示当前正在编辑的文件名。显示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NAME.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用户尚未给文件命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屏幕底端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功能键的说明，以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Loc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的状态（显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处于“数字键”状态；空白，表示“控制键”状态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命令菜单的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按下功能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激活主菜单。如果主菜单已经被激活，则直接转下一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左、右方向键移动光带，定位于需要的主项上，然后再按回车键，打开其子菜单（纵向排列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上、下方向键移动光带，定位于需要的子项上，回车即可。执行完选定的功能后，系统自动关闭菜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菜单激活后，又不使用，可再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关闭，返回原来状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退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两种方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菜单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Qu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先选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项，再选择并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Qu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子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快捷键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+“X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先按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并保持，再按字母键Ｘ，然后同时放开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编辑并保存一个Ｃ语言源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激活主菜单，选择并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Lo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项（快捷键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ad File Name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窗口，输入源程序文件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名的输入有两种方法：直接输入和选择输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直接输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照文件名的组成字符串，逐个字符输入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是已经存在的文件，系统就在编辑窗口显示该文件的内容，可供编辑、修改。如果是新文件，则给出一个空白编辑窗口，可供输入新的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该文件不在当前目录下，则需要冠以路径名和（或）盘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择文件（仅适用于已经存在的源程序文件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回车，打开当前目录下、后缀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的所有文件的文件名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上、下、左、右方向键，将光带定位于所需的文件名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回车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常用编辑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编辑源程序过程中，随时都可以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S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将当前编辑的文件存盘，然后继续编辑。这是一个良好的习惯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于在线帮助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任何窗口（或状态）下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激活活动窗口（或状态）的在线帮助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下一页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geDow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返回上一页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ge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闭在线帮助、返回原窗口（或状态）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返回前一个在线帮助屏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+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无论在线帮助是否被激活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返回在线帮助索引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激活在线帮助后，再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返回在线帮助索引，以便查询其它类别在线帮助信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查询库函数的在线帮助信息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将光标移到需要查询函数名的首字符上，然后键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即可获得该库函数的在线帮助信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为简化描述，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rl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rl+F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下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译、连接──单个源程序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ile | Make EXE 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自动完成对当前正在编辑的源程序文件的编译、连接，并生成可执行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源程序有语法错误，系统将在屏幕中央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iling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编译）窗口底端提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rror:  Press any ke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错误：按任意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，按空格键，屏幕下端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消息）窗口被激活， 显示出错（或警告）信息，光带停在第一条消息上。这时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编辑）窗口中也有一条光带，它总是停在编译错误在源代码中的相应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用上、下键移动消息窗口中的光带时，编辑窗口中的光带也随之移动，始终跟踪源代码中的错误位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行与查看结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行当前正在编辑的源程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| Ru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程序运行结束后， 仍返回到编辑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你认为自己的源程序不会有编译、连接错误时，也可直接运行（即跳过对源程序的编译、连接步骤）。这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一次完成从编译、连接到运行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查看运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| User Scre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+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查看完毕后，按任一键返回编辑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发现逻辑错误，则可在返回编辑窗口后，进行修改；然后再重新编译、连接、运行，直至正确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下一个新的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| 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屏幕提示如下确认信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NAME.C not saved. Save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/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需要保存当前正在编辑的源程序，则键入“Ｙ”，进入下一步操作；否则，键入“Ｎ”（不保存），跳转到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提示换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:&gt;&lt;path&gt;\NONAME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输入你给源程序文件起的名字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给出一个空白的编辑窗口，可以开始编辑下一个新的源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目前，在微机上广泛使用的Ｃ语言编译系统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crosoft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rbo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rland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虽然它们的基本部分都是相同的，但还是有一些差异， 所以请大家注意自己所使用的Ｃ编译系统的特点和规定（参阅相应的手册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书选定的上机环境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C V2.0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操作系统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同时具有汇编语言和高级语言的优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语言简洁、紧凑，使用方便、灵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符极其丰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生成的目标代码质量高，程序执行效率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移植性好（较之汇编语言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直接操纵硬件。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除实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顺序、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基本结构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控制语句外，输入输出操作均由标准库函数（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组成部分）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语言，不仅要学习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条控制语句和各种运算符，而且要学习并掌握常用标准库函数的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Ｃ语言程序的结构与书写规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Ｃ语言程序的总体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完整的Ｃ语言程序，是由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（又称主函数）和若干个其它函数结合而成的，或仅由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构成的Ｃ语言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_1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仅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构成的Ｃ语言程序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printf(“This is a C program.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 is a C program.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其它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构成的Ｃ语言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其它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构成的Ｃ语言程序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(int x,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return( x&gt;y ? x : y 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integer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integer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9                                                                            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前后位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源程序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integer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integer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是Ｃ语言程序的基本单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，相当于其它高级语言中的主程序；其它函数的作用，相当于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程序总是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i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开始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Ｃ语言程序，总是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开始执行，而不论其在程序中的位置。当主函数执行完毕时，亦即程序执行完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习惯上，将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放在最前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一般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任何函数（包括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都是由函数说明和函数体两部分组成。其一般结构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语句部分；                                       函数体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的语法符号约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...]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括号表示可选（即可以指定，也可以缺省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……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省略号表示前面的项可以重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    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（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中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函数类型（可缺省）、函数名和函数参数表三部分组成，其中函数参数表的格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205740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16765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函数说明各部分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       函数名        函数参数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↓                   ↓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              max  (     int    x ,     int     y  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1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部分结构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旧标准中，函数可以缺省参数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函数说明部分的下面、大括号（必须配对使用）内的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一般由说明语句和可执行语句两部分构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说明语句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语句部分由变量定义、自定义类型定义、自定义函数说明、外部变量说明等组成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9:27:29Z</dcterms:created>
  <dc:creator>Xu xinhua</dc:creator>
  <dc:description/>
  <dc:language>en-US</dc:language>
  <cp:lastModifiedBy>Xu xinhua</cp:lastModifiedBy>
  <dcterms:modified xsi:type="dcterms:W3CDTF">2001-08-21T02:00:27Z</dcterms:modified>
  <cp:revision>149</cp:revision>
  <dc:subject/>
  <dc:title>第1章 </dc:title>
</cp:coreProperties>
</file>