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C63-2F4D-4F6B-BA5A-D458676D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4A6-E191-4469-8D14-2F78F1B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6FD3-F02F-429D-8111-22DA0081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D9F-584F-4934-998C-A4343B0D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B42-1309-452D-AE75-2555018A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4F4-4D70-4E77-AEDA-777AEDE5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433-3BA8-4A02-8538-9F89075A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3E3-D37A-43CB-8AA0-9569F42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CD4-2F5F-4029-A10E-191F856F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6A4-3C1E-4283-B405-7844E39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95D-C043-498C-85FE-54DDE9B7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470-8DE5-4F16-A141-8E102293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A2EA-34B0-45A4-A45E-44D13BFF87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30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件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运行时，程序本身和数据一般都存放在内存中。当程序运行结束后，存放在内存中的数据被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需要长期保存程序运行所需的原始数据，或程序运行产生的结果，就必须以文件形式存储到外部存储介质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2.1  Ｃ语言文件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12.2  文件的打开与关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12.3  文件的读写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12.4  位置指针与文件定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12.5  出错检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输出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ou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输出（一般为显示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错误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er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标准错误输出（一般为显示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件的关闭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colse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close(FILE  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关闭“文件指针”所指向的文件。如果正常关闭了文件，则函数返回值为０；否则，返回值为非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的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3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文件的读写操作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打开之后，就可以对它进行读与写的操作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3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文件中的一个字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一个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3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一个数据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对文件进行格式化读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3.5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读／写函数的选用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2.3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文件中的一个字符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一个字符写到文件中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putc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键盘上输入的一个字符串（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@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结束字符），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形式存储到一个磁盘文件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1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从键盘上输入一个字符串，存储到一个磁盘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格式：可执行文件名   要创建的磁盘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“stdio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if(argc!=2)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 printf("the number of arguments not correct\n\n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Usag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name 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exit(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(fp=fopen(argv[1],"w"))==NULL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字符，并存储到指定文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 ; (ch=getchar()) != '@' ;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c(ch,fp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字符并存储到文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1234567@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pu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putc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数据，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字符数据”，既可以是字符常量，也可以是字符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将字符数据输出到“文件指针”所指向的文件中去，同时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（即指向下一个写入位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输出成功，则函数返回值就是输出的字符数据；否则，返回一个符号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被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从文件中读入一个字符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getc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eof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顺序显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的磁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顺序显示一个磁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：带参主函数，使用格式：可执行文件名   源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!=2)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he number of arguments not correct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 Usage: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源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(fp=fopen(argv[1],"r"))==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printf("can not open source file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输出文件的内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(ch=fgetc(fp))!=EOF;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h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读入并显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fp);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打开的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12345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getc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getc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从“文件指针”所指向的文件中，读入一个字符，同时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（即指向下一个字符）。该函数无出错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c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，从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读一个字符，同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读写位置指针向前移动到下一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关于符号常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执行读入操作时，如果遇到文件尾，则读操作函数返回一个文件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被定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对二进制文件执行读入操作时，必须使用库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判断是否遇到文件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现制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副本的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制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文件的副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格式：可执行文件名  源文件名  目标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input, *outpu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 inpu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源文件指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, outpu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：目标文件指针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!=3)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个数不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he number of arguments not correct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 Usage: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urce-file  dest-fil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r"))==NULL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源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source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2],"w"))==NULL)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目标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create destination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制源文件到目标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(!feof(input)) ; ) fputc(fgetc(input),output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input); fclose(output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闭源文件和目标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Ｃ语言文件概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与文件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是指存放在外部存储介质上的数据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标识一个文件，每个文件都必须有一个文件名，其一般结构为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主文件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[.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扩展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命名规则，遵循操作系统的约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从不同的角度对文件进行分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内容，可分为程序文件和数据文件，程序文件又可分为源文件、目标文件和可执行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组织形式，可分为顺序存取文件和随机存取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eof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eof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在执行读文件操作时，如果遇到文件尾，则函数返回逻辑真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，则返回逻辑假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同时适用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和二进制文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feof(input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源文件（用于输入）未结束，循环继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一个字符串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gets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puts()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键盘上输入的一个长度不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串，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形式存储到一个磁盘文件中；然后再输出到屏幕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2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：可执行文件名  要创建的磁盘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ILE *f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string[81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数组用于暂存输入输出的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&gt;2)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参数太多，提示 出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Too many parameters…\n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Usag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文件名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nam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argc= =1)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缺磁盘文件名，提示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Input the filenam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借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暂存输入的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gv[1]=(char *)malloc(strlen(string)+1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文件名参数申请内存空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py(argv[1],string)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制文件名到形参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w"))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字符串，并存储到指定文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string: "); ge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uts(string, fp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存储到指定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新打开文件，读出其中的字符串，并输出到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(fp=fopen(argv[1],"r"))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开文件失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can not open this file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gets(string, strlen(string)+1, fp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文件中读一个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Output the string: "); puts(string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字符串输出到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close(f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为增强程序的可靠性，程序中对参数过多的情况，提示出错、并终止程序运行；而遗漏文件名时，提示用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时，为增强程序的人机交互性，凡是需要用户输入数据的地方，都设置提示输入的信息；凡是输出数据的地方，都设置输出说明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puts()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向指定文件输出一个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put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，文件指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字符串”可以是一个字符串常量，或字符数组名，或字符指针变量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功能：向指定文件输出一个字符串，同时将读写位置指针向前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字符串长度）个字节。如果输出成功，则函数返回值为０；否则，为非０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fgets()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从文件中读一个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har  *fgets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，串长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文件指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功能：从指定文件中读入一个字符串，存入“字符数组／指针”中，并在尾端自动加一个结束标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同时，将读写位置指针向前移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gt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字符串长度）个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在读入规定长度之前遇到文件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换行符，读入即结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12.3.3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一个数据块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fread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fwrite()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应用中，常常要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读／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块。为此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设置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 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read(void *buff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siz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ILE *fp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 fwrite(void *buffe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siz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t coun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FILE *fp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文件的当前位置开始，一次读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，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并将读入的数据存放到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的内存中；同时，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* 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存放读入数据的起始地址（即存放何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一次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，重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， 并将输出的数据存放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向的文件中；同时，将读写位置指针向前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* 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要输出数据在内存中的起始地址（即从何处开始输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功，则函数返回值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一般用于二进制文件的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4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文件进行格式化读／写─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scanf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fprintf(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功能相似，区别在于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操作对象是指定文件，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操作对象是标准输入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输出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ou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fscan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指针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输入变量首地址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fprint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指针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输出参量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3; float f=9.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fp,"%2d,%6.2f", i, 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是，将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2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、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6.2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， 以逗号作分隔符，输出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向的文件中：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,□□9.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□表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空格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12.3.5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读／写函数的选用原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功能角度来说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可以完成文件的任何数据读／写操作。 但为方便起见，依下列原则选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（或字节）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ge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u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多个）不含格式的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a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writ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多个）含格式的数据时：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文件的存储形式，可分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和二进制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的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因而便于对字符进行逐个处理。但一般占用存储空间较多，而且要花费转换时间（二进制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之间的转换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进制文件是把内存中的数据，原样输出到磁盘文件中。可以节省存储空间和转换时间，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并不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，不能直接输出字符形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读文件与写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读文件是指，将磁盘文件中的数据传送到计算机内存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写文件是指，从计算机内存向磁盘文件中传送数据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置指针与文件定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中有一个读写位置指针，指向当前的读写位置。每次读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（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）数据后，系统自动将位置指针移动到下一个读写位置上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如果想改变系统这种读写规律，可使用有关文件定位的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置指针复位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ewi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rewind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使文件的位置指针返回到文件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随机读写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seek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流式文件，既可以顺序读写，也可随机读写，关键在于控制文件的位置指针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所谓顺序读写是指，读写完当前数据后，系统自动将文件的位置指针移动到下一个读写位置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随机读写是指，读写完当前数据后，可通过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seek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将位置指针移动到文件中任何一个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seek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，位移量，参照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将指定文件的位置指针，从参照点开始，移动指定的字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照点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文件头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当前位置）和２（文件尾）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中，还规定了下面的名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SET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CUR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前位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K_EN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位移量：以参照点为起点，向前（当位移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时）或后（当位移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时）移动的字节数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中，要求位移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seek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一般用于二进制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4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返回文件当前位置的函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ftel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文件的位置指针可以任意移动，也经常移动，往往容易迷失当前位置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tell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可以解决这个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ng  ftell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返回文件位置指针的当前位置（用相对于文件头的位移量表示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表明调用出错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set=ftell(fp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offset= =-1L)printf(“ftell() error\n”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.5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出错检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5.1  ferro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调用输入输出库函数时，如果出错，除了函数返回值有所反映外，也可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来检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  ferro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如果函数返回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未出错；如果返回一个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，表示出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同一文件，每次调用输入输出函数均产生一个新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值。因此在调用了输入输出函数后，应立即检测，否则出错信息会丢失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时，系统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自动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2.5.2  clearer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oid  clearerr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指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将文件错误标志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rr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值）和文件结束标志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eo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值）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对同一文件，只要出错就一直保留，直至遇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er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wind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或其它任何一个输入输出库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构成文件的基本单元与流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将文件看作是由一个一个的字符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文件）或字节（二进制文件）组成的。将这种文件称为流式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在其它高级语言中，组成文件的基本单位是记录，对文件操作的基本单位也是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文件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给每个打开的文件都在内存中开辟一个区域，用于存放文件的有关信息（如文件名、文件位置等）。这些信息保存在一个结构类型变量中，该结构类型由系统定义、取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结构类型名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大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NSI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缓冲文件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缓冲文件系统是指，系统自动地在内存区为每个正在使用的文件开辟一个缓冲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内存向磁盘输出数据时，必须首先输出到缓冲区中。待缓冲区装满后，再一起输出到磁盘文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磁盘文件向内存读入数据时，则正好相反：首先将一批数据读入到缓冲区中，再从缓冲区中将数据逐个送到程序数据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文件的打开与关闭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文件进行操作之前，必须先打开该文件；使用结束后，应立即关闭，以免数据丢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了标准输入输出函数库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打开一个文件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clos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关闭一个文件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2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文件的打开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fopen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用法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LE  *fopen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操作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功能：返回一个指向指定文件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函数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文件操作的库函数，函数原型均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后续函数不再赘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文件名”是指要打开（或创建）的文件名。如果使用字符数组（或字符指针），则不使用双引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操作方式”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 *fp;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"data.99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r"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不能实现打开指定文件的操作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pe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返回一个空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其值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o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被定义为０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增强程序的可靠性，常用下面的方法打开一个文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f((fp=fopen(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件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方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"))==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 printf("can not open this file\n"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xit(0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it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oid  exit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状态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功能：关闭已打开的所有文件，结束程序运行，返回操作系统，并将“程序状态值”返回给操作系统。当“程序状态值”为０时，表示程序正常退出；非０值时，表示程序出错退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区别：使用前者打开文件时，读写位置指针指向文件头；使用后者时，读写指针指向文件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文本文件向计算机系统输入数据时，系统自动将回车换行符转换成一个换行符；在输出时，将换行符转换成回车和换行两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二进制文件时，内存中的数据形式与数据文件中的形式完全一样，就不再进行转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些Ｃ编译系统，可能并不完全提供上述对文件的操作方式，或采用的表示符号不同，请注意所使用系统的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程序开始运行时，系统自动打开三个标准文件，并分别定义了文件指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标准输入文件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指向终端输入（一般为键盘）。如果程序中指定要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i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指的文件输入数据，就是从终端键盘上输入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13:12:18Z</dcterms:created>
  <dc:creator>Xu xinhua</dc:creator>
  <dc:description/>
  <dc:language>en-US</dc:language>
  <cp:lastModifiedBy>Xu xinhua</cp:lastModifiedBy>
  <dcterms:modified xsi:type="dcterms:W3CDTF">2001-08-22T03:21:14Z</dcterms:modified>
  <cp:revision>100</cp:revision>
  <dc:subject/>
  <dc:title>第12章    文   件</dc:title>
</cp:coreProperties>
</file>