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3F8D-48E6-4203-A725-5A71DDA3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1269-C0D8-46C4-8B27-F11B51CC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5E91-2DE5-485E-96E2-00CC3AF38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96B9-BD8D-4A26-890D-BC38DDA3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7436-9327-4D34-B036-B5633845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E0A2-4853-452C-9D52-894F3266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6FA3-6839-42B7-9BAA-83B694E0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8000-C5FE-4E18-BC70-EBCAB1B2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6E17-25B3-437E-BDED-F8170596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18EB-E745-4BC8-ABDE-1C50E5D9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6751-64C3-44D8-B1A1-96A8C60B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2F82-08D7-4797-9C22-D44B980F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F6D5-77CD-4704-A3A7-80E06D76F8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6.xml"/><Relationship Id="rId3" Type="http://schemas.openxmlformats.org/officeDocument/2006/relationships/slide" Target="slide14.xml"/><Relationship Id="rId4" Type="http://schemas.openxmlformats.org/officeDocument/2006/relationships/hyperlink" Target="file:///&#23553;&#38754;&#19982;&#30446;&#24405;.ppt" TargetMode="External"/><Relationship Id="rId5" Type="http://schemas.openxmlformats.org/officeDocument/2006/relationships/hyperlink" Target="file:///&#23553;&#38754;&#19982;&#30446;&#24405;.ppt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1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章    位运算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了节省内存空间，在系统软件中常将多个标志状态简单地组合在一起，存储到一个字节（或字）中。Ｃ语言是为研制系统软件而设计的，所以她提供了实现将标志状态从标志字节中分离出来的位运算功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谓位运算是指，按二进制位进行的运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11.1  数值在计算机中的表示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11.2  位运算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Times New Roman"/>
                <a:hlinkClick r:id="rId3" action="ppaction://hlinksldjump"/>
              </a:rPr>
              <a:t>11.3  位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cc"/>
                </a:solidFill>
                <a:uFillTx/>
                <a:latin typeface="Times New Roman"/>
                <a:hlinkClick r:id="rId4"/>
              </a:rPr>
              <a:t>[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Times New Roman"/>
                <a:hlinkClick r:id="rId5"/>
              </a:rPr>
              <a:t>Return]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基本思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使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右移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位，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位移到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位上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构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位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其余各位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整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进行按位与运算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11_1.C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功能：输出一个整数中由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位构成的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num, mas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Input a integer number: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"%d",&amp;n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 &gt;&gt;= 8;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右移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位，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位移到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位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sk = ~ ( ~0 &lt;&lt; 4);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间接构造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低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位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其余各位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的整数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result=0x%x\n", num &amp; mask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运行情况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put a integer number:1000 ←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sult=0x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~ ( ~0 &lt;&lt;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位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反，为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左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后，其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其余各位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再按位取反，则其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其余各位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这个整数正是我们所需要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1.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键盘上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正整数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按二进制位输出该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11_2.C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功能：按二进制位输出一个整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include  "stdio.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num, mask, 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Input a integer number: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"%d",&amp;n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sk = 1&lt;&lt;15;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构造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最高位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其余各位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的整数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屏蔽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)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%d=" , n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i=1; i&lt;=16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putchar(num&amp;mask ? ’1’ : ‘0’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最高位的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1/0)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 &lt;&lt;= 1;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将次高位移到最高位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( i%4==0 ) putchar(‘,’)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四位一组，用逗号分开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\bB\n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0769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运行情况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put a integer number:1000 ←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0=0000,0011,1110,1000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1.2.3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复合赋值运算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除按位取反运算外，其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位运算符均可与赋值运算符一起，构成复合赋值运算符：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amp;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|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^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&lt;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&gt;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同长度数据间的位运算──低字节对齐，短数的高字节按最高位补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对无符号数和有符号中的正数，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有符号数中的负数，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.3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位段简介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有时，存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信息不必占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字节，只需二进制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（或多个）位就够用。如果仍然使用结构类型，则造成内存空间的浪费。为此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言引入了位段类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位段的概念与定义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谓位段类型，是一种特殊的结构类型，其所有成员均以二进制位为单位定义长度，并称成员为位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状态寄存器，按位段类型定义如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truct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{ unsigned sign:         1;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符号标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unsigned zero:          1;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零标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unsigned carry:         1;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进位标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unsigned parity:        1;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奇偶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溢出标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unsigned half_carry: 1;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半进位标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unsigned negative:    1;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减标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} flag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显然，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状态寄存器而言，使用位段类型（仅需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字节），比使用结构类型（需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字节）节省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字节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说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因为位段类型是一种结构类型，所以位段类型和位段变量的定义，以及对位段（即位段类型中的成员）的引用，均与结构类型和结构变量一样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对位段赋值时，要注意取置范围。一般地说，长度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位段，其取值范围是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～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使用长度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无名位段，可使其后续位段从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字节开始存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truct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{  unsigned sign:        1;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符号标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unsigned zero:        1;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零标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unsigned carry:       1;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进位标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unsigned :                0;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长度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的无名位段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unsigned parity:       1;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奇偶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溢出标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unsigned half_carry: 1;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半进位标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unsigned negative:    1;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减标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} flag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原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标志位是连续存储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中的。由于加入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长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无名位段，所以其后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位段，从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开始存储，一共占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位段必须存储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存储单元（通常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节）中，不能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。如果本单元不够容纳某位段，则从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单元开始存储该位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可以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格式字符，以整数形式输出位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数值表达式中引用位段时，系统自动将位段转换为整型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.1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数值在计算机中的表示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进制位与字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算机系统的内存储器，是由许多称为字节的单元组成的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二进制位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i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构成，每位的取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最右端的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称为“最低位”，编号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最左端的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称为“最高位”，而且从最低位到最高位顺序，依次编号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各二进制位的编号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-1   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各二进制位的编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值的原码表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的原码表示是指，将最高位用作符号位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正数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负数），其余各位代表数值本身的绝对值（以二进制形式表示）的表示形式。为简化描述起见，本节约定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表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整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295280" y="3352680"/>
          <a:ext cx="6096240" cy="51768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原码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001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└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符号位上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正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原码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010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└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符号位上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负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值的反码表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的反码表示分两种情况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正数的反码：与原码相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反码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0010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负数的反码：符号位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其余各位为该数绝对值的原码按位取反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反码：因为是负数，则符号位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其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绝对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原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010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位取反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101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所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反码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1101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值的补码表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的补码表示也分两种情况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正数的补码：与原码相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补码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0010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负数的补码：符号位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其余位为该数绝对值的原码按位取反；然后整个数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补码：因为是负数，则符号位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其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绝对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原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010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位取反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101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再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所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补码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1101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已知一个数的补码，求原码的操作分两种情况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补码的符号位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表示是一个正数，所以补码就是该数的原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补码的符号位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表示是一个负数，求原码的操作可以是：符号位不变，其余各位取反，然后再整个数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已知一个补码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1110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原码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001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：因为符号位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表示是一个负数，所以该位不变，仍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其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110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取反后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001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再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所以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001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值在计算机中的表示──补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计算机系统中，数值一律用补码表示（存储），原因在于：使用补码，可以将符号位和其它位统一处理；同时，减法也可按加法来处理。另外，两个用补码表示的数相加时，如果最高位（符号位）有进位，则进位被舍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1.2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位 运 算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1.2.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位运算及其运算符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．按位与──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(1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x&amp;y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(2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规则：对应位均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时才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，否则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&amp;9=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&amp;9=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0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&amp;   1001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────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0001=1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主要用途：取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或保留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)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数的某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些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位，其余各位置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．按位或──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|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(1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x|y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(2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规则：对应位均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时才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，否则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|9=1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|9=1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001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|   1001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     ────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011=11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(3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主要用途：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数的某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些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位置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，其余各位不变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001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按位异或─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^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规则：对应位相同时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不同时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^9=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要用途：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数的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翻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原来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位变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变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其余各位不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按位取反─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~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规则：各位翻转，即原来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位变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原来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位变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BM-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机中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~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xfff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~9=0xfff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要用途：间接地构造一个数，以增强程序的可移植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按位左移─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&lt;&lt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规则：使操作数的各位左移，低位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高位溢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&lt;&lt;2=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按位右移─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&gt;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规则：使操作数的各位右移，移出的低位舍弃；高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无符号数和有符号中的正数，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符号数中的负数，取决于所使用的系统：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称为“逻辑右移”，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称为“算术右移”。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 &gt;&gt; 2=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“位数”等操作数，都只能是整型或字符型数据。除按位取反为单目运算符外，其余均为双目运算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参与运算时，操作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都必须首先转换成二进制形式，然后再执行相应的按位运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&lt;&lt;2=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101 → 10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 &gt;&gt; 2=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100 → 001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实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^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运算主要用途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构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整数：该数在要取（或保留）的位、或要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位、或要翻转的位上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其余均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进行按位与、或按位或、或按位异或操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实现按位取反主要用途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~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间接地构造一个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数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按需要进行左移或右移操作，构造出所需要的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直接构造一个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数，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BM-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机中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xfff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节），而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AX-11/7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，却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xfffffff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节）。如果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~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来构造，系统可以自动适应。具体应用，请参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1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1.2.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应用举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1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键盘上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正整数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输出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构成的数（从低位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号开始编号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2:33:39Z</dcterms:created>
  <dc:creator>Xu xinhua</dc:creator>
  <dc:description/>
  <dc:language>en-US</dc:language>
  <cp:lastModifiedBy>Xu xinhua</cp:lastModifiedBy>
  <dcterms:modified xsi:type="dcterms:W3CDTF">2001-08-21T09:51:08Z</dcterms:modified>
  <cp:revision>33</cp:revision>
  <dc:subject/>
  <dc:title>第11章    位运算</dc:title>
</cp:coreProperties>
</file>