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E5F-5DBF-4E8C-A8D0-E5A2EC96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A06-06F2-4456-8A32-C3287422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3F0-7392-4D6E-86CD-369B7BC6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E5E-443D-4FBE-A930-967F3AB9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7A8-669E-41B0-A4FB-F7ADB20A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369-C8B2-4CA3-9BAF-83F279D6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2B9-AB60-40F8-B2DD-A443EC9B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117-F5BC-466C-93A9-859A24B4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0C8-544E-4022-8168-A221D274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CD8-CC05-4E75-AEA4-28BFFBD4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EDD-5C8C-48CD-B5B2-AE92A72F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B56-5A08-4849-9ABA-FDF50963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2B03-2067-4365-AECB-FAC2F960B9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章    结构与链表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将不同数据类型、但相互关联的一组数据，组合成一个有机整体使用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提供一种称为“结构”的数据结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1  结构类型与结构变量的定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2  结构变量的引用与初始化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3  结构数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4  指向结构类型数据的指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5  链表处理──结构指针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6  共用型和枚举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10.7  定义已有类型的别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student.name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studen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变量的初始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变量初始化的格式，与一维数组相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同的是：如果某成员本身又是结构类型，则该成员的初值为一个初值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={"000102", 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张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, 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, {1980,9,20}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初值的数据类型，应与结构变量中相应成员所要求的一致，否则会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.3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构数组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数组的每一个元素，都是结构类型数据，均包含结构类型的所有成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定义的结构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std_in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定义一个结构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用于存储和显示三个学生的基本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0_3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"struct.h"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并初始化一个外部结构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[3] 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  student[3]={{“000102”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{1980,9,20}},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{“000105”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四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{1980,8,15}},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{“000112”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王五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{1980,3,10}}  }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印表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 " □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空格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o.□□□□Name□□□□□Sex□Birthday\n"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三个学生的基本情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3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rintf("%-7s",student[i].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-9s",student[i].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-4s",student[i].s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-%d-%d\n",student[i].birthday.yea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[i].birthday.month, student[i].birthday.d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o.        Name     Sex  Birth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0010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      男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80-9-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00105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四      男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80-8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00112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王五      女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80-3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结构变量的定义相似，结构数组的定义也分直接定义和间接定义两种方法，只需说明为数组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普通数组一样，结构数组也可在定义时进行初始化。初始化的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数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n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{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本案例中的结构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[3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[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Times New Roman"/>
              </a:rPr>
              <a:t>Retur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0.4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指向结构类型数据的指针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变量在内存中的起始地址称为结构变量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4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向结构变量的指针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用指向结构变量的指针来访问结构变量的各个成员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0_4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“struct.h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  student={“000102”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{1980,9,20}}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struct  std_info  *p_std=&amp;stud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o: %s\n", p_std-&gt;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ame: %s\n", p_std-&gt;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Sex: %s\n", p_std-&gt;s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Birthday: %d-%d-%d\n", p_std-&gt;birthday.ye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std-&gt;birthday.month, p_std-&gt;birthday.d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指向结构变量的指针来访问结构变量的成员，与直接使用结构变量的效果一样。一般地说，如果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指向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以下三种形式等价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-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*pointer)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“*pointer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面的括号不能省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格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中，分量运算符左侧的运算对象，只能是结构变量，；而在格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中，指向运算符左侧的运算对象，只能是指向结构变量（或结构数组）的指针变量，否则都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要求从键盘上输入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各成员数据，如何修改程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4.2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向结构数组的指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指向结构数组的指针来访问结构数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0_5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"struct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并初始化一个外部结构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  student[3]={{"000102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{1980,5,20}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"000105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{1980,8,15}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“000112”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王五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{1980,3,10}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struct  std_info  *p_std=student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印表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o.□□□□Name□□□□□Sex□Birthday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结构数组内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 ;  i&lt;3;  i++, p_std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rintf("%-7s%-9s%-4s",  p_std-&gt;no,  p_std-&gt;name,  p_std-&gt;s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4d-%2d-%2d\n", p_std-&gt;birthday.ye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std-&gt;birthday.month,  p_std-&gt;birthday.d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指向某结构数组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结构数组的下一个元素，而不是当前元素的下一个成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外，如果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经指向一个结构变量（或结构数组），就不能再使之指向结构变量（或结构数组元素）的某一成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4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向结构数据的指针作函数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函数调用方式，改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编写一个专门的显示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isplay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通过主函数调用来实现显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0_6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"struct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并初始化一个外部结构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  student[3]={{"000102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{1980,5,20}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"000105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{1980,8,15}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“000112”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王五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女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{1980,3,10}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void display(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印表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o.□□□□Name□□□□□Sex□Birthday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打印内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 ;  i&lt;3; 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display( student + i 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 display(struct  std_info  *p_st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rintf("%-7s%-9s%-4s",  p_std-&gt;n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std-&gt;name,  p_std-&gt;s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4d-%2d-%2d\n",  p_std-&gt;birthday.ye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std-&gt;birthday.month,  p_std-&gt;birthday.d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.1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构类型与结构变量的定义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的结构类型，相当于其它高级语言中的“记录”类型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1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类型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类型名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 stru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结构类型关键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数据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数据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……              …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数据项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}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行分号不能少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一个反映学生基本情况的结构类型，用以存储学生的相关信息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0_1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定义一个反映学生基本情况的结构类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.5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链表处理──结构指针的应用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5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链表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链表作为一种常用的、能够实现动态存储分配的数据结构，在《数据结构》课程中有详细介绍。为方便没有学过数据结构的读者，本书从应用角度，对链表作一简单介绍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为单链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头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链表的首结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每个结点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域组成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域──存储结点本身的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针域──指向后继结点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尾结点的指针域置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空）”，作为链表结束的标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对链表的基本操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链表的基本操作有：创建、检索（查找）、插入、删除和修改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创建链表是指，从无到有地建立起一个链表，即往空链表中依次插入若干结点，并保持结点之间的前驱和后继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检索操作是指，按给定的结点索引号或检索条件，查找某个结点。如果找到指定的结点，则称为检索成功；否则，称为检索失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插入操作是指，在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插入一个新的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使线性表的长度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逻辑关系发生如下变化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入前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前驱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后继；插入后，新插入的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后继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前驱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删除操作是指，删除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使线性表的长度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的逻辑关系发生如下变化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删除前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前驱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后继；删除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前驱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 baseline="-30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后继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Ｃ语言对链表结点的结构描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中，用结构类型来描述结点结构。例如：</a:t>
            </a:r>
            <a:br>
              <a:rPr sz="24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char  no[7]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 score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grade  *nex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5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一个新链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写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reate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，按照规定的结点结构，创建一个单链表（链表中的结点个数不限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本思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向系统申请一个结点的空间，然后输入结点数据域的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）数据项，并将指针域置为空（链尾标志），最后将新结点插入到链表尾。对于链表的第一个结点，还要设置头指针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外，案例代码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i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说明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头指针变量，指向链表的第一个结点，用作函数返回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w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新申请的结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il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链表的尾结点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il-&gt;next=n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实现将新申请的结点，插入到链表尾，使之成为新的尾结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10_7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  NULL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  LEN     sizeof(struct grade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结点长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结点结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char  no[7]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 score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grade  *nex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create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创建一个具有头结点的单链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形参：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值：返回单链表的头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grade *create( void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struct grade *head=NULL, *new, *tai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count=0;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链表中的结点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  ;   ;  )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缺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表达式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new=(struct grade *)malloc(LEN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申请一个新结点的空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输入结点数据域的各数据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the number of student No.%d(6 bytes): ", count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6s", new-&gt;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strcmp(new-&gt;no,"000000")==0)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学号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退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free(new);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释放最后申请的结点空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;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the score of the student No.%d: ", count+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", &amp;new-&gt;sco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unt++;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结点个数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置新结点的指针域为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ew-&gt;next=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将新结点插入到链表尾，并设置新的尾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count==1)  head=new;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第一个结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置头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  tail-&gt;next=new;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非首结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新结点插入到链表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ail=new;           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设置新的尾结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(hea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在设计存储学号数据的字符数组时，其元素个数应为学号长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为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5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链表的插入操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写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sert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，完成在单链表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结点后插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新结点的操作。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=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表示新结点插入到第一个结点之前，成为链表新的首结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本思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单链表的头指针，首先找到链表的第一个结点；然后顺着结点的指针域找到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结点，最后将新结点插入到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结点之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10_8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功能：在单链表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结点后插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新结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参数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单链表的头指针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要插入的新结点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结点索引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返回值：单链表的头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grade *insert(struct grade *head, struct grade *new, int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struct grade *point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新结点插入到链表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(head==NULL) head=new, new-&gt;next=NULL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新结点插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空链表中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非空链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i==0) new-&gt;next=head,  head=new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使新结点成为 链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新的首结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他位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pointer=he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查找单链表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结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;  pointer!=NULL &amp;&amp; i&gt;1;  pointer=pointer-&gt;next,  i--)  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pointer==NULL)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越界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Out of the range, can’t insert new node!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般情况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结点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ew-&gt;next=pointer-&gt;next, pointer-&gt;next=ne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(hea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.6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共用型和枚举型简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6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共用型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概念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使几个不同的变量占用同一段内存空间的结构称为共用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共用类型的定义──与结构类型的定义类似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io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用类型名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列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}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共用变量的定义──与结构变量的定义类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间接定义──先定义类型、再定义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定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用类型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,un2,un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语句如下：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ion  data  un1,un2,un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304920"/>
            <a:ext cx="83055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 date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日期结构类型：由年、月、日三项组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int year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mont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da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 std_inf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学生信息结构类型：由学号、姓名、性别和生日共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项组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char  no[7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har  name[9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har  sex[3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date birthda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 scor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成绩结构类型：由学号和三门成绩共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项组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char  no[7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 score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 scor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 score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620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直接定义──定义类型的同时定义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ion  [data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 un1, un2, un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用变量占用的内存空间，等于最长成员的长度，而不是各成员长度之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共用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操作系统中，占用的内存空间均为４字节（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+1+4=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４．共用变量的引用──与结构变量一样，也只能逐个引用共用变量的成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访问共用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各成员的格式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系统采用覆盖技术，实现共用变量各成员的内存共享，所以在某一时刻，存放的和起作用的是最后一次存入的成员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i=1, un1.ch='c', un1.f=3.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才是有效的成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由于所有成员共享同一内存空间，故共用变量与其各成员的地址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1.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不能对共用变量进行初始化（注意：结构变量可以）；也不能将共用变量作为函数参数，以及使函数返回一个共用数据，但可以使用指向共用变量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共用类型可以出现在结构类型定义中，反之亦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6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枚举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枚举类型的定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enum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枚举类型名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取值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num  weekdays {Sun,Mon,Tue,Wed,Thu,Fri,Sat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２．枚举变量的定义──与结构变量类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间接定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num  weekdays  workda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直接定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num  [weekdays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Sun,Mon,Tue,Wed,Thu,Fri,Sat } workda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３．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枚举型仅适应于取值有限的数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根据现行的历法规定，１周７天，１年１２个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取值表中的值称为枚举元素，其含义由程序解释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不是因为写成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自动代表“星期天”。事实上， 枚举元素用什么表示都可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枚举元素作为常量是有值的──定义时的顺序号（从０开始），所以枚举元素可以进行比较，比较规则是：序号大者为大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上例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n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……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t=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n&gt;Su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枚举元素的值也是可以人为改变的：在定义时由程序指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um weekdays {Sun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M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１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Tue, Wed, Thu, Fri, Sat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n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７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on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，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ue=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，依次增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.7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定义已有类型的别名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可直接使用Ｃ提供的标准类型和自定义的类型（结构、共用、枚举）外，也可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已有类型的别名。该别名与标准类型名一样，可用来定义相应的变量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已有类型别名的方法如下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按定义变量的方法，写出定义体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将变量名换成别名；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定义体最前面加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实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别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按定义实型变量的方法，写出定义体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  f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将变量名换成别名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  REAL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定义体最前面加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  float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0.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给如下所示的结构类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dat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别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int year,  month, da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按定义结构变量的方法，写出定义体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date {……}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将变量名换成别名：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uct date {……} 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在定义体最前面加上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typede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typedef struct date {……} 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是给已有类型增加１个别名，并不能创造１个新的类型。就如同人一样，除学名外，可以再取一个小名（或雅号），但并不能创造出另一个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ype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相似之处，但二者是不同的：前者是由编译器在编译时处理的；后者是由编译预处理器在编译预处理时处理的，而且只能作简单的字符串替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结构类型名”和“数据项”的命名规则，与变量名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类型相同的数据项，既可逐个、逐行分别定义，也可合并成一行定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本案例代码中的日期结构类型，也可改为如下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int  year, month, da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结构类型中的数据项，既可以是基本数据类型，也允许是另一个已经定义的结构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本案例代码中的结构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_in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数据项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rthday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一个已经定义的日期结构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本书将１个数据项称为结构类型的１个成员（或分量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1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变量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户自己定义的结构类型，与系统定义的标准类型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）一样，可用来定义结构变量的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结构变量的方法，可概括为两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间接定义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──先定义结构类型、再定义结构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利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定义的学生信息结构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_inf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定义了一个相应的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uct  std_info  stud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拥有结构类型的全部成员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rthd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是一个日期结构类型，它又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成员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使用间接定义法定义结构变量时，必须同时指定结构类型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直接定义法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──在定义结构类型的同时，定义结构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结构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定义可以改为如下形式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stud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同时定义结构类型及其结构变量的一般格式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ruct  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构类型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结构变量表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结构类型与结构变量是两个不同的概念，其区别如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型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变量的区别一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结构类型中的成员名，可以与程序中的变量同名，它们代表不同的对象，互不干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0.2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构变量的引用与初始化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定义的结构类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定义一个结构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用于存储和显示一个学生的基本情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0_2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"struct.h"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并初始化一个外部结构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 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ct  std_info  student={"000102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{1980,9,20}}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{ printf("No: %s\n",student.no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printf("Name: %s\n",student.name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printf("Sex: %s\n",student.sex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printf("Birthday: %d-%d-%d\n",student.birthday.yea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udent.birthday.month, student.birthday.d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: 0001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张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x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rthday:1980-9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变量的引用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结构变量，要通过成员运算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逐个访问其成员，且访问的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结构变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成员运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案例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n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引用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，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某成员本身又是一个结构类型，则只能通过多级的分量运算，对最低一级的成员进行引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时的引用格式扩展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子成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…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级子成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引用结构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irthd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成员的格式分别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birthday.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birthday.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.birthday.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最低一级成员，可像同类型的普通变量一样，进行相应的各种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既可引用结构变量成员的地址，也可引用结构变量的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38:17Z</dcterms:created>
  <dc:creator>Xu xinhua</dc:creator>
  <dc:description/>
  <dc:language>en-US</dc:language>
  <cp:lastModifiedBy>Xu xinhua</cp:lastModifiedBy>
  <dcterms:modified xsi:type="dcterms:W3CDTF">2001-08-21T10:30:50Z</dcterms:modified>
  <cp:revision>61</cp:revision>
  <dc:subject/>
  <dc:title>第10章    结构与链表</dc:title>
</cp:coreProperties>
</file>