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429B-622D-4030-95EB-191E568E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7BD-6659-4278-B4ED-8ECF166E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6FC-B8BE-4F71-932B-B2657F5A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5FE-3A40-47C6-95A5-1AAFC873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6D2-4AD3-4B58-A3B8-0A1F156B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469-01C6-408A-BE3E-E12E75D3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4B6-6DEE-47DA-A0A4-2EA3A0BD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A10-0C01-4FE6-8BF6-D81BB3CB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944D-CA86-40E6-84B6-029A100C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FFD-24FD-486C-95A2-7DE44F54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3B2-F2DC-44F7-822F-BC788DB4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850-FF0A-4705-92B4-8075E569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EBE9-1F2F-40F7-9F33-C882581F01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5.xml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8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章    编译预处理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编译预处理是指，在对源程序进行编译之前，先对源程序中的编译预处理命令进行处理；然后再将处理的结果，和源程序一起进行编译，以得到目标代码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352680"/>
            <a:ext cx="35053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8.1 宏定义与符号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8.2  文件包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8.3  条件编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696080" cy="27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文件包含的优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大程序，通常分为多个模块，并由多个程序员分别编程。有了文件包含处理功能，就可以将多个模块共用的数据（如符号常量和数据结构）或函数，集中到一个单独的文件中。这样，凡是要使用其中数据或调用其中函数的程序员，只要使用文件包含处理功能，将所需文件包含进来即可，不必再重复定义它们，从而减少重复劳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编译预处理时，预处理程序将查找指定的被包含文件，并将其复制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includ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出现的位置上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91440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常用在文件头部的被包含文件，称为“标题文件”或“头部文件”，常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e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作为后缀，简称头文件。在头文件中，除可包含宏定义外，还可包含外部变量定义、结构类型定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条包含命令，只能指定一个被包含文件。如果要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文件，则要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包含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文件包含可以嵌套，即被包含文件中又包含另一个文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8160" y="541008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3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条件编译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3123720"/>
            <a:ext cx="7162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752480"/>
            <a:ext cx="784872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编译可有效地提高程序的可移植性，并广泛地应用在商业软件中，为一个程序提供各种不同的版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 action="ppaction://hlinksldjump"/>
              </a:rPr>
              <a:t>8.3.1  #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2" action="ppaction://hlinksldjump"/>
              </a:rPr>
              <a:t>ifde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3" action="ppaction://hlinksldjump"/>
              </a:rPr>
              <a:t> ~ #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4" action="ppaction://hlinksldjump"/>
              </a:rPr>
              <a:t>endi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5" action="ppaction://hlinksldjump"/>
              </a:rPr>
              <a:t>和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6" action="ppaction://hlinksldjump"/>
              </a:rPr>
              <a:t>#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7" action="ppaction://hlinksldjump"/>
              </a:rPr>
              <a:t>ifnde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8" action="ppaction://hlinksldjump"/>
              </a:rPr>
              <a:t> ~ #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9" action="ppaction://hlinksldjump"/>
              </a:rPr>
              <a:t>endi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10" action="ppaction://hlinksldjump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11" action="ppaction://hlinksldjump"/>
              </a:rPr>
              <a:t>8.3.2  #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12" action="ppaction://hlinksldjump"/>
              </a:rPr>
              <a:t>if ~ #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13" action="ppaction://hlinksldjump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3080" y="525780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8.3.1  #ifdef ~ #endi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#ifndef ~ #endi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命令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def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识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“标识符”已经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定义过，则编译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编译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不同的系统中，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数据占用的内存字节数可能是不同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914400"/>
            <a:ext cx="784872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利用条件编译，还可使同一源程序即适合于调试（进行程序跟踪、打印较多的状态或错误信息），又适合高效执行要求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ifndef ~ #end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ifdef ~ #end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一样，功能正好与之相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22200" y="46483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8.3.2  #if ~ #endif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表达式为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“逻辑真”）时，编译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编译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一个口令，根据需要设置条件编译，使之能将口令原码输出，或仅输出若干星号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8_2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  PASSWORD   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预置为输出星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件编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f   PASSWORD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源码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…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else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星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…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2360" y="586728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1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宏定义与符号常量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中，“宏”分为无参数的宏（简称无参宏）和有参数的宏（简称有参宏）两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819520"/>
            <a:ext cx="4190760" cy="13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 action="ppaction://hlinksldjump"/>
              </a:rPr>
              <a:t>8.1.1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2" action="ppaction://hlinksldjump"/>
              </a:rPr>
              <a:t>无参宏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3" action="ppaction://hlinksldjump"/>
              </a:rPr>
              <a:t>8.1.2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4" action="ppaction://hlinksldjump"/>
              </a:rPr>
              <a:t>符号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5" action="ppaction://hlinksldjump"/>
              </a:rPr>
              <a:t>8.1.3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6" action="ppaction://hlinksldjump"/>
              </a:rPr>
              <a:t>有参宏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1298160" y="472428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8.1.1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无参宏定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无参宏定义的一般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#define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标识符   语言符号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中：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efine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宏定义命令；“标识符”为所定义的宏名，通常用大写字母表示，以便于与变量区别；“语言符号字符串”可以是常数、表达式、格式串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使用宏定义的优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可提高源程序的可维护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可提高源程序的可移植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减少源程序中重复书写字符串的工作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8.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输入圆的半径，求圆的周长、面积和球的体积。要求使用无参宏定义圆周率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L8_1.C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序功能：输入圆的半径，求圆的周长、面积和球的体积。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#define PI 3.1415926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P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是宏名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.141592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来替换宏名的常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float radius,length,area,volu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"Input a radius: "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canf("%f",&amp;radi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length=2*PI*radius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引用无参宏求周长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rea=PI*radius*radius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引用无参宏求面积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volume=PI*radius*radius*radius*3/4;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引用无参宏求体积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"length=%.2f,area=%.2f,volume=%.2f\n", length, area, volu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685800"/>
            <a:ext cx="815328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宏名一般用大写字母表示，以示与变量区别。但这并非是规定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宏定义不是Ｃ语句，所以不能在行尾加分号。否则，宏展开时，会将分号作为字符串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字符，用于替换宏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宏展开时，预处理程序仅以按宏定义简单替换宏名，而不作任何检查。如果有错误，只能由编译程序在编译宏展开后的源程序时发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宏定义命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出现在函数的外部，宏名的有效范围是：从定义命令之后， 到本文件结束。通常，宏定义命令放在文件开头处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进行宏定义时，可以引用已定义的宏名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对双引号括起来的字符串内的字符，即使与宏名同名，也不进行宏展开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1128240" y="586728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8.1.2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符号常量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定义无参宏时，如果“语言符号字符串”是一个常量，则相应的“宏名”就是一个符号常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恰当命名的符号常量，除具有宏定义的上述优点外，还能表达出它所代表常量的实际含义，从而增强程序的可读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 EOF      -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 NULL    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指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 MIN       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极小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 MAX   3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极大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 STEP     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步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128240" y="594360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8.1.3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有参宏定义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带参宏定义的一般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#define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宏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形参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语言符号字符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带参宏的调用和宏展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格式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宏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参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宏展开：用宏调用提供的实参字符串，直接置换宏定义命令行中、相应形参字符串，非形参字符保持不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定义有参宏时，宏名与左圆括号之间不能留有空格。否则，Ｃ编译系统将空格以后的所有字符均作为替代字符串，而将该宏视为无参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有参宏的展开，只是将实参作为字符串，简单地置换形参字符串，而不做任何语法检查。在定义有参宏时，在所有形参外和整个字符串外，均加一对圆括号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762120"/>
            <a:ext cx="7925040" cy="31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虽然有参宏与有参函数确实有相似之处，但不同之处更多，主要有以下几个方面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有参函数时，是先求出实参的值，然后再复制一份给形参。而展开有参宏时，只是将实参简单地置换形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有参函数中，形参是有类型的，所以要求实参的类型与其一致；而在有参宏中，形参是没有类型信息的，因此用于置换的实参，什么类型都可以。有时，可利用有参宏的这一特性，实现通用函数功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使用有参函数，无论调用多少次，都不会使目标程序变长，但每次调用都要占用系统时间进行调用现场保护和现场恢复；而使用有参宏，由于宏展开是在编译时进行的，所以不占运行时间，但是每引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，都会使目标程序增大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1204560" y="609588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2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文件包含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文件包含的概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包含是指，一个源文件可以将另一个源文件的全部内容包含进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文件包含处理命令的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clude  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包含文件名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或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nclude  &l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包含文件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两种格式的区别仅在于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使用双引号：系统首先到当前目录下查找被包含文件，如果没找到，再到系统指定的“包含文件目录”（由用户在配置环境时设置）去查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使用尖括号：直接到系统指定的“包含文件目录”去查找。一般地说，使用双引号比较保险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07:52:14Z</dcterms:created>
  <dc:creator>梦翔电脑</dc:creator>
  <dc:description/>
  <dc:language>en-US</dc:language>
  <cp:lastModifiedBy>Xu xinhua</cp:lastModifiedBy>
  <dcterms:modified xsi:type="dcterms:W3CDTF">2001-08-23T03:37:59Z</dcterms:modified>
  <cp:revision>18</cp:revision>
  <dc:subject/>
  <dc:title>第8章    编译预处理 </dc:title>
</cp:coreProperties>
</file>