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6E4-1BC8-48BA-938B-5A2DDBE8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AA7-6D81-4DCE-A008-5D532B9B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25A-47F8-4B45-909A-F084B9B5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A9B-0E84-465C-B72A-2303E6C1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79C-C90D-47C9-8B57-C6187AD5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4F5-5744-4238-A820-BDA95443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58D-2E0E-4370-B3DF-F7F6934D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826-F465-4894-A514-23B67DD2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E24-E809-4FD3-9103-D9C1962D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708-9837-4C52-894E-70B6C43B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051-1E20-4B1D-A3CE-B0179B5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61F-34DB-4B23-A5A6-8D8C851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84A1-44C3-4F37-8353-367569CBD7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slide" Target="slide28.xml"/><Relationship Id="rId5" Type="http://schemas.openxmlformats.org/officeDocument/2006/relationships/slide" Target="slide36.xml"/><Relationship Id="rId6" Type="http://schemas.openxmlformats.org/officeDocument/2006/relationships/slide" Target="slide43.xml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5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8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4.xml"/><Relationship Id="rId3" Type="http://schemas.openxmlformats.org/officeDocument/2006/relationships/slide" Target="slide48.xml"/><Relationship Id="rId4" Type="http://schemas.openxmlformats.org/officeDocument/2006/relationships/slide" Target="slide48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章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函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数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是通过函数来实现模块化程序设计的。所以较大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应用程序，往往是由多个函数组成的，每个函数分别对应各自的功能模块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7.1  函数的定义与调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7.2  函数的嵌套调用与递归调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7.3  数组作为函数参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7.4  内部变量与外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7.5  内部函数与外部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7.6  变量的动态存储与静态存储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1.4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的调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程序中，是通过对函数的调用来执行函数体的，其过程与其它语言的子程序调用相似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语言中，函数调用的一般形式为：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际参数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切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实参的个数、类型和顺序，应该与被调用函数所要求的参数个数、类型和顺序一致，才能正确地进行数据传递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Ｃ语言中，可以用以下几种方式调用函数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函数表达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函数作为表达式的一项，出现在表达式中，以函数返回值参与表达式的运算。这种方式要求函数是有返回值的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）函数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中的函数可以只进行某些操作而不返回函数值，这时的函数调用可作为一条独立的语句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函数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函数作为另一个函数调用的实际参数出现。这种情况是把该函数的返回值作为实参进行传送，因此要求该函数必须是有返回值的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8580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函数时，函数名称必须与具有该功能的自定义函数名称完全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参在类型上按顺序与形参，必须一一对应和匹配。如果类型不匹配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译程序将按赋值兼容的规则进行转换。如果实参和形参的类型不赋值兼容，通常并不给出出错信息，且程序仍然继续执行，只是得不到正确的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实参表中包括多个参数，对实参的求值顺序随系统而异。有的系统按自左向右顺序求实参的值，有的系统则相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rbo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S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按自右向左的顺序进行的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1204560" y="59436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1.5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函数的形参与实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参数分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形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实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种，作用是实现数据传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形参出现在函数定义中，只能在该函数体内使用。发生函数调用时，调用函数把实参的值复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份，传送给被调用函数的形参，从而实现调用函数向被调用函数的数据传送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参对形参的数据传递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参对形参的数据传递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7_3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void  s(int n);  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=100;       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实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并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(n);                  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用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_s=%d\n",n);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调用后实参的值，便于进行比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 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 s(int 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_x=%d\n",n);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改变前形参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n-1; i&gt;=1; i--)  n=n+i;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改变形参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_x=%d\n",n);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改变后形参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实参可以是常量、变量、表达式、函数等。无论实参是何种类型的量，在进行函数调用时，它们都必须具有确定的值，以便把这些值传送给形参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此，应预先用赋值、输入等办法，使实参获得确定的值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形参变量只有在被调用时，才分配内存单元；调用结束时，即刻释放所分配的内存单元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此，形参只有在该函数内有效。调用结束，返回调用函数后，则不能再使用该形参变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实参对形参的数据传送是单向的，即只能把实参的值传送给形参，而不能把形参的值反向地传送给实参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实参和形参占用不同的内存单元，即使同名也互不影响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7280" y="571500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2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函数的嵌套调用和递归调用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2.1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的嵌套调用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嵌套调用是指，在执行被调用函数时，被调用函数又调用了其它函数。这与其它语言的子程序嵌套调用的情形是类似的，其关系可表示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6-1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617220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90720" y="9903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4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=1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……+N 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k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7_4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函数的嵌套调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K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define N 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 f1(int n,int k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ong power=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1;i&lt;k;i++)  power *= 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power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ng  f2(int n,int k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方之累加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long sum=0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1;i&lt;=n;i++)  sum += f1(i, k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 sum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Sum of %d powers of integers from 1 to %d = ",K,N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\n",f2(N,K)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9144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7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的递归调用</a:t>
            </a:r>
            <a:br>
              <a:rPr sz="1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递归调用是指，一个函数在它的函数体内，直接或间接地调用它自身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允许函数的递归调用。在递归调用中，调用函数又是被调用函数，执行递归函数将反复调用其自身。每调用一次就进入新的一层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防止递归调用无终止地进行，必须在函数内有终止递归调用的手段。常用的办法是加条件判断，满足某种条件后就不再作递归调用，然后逐层返回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90720" y="1142640"/>
            <a:ext cx="7238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递归法计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n!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7_5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通过函数的递归调用计算阶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power(int 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long f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n&gt;1)  f=power(n-1)*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f=1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(f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的定义与调用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1" action="ppaction://hlinksldjump"/>
              </a:rPr>
              <a:t>7.1.1  函数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2" action="ppaction://hlinksldjump"/>
              </a:rPr>
              <a:t>7.1.2  函数的返回值与函数类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3" action="ppaction://hlinksldjump"/>
              </a:rPr>
              <a:t>7.1.3  对被调用函数的说明和函数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4" action="ppaction://hlinksldjump"/>
              </a:rPr>
              <a:t>7.1.4  函数的调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5" action="ppaction://hlinksldjump"/>
              </a:rPr>
              <a:t>7.1.5  函数的形参与实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8080" y="48006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n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y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input a inteager number:\n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",&amp;n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power(n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d!=%ld\n",n,y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组作为函数参数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用作函数参数有两种形式：一种是把数组元素（又称下标变量）作为实参使用；另一种是把数组名作为函数的形参和实参使用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7.3.1  数组元素作为函数参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7.3.2  数组名作为函数的形参和实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5440" y="51814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3.1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数组元素作为函数参数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元素就是下标变量，它与普通变量并无区别。数组元素只能用作函数实参，其用法与普通变量完全相同：在发生函数调用时，把数组元素的值传送给形参，实现单向值传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.6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一函数，统计字符串中字母的个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7_6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数组元素作为函数实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 isalp(char c)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f  (c&gt;='a'&amp;&amp;c&lt;='z'||c&gt;='A'&amp;&amp;c&lt;='Z'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(1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  return(0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int i,num=0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str[255]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Input  a  string: 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(str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0;str[i]!='\0';i++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 (isalp(str[i]))    num++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s(str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=%d\n",num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数组元素作实参时，只要数组类型和函数的形参类型一致即可，并不要求函数的形参也是下标变量。换句话说，对数组元素的处理是按普通变量对待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普通变量或下标变量作函数参数时，形参变量和实参变量是由编译系统分配的两个不同的内存单元。在函数调用时发生的值传送，是把实参变量的值赋予形参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3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数组名作为函数的形参和实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作函数参数时，既可以作形参，也可以作实参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名作函数参数时，要求形参和相对应的实参都必须是类型相同的数组（或指向数组的指针变量），都必须有明确的数组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某个学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门课程的成绩，求平均成绩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7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 aver(float a[ ])   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平均值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 av,s=a[0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&lt;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++)  s +=  a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v=s/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 a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 main(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float sco[5],a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input 5 scores:\n"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&lt;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++)  scanf("%f",&amp;sco[i]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v=aver(sco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调用函数，实参为一数组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average score is %5.2f\n",av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85800"/>
            <a:ext cx="7696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数组名作函数参数，应该在调用函数和被调用函数中分别定义数组，且数据类型必须一致，否则结果将出错。例如，在本案例中，形参数组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实参数组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o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它们的数据类型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译系统对形参数组大小不作检查，所以形参数组可以不指定大小。例如，本案例中的形参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[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指定形参数组的大小，则实参数组的大小必须大于等于形参数组，否则因形参数组的部分元素没有确定值而导致计算结果错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4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部变量与外部变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239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中所有的变量都有自己的作用域。变量说明的位置不同，其作用域也不同，据此将Ｃ语言中的变量分为内部变量和外部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7.4.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内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7.4.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外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1661760" y="56386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4.1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内部变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一个函数内部说明的变量是内部变量，它只在该函数范围内有效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就是说，只有在包含变量说明的函数内部，才能使用被说明的变量，在此函数之外就不能使用这些变量了。所以内部变量也称“局部变量”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 .1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的定义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任何函数（包括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都是由函数说明和函数体两部分组成。根据函数是否需要参数，可将函数分为无参函数和有参函数两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无参函数的一般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void 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语句部分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执行语句部分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旧标准中，函数可以缺省参数表。但在新标准中，函数不可缺省参数表；如果不需要参数，则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i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，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外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1(int a)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b,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a,b,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用域：仅限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f2(int x)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2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y,z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x,y,z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用域：仅限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2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m,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m,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用域：仅限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于局部变量的作用域还要说明以下几点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定义的内部变量，也只能在主函数中使用，其它函数不能使用。同时，主函数中也不能使用其它函数中定义的内部变量。因为主函数也是一个函数，与其它函数是平行关系。这一点是与其它语言不同的，应予以注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形参变量也是内部变量，属于被调用函数；实参变量，则是调用函数的内部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允许在不同的函数中使用相同的变量名，它们代表不同的对象，分配不同的单元，互不干扰，也不会发生混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在复合语句中也可定义变量，其作用域只在复合语句范围内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64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4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外部变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函数外部定义的变量称为外部变量。以此类推，在函数外部定义的数组就称为外部数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变量不属于任何一个函数，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作用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：从外部变量的定义位置开始，到本文件结束为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变量可被作用域内的所有函数直接引用，所以外部变量又称全局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380880"/>
            <a:ext cx="80773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长方体的长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宽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高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求长方体体积及正、侧、顶三个面的面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9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利用全局变量计算长方体的体积及三个面的面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s1,s2,s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vs(int a,int b,int 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=a*b*c;  s1=a*b;  s2=b*c;  s3=a*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 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v,l,w,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rsc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input length,width and heigh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%d%d",&amp;l,&amp;w,&amp;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=vs(l,w,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v=%d    s1=%d    s2=%d    s3=%d\n",v,s1,s2,s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对于全局变量还有以下几点说明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外部变量可加强函数模块之间的数据联系，但又使这些函数依赖这些外部变量，因而使得这些函数的独立性降低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模块化程序设计的观点来看这是不利的，因此不是非用不可时，不要使用外部变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同一源文件中，允许外部变量和内部变量同名。在内部变量的作用域内，外部变量将被屏蔽而不起作用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外部变量的作用域是从定义点到本文件结束。如果定义点之前的函数需要引用这些外部变量时，需要在函数内对被引用的外部变量进行说明。外部变量说明的一般形式为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类型  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……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外部变量的定义和外部变量的说明是两回事。外部变量的定义，必须在所有的函数之外，且只能定义一次。而外部变量的说明，出现在要使用该外部变量的函数内，而且可以出现多次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10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变量的定义与说明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10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vs(int xl,int xw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extern int 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=xl*xw*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直接使用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 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extern int xw,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变量的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xl=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部变量的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xl=%d,xw=%d,xh=%d\nv=%d",xl,xw,xh,vs(xl,xw)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xl=3,xw=4,xh=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w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096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5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部函数和外部函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" action="ppaction://hlinksldjump"/>
              </a:rPr>
              <a:t>7.5.1  内部函数（又称静态函数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2" action="ppaction://hlinksldjump"/>
              </a:rPr>
              <a:t>7.5.2  外部函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3" action="ppaction://hlinksldjump"/>
              </a:rPr>
              <a:t>7.5.3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4" action="ppaction://hlinksldjump"/>
              </a:rPr>
              <a:t>多个源程序文件的编译和连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05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一个源程序由多个源文件组成时，Ｃ语言根据函数能否被其它源文件中的函数调用，将函数分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外部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09480" y="54864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7.5.1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内部函数（又称静态函数）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95280"/>
            <a:ext cx="7924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在一个源文件中定义的函数，只能被本文件中的函数调用，而不能被同一程序其它文件中的函数调用，这种函数称为内部函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内部函数，只需在函数类型前再加一个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键字即可，如下所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参数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键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译成中文就是“静态的”，所以内部函数又称静态函数。但此处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含义不是指存储方式，而是指对函数的作用域仅局限于本文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内部函数的好处是：不同的人编写不同的函数时，不用担心自己定义的函数，是否会与其它文件中的函数同名，因为同名也没有关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960" y="594360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7.5.2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外部函数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函数的定义：在定义函数时，如果没有加关键字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或冠以关键字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表示此函数是外部函数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[extern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参数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调用外部函数时，需要对其进行说明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[extern]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参数类型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)[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，函数名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参数类型表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2)……]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部函数应用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f.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extern void input(…),process(…),output(…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(…);  process(…);  output(…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153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bf1.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 void input(……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外部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bf2.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 void process(……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外部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文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bf3.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xtern void output(……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外部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066680"/>
            <a:ext cx="7543800" cy="42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有参函数的一般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类型  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数据类型  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……]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语句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执行语句部分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参函数比无参函数多了一个参数表。调用有参函数时，调用函数将赋予这些参数实际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与调用函数提供的实际参数区别开，将函数定义中的参数表称为形式参数表，简称形参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5.3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多个源程序文件的编译和连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般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辑各源文件 → 创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项目）文件 → 设置项目名称 → 编译、连接，运行，查看结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项目）文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编辑源文件相同的方法，创建一个扩展名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PR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项目文件：该文件中仅包括将被编译、连接的各源文件名，一行一个，其扩展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缺省；文件名的顺序，仅影响编译的顺序，与运行无关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有某个（些）源文件不在当前目录下，则应在文件名前冠以路径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8380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项目名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菜单，选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 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输入项目文件名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编译、连接，运行，查看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单个源文件相同。编译产生的目标文件，以及连接产生的可执行文件，它们的主文件名，均与项目文件的主文件名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前项目文件调试完毕后，应选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r proje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将其项目名称从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ject nam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清除（清除后为空）。否则，编译、连接和运行的，始终是该项目文件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09480" y="99072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关于错误跟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缺省时，仅跟踪当前一个源程序文件。如果希望自动跟踪项目中的所有源文件，则应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ssage Track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关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 files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连续按回车键，直至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l file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现为止。此时，滚动消息窗口中的错误信息时，系统会自动加载相应的源文件到编辑窗口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关闭跟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ssage Trackin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ff”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此时，只要定位于感兴趣的错误信息上，然后回车，系统也会自动将相应源文件加载到编辑窗口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3600" y="54100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6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变量的动态存储与静态存储简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391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对变量的存储类型说明有以下四种：自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uto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寄存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register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外部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exter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静态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tatic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自动变量和寄存器变量属于动态存储方式，外部变量和静态内部变量属于静态存储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7.6.1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 action="ppaction://hlinksldjump"/>
              </a:rPr>
              <a:t>  内部变量的存储方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3" action="ppaction://hlinksldjump"/>
              </a:rPr>
              <a:t>7.6.2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4" action="ppaction://hlinksldjump"/>
              </a:rPr>
              <a:t>外部变量的存储方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33160" y="53341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.6.1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内部变量的存储方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静态存储──静态内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定义格式：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内部变量表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静态内部变量属于静态存储。在程序执行过程中，即使所在函数调用结束也不释放。换句话说，在程序执行期间，静态内部变量始终存在，但其它函数是不能引用它们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定义但不初始化，则自动赋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整型和实型）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字符型）；且每次调用它们所在的函数时，不再重新赋初值，只是保留上次调用结束时的值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何时使用静态内部变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需要保留函数上一次调用结束时的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只被引用而不改变其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914400"/>
            <a:ext cx="777240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态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自动局部变量（又称自动变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定义格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变量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存储特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自动变量属于动态存储方式。在函数中定义的自动变量，只在该函数内有效；函数被调用时分配存储空间，调用结束就释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复合语句中定义的自动变量，只在该复合语句中有效；退出复合语句后，也不能再使用，否则将引起错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定义而不初始化，则其值是不确定的。如果初始化，则赋初值操作是在调用时进行的，且每次调用都要重新赋一次初值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由于自动变量的作用域和生存期，都局限于定义它的个体内（函数或复合语句），因此不同的个体中允许使用同名的变量而不会混淆。即使在函数内定义的自动变量，也可与该函数内部的复合语句中定义的自动变量同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建议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系统不会混淆，并不意味着人也不会混淆，所以尽量少用同名自动变量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.13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动变量与静态局部变量的存储特性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13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  auto_static(voi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var_auto=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自动变量：每次调用都重新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 int var_static=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静态局部变量：只初始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var_auto=%d, var_static=%d\n”, var_auto, var_static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+var_auto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+var_static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 int 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5; i++) auto_static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8380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存器存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──寄存器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情况下，变量的值都是存储在内存中的。为提高执行效率，Ｃ语言允许将局部变量的值存放到寄存器中，这种变量就称为寄存器变量。定义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egister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 变量表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只有局部变量才能定义成寄存器变量，即全局变量不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寄存器变量的实际处理，随系统而异。例如，微机上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寄存器变量实际当作自动变量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允许使用的寄存器数目是有限的，不能定义任意多个寄存器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6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外部变量的存储方式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部变量属于静态存储方式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静态外部变量──只允许被本源文件中的函数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定义格式为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外部变量表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非静态外部变量──允许被其它源文件中的函数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时缺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键字的外部变量，即为非静态外部变量。其它源文件中的函数，引用非静态外部变量时，需要在引用函数所在的源文件中进行说明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tern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外部变量表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函数内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te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说明，表示引用本源文件中的外部变量！而函数外（通常在文件开头）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xte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说明，表示引用其它文件中的外部变量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914400"/>
            <a:ext cx="73915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静态局部变量和静态外部变量同属静态存储方式，但两者区别较大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定义的位置不同。静态局部变量在函数内定义，静态外部变量在函数外定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作用域不同。静态局部变量属于内部变量，其作用域仅限于定义它的函数内；虽然生存期为整个源程序，但其它函数是不能使用它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静态外部变量在函数外定义，其作用域为定义它的源文件内；生存期为整个源程序，但其它源文件中的函数也是不能使用它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初始化处理不同。静态局部变量，仅在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调用它所在的函数时被初始化，当再次调用定义它的函数时，不再初始化，而是保留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调用结束时的值。而静态外部变量是在函数外定义的，不存在静态内部变量的“重复”初始化问题，其当前值由最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给它赋值的操作决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.1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函数，用于求两个数中的大数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7_1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定义一个求较大数的函数并在主函数中调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max(int n1, int n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一个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return (n1&gt;n2?n1:n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max(int n1, int n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num1,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two numbers:\n"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%d", &amp;num1, &amp;num2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max=%d\n", max(num1,num2)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程序暂停，按任一键继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91440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务必牢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局部变量改变为静态内部变量后，改变了它的存储方式，即改变了它的生存期。把外部变量改变为静态外部变量后，改变了它的作用域，限制了它的使用范围。因此，关键字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不同的地方所起的作用是不同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85800"/>
            <a:ext cx="7696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函数定义不允许嵌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Ｃ语言中，所有函数（包括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都是平行的。一个函数的定义，可以放在程序中的任意位置，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前或之后。但在一个函数的函数体内，不能再定义另一个函数，即不能嵌套定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空函数──既无参数、函数体又为空的函数。其一般形式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老版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中，参数类型说明允许放在函数说明部分的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单独指定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1280880" y="57913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1.2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函数的返回值与函数类型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语言的函数兼有其它语言中的函数和过程两种功能，从这个角度看，又可把函数分为有返回值函数和无返回值函数两种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函数返回值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参函数的返回值，是通过函数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来获得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一般格式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 (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值表达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功能：返回调用函数，并将“返回值表达式”的值带给调用函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调用函数中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，并不是不返回一个值，而是一个不确定的值。为了明确表示不返回值，可以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void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成“无（空）类型”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72392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函数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定义函数时，对函数类型的说明，应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中、返回值表达式的类型一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不一致，则以函数类型为准。如果缺省函数类型，则系统一律按整型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良好的程序设计习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为了使程序具有良好的可读性并减少出错，凡不要求返回值的函数都应定义为空类型；即使函数类型为整型，也不使用系统的缺省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433160" y="518148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7.1.3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被调用函数的说明和函数原型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新标准中，采用函数原型方式，对被调用函数进行说明，其一般格式如下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函数类型  函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[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类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参数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]…]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语言同时又规定，在以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情况下，可以省去对被调用函数的说明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当被调用函数的函数定义出现在调用函数之前时。因为在调用之前，编译系统已经知道了被调用函数的函数类型、参数个数、类型和顺序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如果在所有函数定义之前，在函数外部（例如文件开始处）预先对各个函数进行了说明，则在调用函数中可缺省对被调用函数的说明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1128240" y="60199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12:50:27Z</dcterms:created>
  <dc:creator>梦翔电脑</dc:creator>
  <dc:description/>
  <dc:language>en-US</dc:language>
  <cp:lastModifiedBy>Xu xinhua</cp:lastModifiedBy>
  <dcterms:modified xsi:type="dcterms:W3CDTF">2001-08-23T09:00:14Z</dcterms:modified>
  <cp:revision>60</cp:revision>
  <dc:subject/>
  <dc:title>第7章    函    数 </dc:title>
</cp:coreProperties>
</file>