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AD9-9342-4940-9CA4-71923744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1EB-C778-48E2-A5B3-F3811DF2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D0D2-37C9-422F-B4BB-3E950BCD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F8D-C07D-4E36-B3A1-480308D9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4EF-8A45-4579-AB96-C2B1928D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569-BBEB-4446-8C76-80EE4327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1E4-22CC-477E-B947-08CCBDBE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36D-2546-4EAB-AB26-0EEC2C2E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230-2F8B-4F32-99A5-32D3D8CD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DA2-6E3C-453D-AB56-28541820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106-55B9-4905-AFC5-5AF1DE4B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177-2034-45CA-AD21-9E3DCB17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1507-25F6-40AC-8B66-9FB0C3A256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82880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解决比较复杂的问题，本章介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提供的一种最简单的构造类型──数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6.1  1维数组的定义和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6.2  2维数组的定义和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6.3  字符数组与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章    数    组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6.1.4  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维数组应用举例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某课程的平时、实习、测验和期末成绩，求该课程的总评成绩。其中平时、实习、测验和期末分别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6_2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从键盘上循环输入某课程的平时、实习、测验和期末成绩，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％的比例计算总评成绩，并在屏幕上显示出来。按空格键继续循环，其他键终止循环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“stdio.h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=1,j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char con_key=‘\x20’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/* ‘\x20’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空格键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float score[5],ratio[4]={0.1,0.2,0.2,0.5};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成绩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比例系数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while(con_key=='\x20')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hile(con_key=='\x20'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clrscr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2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学生的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\n", i++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平时    实习    测验    期末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[4]=0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score[4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存储总评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0; j&lt;4; 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scanf("%f",&amp;score[j]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[4] += score[j] * ratio[j]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总评成绩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%6.1f\n", score[4]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按空格键继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它键退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_key=getch();        /*getch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等待从键盘上输入一个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2   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数组的定义和引用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120760"/>
            <a:ext cx="75438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 action="ppaction://hlinksldjump"/>
              </a:rPr>
              <a:t>6.2.1  2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2" action="ppaction://hlinksldjump"/>
              </a:rPr>
              <a:t>维数组的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3" action="ppaction://hlinksldjump"/>
              </a:rPr>
              <a:t>6.2.2  2维数组元素的引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4" action="ppaction://hlinksldjump"/>
              </a:rPr>
              <a:t>6.2.3  2维数组元素的初始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.2.4  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维数组应用举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975960" y="457200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给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各元素赋值，并输出全部元素的值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6_3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从键盘上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组赋值，并在屏幕上显示出来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Row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Col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, j, array[Row][Col]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列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Row; i++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循环：控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的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0; j&lt;Col; j++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循环：控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的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printf("please input array[%2d][%2d]:",i,j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",&amp;array[i][j]);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键盘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i][j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ray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i&lt;Row;i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80880" y="272880"/>
            <a:ext cx="8382240" cy="6415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6.2.1  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维数组的定义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for(j=0;j&lt;Col;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\t",array[i][j]);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i][j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显示在屏幕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的定义方式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  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]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]……]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数组元素在内存中的排列顺序为“按行存放”，即先顺序存放第一行的元素，再存放第二行，以此类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有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的元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i][j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数组中的位置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*n+j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行号、列号均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计数）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可以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看作是一种特殊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：它的元素又是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3][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可以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作是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，它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每个元素又是一个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即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作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的名字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4480" y="44197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6.2.2  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维数组元素的引用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元素的形式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下标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列下标表达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行下标表达式”和“列下标表达式”，都应是整型表达式或符号常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行下标表达式”和“列下标表达式”的值，都应在已定义数组大小的范围内。假设有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[3][4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可用的行下标范围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列下标范围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对基本数据类型的变量所能进行的操作，也都适合于相同数据类型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元素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65000" y="60199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6.2.3  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维数组元素的初始化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按行赋初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据类型  数组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常量表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列常量表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初值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初值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……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最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初值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}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规则：将“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初值表”中的数据，依次赋给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中各元素；将“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初值表”中的数据，依次赋给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各元素；以此类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在内存中的排列顺序给各元素赋初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据类型  数组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行常量表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列常量表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初值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规则：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数组在内存中的排列顺序，将初值表中的数据，依次赋给各元素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对全部元素都赋初值，则“行数”可以省略。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只能省略“行数”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536400" y="60199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6.2.4  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维数组应用举例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学生，学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门课程，已知所有学生的各科成绩，编程：分别求每个学生的平均成绩和每门课程的平均成绩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6_4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计算个人平均成绩与各科平均成绩，并在屏幕上显示出来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NUM_std  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符号常量人数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NUM_course  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符号常量课程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,j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atic float score[NUM_std+1][NUM_course+1]={{78,85,83,65}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88,91,89,93}, {72,65,54,75}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86,88,75,60}, {69,60,50,72}}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i&lt;NUM_std;i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for(j=0;j&lt;NUM_course;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score[i][NUM_course] += score[i][j];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人的总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[NUM_std][j] += score[i][j]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门课的总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[i][NUM_course] /= NUM_course;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人的平均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0;j&lt;NUM_course;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[NUM_std][j] /= NUM_std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门课的平均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rscr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表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生编号  课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课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人平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每个学生的各科成绩和平均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1   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数组的定义和引用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2120760"/>
            <a:ext cx="632448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 action="ppaction://hlinksldjump"/>
              </a:rPr>
              <a:t>6.1.1  1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2" action="ppaction://hlinksldjump"/>
              </a:rPr>
              <a:t>维数组的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3" action="ppaction://hlinksldjump"/>
              </a:rPr>
              <a:t>6.1.2  1维数组元素的引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4" action="ppaction://hlinksldjump"/>
              </a:rPr>
              <a:t>6.1.3  1维数组元素的初始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.1.4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维数组应用举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280880" y="487692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i&lt;NUM_std;i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printf(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d\t",i+1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0;j&lt;NUM_course+1;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6.1f\t",score[i][j]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短划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0;j&lt;8*(NUM_course+2);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-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课程平均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每门课程的平均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0;j&lt;NUM_course;j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6.1f\t",score[NUM_std][j]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3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字符数组与字符串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608200"/>
            <a:ext cx="73152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1" action="ppaction://hlinksldjump"/>
              </a:rPr>
              <a:t>6.3.1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2" action="ppaction://hlinksldjump"/>
              </a:rPr>
              <a:t> 字符数组的逐个字符操作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黑体"/>
                <a:ea typeface="黑体"/>
                <a:hlinkClick r:id="rId3" action="ppaction://hlinksldjump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4" action="ppaction://hlinksldjump"/>
              </a:rPr>
              <a:t>6.3.2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5" action="ppaction://hlinksldjump"/>
              </a:rPr>
              <a:t>字符数组的整体操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6" action="ppaction://hlinksldjump"/>
              </a:rPr>
              <a:t>6.3.3  </a:t>
            </a:r>
            <a:r>
              <a:rPr b="1" lang="zh-CN" sz="2400" spc="-1" strike="noStrike" u="sng">
                <a:solidFill>
                  <a:srgbClr val="0000cc"/>
                </a:solidFill>
                <a:uFillTx/>
                <a:latin typeface="Arial"/>
                <a:ea typeface="黑体"/>
                <a:hlinkClick r:id="rId7" action="ppaction://hlinksldjump"/>
              </a:rPr>
              <a:t>常用的字符串处理函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8" action="ppaction://hlinksldjump"/>
          </p:cNvPr>
          <p:cNvSpPr/>
          <p:nvPr/>
        </p:nvSpPr>
        <p:spPr>
          <a:xfrm>
            <a:off x="1128240" y="4648320"/>
            <a:ext cx="138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9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72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6.3.1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字符数组的逐个字符操作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从键盘输入一个字符串，回车键结束，并将字符串在屏幕上输出。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L6_5.C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int i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atic char str[80]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clrscr(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or(i=0;i&lt;80;i++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str[i]=getch()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逐次给数组元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[i]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赋值，但不回显在屏幕上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"*")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以星号代替输入字符的个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(str[i]=='\x0d') break;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若输入回车则终止循环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=0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while(str[i]!='\x0d'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"%c",str[i++])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逐次输出字符数组的各个元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程序暂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数组的定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字符数组，用于存储和处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串，其定义格式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值数组一样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字符数组，用于同时存储和处理多个字符串，其定义格式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值数组一样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数组的初始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的初始化，可以通过为每个数组元素指定初值字符来实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数组的引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的逐个字符引用，与引用数值数组元素类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符数组的输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了可以通过初始化使字符数组各元素得到初值外，也可以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输入字符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str[1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i=0; i&lt;10; i++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scanf("%c", &amp;str[i]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flush(stdin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清除键盘输入缓冲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符数组的输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的输出，可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 str[10]="c language"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i=0; i&lt;10; i++)  printf("%c", str[i]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\n"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逐个字符输入、输出时，要指出元素的下标，而且使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符。另外，从键盘上输入字符时，无需输入字符的定界符──单引号；输出时，系统也不输出字符的定界符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44280"/>
            <a:ext cx="75438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6.3.2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字符数组的整体操作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.6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数组的整体输入与输出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6_6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字符数组进行初始化，并在屏幕上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ar name[5][9]={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张三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四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王五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刘六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, 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赵七巧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"}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i&lt;5;i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%s\t",name[i]);       /*name[i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代表该行数组元素的首地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串及其结束标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谓字符串，是指若干有效字符的序列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中的字符串，可以包括字母、数字、专用字符、转义字符等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规定：以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作为字符串结束标志（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码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字符，表示一个“空操作”，只起一个标志作用）。因此可以对字符数组采用另一种方式进行操作了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数组的整体操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8380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由于系统在存储字符串常量时，会在串尾自动加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结束标志，所以无需人为地再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另外，由于结束标志也要在字符数组中占用一个元素的存储空间，因此在说明字符数组长度时，至少为字符串所需长度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数组的整体初始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串设置了结束标志以后，对字符数组的初始化，就可以用字符串常量来初始化字符数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数组的整体引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字符串的输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除了可以通过初始化使字符数组各元素得到初值外，也可以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输入字符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字符串的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，不仅可以逐个输出字符数组元素，还可以整体输出存放在字符数组中的字符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400" y="60199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Arial"/>
              </a:rPr>
              <a:t>6.3.3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常用的字符串处理函数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标准函数的原型在头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ing.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输入字符串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ets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s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功能：从标准输入设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stdin)─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盘上，读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串（可以包含空格），并将其存储到字符数组中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说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s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读取的字符串，其长度没有限制，编程者要保证字符数组有足够大的空间，存放输入的字符串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该函数输入的字符串中允许包含空格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不允许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输出字符串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uts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s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功能：把字符数组中所存放的字符串，输出到标准输出设备中去，并用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代字符串的结束标志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所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s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输出字符串时，不要求另加换行符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说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中允许包含转义字符，输出时产生一个控制操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该函数一次只能输出一个字符串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也能用来输出字符串，且一次能输出多个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49200"/>
            <a:ext cx="6629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6.1.1  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维数组的定义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键盘上任意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数，要求按从小到大的顺序在屏幕上显示出来。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排序的方法有很多，本题采用冒泡法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冒泡法的基本思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通过相邻两个数之间的比较和交换，使排序码（数值）较小的数逐渐从底部移向顶部，排序码较大的数逐渐从顶部移向底部。就像水底的气泡一样逐渐向上冒，故而得名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]~A[1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成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据，进行冒泡排序的过程可以描述为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首先将相邻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-1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进行比较，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小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-1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，则交换两者的位置，使较小的上浮，较大的下沉；接着比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-1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-2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同样使小的上浮，大的下沉。依此类推，直到比较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2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1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1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具有最小排序码（数值）的元素，称第一趟排序结束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然后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n]~A[2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区间内，进行第二趟排序，使剩余元素中排序码最小的元素上浮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[2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重复进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趟后，整个排序过程结束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533520"/>
            <a:ext cx="80773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字符串比较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cmp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cmp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 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中“字符串”可以是串常量，也可以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字符数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函数功能：比较两个字符串的大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函数返回值等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&l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函数返回值负整数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&gt;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函数返回值正整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使用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如果一个字符串是另一个字符串从头开始的子串，则母串为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不能使用关系运算符“＝＝”来比较两个字符串，只能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cmp(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来处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 get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c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应用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6_7.C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简单密码检测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include  "stdio.h"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char pass_str[80];                    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字符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assstr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检验密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clrscr(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输入密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"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s(pass_str);                   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密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strcmp(pass_str,“password”)!=0)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令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口令错误，按任意键继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;                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正确的密码，中止循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i==3) exit(0)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三次错误的密码，退出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正确密码所进入的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762120"/>
            <a:ext cx="8001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拷贝字符串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cpy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cpy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“字符串”可以是串常量，也可以是字符数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功能：将“字符串”完整地复制到“字符数组”中，字符数组中原有内容被覆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符数组必须定义得足够大，以便容纳复制过来的字符串。复制时，连同结束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起复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不能用赋值运算符“＝”将一个字符串直接赋值给一个字符数组，只能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cpy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来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533520"/>
            <a:ext cx="80010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连接字符串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cat(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rcat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功能：把“字符串”连接到“字符数组”中的字符串尾端，并存储于“字符数组”中。“字符数组”中原来的结束标志，被“字符串”的第一个字符覆盖，而“字符串”在操作中未被修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使用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由于没有边界检查，编程者要注意保证“字符数组”定义得足够大，以便容纳连接后的目标字符串；否则，会因长度不够而产生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连接前两个字符串都有结束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连接后“字符数组”中存储的字符串的结束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被舍弃，只在目标串的最后保留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76212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求字符串长度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len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ength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缩写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len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函数功能：求字符串（常量或字符数组）的实际长度（不包含结束标志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将字符串中大写字母转换成小写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lwr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lwr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函数功能：将字符串中的大写字母转换成小写，其它字符（包括小写字母和非字母字符）不转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将字符串中小写字母转换成大写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trupr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调用方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rupr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符串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函数功能：将字符串中小写字母转换成大写，其它字符（包括大写字母和非字母字符）不转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4480" y="609588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6_1.C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从键盘上任意输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数，用冒泡法按从小到大地排序，并在屏幕上显示出来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define NUM 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符号常量（数据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data[NUM]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整型数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ata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,j,temp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循环变量和临时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rscr(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库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lrsc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清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Please input 10 numbers: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NUM; i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", &amp;data[i]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冒泡法排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NUM-1; i++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循环：控制比较趟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j=NUM-1; j&gt;i; j--)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循环：进行每趟比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(data[j]&lt;data[j-1])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ata[j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ata[j-1]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交换两者的位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temp=data[j]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ata[j]=data[j-1]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ata[j-1]=temp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排序后的数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the  result of sort:\n"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i=0; i&lt;NUM; i+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 ",data[i]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etch(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待键盘输入任一字符，目的使程序暂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组同变量一样，也必须先定义、后使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维数组是只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下标的数组，定义形式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   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]……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数据类型”是指数组元素的数据类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组名，与变量名一样，必须遵循标识符命名规则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常量表达式”必须用方括号括起来，指的是数组的元素个数（又称数组长度），它是一个整型值，其中可以包含常数和符号常量，但不能包含变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言中不允许动态定义数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特别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数组定义时，“常量表达式”外的方括号；以及元素引用时，“下标表达式”外的方括号，都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语法规则所要求的，不是本书所约定的可选项的描述符号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组元素的下标，是元素相对于数组起始地址的偏移量，所以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顺序编号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组名中存放的是一个地址常量，它代表整个数组的首地址。同一数组中的所有元素，按其下标的顺序占用一段连续的存储单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765000" y="563868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373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6.1.2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数组元素的引用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用数组中的任意一个元素的形式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标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下标表达式”可以是任何非负整型数据，取值范围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元素个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特别强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运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程序过程中，系统并不自动检验数组元素的下标是否越界。因此在编写程序时，保证数组下标不越界是十分重要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组元素，实质上就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变量，它具有和相同类型单个变量一样的属性，可以对它进行赋值和参与各种运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数组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整体，不能参加数据运算，只能对单个的元素进行处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1298160" y="594360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4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6.1.3  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维数组元素的初始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始化格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  数组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值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对数组的全部元素赋以初值，定义时可以不指定数组长度（系统根据初值个数自动确定）。如果被定义数组的长度，与初值个数不同，则数组长度不能省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初值表”中的初值个数，可以少于元素个数，即允许只给部分元素赋初值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根据存储类型的不同，数组有静态数组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动态数组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之分；根据定义的位置不同，数组有内部数组（在函数内部定义的数组）和外部数组（在函数外部定义的数组）之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" action="ppaction://hlinksldjump"/>
          </p:cNvPr>
          <p:cNvSpPr/>
          <p:nvPr/>
        </p:nvSpPr>
        <p:spPr>
          <a:xfrm>
            <a:off x="536400" y="6019920"/>
            <a:ext cx="15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00:07:06Z</dcterms:created>
  <dc:creator>梦翔电脑</dc:creator>
  <dc:description/>
  <dc:language>en-US</dc:language>
  <cp:lastModifiedBy>Xu xinhua</cp:lastModifiedBy>
  <dcterms:modified xsi:type="dcterms:W3CDTF">2001-08-23T03:05:55Z</dcterms:modified>
  <cp:revision>91</cp:revision>
  <dc:subject/>
  <dc:title>第6章    数    组</dc:title>
</cp:coreProperties>
</file>