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D84-CFEA-4BDD-AD64-4F3F168A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B9F-9631-478F-9B01-1ECC76F5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A86-4846-4147-AB1A-AD8F6B8B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7D80-5F08-4C50-B645-6D1B03DA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80D-5EDB-4A66-ABFE-7CA9D58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E31-484A-4256-BD39-5EB24DC0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B10-E0EF-4372-AA0B-A4FA1AF9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9D4-1C54-4A5E-A903-16FEB0E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1F69-6BD5-4C05-9DCD-BFE3BC01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118-49E3-4B76-AD35-DDEB42B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513-A0ED-478B-AFBB-09AE1F78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310-7A0C-454C-839B-7142D54D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F41B-0421-434E-A1E9-903E617A44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    循环结构程序设计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循环语句概述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2 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到型循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4  brea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5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用举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的源程序书写习惯──注释（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循环嵌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语句的循环体内，又包含另一个完整的循环结构，称为循环的嵌套。循环嵌套的概念，对所有高级语言都是一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允许嵌套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也不例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3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到型循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-whil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体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本行的分号不能缺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循环体语句组仅由一条语句构成时，可以不使用复合语句形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执行过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-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执行循环体语句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计算“循环继续条件”表达式。如果“循环继续条件”表达式的值为非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真），则转向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继续执行；否则，转向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下一条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语句的特点是：先执行循环体语句组，然后再判断循环条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求解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4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{ int i=1, sum=0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定义并初始化循环控制变量，以及累计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 sum += i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累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i++;  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while(i&lt;=100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继续条件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&lt;=100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printf(“sum=%d\n”,sum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比较适用于处理：不论条件是否成立，先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循环体语句组的情况。除此之外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能实现的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也能实现，而且更简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4   break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了使循环控制更加灵活，Ｃ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一般格式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功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强行结束循环，转向执行循环语句的下一条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，跳过循环体其余语句，转向循环变量增量表达式的计算；对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循环，跳过循环体其余语句，但转向循环继续条件的判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对循环控制的影响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-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能用于循环语句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能用于循环语句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循环嵌套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影响包含它们的最内层循环，与外层循环无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5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用举例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bonacc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列的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。该数列的生成方法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F</a:t>
            </a:r>
            <a:r>
              <a:rPr b="0" lang="zh-CN" sz="2000" spc="-1" strike="noStrike" baseline="-30000">
                <a:solidFill>
                  <a:srgbClr val="000000"/>
                </a:solidFill>
                <a:latin typeface="Times New Roman"/>
              </a:rPr>
              <a:t>n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&gt;=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即从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开始，每个数等于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之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算法设计，请参见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章第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节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参考源程序如下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5.C*/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{ long int f1=1,f2=1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数列的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int i=1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定义并初始化循环控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( ; i&lt;=20; i++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{ printf(“%15ld%15ld”, f1, f2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当前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i%2==0) printf(“\n”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），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f1 += f2; f2 += f1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算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的全部素数。所谓素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，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外，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间的任何整数整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设计要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显然，只要设计出判断某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是素数的算法，外面再套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判断某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是素数的算法：根据素数的定义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之间的每一个数去整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如果都不能被整除，则表示该数是一个素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一个数是否能被另一个数整除，可通过判断它们整除的余数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参考源程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i=11, j, counter=0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for( ; i&lt;=100; i+=2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循环：为内循环提供一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*/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for(j=2; j&lt;=i-1; j++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循环：判断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否是素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i%j= =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是素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break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强行结束内循环，执行下面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counter%10= =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数换一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if( j &gt;= i 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素数：输出，计数器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{ printf(“%6d”,i)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counter++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外循环控制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初值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始、增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法有什么好处？为提高运行速度，如何优化内循环？（提示：从减少计算次数角度来考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好的源程序书写习惯──注释（续）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循环结构由循环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注释，应在它们的前面说明其功能，在循环条件判断语句行的后面，说明循环继续条件的含义，如下所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初始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……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  ……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...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 {  ……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循环嵌套，还应说明每层循环各控制什么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循环语句概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已有的知识，可以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+2+……+10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求解，但显然很繁琐。现在换个思路来考虑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首先设置一个累计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初值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 += 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计算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依次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……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只要解决以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问题即可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值置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每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次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 += 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增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停止计算。此时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根据已有的知识，单独实现每一步都不难。但是，由于需要经常使用这种重复计算结构（称为循环结构）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循环语句来实现，以简化、并规范循环结构程序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Ｃ语言中，可用以下语句实现循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-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构成循环。使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语句实现求解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累计和的程序可以如下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{ int  n=1, sum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loop:  sum += n; n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f (n&lt;=100)  goto  lo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intf(“sum=%d\n”, su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op: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语句标号（格式：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行），其命名遵循标识符命名规则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格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，功能为：使系统转向标号所在的语句行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结构化程序设计方法，主张限制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。因为滥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将会导致程序结构无规律、可读性差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另外，从功能上说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可完全代替当型循环语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所以该语句也不是必需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   fo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le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循环语句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最为灵活，不仅可用于循环次数已经确定的情况，也可用于循环次数虽不确定、但给出了循环继续条件的情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5_1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,sum=0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加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for(i=1; i&lt;=100; i++) 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printf("sum=%d\n",sum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=5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阶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!=1*2*……*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5_2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, n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long  fact=1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累乘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ac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始化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printf(“Input  n: ”); scanf(“%d”, &amp;n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i=1; i&lt;=n; i++)  fact *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 ! = %ld\n", n, fact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put  n: 5↙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! =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赋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变量增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体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变量赋初值”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循环继续条件”表达式。如果其值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执行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，转至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循环体语句组，并求解“循环变量增值”表达式，然后转向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变量赋初值”、“循环继续条件”和“循环变量增值”部分均可缺省，甚至全部缺省，但其间的分号不能省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循环体语句组仅由一条语句构成时，可以不使用复合语句形式，如上例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循环变量赋初值”表达式，既可以是给循环变量赋初值的赋值表达式，也可以是与此无关的其它表达式（如逗号表达式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sum=0;i&lt;=100;i++) sum += 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(sum=0,i=1;i&lt;=100;i++)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循环继续条件”部分是一个逻辑量，除一般的关系（或逻辑）表达式外，也允许是数值（或字符）表达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格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继续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{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体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行过程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求解“循环继续条件”表达式。如果其值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否则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循环体语句组，然后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的一种简化形式（缺省“变量赋初值”和“循环变量增值”表达式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5_3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累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{ int i=1,sum=0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初始化循环控制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累计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m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 i&lt;=100 )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{ sum += i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现累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i++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循环控制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printf(“sum=%d\n”,sum);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m=505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1:39:06Z</dcterms:created>
  <dc:creator>Xu xinhua</dc:creator>
  <dc:description/>
  <dc:language>en-US</dc:language>
  <cp:lastModifiedBy>Xu xinhua</cp:lastModifiedBy>
  <dcterms:modified xsi:type="dcterms:W3CDTF">2001-08-21T08:17:33Z</dcterms:modified>
  <cp:revision>44</cp:revision>
  <dc:subject/>
  <dc:title>第5章    循环结构程序设计</dc:title>
</cp:coreProperties>
</file>